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1219320"/>
            <a:ext cx="81532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Capacity with Channe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H. Cafar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ILOR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2-Frequency De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23840" y="2362320"/>
            <a:ext cx="2936880" cy="2936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110040" y="2362320"/>
            <a:ext cx="2936880" cy="29368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095880" y="2362320"/>
            <a:ext cx="293688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Link Stat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52840" y="580536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frequency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4556160" cy="22986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1839960" y="2952720"/>
            <a:ext cx="3335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more than 10-dB below Rx 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429000" y="2703600"/>
            <a:ext cx="3124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in first 10-dB below Rx 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9880" y="2428920"/>
            <a:ext cx="3276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s in first 10-dB above Rx Thresh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81680" y="2705040"/>
            <a:ext cx="0" cy="64764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2979720"/>
            <a:ext cx="0" cy="37296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3125880"/>
            <a:ext cx="0" cy="22680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176800" y="3124080"/>
            <a:ext cx="843120" cy="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24080" y="3886200"/>
            <a:ext cx="305280" cy="305280"/>
          </a:xfrm>
          <a:custGeom>
            <a:avLst/>
            <a:gdLst/>
            <a:ahLst/>
            <a:rect l="0" t="0" r="r" b="b"/>
            <a:pathLst>
              <a:path fill="none" w="848" h="848">
                <a:moveTo>
                  <a:pt x="848" y="0"/>
                </a:moveTo>
                <a:lnTo>
                  <a:pt x="682" y="0"/>
                </a:lnTo>
                <a:lnTo>
                  <a:pt x="546" y="17"/>
                </a:lnTo>
                <a:lnTo>
                  <a:pt x="454" y="52"/>
                </a:lnTo>
                <a:lnTo>
                  <a:pt x="441" y="52"/>
                </a:lnTo>
                <a:lnTo>
                  <a:pt x="424" y="74"/>
                </a:lnTo>
                <a:lnTo>
                  <a:pt x="424" y="350"/>
                </a:lnTo>
                <a:lnTo>
                  <a:pt x="411" y="367"/>
                </a:lnTo>
                <a:lnTo>
                  <a:pt x="393" y="385"/>
                </a:lnTo>
                <a:lnTo>
                  <a:pt x="306" y="406"/>
                </a:lnTo>
                <a:lnTo>
                  <a:pt x="165" y="424"/>
                </a:lnTo>
                <a:lnTo>
                  <a:pt x="0" y="424"/>
                </a:lnTo>
                <a:lnTo>
                  <a:pt x="165" y="424"/>
                </a:lnTo>
                <a:lnTo>
                  <a:pt x="306" y="441"/>
                </a:lnTo>
                <a:lnTo>
                  <a:pt x="393" y="476"/>
                </a:lnTo>
                <a:lnTo>
                  <a:pt x="411" y="476"/>
                </a:lnTo>
                <a:lnTo>
                  <a:pt x="424" y="498"/>
                </a:lnTo>
                <a:lnTo>
                  <a:pt x="424" y="774"/>
                </a:lnTo>
                <a:lnTo>
                  <a:pt x="441" y="791"/>
                </a:lnTo>
                <a:lnTo>
                  <a:pt x="454" y="813"/>
                </a:lnTo>
                <a:lnTo>
                  <a:pt x="546" y="831"/>
                </a:lnTo>
                <a:lnTo>
                  <a:pt x="682" y="848"/>
                </a:lnTo>
                <a:lnTo>
                  <a:pt x="848" y="848"/>
                </a:lnTo>
              </a:path>
            </a:pathLst>
          </a:custGeom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41911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848" y="0"/>
                </a:moveTo>
                <a:lnTo>
                  <a:pt x="682" y="21"/>
                </a:lnTo>
                <a:lnTo>
                  <a:pt x="546" y="39"/>
                </a:lnTo>
                <a:lnTo>
                  <a:pt x="454" y="83"/>
                </a:lnTo>
                <a:lnTo>
                  <a:pt x="441" y="126"/>
                </a:lnTo>
                <a:lnTo>
                  <a:pt x="424" y="148"/>
                </a:lnTo>
                <a:lnTo>
                  <a:pt x="424" y="717"/>
                </a:lnTo>
                <a:lnTo>
                  <a:pt x="411" y="739"/>
                </a:lnTo>
                <a:lnTo>
                  <a:pt x="393" y="761"/>
                </a:lnTo>
                <a:lnTo>
                  <a:pt x="306" y="805"/>
                </a:lnTo>
                <a:lnTo>
                  <a:pt x="165" y="844"/>
                </a:lnTo>
                <a:lnTo>
                  <a:pt x="0" y="844"/>
                </a:lnTo>
                <a:lnTo>
                  <a:pt x="165" y="867"/>
                </a:lnTo>
                <a:lnTo>
                  <a:pt x="306" y="889"/>
                </a:lnTo>
                <a:lnTo>
                  <a:pt x="393" y="932"/>
                </a:lnTo>
                <a:lnTo>
                  <a:pt x="411" y="972"/>
                </a:lnTo>
                <a:lnTo>
                  <a:pt x="424" y="994"/>
                </a:lnTo>
                <a:lnTo>
                  <a:pt x="424" y="1545"/>
                </a:lnTo>
                <a:lnTo>
                  <a:pt x="441" y="1567"/>
                </a:lnTo>
                <a:lnTo>
                  <a:pt x="454" y="1611"/>
                </a:lnTo>
                <a:lnTo>
                  <a:pt x="546" y="1650"/>
                </a:lnTo>
                <a:lnTo>
                  <a:pt x="682" y="1694"/>
                </a:lnTo>
                <a:lnTo>
                  <a:pt x="848" y="1694"/>
                </a:ln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480060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848" y="0"/>
                </a:moveTo>
                <a:lnTo>
                  <a:pt x="682" y="21"/>
                </a:lnTo>
                <a:lnTo>
                  <a:pt x="546" y="48"/>
                </a:lnTo>
                <a:lnTo>
                  <a:pt x="454" y="96"/>
                </a:lnTo>
                <a:lnTo>
                  <a:pt x="441" y="118"/>
                </a:lnTo>
                <a:lnTo>
                  <a:pt x="424" y="140"/>
                </a:lnTo>
                <a:lnTo>
                  <a:pt x="424" y="713"/>
                </a:lnTo>
                <a:lnTo>
                  <a:pt x="411" y="739"/>
                </a:lnTo>
                <a:lnTo>
                  <a:pt x="393" y="761"/>
                </a:lnTo>
                <a:lnTo>
                  <a:pt x="306" y="809"/>
                </a:lnTo>
                <a:lnTo>
                  <a:pt x="165" y="858"/>
                </a:lnTo>
                <a:lnTo>
                  <a:pt x="0" y="858"/>
                </a:lnTo>
                <a:lnTo>
                  <a:pt x="165" y="858"/>
                </a:lnTo>
                <a:lnTo>
                  <a:pt x="306" y="884"/>
                </a:lnTo>
                <a:lnTo>
                  <a:pt x="393" y="928"/>
                </a:lnTo>
                <a:lnTo>
                  <a:pt x="411" y="954"/>
                </a:lnTo>
                <a:lnTo>
                  <a:pt x="424" y="976"/>
                </a:lnTo>
                <a:lnTo>
                  <a:pt x="424" y="1549"/>
                </a:lnTo>
                <a:lnTo>
                  <a:pt x="441" y="1576"/>
                </a:lnTo>
                <a:lnTo>
                  <a:pt x="454" y="1598"/>
                </a:lnTo>
                <a:lnTo>
                  <a:pt x="546" y="1646"/>
                </a:lnTo>
                <a:lnTo>
                  <a:pt x="682" y="1694"/>
                </a:lnTo>
                <a:lnTo>
                  <a:pt x="848" y="1694"/>
                </a:lnTo>
              </a:path>
            </a:pathLst>
          </a:custGeom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09480" y="358128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Links within BSA</a:t>
            </a:r>
            <a:r>
              <a:rPr b="0" lang="en-US" sz="1400" spc="-1" strike="noStrike" baseline="-25000">
                <a:solidFill>
                  <a:srgbClr val="00ae00"/>
                </a:solidFill>
                <a:latin typeface="Times New Roman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09480" y="4070520"/>
            <a:ext cx="15238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Links between Off-Frequency BSAs and BSA</a:t>
            </a:r>
            <a:r>
              <a:rPr b="0" lang="en-US" sz="1400" spc="-1" strike="noStrike" baseline="-25000">
                <a:solidFill>
                  <a:srgbClr val="fc0128"/>
                </a:solidFill>
                <a:latin typeface="Times New Roman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09480" y="5075280"/>
            <a:ext cx="152388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Links between Off-Frequency BSAs and BSA</a:t>
            </a:r>
            <a:r>
              <a:rPr b="0" lang="en-US" sz="1400" spc="-1" strike="noStrike" baseline="-25000">
                <a:solidFill>
                  <a:srgbClr val="00ae00"/>
                </a:solidFill>
                <a:latin typeface="Times New Roman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982880" y="5106960"/>
            <a:ext cx="1141200" cy="33336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1982880" y="4421160"/>
            <a:ext cx="1141200" cy="7452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2135160" y="3855960"/>
            <a:ext cx="988920" cy="182520"/>
          </a:xfrm>
          <a:prstGeom prst="line">
            <a:avLst/>
          </a:prstGeom>
          <a:ln w="1260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66680" y="1600200"/>
            <a:ext cx="739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STAs/BSA     100-dB Path Loss Tol.     35-dB ACI Rej.     245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A Traffic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-to-AP and AP-to-STA Only (no peer-to-pe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STAs Each Offer Poisson Traffi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Offers 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ame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24-Bytes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Contends with STAs (no C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BSAs Carry Same Traffic Load (by symme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ed Throughput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981080"/>
            <a:ext cx="377496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ed 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Queued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Contention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          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419720" y="2208240"/>
            <a:ext cx="4160880" cy="728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495760" y="4343400"/>
            <a:ext cx="1870200" cy="7300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660920" y="3157560"/>
            <a:ext cx="3809880" cy="7318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2438280" y="5791320"/>
            <a:ext cx="87624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Uncorrelated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2560" y="304164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17960" y="304164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3080" y="3124080"/>
            <a:ext cx="18270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990720" y="1752480"/>
            <a:ext cx="7238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uccessful Exchange, Data Fram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K Must Get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895480" y="34290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410080" y="34290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6097680" y="3430440"/>
            <a:ext cx="1369800" cy="83664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6630840" y="3278160"/>
            <a:ext cx="1065240" cy="15084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7240" y="3124080"/>
            <a:ext cx="1141560" cy="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992160" y="3583080"/>
            <a:ext cx="1065240" cy="684000"/>
          </a:xfrm>
          <a:prstGeom prst="line">
            <a:avLst/>
          </a:prstGeom>
          <a:ln w="1260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80880" y="4460760"/>
            <a:ext cx="20732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external” frames at STA of greater power than AP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384960" y="4460760"/>
            <a:ext cx="20732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external” frame at AP of greater power than STA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13000" y="5013360"/>
            <a:ext cx="2286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neither of these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40480" y="541008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757600" y="541008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Singl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32560" y="220356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17960" y="220356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83080" y="2286000"/>
            <a:ext cx="18270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895480" y="25909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410080" y="259092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800" y="5943600"/>
            <a:ext cx="7772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external STAs cause interference (handle as in many-code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5840" y="3270240"/>
            <a:ext cx="3289320" cy="22226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346560" y="3270240"/>
            <a:ext cx="3289320" cy="22226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08320" y="4565520"/>
            <a:ext cx="241200" cy="2412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36920" y="3727440"/>
            <a:ext cx="241200" cy="2412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27440" y="4108320"/>
            <a:ext cx="241200" cy="2412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99040" y="4032360"/>
            <a:ext cx="241200" cy="2412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870440" y="4565520"/>
            <a:ext cx="241200" cy="24120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89760" y="3956040"/>
            <a:ext cx="241200" cy="2412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60760" y="3956040"/>
            <a:ext cx="241200" cy="2412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1160" y="4794120"/>
            <a:ext cx="241200" cy="2412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660760" y="4565520"/>
            <a:ext cx="241200" cy="24120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89080" y="3962520"/>
            <a:ext cx="20732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tronger than AP signal at STA, but don’t see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629400" y="3962520"/>
            <a:ext cx="20732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Stronger than STA signal at AP, but don’t see 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362320" y="5486400"/>
            <a:ext cx="3962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Good Links to STA and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 of Leakage for Single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705720" y="3570120"/>
            <a:ext cx="1413000" cy="7095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flipV="1">
            <a:off x="7772400" y="4268880"/>
            <a:ext cx="0" cy="1293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880" y="57150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effect of queued traffic as seen by each STA individ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17960" y="3041640"/>
            <a:ext cx="241200" cy="2412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583080" y="3124080"/>
            <a:ext cx="18270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95480" y="342900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92160" y="1982880"/>
            <a:ext cx="1461960" cy="847800"/>
          </a:xfrm>
          <a:prstGeom prst="line">
            <a:avLst/>
          </a:prstGeom>
          <a:ln w="1260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389240" y="3430440"/>
            <a:ext cx="1064880" cy="684360"/>
          </a:xfrm>
          <a:prstGeom prst="line">
            <a:avLst/>
          </a:prstGeom>
          <a:ln w="1260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52280" y="2665440"/>
            <a:ext cx="20732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external” frames at STA above Rx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583080" y="2286000"/>
            <a:ext cx="1827000" cy="378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35360" y="3278160"/>
            <a:ext cx="1674720" cy="3031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6200" y="3886200"/>
            <a:ext cx="2073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” frames at 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Deployment made Wo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71600" y="5527800"/>
            <a:ext cx="130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181480" y="5527800"/>
            <a:ext cx="23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129280" y="1600200"/>
            <a:ext cx="2749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Cluster in bad cor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(4 by symmet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2936880" cy="29368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2936880" cy="29368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575160" y="3117960"/>
            <a:ext cx="469800" cy="46980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3887640" y="1906560"/>
            <a:ext cx="1293840" cy="12175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60948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. STAs above Rx Threshold at 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0" y="6060960"/>
            <a:ext cx="4416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can be from quite a dist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110040" y="1612800"/>
            <a:ext cx="2936880" cy="15177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523880" y="3117960"/>
            <a:ext cx="60040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04920" y="609480"/>
            <a:ext cx="861048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s 10-dB above Rx Threshold at 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110040" y="1600200"/>
            <a:ext cx="2936880" cy="1517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585800" y="3105000"/>
            <a:ext cx="5985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-Point-Location Geome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4572000"/>
            <a:ext cx="350532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Frequency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Data-Code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02160" y="4572000"/>
            <a:ext cx="372744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Frequency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53000" y="5896080"/>
            <a:ext cx="4705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nearest-neighbor separation gives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me areas per 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556240" y="2660760"/>
            <a:ext cx="927360" cy="775080"/>
            <a:chOff x="5556240" y="2660760"/>
            <a:chExt cx="927360" cy="775080"/>
          </a:xfrm>
        </p:grpSpPr>
        <p:sp>
          <p:nvSpPr>
            <p:cNvPr id="50" name=""/>
            <p:cNvSpPr/>
            <p:nvPr/>
          </p:nvSpPr>
          <p:spPr>
            <a:xfrm>
              <a:off x="5556240" y="2660760"/>
              <a:ext cx="927360" cy="775080"/>
            </a:xfrm>
            <a:custGeom>
              <a:avLst/>
              <a:gdLst/>
              <a:ahLst/>
              <a:rect l="0" t="0" r="r" b="b"/>
              <a:pathLst>
                <a:path fill="none" w="2576" h="2153">
                  <a:moveTo>
                    <a:pt x="0" y="1076"/>
                  </a:moveTo>
                  <a:lnTo>
                    <a:pt x="515" y="2153"/>
                  </a:lnTo>
                  <a:lnTo>
                    <a:pt x="2061" y="2153"/>
                  </a:lnTo>
                  <a:lnTo>
                    <a:pt x="2576" y="1076"/>
                  </a:lnTo>
                  <a:lnTo>
                    <a:pt x="2061" y="0"/>
                  </a:lnTo>
                  <a:lnTo>
                    <a:pt x="515" y="0"/>
                  </a:lnTo>
                  <a:lnTo>
                    <a:pt x="0" y="1076"/>
                  </a:lnTo>
                </a:path>
              </a:pathLst>
            </a:custGeom>
            <a:ln w="12600">
              <a:solidFill>
                <a:srgbClr val="919191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43600" y="2971800"/>
              <a:ext cx="152280" cy="152280"/>
            </a:xfrm>
            <a:prstGeom prst="ellipse">
              <a:avLst/>
            </a:prstGeom>
            <a:solidFill>
              <a:srgbClr val="00ae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6629400" y="3352680"/>
            <a:ext cx="152280" cy="1522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3733920"/>
            <a:ext cx="152280" cy="15228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3352680"/>
            <a:ext cx="152280" cy="1522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590920"/>
            <a:ext cx="152280" cy="15228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3600" y="2209680"/>
            <a:ext cx="152280" cy="1522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2590920"/>
            <a:ext cx="152280" cy="152280"/>
          </a:xfrm>
          <a:prstGeom prst="ellipse">
            <a:avLst/>
          </a:prstGeom>
          <a:solidFill>
            <a:srgbClr val="fc012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2971800"/>
            <a:ext cx="152280" cy="152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2971800"/>
            <a:ext cx="152280" cy="152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29400" y="4114800"/>
            <a:ext cx="152280" cy="152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4114800"/>
            <a:ext cx="152280" cy="152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29400" y="1828800"/>
            <a:ext cx="152280" cy="152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1828800"/>
            <a:ext cx="152280" cy="152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2819520"/>
            <a:ext cx="152280" cy="1522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46360" y="2508120"/>
            <a:ext cx="774720" cy="774720"/>
          </a:xfrm>
          <a:prstGeom prst="rect">
            <a:avLst/>
          </a:prstGeom>
          <a:noFill/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819520"/>
            <a:ext cx="152280" cy="152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2819520"/>
            <a:ext cx="152280" cy="1522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581280"/>
            <a:ext cx="152280" cy="152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3581280"/>
            <a:ext cx="152280" cy="152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2057400"/>
            <a:ext cx="152280" cy="152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2057400"/>
            <a:ext cx="152280" cy="1522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2057400"/>
            <a:ext cx="152280" cy="152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7400" y="3581280"/>
            <a:ext cx="152280" cy="152280"/>
          </a:xfrm>
          <a:prstGeom prst="ellipse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ed BSA: Ca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333520" y="1219320"/>
            <a:ext cx="5908680" cy="51084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365040" y="2631960"/>
            <a:ext cx="1886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8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lated BSA: Ca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2333520" y="1219320"/>
            <a:ext cx="5908680" cy="51084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365040" y="2631960"/>
            <a:ext cx="18860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5800" y="68580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260960" cy="31654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6324480" y="1981080"/>
            <a:ext cx="106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F/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4800600" y="5105520"/>
            <a:ext cx="3898800" cy="1460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352440" y="1523880"/>
            <a:ext cx="4232160" cy="32036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 txBox="1"/>
          <p:nvPr/>
        </p:nvSpPr>
        <p:spPr>
          <a:xfrm>
            <a:off x="1752480" y="198108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F/1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4"/>
          <a:stretch/>
        </p:blipFill>
        <p:spPr>
          <a:xfrm>
            <a:off x="542880" y="5105520"/>
            <a:ext cx="3889440" cy="14605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0" y="502920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k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67080" y="5029200"/>
            <a:ext cx="685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0 k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823160" y="1225440"/>
            <a:ext cx="774720" cy="76212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280360" y="136512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975440" y="167004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975440" y="1365120"/>
            <a:ext cx="16524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280360" y="1670040"/>
            <a:ext cx="16524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691400" y="2079720"/>
            <a:ext cx="1008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st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 Plac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33720" y="1581120"/>
            <a:ext cx="94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F/1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943600" y="1581120"/>
            <a:ext cx="1065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F/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685800" y="2038320"/>
            <a:ext cx="4013280" cy="148896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686120" y="2038320"/>
            <a:ext cx="3908520" cy="14414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85800" y="3514680"/>
            <a:ext cx="3851280" cy="14698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4686120" y="3524400"/>
            <a:ext cx="3870360" cy="14414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685800" y="4971960"/>
            <a:ext cx="3870360" cy="14414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6"/>
          <a:stretch/>
        </p:blipFill>
        <p:spPr>
          <a:xfrm>
            <a:off x="4648320" y="4981680"/>
            <a:ext cx="391788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8108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Frequency Channels, Single Code, SN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Frequency Channels, Many Code Channels, SN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 BSAs, 20 STAs + AP per B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Code Channels Offers Greatly Improved System Throughput b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olating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ursions Show 2 vs. 3 Frequencies &amp; SN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Less Impor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6320" y="2736720"/>
            <a:ext cx="1689120" cy="1689120"/>
          </a:xfrm>
          <a:prstGeom prst="ellipse">
            <a:avLst/>
          </a:prstGeom>
          <a:noFill/>
          <a:ln w="12600">
            <a:solidFill>
              <a:srgbClr val="00ae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BSA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14920" y="3505320"/>
            <a:ext cx="152280" cy="152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1920" y="1822320"/>
            <a:ext cx="3517920" cy="351792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410080" y="1828800"/>
            <a:ext cx="19051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lternate-frequency APs fall on </a:t>
            </a:r>
            <a:r>
              <a:rPr b="0" lang="en-US" sz="1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adius 2R</a:t>
            </a:r>
            <a:r>
              <a:rPr b="0" lang="en-US" sz="1600" spc="-1" strike="noStrike" baseline="-25000">
                <a:solidFill>
                  <a:srgbClr val="fc0128"/>
                </a:solidFill>
                <a:latin typeface="Times New Roman"/>
                <a:ea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411880" y="2363760"/>
            <a:ext cx="760320" cy="37944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1828800"/>
            <a:ext cx="267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 baseline="-25000">
                <a:solidFill>
                  <a:srgbClr val="00ae00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 is “BSA Packing” Rad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39840" y="2211480"/>
            <a:ext cx="1141560" cy="83664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4920" y="349884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0720" y="288936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7040" y="372744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7560" y="387972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440" y="418464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79840" y="296532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37040" y="258444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89320" y="342252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4760" y="311796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5640" y="319392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43720" y="4038480"/>
            <a:ext cx="19810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STAs scattered around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2640" y="426096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6320" y="2736720"/>
            <a:ext cx="1689120" cy="1689120"/>
          </a:xfrm>
          <a:prstGeom prst="ellipse">
            <a:avLst/>
          </a:prstGeom>
          <a:noFill/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BSA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440" y="3498840"/>
            <a:ext cx="165240" cy="16524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31920" y="1822320"/>
            <a:ext cx="3517920" cy="3517920"/>
          </a:xfrm>
          <a:prstGeom prst="ellipse">
            <a:avLst/>
          </a:prstGeom>
          <a:noFill/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10080" y="1828800"/>
            <a:ext cx="19051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Alternate-frequency APs fall on </a:t>
            </a:r>
            <a:r>
              <a:rPr b="0" lang="en-US" sz="16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radius 2R</a:t>
            </a:r>
            <a:r>
              <a:rPr b="0" lang="en-US" sz="1600" spc="-1" strike="noStrike" baseline="-25000">
                <a:solidFill>
                  <a:srgbClr val="919191"/>
                </a:solidFill>
                <a:latin typeface="Times New Roman"/>
                <a:ea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411880" y="2363760"/>
            <a:ext cx="760320" cy="37944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828800"/>
            <a:ext cx="2671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R</a:t>
            </a:r>
            <a:r>
              <a:rPr b="0" lang="en-US" sz="1600" spc="-1" strike="noStrike" baseline="-25000">
                <a:solidFill>
                  <a:srgbClr val="919191"/>
                </a:solidFill>
                <a:latin typeface="Times New Roman"/>
                <a:ea typeface="Times New Roman"/>
              </a:rPr>
              <a:t>P</a:t>
            </a:r>
            <a:r>
              <a:rPr b="0" lang="en-US" sz="16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 is “BSA Packing” Radi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9840" y="2211480"/>
            <a:ext cx="1141560" cy="83664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4920" y="349884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0720" y="288936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7040" y="372744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7560" y="387972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440" y="418464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79840" y="296532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37040" y="258444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89320" y="342252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311796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5640" y="319392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643720" y="4038480"/>
            <a:ext cx="19810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919191"/>
                </a:solidFill>
                <a:latin typeface="Times New Roman"/>
                <a:ea typeface="Times New Roman"/>
              </a:rPr>
              <a:t>STAs scattered around 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262480" y="4800600"/>
            <a:ext cx="34243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STAs per B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ized placement &lt;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e performance &gt;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9320" y="3575160"/>
            <a:ext cx="774720" cy="774720"/>
          </a:xfrm>
          <a:prstGeom prst="rect">
            <a:avLst/>
          </a:prstGeom>
          <a:noFill/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79320" y="4794120"/>
            <a:ext cx="927360" cy="775080"/>
          </a:xfrm>
          <a:custGeom>
            <a:avLst/>
            <a:gdLst/>
            <a:ahLst/>
            <a:rect l="0" t="0" r="r" b="b"/>
            <a:pathLst>
              <a:path fill="none" w="2576" h="2153">
                <a:moveTo>
                  <a:pt x="0" y="1076"/>
                </a:moveTo>
                <a:lnTo>
                  <a:pt x="515" y="2153"/>
                </a:lnTo>
                <a:lnTo>
                  <a:pt x="2061" y="2153"/>
                </a:lnTo>
                <a:lnTo>
                  <a:pt x="2576" y="1076"/>
                </a:lnTo>
                <a:lnTo>
                  <a:pt x="2061" y="0"/>
                </a:lnTo>
                <a:lnTo>
                  <a:pt x="515" y="0"/>
                </a:lnTo>
                <a:lnTo>
                  <a:pt x="0" y="1076"/>
                </a:lnTo>
              </a:path>
            </a:pathLst>
          </a:custGeom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9320" y="3575160"/>
            <a:ext cx="774720" cy="7747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4794120"/>
            <a:ext cx="774720" cy="77472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139840" y="5335560"/>
            <a:ext cx="1141560" cy="60804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82840" y="5943600"/>
            <a:ext cx="1751040" cy="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2640" y="426096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72200" y="2924280"/>
            <a:ext cx="19810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Times New Roman"/>
                <a:ea typeface="Times New Roman"/>
              </a:rPr>
              <a:t>0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=1.2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Times New Roman"/>
                <a:ea typeface="Times New Roman"/>
              </a:rPr>
              <a:t>P</a:t>
            </a:r>
            <a:r>
              <a:rPr b="1" lang="en-US" sz="16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 is Radius of nominal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36720" y="2432160"/>
            <a:ext cx="2303640" cy="2298600"/>
          </a:xfrm>
          <a:prstGeom prst="ellipse">
            <a:avLst/>
          </a:prstGeom>
          <a:noFill/>
          <a:ln w="12600">
            <a:solidFill>
              <a:srgbClr val="fc0128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035680" y="3278160"/>
            <a:ext cx="1136520" cy="303120"/>
          </a:xfrm>
          <a:prstGeom prst="line">
            <a:avLst/>
          </a:prstGeom>
          <a:ln w="1260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6094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on of Sample Conne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3352680"/>
            <a:ext cx="678168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Random Link Connectivities within BS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P Signal &lt; Threshold+3 dB at 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-generate that link connectivity (3 tries max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mulates fine-scale repositioning STA if poor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Compute Links Between other BSAs and BS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Local Random STA Positions Re-Used in All B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use of BS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STA &amp; AP parameters for All B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51040" y="1670040"/>
            <a:ext cx="1689120" cy="1689120"/>
          </a:xfrm>
          <a:prstGeom prst="ellipse">
            <a:avLst/>
          </a:prstGeom>
          <a:noFill/>
          <a:ln w="12600">
            <a:solidFill>
              <a:srgbClr val="00ae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9280" y="2438280"/>
            <a:ext cx="152280" cy="152280"/>
          </a:xfrm>
          <a:prstGeom prst="ellipse">
            <a:avLst/>
          </a:prstGeom>
          <a:solidFill>
            <a:srgbClr val="00ae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9640" y="243216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5440" y="182232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1760" y="266076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1920" y="281304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6840" y="319392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4560" y="189864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4560" y="273672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94040" y="235584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89120" y="205092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70360" y="212724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13440" y="2432160"/>
            <a:ext cx="165240" cy="165240"/>
          </a:xfrm>
          <a:prstGeom prst="ellipse">
            <a:avLst/>
          </a:prstGeom>
          <a:solidFill>
            <a:srgbClr val="919191"/>
          </a:solidFill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79920" y="243216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65720" y="182232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42040" y="266076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32560" y="281304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37120" y="319392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84840" y="189864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84840" y="273672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94320" y="235584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9760" y="205092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70640" y="2127240"/>
            <a:ext cx="165240" cy="165240"/>
          </a:xfrm>
          <a:prstGeom prst="ellipse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29120" y="1982880"/>
            <a:ext cx="2660400" cy="22680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139840" y="2211480"/>
            <a:ext cx="455760" cy="303120"/>
          </a:xfrm>
          <a:prstGeom prst="line">
            <a:avLst/>
          </a:prstGeom>
          <a:ln w="12600">
            <a:solidFill>
              <a:srgbClr val="00ae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agatio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 Scal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-Space to 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yond 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1.5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Signal F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yle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sed: n=2.5 &amp; Rayle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86200" y="1981080"/>
            <a:ext cx="47941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937120" y="258444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22920" y="2965320"/>
            <a:ext cx="165240" cy="165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37120" y="3346560"/>
            <a:ext cx="16524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1320" y="2965320"/>
            <a:ext cx="165240" cy="165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1320" y="2203560"/>
            <a:ext cx="16524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37120" y="1822320"/>
            <a:ext cx="165240" cy="165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22920" y="2203560"/>
            <a:ext cx="165240" cy="1652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89160" y="2584440"/>
            <a:ext cx="165240" cy="165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0920" y="258444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3040" y="2584440"/>
            <a:ext cx="165240" cy="165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1822320"/>
            <a:ext cx="165240" cy="165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3346560"/>
            <a:ext cx="165240" cy="16524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for Different Frequ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369396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at Short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ressed by ACI Rejection Ratio (~35 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Only Nearest Off-Frequency B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for Same Frequen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733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city of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(Near/F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Correlations (Leak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Consider Near and Some Far B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42040" y="319392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13640" y="319392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70440" y="319392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927840" y="433692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56240" y="433692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27840" y="205092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56240" y="205092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0920" y="258444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813040" y="334656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89160" y="334656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89160" y="182232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3040" y="1822320"/>
            <a:ext cx="165240" cy="16524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680320" y="167004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9320" y="2584440"/>
            <a:ext cx="165240" cy="165240"/>
          </a:xfrm>
          <a:prstGeom prst="ellipse">
            <a:avLst/>
          </a:prstGeom>
          <a:noFill/>
          <a:ln w="12600">
            <a:solidFill>
              <a:srgbClr val="00ae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9880" y="2666880"/>
            <a:ext cx="1065240" cy="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554880" y="2668680"/>
            <a:ext cx="836640" cy="53172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078760" y="1830240"/>
            <a:ext cx="608040" cy="379440"/>
          </a:xfrm>
          <a:prstGeom prst="line">
            <a:avLst/>
          </a:prstGeom>
          <a:ln w="12600">
            <a:solidFill>
              <a:srgbClr val="919191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3-Frequency De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3840" y="2286000"/>
            <a:ext cx="2936880" cy="2936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110040" y="2286000"/>
            <a:ext cx="2936880" cy="29368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095880" y="2286000"/>
            <a:ext cx="293688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