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1360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 TGb ball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5, 1998,  12.25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of TGb Tell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c Hay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art K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76440" y="1704960"/>
            <a:ext cx="85057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6, 1998,  4.1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86080" y="1504800"/>
            <a:ext cx="63054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s Report Ballo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the ballot form contained one proposal too many, the Teller Committee decided, because the TGb Chair did not give the instruction NOT to vote on that proposal, that Ballot 3 is in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6, 1998,  5.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86080" y="1504800"/>
            <a:ext cx="6286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1 held May 6, 1998,  5.00 P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rs at ses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non-voters leaving the ro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ballots 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 ball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  <a:tabLst>
                <a:tab algn="dec" pos="6629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vo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ler’s report TGb ballot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86080" y="1504800"/>
            <a:ext cx="6286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