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2A3D4A-46A5-42CE-80F1-03624533D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ng the roposals re: data rate - no appreciabl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t to note what was not that 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is not an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ing the General Purpose Wireless LAN Mar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09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ff Abramowi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om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38088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AN success to date has been primarily in vertical marke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2.4 GHz High Speed could be the enabling technology for the general purpose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perspective must be considered in choosing the H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market research projects conducted with decision makers in corpo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LAN access for workers with portable computers in office environment identified as key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market research results and customer preferences presented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Perspective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Key Barriers to Broader Ado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us price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d to wired LAN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us Ethernet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 is more of concern than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 Packet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my users compla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appens with interfer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Perspectives -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2.4 GHz HS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 compatibility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ion message resonates with network decision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 alternative” customers with significant capacity requirements will migrate to 5 GHz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 for 2.4 GHz  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backward compatibility as an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selection must prioritize key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