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22</a:t>
            </a:r>
            <a:endParaRPr b="0" lang="en-US" sz="1400" spc="-1" strike="noStrike">
              <a:solidFill>
                <a:srgbClr val="000000"/>
              </a:solidFill>
              <a:latin typeface="Arial"/>
            </a:endParaRPr>
          </a:p>
        </p:txBody>
      </p:sp>
      <p:sp>
        <p:nvSpPr>
          <p:cNvPr id="2" name=""/>
          <p:cNvSpPr/>
          <p:nvPr/>
        </p:nvSpPr>
        <p:spPr>
          <a:xfrm>
            <a:off x="690480" y="609480"/>
            <a:ext cx="7767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90480" y="6477120"/>
            <a:ext cx="7844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PAN SG Meeting Report</a:t>
            </a:r>
            <a:endParaRPr b="0" lang="en-US" sz="4400" spc="-1" strike="noStrike">
              <a:solidFill>
                <a:srgbClr val="000000"/>
              </a:solidFill>
              <a:latin typeface="Arial"/>
            </a:endParaRPr>
          </a:p>
        </p:txBody>
      </p:sp>
      <p:sp>
        <p:nvSpPr>
          <p:cNvPr id="44"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Utrecht, NL</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May 4-6, 19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urrent WPAN Prioritized Guidelines</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 Cost: i.e., relative to target devic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mall Size e.g., ~.5 cubic inche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xcludes antenna &amp; batter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wer Management: Very Low current consumption</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verage 20mW @ 10/90 or les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ata</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allow coexistence of multiple Wireless PAN’s in the same area (20 within 400 square fee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allow coexistence of multiple Wireless Systems i.e. P802.11 in the sam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urrent WPAN Prioritized Guidelines</a:t>
            </a:r>
            <a:endParaRPr b="0" lang="en-US" sz="4400" spc="-1" strike="noStrike">
              <a:solidFill>
                <a:srgbClr val="000000"/>
              </a:solidFill>
              <a:latin typeface="Arial"/>
            </a:endParaRPr>
          </a:p>
        </p:txBody>
      </p:sp>
      <p:sp>
        <p:nvSpPr>
          <p:cNvPr id="6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ffective Data Rate at the MAC SAP: (19.2 - 100) kbit/s (actual 1 device to 1 devic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ll devices within a WPAN must be able to communicate with each oth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etworking support for a minimum of 16 devic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ic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nge: 0-10 meter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obility: 0-10mph (hand-off not required to another P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idge or Gateway connectivity to other data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urrent WPAN Prioritized Guidelines</a:t>
            </a:r>
            <a:endParaRPr b="0" lang="en-US" sz="4400" spc="-1" strike="noStrike">
              <a:solidFill>
                <a:srgbClr val="000000"/>
              </a:solidFill>
              <a:latin typeface="Arial"/>
            </a:endParaRPr>
          </a:p>
        </p:txBody>
      </p:sp>
      <p:sp>
        <p:nvSpPr>
          <p:cNvPr id="6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o single element of failur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id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PAN SG Applications Examples</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obile Work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urier: Communications between Printer, Scanner, Computer, Gateway to WAN, et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oad Warrior: Communications between Laptops, HPCs, Pagers, Cellular Phones, Scanners, Gateway to WAN, et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hysiological Monitor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tient: Communications between Body Sensors, Personal Data Collection Device, Gateway to WAN, et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ports: Communications between Shoe Sensors, Body Sensors, Personal Data Collection Device, Gateway to WAN,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PAN SG Call For Proposal for Irving, TX</a:t>
            </a:r>
            <a:endParaRPr b="0" lang="en-US" sz="4400" spc="-1" strike="noStrike">
              <a:solidFill>
                <a:srgbClr val="000000"/>
              </a:solidFill>
              <a:latin typeface="Arial"/>
            </a:endParaRPr>
          </a:p>
        </p:txBody>
      </p:sp>
      <p:sp>
        <p:nvSpPr>
          <p:cNvPr id="7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following will describe a Call For Proposal (CFP) for the lower layers i.e., OSI RM MAC &amp; PHY Layers of the Wireless Personal Area Network (WPA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oposals are solicited from members of the WPAN Study Group, Academia, and Industry to provide a straw model for Medium Access Control and Physical layer solutions that are consistent with the WPAN Functional Requirements.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FP doc.: IEEE 802.11-98/16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posed WPAN SG Liaisons</a:t>
            </a:r>
            <a:endParaRPr b="0" lang="en-US" sz="4400" spc="-1" strike="noStrike">
              <a:solidFill>
                <a:srgbClr val="000000"/>
              </a:solidFill>
              <a:latin typeface="Arial"/>
            </a:endParaRPr>
          </a:p>
        </p:txBody>
      </p:sp>
      <p:sp>
        <p:nvSpPr>
          <p:cNvPr id="7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Symbol"/>
              <a:buChar char=""/>
            </a:pPr>
            <a:r>
              <a:rPr b="0" lang="en-US" sz="2800" spc="-1" strike="noStrike">
                <a:solidFill>
                  <a:srgbClr val="000000"/>
                </a:solidFill>
                <a:latin typeface="Times New Roman"/>
                <a:ea typeface="Times New Roman"/>
              </a:rPr>
              <a:t>Infrared Data Association (IrDA)</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Symbol"/>
              <a:buChar char=""/>
            </a:pPr>
            <a:r>
              <a:rPr b="0" lang="en-US" sz="2800" spc="-1" strike="noStrike">
                <a:solidFill>
                  <a:srgbClr val="000000"/>
                </a:solidFill>
                <a:latin typeface="Times New Roman"/>
                <a:ea typeface="Times New Roman"/>
              </a:rPr>
              <a:t>Home Radio Frequency Working Group (HRFW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Symbol"/>
              <a:buChar char=""/>
            </a:pPr>
            <a:r>
              <a:rPr b="0" lang="en-US" sz="2800" spc="-1" strike="noStrike">
                <a:solidFill>
                  <a:srgbClr val="000000"/>
                </a:solidFill>
                <a:latin typeface="Times New Roman"/>
                <a:ea typeface="Times New Roman"/>
              </a:rPr>
              <a:t>ETSI Broadband Radio Access Networks (BRAN) Projec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Symbol"/>
              <a:buChar char=""/>
            </a:pPr>
            <a:r>
              <a:rPr b="0" lang="en-US" sz="2800" spc="-1" strike="noStrike">
                <a:solidFill>
                  <a:srgbClr val="000000"/>
                </a:solidFill>
                <a:latin typeface="Times New Roman"/>
                <a:ea typeface="Times New Roman"/>
              </a:rPr>
              <a:t>ATM Forum Wireless ATM (WATM) Working Group</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Symbol"/>
              <a:buChar char=""/>
            </a:pPr>
            <a:r>
              <a:rPr b="0" lang="en-US" sz="2800" spc="-1" strike="noStrike">
                <a:solidFill>
                  <a:srgbClr val="000000"/>
                </a:solidFill>
                <a:latin typeface="Times New Roman"/>
                <a:ea typeface="Times New Roman"/>
              </a:rPr>
              <a:t>Wireless LAN Alliance (WLANA)</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rnet Engineering Task Force (IET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nclusion</a:t>
            </a:r>
            <a:endParaRPr b="0" lang="en-US" sz="4400" spc="-1" strike="noStrike">
              <a:solidFill>
                <a:srgbClr val="000000"/>
              </a:solidFill>
              <a:latin typeface="Arial"/>
            </a:endParaRPr>
          </a:p>
        </p:txBody>
      </p:sp>
      <p:sp>
        <p:nvSpPr>
          <p:cNvPr id="7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WPAN SG would like to thank the 802.11 Working Group for their assistance with the setup of the Utrecht Mee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PAN Report Contents</a:t>
            </a:r>
            <a:endParaRPr b="0" lang="en-US" sz="4400" spc="-1" strike="noStrike">
              <a:solidFill>
                <a:srgbClr val="000000"/>
              </a:solidFill>
              <a:latin typeface="Arial"/>
            </a:endParaRPr>
          </a:p>
        </p:txBody>
      </p:sp>
      <p:sp>
        <p:nvSpPr>
          <p:cNvPr id="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Utrecht, NL Agenda Summ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urrent Press Relea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rving/Dallas TX Venue May 19-21, 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echnical Guidelines a.k.a. Functional Requirements and Applica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PAN Call For Proposa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PAN Liais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nday May 4, 1998</a:t>
            </a:r>
            <a:endParaRPr b="0" lang="en-US" sz="44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Arial"/>
                <a:ea typeface="Arial"/>
              </a:rPr>
              <a:t>Opening of sess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introductory com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voting righ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logistic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other 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nday May 4, 1998</a:t>
            </a:r>
            <a:endParaRPr b="0" lang="en-US" sz="4400" spc="-1" strike="noStrike">
              <a:solidFill>
                <a:srgbClr val="000000"/>
              </a:solidFill>
              <a:latin typeface="Arial"/>
            </a:endParaRPr>
          </a:p>
        </p:txBody>
      </p:sp>
      <p:sp>
        <p:nvSpPr>
          <p:cNvPr id="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pproval of minutes from Cambridge meet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Pat, Larry second 4,0,0</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Review of Contribution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Stuart Kerry, Butterfly HomeRF Pitch added to Wednesday May 6th, 1998 Agenda</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Adoption of agenda</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Hearing no objections agenda accepted</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Old busines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Arial"/>
                <a:ea typeface="Arial"/>
              </a:rPr>
              <a:t>We need a Spectrum Availability and Requirements Matrix</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New bus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nday May 4, 1998</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Arial"/>
                <a:ea typeface="Arial"/>
              </a:rPr>
              <a:t>Review objectives of meeting</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Solicit WG Proposal (802.11 FH/D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Progress Draft PAR and 5 Criteria &amp; Coexisten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Draft Liaisons w/ Press Release, Call For Proposal, et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Arial"/>
                <a:ea typeface="Arial"/>
              </a:rPr>
              <a:t>Review functional requirements document aka Guidelin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Arial"/>
                <a:ea typeface="Arial"/>
              </a:rPr>
              <a:t>Discuss requirements for a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May 5, 1998</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Review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PAR process/templat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raft PA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raft 5 Criteria</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Draft Guidelin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Created Application Summari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Determined next step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Create Spectrum Availability Matrix</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Arial"/>
                <a:ea typeface="Arial"/>
              </a:rPr>
              <a:t>Liaisons, Promote CF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ednesday May 6, 1998</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Arial"/>
                <a:ea typeface="Arial"/>
              </a:rPr>
              <a:t>HomeRF Pitch from Stuart J. Ker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Arial"/>
                <a:ea typeface="Arial"/>
              </a:rPr>
              <a:t>Created SG report for afternoon plen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PAN SG Press Release</a:t>
            </a:r>
            <a:endParaRPr b="0" lang="en-US" sz="4400" spc="-1" strike="noStrike">
              <a:solidFill>
                <a:srgbClr val="000000"/>
              </a:solidFill>
              <a:latin typeface="Arial"/>
            </a:endParaRPr>
          </a:p>
        </p:txBody>
      </p:sp>
      <p:sp>
        <p:nvSpPr>
          <p:cNvPr id="5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RVINE, CA 12 March 1998 - IEEE P802.11 Working Group announced today the formation of a study group to identify a project for standardization of a LAN for wireless communications for Wearable computing devices. This study will examine the requirements for Wireless Personal Area Networking (WPAN) of PCs, peripherals, and consumer electronic devices to communicate and interoperate with one an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PAN SG Interim Meeting</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000000"/>
                </a:solidFill>
                <a:latin typeface="Times New Roman"/>
                <a:ea typeface="Times New Roman"/>
              </a:rPr>
              <a:t>Sheraton Grand Hotel </a:t>
            </a:r>
            <a:r>
              <a:rPr b="0" lang="en-US" sz="1400" spc="-1" strike="noStrike">
                <a:solidFill>
                  <a:srgbClr val="000000"/>
                </a:solidFill>
                <a:latin typeface="Times New Roman"/>
                <a:ea typeface="Times New Roman"/>
              </a:rPr>
              <a:t>(10 minutes from Dallas/Fort Worth Airport)</a:t>
            </a:r>
            <a:endParaRPr b="0" lang="en-US" sz="14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4440 West Carpenter Freeway</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Irving, TX 75063</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1 972-929-8400, +1 800-345-5251</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y 19</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1998 1:00pm to 5:00pm to May 21</a:t>
            </a:r>
            <a:r>
              <a:rPr b="0" lang="en-US" sz="2400" spc="-1" strike="noStrike" baseline="30000">
                <a:solidFill>
                  <a:srgbClr val="000000"/>
                </a:solidFill>
                <a:latin typeface="Times New Roman"/>
                <a:ea typeface="Times New Roman"/>
              </a:rPr>
              <a:t>st</a:t>
            </a:r>
            <a:r>
              <a:rPr b="0" lang="en-US" sz="2400" spc="-1" strike="noStrike">
                <a:solidFill>
                  <a:srgbClr val="000000"/>
                </a:solidFill>
                <a:latin typeface="Times New Roman"/>
                <a:ea typeface="Times New Roman"/>
              </a:rPr>
              <a:t>, 1998 8:00am to 2:00pm</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ference “GTE IEEE Meeting” Rat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rving Venue doc.: IEEE 802.11-98/163</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rving Agenda doc.: IEEE 802.11-98/16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