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262DA-A53F-47D9-9624-8C9ED6B55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 Wireless Personal Area Network Medium Access Control and Physical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305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c Technologies Corpo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 Second St S.E., Cedar Rapids, 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5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29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neypw@noran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.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300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non-desired emissions from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widths allow simple high speed modulation/demodul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componentry from PCS and WLA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 as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low current drain, spread spectrum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from narrow ban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 simplified strategy of coexistence in a conges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ransmit power: &lt;1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mentary to an effective coexistenc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ubmission under FCC 15.249 (no hop sequ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vic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sumer concerns abou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/s aggregate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ective coexistence strategy due to reduced transmit d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verage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sponse times yield reduced host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unctional Requirements in CFP (except only 10 s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ut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emporarily Spli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tion is “coordin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“jo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s i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unicast att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accepts or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expected stations attach, coordinator starts norm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periodically broadcast synchronization information (bea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beacons, stations transmit to powered down stations by requesting other stations to leave receiver on, and after a short interval sending to that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ransmit to powered up statio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 (after beacons) termination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peated sever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applications such as the mobile worker and Physiological Monitoring involve short messages and short distances between devices. Key attributes for these devices 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(M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persistent with reservations (the reservation is similar to that in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frames all have an immediate response from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uences: 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5440" y="1890720"/>
            <a:ext cx="2985840" cy="457200"/>
            <a:chOff x="595440" y="1890720"/>
            <a:chExt cx="2985840" cy="457200"/>
          </a:xfrm>
        </p:grpSpPr>
        <p:sp>
          <p:nvSpPr>
            <p:cNvPr id="180" name=""/>
            <p:cNvSpPr txBox="1"/>
            <p:nvPr/>
          </p:nvSpPr>
          <p:spPr>
            <a:xfrm>
              <a:off x="595440" y="189072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2133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2347920"/>
            <a:ext cx="2691000" cy="457200"/>
            <a:chOff x="2743200" y="2347920"/>
            <a:chExt cx="2691000" cy="457200"/>
          </a:xfrm>
        </p:grpSpPr>
        <p:sp>
          <p:nvSpPr>
            <p:cNvPr id="183" name=""/>
            <p:cNvSpPr txBox="1"/>
            <p:nvPr/>
          </p:nvSpPr>
          <p:spPr>
            <a:xfrm>
              <a:off x="3870360" y="2347920"/>
              <a:ext cx="1563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ach 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671400" y="2805120"/>
            <a:ext cx="1547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R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23040" y="2209680"/>
            <a:ext cx="1131840" cy="1524240"/>
            <a:chOff x="7223040" y="2209680"/>
            <a:chExt cx="1131840" cy="1524240"/>
          </a:xfrm>
        </p:grpSpPr>
        <p:sp>
          <p:nvSpPr>
            <p:cNvPr id="188" name=""/>
            <p:cNvSpPr/>
            <p:nvPr/>
          </p:nvSpPr>
          <p:spPr>
            <a:xfrm>
              <a:off x="7772400" y="22096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3040" y="250020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1400" y="3870360"/>
            <a:ext cx="2986200" cy="457200"/>
            <a:chOff x="671400" y="3870360"/>
            <a:chExt cx="2986200" cy="457200"/>
          </a:xfrm>
        </p:grpSpPr>
        <p:sp>
          <p:nvSpPr>
            <p:cNvPr id="191" name=""/>
            <p:cNvSpPr txBox="1"/>
            <p:nvPr/>
          </p:nvSpPr>
          <p:spPr>
            <a:xfrm>
              <a:off x="671400" y="387036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114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47720" y="5318280"/>
            <a:ext cx="2986200" cy="457200"/>
            <a:chOff x="747720" y="5318280"/>
            <a:chExt cx="2986200" cy="457200"/>
          </a:xfrm>
        </p:grpSpPr>
        <p:sp>
          <p:nvSpPr>
            <p:cNvPr id="194" name=""/>
            <p:cNvSpPr txBox="1"/>
            <p:nvPr/>
          </p:nvSpPr>
          <p:spPr>
            <a:xfrm>
              <a:off x="747720" y="5318280"/>
              <a:ext cx="2054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23040" y="4114800"/>
            <a:ext cx="1131840" cy="1523880"/>
            <a:chOff x="7223040" y="4114800"/>
            <a:chExt cx="1131840" cy="1523880"/>
          </a:xfrm>
        </p:grpSpPr>
        <p:sp>
          <p:nvSpPr>
            <p:cNvPr id="197" name=""/>
            <p:cNvSpPr/>
            <p:nvPr/>
          </p:nvSpPr>
          <p:spPr>
            <a:xfrm>
              <a:off x="7772400" y="41148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223040" y="440388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47720" y="5851440"/>
            <a:ext cx="2986200" cy="457200"/>
            <a:chOff x="747720" y="5851440"/>
            <a:chExt cx="2986200" cy="457200"/>
          </a:xfrm>
        </p:grpSpPr>
        <p:sp>
          <p:nvSpPr>
            <p:cNvPr id="200" name=""/>
            <p:cNvSpPr txBox="1"/>
            <p:nvPr/>
          </p:nvSpPr>
          <p:spPr>
            <a:xfrm>
              <a:off x="747720" y="585144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480" y="60958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Down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08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2286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13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1400" y="2119320"/>
            <a:ext cx="2986200" cy="457200"/>
            <a:chOff x="671400" y="2119320"/>
            <a:chExt cx="2986200" cy="457200"/>
          </a:xfrm>
        </p:grpSpPr>
        <p:sp>
          <p:nvSpPr>
            <p:cNvPr id="216" name=""/>
            <p:cNvSpPr txBox="1"/>
            <p:nvPr/>
          </p:nvSpPr>
          <p:spPr>
            <a:xfrm>
              <a:off x="671400" y="211932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2362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19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43200" y="2347920"/>
            <a:ext cx="1803240" cy="457200"/>
            <a:chOff x="2743200" y="2347920"/>
            <a:chExt cx="1803240" cy="457200"/>
          </a:xfrm>
        </p:grpSpPr>
        <p:sp>
          <p:nvSpPr>
            <p:cNvPr id="222" name=""/>
            <p:cNvSpPr txBox="1"/>
            <p:nvPr/>
          </p:nvSpPr>
          <p:spPr>
            <a:xfrm>
              <a:off x="3871800" y="234792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400" y="3110040"/>
            <a:ext cx="2986200" cy="457200"/>
            <a:chOff x="671400" y="3110040"/>
            <a:chExt cx="2986200" cy="457200"/>
          </a:xfrm>
        </p:grpSpPr>
        <p:sp>
          <p:nvSpPr>
            <p:cNvPr id="225" name=""/>
            <p:cNvSpPr txBox="1"/>
            <p:nvPr/>
          </p:nvSpPr>
          <p:spPr>
            <a:xfrm>
              <a:off x="671400" y="311004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352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3200" y="3336840"/>
            <a:ext cx="1803240" cy="457200"/>
            <a:chOff x="2743200" y="3336840"/>
            <a:chExt cx="1803240" cy="457200"/>
          </a:xfrm>
        </p:grpSpPr>
        <p:sp>
          <p:nvSpPr>
            <p:cNvPr id="228" name=""/>
            <p:cNvSpPr txBox="1"/>
            <p:nvPr/>
          </p:nvSpPr>
          <p:spPr>
            <a:xfrm>
              <a:off x="3871800" y="333684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35812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1400" y="3565440"/>
            <a:ext cx="2986200" cy="457200"/>
            <a:chOff x="671400" y="3565440"/>
            <a:chExt cx="2986200" cy="457200"/>
          </a:xfrm>
        </p:grpSpPr>
        <p:sp>
          <p:nvSpPr>
            <p:cNvPr id="231" name=""/>
            <p:cNvSpPr txBox="1"/>
            <p:nvPr/>
          </p:nvSpPr>
          <p:spPr>
            <a:xfrm>
              <a:off x="671400" y="356544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8098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3794040"/>
            <a:ext cx="1701720" cy="457200"/>
            <a:chOff x="2743200" y="3794040"/>
            <a:chExt cx="1701720" cy="457200"/>
          </a:xfrm>
        </p:grpSpPr>
        <p:sp>
          <p:nvSpPr>
            <p:cNvPr id="234" name=""/>
            <p:cNvSpPr txBox="1"/>
            <p:nvPr/>
          </p:nvSpPr>
          <p:spPr>
            <a:xfrm>
              <a:off x="3871800" y="379404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4038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37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Up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45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400800" y="1981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50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53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1400" y="3489480"/>
            <a:ext cx="2986200" cy="457200"/>
            <a:chOff x="671400" y="3489480"/>
            <a:chExt cx="2986200" cy="457200"/>
          </a:xfrm>
        </p:grpSpPr>
        <p:sp>
          <p:nvSpPr>
            <p:cNvPr id="256" name=""/>
            <p:cNvSpPr txBox="1"/>
            <p:nvPr/>
          </p:nvSpPr>
          <p:spPr>
            <a:xfrm>
              <a:off x="671400" y="348948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19520" y="3733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743200" y="3718080"/>
            <a:ext cx="1803240" cy="457200"/>
            <a:chOff x="2743200" y="3718080"/>
            <a:chExt cx="1803240" cy="457200"/>
          </a:xfrm>
        </p:grpSpPr>
        <p:sp>
          <p:nvSpPr>
            <p:cNvPr id="259" name=""/>
            <p:cNvSpPr txBox="1"/>
            <p:nvPr/>
          </p:nvSpPr>
          <p:spPr>
            <a:xfrm>
              <a:off x="3871800" y="371808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3962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71400" y="3946680"/>
            <a:ext cx="2986200" cy="457200"/>
            <a:chOff x="671400" y="3946680"/>
            <a:chExt cx="2986200" cy="457200"/>
          </a:xfrm>
        </p:grpSpPr>
        <p:sp>
          <p:nvSpPr>
            <p:cNvPr id="262" name=""/>
            <p:cNvSpPr txBox="1"/>
            <p:nvPr/>
          </p:nvSpPr>
          <p:spPr>
            <a:xfrm>
              <a:off x="671400" y="394668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4191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743200" y="4175280"/>
            <a:ext cx="1701720" cy="457200"/>
            <a:chOff x="2743200" y="4175280"/>
            <a:chExt cx="1701720" cy="457200"/>
          </a:xfrm>
        </p:grpSpPr>
        <p:sp>
          <p:nvSpPr>
            <p:cNvPr id="265" name=""/>
            <p:cNvSpPr txBox="1"/>
            <p:nvPr/>
          </p:nvSpPr>
          <p:spPr>
            <a:xfrm>
              <a:off x="3871800" y="417528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4419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68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from C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vs 16 nodes per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umber 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at 1.5 cubic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factor dictated by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: self initiating, self contained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minimal cost, low relative to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: less than 20 mW for connection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: both WLAN networks and P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greater than 10 meters in cubicl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ddressing:  allows the network to be intiated and maintained with 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network:  allows a device to temporarily split from its PAN, attach to a non-PAN device, detach from that device and resume participation in the original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0240" y="3295800"/>
            <a:ext cx="539640" cy="241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828800"/>
            <a:ext cx="7805880" cy="3556080"/>
            <a:chOff x="380880" y="1828800"/>
            <a:chExt cx="7805880" cy="3556080"/>
          </a:xfrm>
        </p:grpSpPr>
        <p:sp>
          <p:nvSpPr>
            <p:cNvPr id="67" name=""/>
            <p:cNvSpPr/>
            <p:nvPr/>
          </p:nvSpPr>
          <p:spPr>
            <a:xfrm>
              <a:off x="380880" y="182880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65480" y="3137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65480" y="423540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5480" y="3191040"/>
              <a:ext cx="2355840" cy="9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5480" y="3246480"/>
              <a:ext cx="121284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278320" y="3246480"/>
              <a:ext cx="114300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480" y="4289400"/>
              <a:ext cx="11448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1480" y="3673440"/>
              <a:ext cx="42840" cy="66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65480" y="3191040"/>
              <a:ext cx="23558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343480" y="4289400"/>
              <a:ext cx="10778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508040" y="3108240"/>
              <a:ext cx="131904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276720" y="4038480"/>
              <a:ext cx="609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488280" y="4253040"/>
              <a:ext cx="10238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3182760" y="4659480"/>
              <a:ext cx="1008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Based Work 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230880" y="4583160"/>
              <a:ext cx="172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code and Receipt Prin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954160" y="3516480"/>
              <a:ext cx="81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N Ra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621400" y="5116680"/>
              <a:ext cx="620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7145280" y="3135240"/>
              <a:ext cx="1041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n-based HH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504120" y="2608200"/>
              <a:ext cx="66528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340080" y="2754360"/>
              <a:ext cx="39384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5078520" y="483552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major drivers behind WPAN is the lowest possible cost.  Cost is typically driven by complexity and high performance requirements.  The design philosophy behind this proposal is a system design with relaxed requirements on hardware cost drivers and which leverages existing technology and componentry where possible for the lowest recurring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greatly simplifies requirements on RF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/DIFS/PIFS are greatly relax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 S/W overhead (estimate 25% of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/PHY gate count (estimate 10%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nversio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launch V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AC complexity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SIC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icroprocessor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nsceiver performance requirements a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ctive compon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results in less than 6 mA current drain @ 3.3V for connection mainta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essential that these devices operate satisfactorily in congested spectral environments.  The proposal is for CSMA/CA protocol, Frequency Hopping, with a high speed aggregate data rate to aid in Coexistenc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other co-located 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FH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requirements for PANs are met with a maximum range of 10 meters.  Intermec Technolgies’ implementation of this proposal has a demonstrated range of greater than 10 meters as verified in a cubicle environment and in shipping and receiv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Norand Corporation</cp:lastModifiedBy>
  <cp:revision>0</cp:revision>
  <dc:subject/>
  <dc:title>No Slide Title</dc:title>
</cp:coreProperties>
</file>