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592657-6196-4307-AFCE-383D598AF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s: office, home, restaurant, theatre, hotel, airport, shopping 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 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UI - thin serv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9810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taneous Proximity Networking with Piano-enabled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D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System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26658@email.sps.m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Distribution for Discovered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service-specific user interfaces for multiple services without pre-configuring a client for each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a service-specific user interface for newly encounter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may be downloaded on demand from the internet/intranet, from the server offering the service, or may be pre-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orola Piano team has focused on the “things you come near” aspect of short-range wireless networking (I.e., Personal Operating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no Goal: work within Bluetooth and the IEEE to standardize the Egalitarian, ad hoc networking protocols and Application Programming Inte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Pia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 code name for short-range spontaneous wirel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hort-range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 are transient, formed as needed when devices come into prox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without a designated contro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but does not require a connection to the internet/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orola Vision for Pi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uture in which many electronic devices (enabled with Piano)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other nearby Piano-enabl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capability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o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v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iano-enable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ally exchan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sic information about fundamental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temporary wireless networks, as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no-Enabled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xt /Location-specific tri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osks - printing, information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e reduction - hotel, theater, restau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User Interface - thin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comme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mak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 Features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ano Netwo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range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devic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service dis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oriented servic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oriented servic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distribution for discover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authentication/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-range Wireless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ni-directio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ermits hidden, automatic operation (I.e., briefcase compu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consump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ermits small size, portabl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ran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frequency sharing through spacial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 enables ubi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 equivalent privac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protection from eavesdropping and spoo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Device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device can detect and communicate wit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arby de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operate as peers without the use of a central control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s can begin communicating without device-specific configuration or human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associations are tempor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Service Disco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1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users to see availabl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enough information for user to decide if further interaction i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devices to automatically utilize recogniz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information on service protocols and connec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cient to establish a session with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naming of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Discovery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naming separate from device na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grouping and categ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notification when a requested service enters proxi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support for caching of servic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discovery based on authentication/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 Ditch</dc:creator>
  <dc:description>Rich Ditch, Motorola</dc:description>
  <dc:language>en-US</dc:language>
  <cp:lastModifiedBy>Rich Ditch</cp:lastModifiedBy>
  <cp:revision>0</cp:revision>
  <dc:subject>doc.: IEEE 802.11-98/252</dc:subject>
  <dc:title>Motorola PIANO Update</dc:title>
</cp:coreProperties>
</file>