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892-3B85-4918-8551-5F9818E9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64A-4149-4D07-A189-9D539721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116-9F5A-4501-94DA-EF4E0DC7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5100-D8F2-4EB9-B6EB-BBC3EF8A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CE63-6D4A-432C-9DB5-69B81C3D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BA9-70EF-455E-B80B-02963324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8A1-2C4C-48E0-98F9-4B68BAC7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AD0-25D6-4C0F-8394-8DED74E5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0BD-678E-425D-8E41-DA0EB675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904-50D7-4E98-B973-B734EB0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B24-AE24-4F5E-A8B4-0CE3FF2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2576-E67B-4FDC-A848-7014A79B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DE2262-6DDF-43E3-ACC5-33774140A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8/2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Outline of Draft Standard for 5 GH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90720" y="37339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itoshi Takanashi, Masahiro Morikura, Richard van 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F3F-ECBD-498A-9CCB-01BD6F2557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yclic Ex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aised cosine window to reduce out band power (roll off factor : 0.0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52280" y="3657600"/>
            <a:ext cx="8610840" cy="1889280"/>
            <a:chOff x="152280" y="3657600"/>
            <a:chExt cx="8610840" cy="1889280"/>
          </a:xfrm>
        </p:grpSpPr>
        <p:sp>
          <p:nvSpPr>
            <p:cNvPr id="77" name=""/>
            <p:cNvSpPr/>
            <p:nvPr/>
          </p:nvSpPr>
          <p:spPr>
            <a:xfrm>
              <a:off x="192960" y="5088600"/>
              <a:ext cx="85096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00240" y="4314240"/>
              <a:ext cx="151992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102920" y="3657600"/>
              <a:ext cx="738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s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=T+T</a:t>
              </a:r>
              <a:r>
                <a:rPr b="0" i="1" lang="en-US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87200" y="5189760"/>
              <a:ext cx="5068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8360" y="5299200"/>
              <a:ext cx="3402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 </a:t>
              </a: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2816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20960" y="4533120"/>
              <a:ext cx="3242160" cy="558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3"/>
                  </a:moveTo>
                  <a:lnTo>
                    <a:pt x="234" y="19810"/>
                  </a:lnTo>
                  <a:lnTo>
                    <a:pt x="434" y="19238"/>
                  </a:lnTo>
                  <a:lnTo>
                    <a:pt x="625" y="18259"/>
                  </a:lnTo>
                  <a:lnTo>
                    <a:pt x="864" y="17061"/>
                  </a:lnTo>
                  <a:lnTo>
                    <a:pt x="1059" y="15537"/>
                  </a:lnTo>
                  <a:lnTo>
                    <a:pt x="1250" y="13823"/>
                  </a:lnTo>
                  <a:lnTo>
                    <a:pt x="1493" y="11973"/>
                  </a:lnTo>
                  <a:lnTo>
                    <a:pt x="1679" y="10014"/>
                  </a:lnTo>
                  <a:lnTo>
                    <a:pt x="1875" y="8027"/>
                  </a:lnTo>
                  <a:lnTo>
                    <a:pt x="2113" y="6177"/>
                  </a:lnTo>
                  <a:lnTo>
                    <a:pt x="2309" y="4463"/>
                  </a:lnTo>
                  <a:lnTo>
                    <a:pt x="2495" y="2939"/>
                  </a:lnTo>
                  <a:lnTo>
                    <a:pt x="2738" y="1714"/>
                  </a:lnTo>
                  <a:lnTo>
                    <a:pt x="2929" y="762"/>
                  </a:lnTo>
                  <a:lnTo>
                    <a:pt x="3124" y="190"/>
                  </a:lnTo>
                  <a:lnTo>
                    <a:pt x="3363" y="0"/>
                  </a:lnTo>
                  <a:lnTo>
                    <a:pt x="3554" y="0"/>
                  </a:lnTo>
                  <a:lnTo>
                    <a:pt x="3745" y="0"/>
                  </a:lnTo>
                  <a:lnTo>
                    <a:pt x="3988" y="0"/>
                  </a:lnTo>
                  <a:lnTo>
                    <a:pt x="4179" y="0"/>
                  </a:lnTo>
                  <a:lnTo>
                    <a:pt x="4374" y="0"/>
                  </a:lnTo>
                  <a:lnTo>
                    <a:pt x="4617" y="0"/>
                  </a:lnTo>
                  <a:lnTo>
                    <a:pt x="4804" y="0"/>
                  </a:lnTo>
                  <a:lnTo>
                    <a:pt x="4995" y="0"/>
                  </a:lnTo>
                  <a:lnTo>
                    <a:pt x="5238" y="0"/>
                  </a:lnTo>
                  <a:lnTo>
                    <a:pt x="5424" y="0"/>
                  </a:lnTo>
                  <a:lnTo>
                    <a:pt x="5624" y="0"/>
                  </a:lnTo>
                  <a:lnTo>
                    <a:pt x="5867" y="0"/>
                  </a:lnTo>
                  <a:lnTo>
                    <a:pt x="6053" y="0"/>
                  </a:lnTo>
                  <a:lnTo>
                    <a:pt x="6244" y="0"/>
                  </a:lnTo>
                  <a:lnTo>
                    <a:pt x="6483" y="0"/>
                  </a:lnTo>
                  <a:lnTo>
                    <a:pt x="6683" y="0"/>
                  </a:lnTo>
                  <a:lnTo>
                    <a:pt x="6874" y="0"/>
                  </a:lnTo>
                  <a:lnTo>
                    <a:pt x="7117" y="0"/>
                  </a:lnTo>
                  <a:lnTo>
                    <a:pt x="7299" y="0"/>
                  </a:lnTo>
                  <a:lnTo>
                    <a:pt x="7490" y="0"/>
                  </a:lnTo>
                  <a:lnTo>
                    <a:pt x="7733" y="0"/>
                  </a:lnTo>
                  <a:lnTo>
                    <a:pt x="7932" y="0"/>
                  </a:lnTo>
                  <a:lnTo>
                    <a:pt x="8123" y="0"/>
                  </a:lnTo>
                  <a:lnTo>
                    <a:pt x="8362" y="0"/>
                  </a:lnTo>
                  <a:lnTo>
                    <a:pt x="8548" y="0"/>
                  </a:lnTo>
                  <a:lnTo>
                    <a:pt x="8748" y="0"/>
                  </a:lnTo>
                  <a:lnTo>
                    <a:pt x="8982" y="0"/>
                  </a:lnTo>
                  <a:lnTo>
                    <a:pt x="9178" y="0"/>
                  </a:lnTo>
                  <a:lnTo>
                    <a:pt x="9369" y="0"/>
                  </a:lnTo>
                  <a:lnTo>
                    <a:pt x="9612" y="0"/>
                  </a:lnTo>
                  <a:lnTo>
                    <a:pt x="9798" y="0"/>
                  </a:lnTo>
                  <a:lnTo>
                    <a:pt x="10002" y="0"/>
                  </a:lnTo>
                  <a:lnTo>
                    <a:pt x="10236" y="0"/>
                  </a:lnTo>
                  <a:lnTo>
                    <a:pt x="10432" y="0"/>
                  </a:lnTo>
                  <a:lnTo>
                    <a:pt x="10623" y="0"/>
                  </a:lnTo>
                  <a:lnTo>
                    <a:pt x="10818" y="0"/>
                  </a:lnTo>
                  <a:lnTo>
                    <a:pt x="11052" y="0"/>
                  </a:lnTo>
                  <a:lnTo>
                    <a:pt x="11248" y="0"/>
                  </a:lnTo>
                  <a:lnTo>
                    <a:pt x="11438" y="0"/>
                  </a:lnTo>
                  <a:lnTo>
                    <a:pt x="11681" y="0"/>
                  </a:lnTo>
                  <a:lnTo>
                    <a:pt x="11872" y="0"/>
                  </a:lnTo>
                  <a:lnTo>
                    <a:pt x="12063" y="0"/>
                  </a:lnTo>
                  <a:lnTo>
                    <a:pt x="12298" y="0"/>
                  </a:lnTo>
                  <a:lnTo>
                    <a:pt x="12497" y="0"/>
                  </a:lnTo>
                  <a:lnTo>
                    <a:pt x="12697" y="0"/>
                  </a:lnTo>
                  <a:lnTo>
                    <a:pt x="12931" y="0"/>
                  </a:lnTo>
                  <a:lnTo>
                    <a:pt x="13118" y="0"/>
                  </a:lnTo>
                  <a:lnTo>
                    <a:pt x="13313" y="0"/>
                  </a:lnTo>
                  <a:lnTo>
                    <a:pt x="13547" y="0"/>
                  </a:lnTo>
                  <a:lnTo>
                    <a:pt x="13747" y="0"/>
                  </a:lnTo>
                  <a:lnTo>
                    <a:pt x="13942" y="0"/>
                  </a:lnTo>
                  <a:lnTo>
                    <a:pt x="14177" y="0"/>
                  </a:lnTo>
                  <a:lnTo>
                    <a:pt x="14368" y="0"/>
                  </a:lnTo>
                  <a:lnTo>
                    <a:pt x="14563" y="0"/>
                  </a:lnTo>
                  <a:lnTo>
                    <a:pt x="14806" y="0"/>
                  </a:lnTo>
                  <a:lnTo>
                    <a:pt x="14992" y="0"/>
                  </a:lnTo>
                  <a:lnTo>
                    <a:pt x="15192" y="0"/>
                  </a:lnTo>
                  <a:lnTo>
                    <a:pt x="15426" y="0"/>
                  </a:lnTo>
                  <a:lnTo>
                    <a:pt x="15626" y="0"/>
                  </a:lnTo>
                  <a:lnTo>
                    <a:pt x="15808" y="0"/>
                  </a:lnTo>
                  <a:lnTo>
                    <a:pt x="16051" y="0"/>
                  </a:lnTo>
                  <a:lnTo>
                    <a:pt x="16242" y="0"/>
                  </a:lnTo>
                  <a:lnTo>
                    <a:pt x="16442" y="0"/>
                  </a:lnTo>
                  <a:lnTo>
                    <a:pt x="16676" y="0"/>
                  </a:lnTo>
                  <a:lnTo>
                    <a:pt x="16871" y="190"/>
                  </a:lnTo>
                  <a:lnTo>
                    <a:pt x="17058" y="762"/>
                  </a:lnTo>
                  <a:lnTo>
                    <a:pt x="17301" y="1714"/>
                  </a:lnTo>
                  <a:lnTo>
                    <a:pt x="17492" y="2939"/>
                  </a:lnTo>
                  <a:lnTo>
                    <a:pt x="17687" y="4463"/>
                  </a:lnTo>
                  <a:lnTo>
                    <a:pt x="17921" y="6177"/>
                  </a:lnTo>
                  <a:lnTo>
                    <a:pt x="18121" y="8027"/>
                  </a:lnTo>
                  <a:lnTo>
                    <a:pt x="18308" y="10014"/>
                  </a:lnTo>
                  <a:lnTo>
                    <a:pt x="18551" y="11973"/>
                  </a:lnTo>
                  <a:lnTo>
                    <a:pt x="18746" y="13823"/>
                  </a:lnTo>
                  <a:lnTo>
                    <a:pt x="18937" y="15537"/>
                  </a:lnTo>
                  <a:lnTo>
                    <a:pt x="19171" y="17061"/>
                  </a:lnTo>
                  <a:lnTo>
                    <a:pt x="19371" y="18259"/>
                  </a:lnTo>
                  <a:lnTo>
                    <a:pt x="19557" y="19238"/>
                  </a:lnTo>
                  <a:lnTo>
                    <a:pt x="19796" y="19810"/>
                  </a:lnTo>
                  <a:lnTo>
                    <a:pt x="19996" y="19973"/>
                  </a:lnTo>
                </a:path>
              </a:pathLst>
            </a:custGeom>
            <a:noFill/>
            <a:ln w="10080">
              <a:solidFill>
                <a:srgbClr val="0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896920" y="4314240"/>
              <a:ext cx="100368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19800" y="4314240"/>
              <a:ext cx="61452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20280" y="4058640"/>
              <a:ext cx="389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0960" y="405864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ja-JP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postf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89880" y="4058640"/>
              <a:ext cx="50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ja-JP" sz="1400" spc="-1" strike="noStrike">
                  <a:solidFill>
                    <a:srgbClr val="000000"/>
                  </a:solidFill>
                  <a:latin typeface="Century"/>
                  <a:ea typeface="ＭＳ 明朝"/>
                </a:rPr>
                <a:t>T</a:t>
              </a:r>
              <a:r>
                <a:rPr b="0" i="1" lang="ja-JP" sz="1400" spc="-1" strike="noStrike" baseline="-25000">
                  <a:solidFill>
                    <a:srgbClr val="000000"/>
                  </a:solidFill>
                  <a:latin typeface="Century"/>
                  <a:ea typeface="ＭＳ 明朝"/>
                </a:rPr>
                <a:t>prefi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89880" y="3876480"/>
              <a:ext cx="2735640" cy="3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0D1-A069-464A-8343-AA25221183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ining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and Long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2680" y="3505320"/>
          <a:ext cx="9031320" cy="258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3505320"/>
                    <a:ext cx="90313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EB05-3869-477E-B76A-58C7BC3C96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64 states convolutional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ate : 1/2 - 3/4 (punctur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981080" y="3276720"/>
          <a:ext cx="457200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457200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C9A6-6ACE-404B-8C80-8A41FC67B2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stealing/inser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133720"/>
          <a:ext cx="5335560" cy="39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533556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5CC-5990-4DD2-9255-FE9DA2F84F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 Referen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used in the current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Primitive parameters are def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905120" y="3352680"/>
          <a:ext cx="5559480" cy="30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352680"/>
                    <a:ext cx="5559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CC44-80C4-4F95-809F-D84214E7B1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CP Fram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2743200"/>
          <a:ext cx="8001000" cy="28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43200"/>
                    <a:ext cx="8001000" cy="28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900-6766-4FFD-AAE9-08D513ACD88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it stuff to make the MPDU length multiples of an OFDM symb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Tail bits to set the convolutional encoder to a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crambler to minimize the data DC offs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leave to enhance error correction function (within an OFDM symbo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16BA-6975-464B-974F-E78D94F6E7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obust against delay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No feed back loop : 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ny modulation schemes can be applied to the base band modulation. Same spectrum shape is fou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Fall back function is suppor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Same PHY as BRAN’s would be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F06F-31DF-4804-886A-4CF04F04341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0" y="1981080"/>
            <a:ext cx="1752480" cy="457200"/>
          </a:xfrm>
          <a:prstGeom prst="wedgeRectCallout">
            <a:avLst>
              <a:gd name="adj1" fmla="val -33060"/>
              <a:gd name="adj2" fmla="val 9652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figuration of 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2057400"/>
          <a:ext cx="8381880" cy="35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057400"/>
                    <a:ext cx="838188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2297520" y="2049480"/>
            <a:ext cx="1853640" cy="298080"/>
          </a:xfrm>
          <a:prstGeom prst="wedgeRoundRectCallout">
            <a:avLst>
              <a:gd name="adj1" fmla="val -31129"/>
              <a:gd name="adj2" fmla="val 164472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in Bas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D72-3DD5-4642-83CB-91C33491F02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48 sub-carriers in 12.5 MHz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Center carrier is not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64 points of FFT/IF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ase band modulation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PSK, DQPSK and 16Q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5 carriers in 100 MHz (15 MHz separ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64F-AAE0-4FD9-8625-F594E97AC4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-carrier Allo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2921040" cy="1727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117440" y="2108160"/>
            <a:ext cx="2006640" cy="3530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24280" y="220968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er carrier interfered by the DC offset is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F307-C76F-4926-A930-F8005D30C2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e ban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DBPSK and DQP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ifferential coding for differential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BPSK, r=1/2 : 5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QPSK, r=1/2 : 1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DQPSK, r=3/4 : 15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ilot carriers (#3, 26 and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Pilot carriers (#3, 26 and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=1/2 : 2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r=3/4 : 30 Mbit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9C2-CA93-4430-9574-E48572E483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annelization in L &amp; M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0 carriers in 200 MHz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Guard band : 13.875 MHz to the band 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15 MHz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80880" y="3870360"/>
          <a:ext cx="8382240" cy="222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70360"/>
                    <a:ext cx="83822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189-DFD9-4587-9509-DF51A7C51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Channelization in Upper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lower / middle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09680" y="3429000"/>
          <a:ext cx="441972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441972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69E8-3234-444B-A503-98ECF48DC6E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der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Guard Interval is sec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90720" y="3429000"/>
          <a:ext cx="728496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429000"/>
                    <a:ext cx="728496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itoshi, Masahiro, Richard Lucent+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851-8710-4A5E-99A2-901EDCC5F4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itoshi</cp:lastModifiedBy>
  <cp:lastPrinted>1998-02-10T13:28:06Z</cp:lastPrinted>
  <dcterms:modified xsi:type="dcterms:W3CDTF">1998-07-09T17:43:22Z</dcterms:modified>
  <cp:revision>14</cp:revision>
  <dc:subject/>
  <dc:title>No Slide Title</dc:title>
</cp:coreProperties>
</file>