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98C2-A112-481D-8154-19425C52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F499-2152-4DAB-84E7-B9D59E8A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790-D5D1-4113-A827-723C61CCD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5BD9-A48C-40C7-BFAC-578F9D795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9036-56AC-4838-A0A2-A7DBF96E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C9E-2C0D-4374-8CE0-8491954F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B49-0C7D-4910-BE2E-7847F42B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D761-035B-4907-8440-EB8D5722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C82E-667F-4631-ADBC-D8F5B9C1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F25E-48EC-49A3-9F4B-F7A33CA5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312-BBD5-4172-8907-C668C428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6746-83B0-4167-A418-A40B7B25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5B706C9-F663-4FDD-8A6F-785045A5C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98/2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MAC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panese Standard bo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ahiro Morik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, NT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66E-1717-45DE-B4D7-B25CC8E152D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76520" y="4572000"/>
            <a:ext cx="1904760" cy="83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SI B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86200" y="4572000"/>
            <a:ext cx="1905120" cy="838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802.11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809880"/>
            <a:ext cx="1905120" cy="838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2514600"/>
            <a:ext cx="129528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GHz AT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l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514600"/>
            <a:ext cx="129528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GHz Ether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l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676520"/>
            <a:ext cx="129528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GHz/60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less 1394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523880"/>
            <a:ext cx="5257800" cy="213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1295280"/>
            <a:ext cx="99036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3280" y="129528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1600200"/>
            <a:ext cx="2666880" cy="2438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58000" y="2057400"/>
            <a:ext cx="685800" cy="457200"/>
            <a:chOff x="6858000" y="2057400"/>
            <a:chExt cx="685800" cy="457200"/>
          </a:xfrm>
        </p:grpSpPr>
        <p:sp>
          <p:nvSpPr>
            <p:cNvPr id="58" name=""/>
            <p:cNvSpPr/>
            <p:nvPr/>
          </p:nvSpPr>
          <p:spPr>
            <a:xfrm>
              <a:off x="6858000" y="2057400"/>
              <a:ext cx="6858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94800" y="217008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H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696080" y="2057400"/>
            <a:ext cx="685800" cy="390600"/>
            <a:chOff x="7696080" y="2057400"/>
            <a:chExt cx="685800" cy="390600"/>
          </a:xfrm>
        </p:grpSpPr>
        <p:sp>
          <p:nvSpPr>
            <p:cNvPr id="61" name=""/>
            <p:cNvSpPr/>
            <p:nvPr/>
          </p:nvSpPr>
          <p:spPr>
            <a:xfrm>
              <a:off x="7696080" y="2057400"/>
              <a:ext cx="685800" cy="390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33240" y="21430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400800" y="2666880"/>
            <a:ext cx="990720" cy="457200"/>
            <a:chOff x="6400800" y="2666880"/>
            <a:chExt cx="990720" cy="457200"/>
          </a:xfrm>
        </p:grpSpPr>
        <p:sp>
          <p:nvSpPr>
            <p:cNvPr id="64" name=""/>
            <p:cNvSpPr/>
            <p:nvPr/>
          </p:nvSpPr>
          <p:spPr>
            <a:xfrm>
              <a:off x="6400800" y="2666880"/>
              <a:ext cx="99072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39400" y="2779560"/>
              <a:ext cx="76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T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6934320" y="3429000"/>
            <a:ext cx="1371600" cy="459000"/>
            <a:chOff x="6934320" y="3429000"/>
            <a:chExt cx="1371600" cy="459000"/>
          </a:xfrm>
        </p:grpSpPr>
        <p:sp>
          <p:nvSpPr>
            <p:cNvPr id="67" name=""/>
            <p:cNvSpPr/>
            <p:nvPr/>
          </p:nvSpPr>
          <p:spPr>
            <a:xfrm>
              <a:off x="6934320" y="3429000"/>
              <a:ext cx="13716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1120" y="3429000"/>
              <a:ext cx="106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.4G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ireless 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7086600" y="1447920"/>
            <a:ext cx="9907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41040" y="14479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I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905120" y="312408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3276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4952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32767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7620120" y="2666880"/>
            <a:ext cx="1063080" cy="459000"/>
            <a:chOff x="7620120" y="2666880"/>
            <a:chExt cx="1063080" cy="459000"/>
          </a:xfrm>
        </p:grpSpPr>
        <p:sp>
          <p:nvSpPr>
            <p:cNvPr id="76" name=""/>
            <p:cNvSpPr/>
            <p:nvPr/>
          </p:nvSpPr>
          <p:spPr>
            <a:xfrm>
              <a:off x="7620120" y="2666880"/>
              <a:ext cx="99036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99320" y="2666880"/>
              <a:ext cx="98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git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roadcas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85800" y="1828800"/>
            <a:ext cx="129528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tra High Sp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LAN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0-60G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2514600"/>
            <a:ext cx="129564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Spe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less Access 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5G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123720" y="228600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2895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2520" y="228600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ahiro, NT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BE40-B43A-4BA8-BBF4-0EC73E04CA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9T12:16:10Z</dcterms:created>
  <dc:creator>morikura</dc:creator>
  <dc:description/>
  <dc:language>en-US</dc:language>
  <cp:lastModifiedBy>morikura</cp:lastModifiedBy>
  <cp:lastPrinted>1998-02-10T13:28:06Z</cp:lastPrinted>
  <dcterms:modified xsi:type="dcterms:W3CDTF">1998-07-09T16:54:02Z</dcterms:modified>
  <cp:revision>6</cp:revision>
  <dc:subject/>
  <dc:title>ｽﾗｲﾄﾞ ﾀｲﾄﾙなし</dc:title>
</cp:coreProperties>
</file>