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9C44A1F-585B-4469-B137-9A4BB7BA85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4495680" y="2286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828800" algn="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c.: IEEE 802.11-98/2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698400" y="609480"/>
            <a:ext cx="77598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 txBox="1"/>
          <p:nvPr/>
        </p:nvSpPr>
        <p:spPr>
          <a:xfrm>
            <a:off x="593640" y="6446880"/>
            <a:ext cx="895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698400" y="6477120"/>
            <a:ext cx="78361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685800" y="685800"/>
            <a:ext cx="7772400" cy="14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2000"/>
            </a:br>
            <a:r>
              <a:rPr b="1" lang="en-US" sz="4000" spc="-1" strike="noStrike">
                <a:solidFill>
                  <a:srgbClr val="b2b2b2"/>
                </a:solidFill>
                <a:latin typeface="Arial"/>
                <a:ea typeface="Arial"/>
              </a:rPr>
              <a:t>51st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 Session of meetings of</a:t>
            </a:r>
            <a:br>
              <a:rPr sz="40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EEE P802.1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685800" y="220968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20"/>
              </a:spcBef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Wireless Personal Area Net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20"/>
              </a:spcBef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tudy Gro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20"/>
              </a:spcBef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end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20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ubject to changes by committ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tember 14-16, 199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estford, Massachuset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session starts on Monday, September 14th, 1998 at 10:30am or after the Full Working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ture Meeting Schedu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685800" y="16765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9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ctober Ad-hoc meeting concurrent with Bluetooth Developers Conference in Atlanta (Oct 26-29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vember 9-13 - Hyatt Regency, Albuquerque, NM, Plenar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an 11-15 - Grosevenor Resort, Lake Buena Vista, FL, Interim (Harri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8-12 - Hyatt Regency, Town Lake, Austin, TX, Plen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TBD - Japan?, Interim (Clar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ly 5-9 - Queen Elizabeth, Montreal, P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pt TBD - Israel?, Interim (BreezeCo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vember 8-12 - Hyatt Regency Kauai, Koloa, H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ives for this Se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view the results of the Call For Applications -98/28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luetooth Special Interest Group Pitch -98/3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ntative HomeRF Working Group Pitch -98/29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inue the discussion on the 802.11 MAC Lay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mary of La Jolla MAC Layer Discussion” Bruce Kraemer, Harris -98/29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rther the work of the SG and plan for Albuquer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898640" y="2736720"/>
            <a:ext cx="774720" cy="199404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46760" y="2279520"/>
            <a:ext cx="851040" cy="107964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6560" y="3346560"/>
            <a:ext cx="774720" cy="138420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660760" y="2279520"/>
            <a:ext cx="1460520" cy="107964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ugh Graphic 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495760" y="5724360"/>
            <a:ext cx="393840" cy="317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5867280" y="5791320"/>
            <a:ext cx="291924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When The Official Study Group Will Be In Sess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495760" y="6105600"/>
            <a:ext cx="393840" cy="317520"/>
          </a:xfrm>
          <a:prstGeom prst="rect">
            <a:avLst/>
          </a:prstGeom>
          <a:solidFill>
            <a:srgbClr val="b2b2b2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5867280" y="6172200"/>
            <a:ext cx="310212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When The unofficial Study Group Could Be In Sess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946760" y="3879720"/>
            <a:ext cx="851040" cy="851040"/>
          </a:xfrm>
          <a:prstGeom prst="rect">
            <a:avLst/>
          </a:prstGeom>
          <a:solidFill>
            <a:srgbClr val="b2b2b2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699240" y="2279520"/>
            <a:ext cx="698400" cy="23749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58760" y="1676520"/>
            <a:ext cx="9085320" cy="444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----|-------------|-----------|-------------|------------|------------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|   Monday    |  Tuesday  |Wednesday    |   Thursday |   Friday 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----|-------------|-----------|-------------|------------|------------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| Full 802.11 |           |      !      |      !     |     802  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AM |.............|Studygroup |  TGb !  SG  |  TGa ! SG  |   Plenary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| TGa   ! SG  |           |      !      |      !     |............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|       !     |           |      !      |      !     |          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----|-------------|-----------|-------------|------------|------------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|TGb    ! SG  |     !     | Full 802.11 |  TG  ! SG  | Full 802.11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|       !     | TGa !  SG |.............|      !     |Reports/Outp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PM |       !     |     !     |      !      |      !     | Next mtg..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|       !     |     !     |  TGa !  SG  |            |............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|       !     |     !     |      !      |            |          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----|-------------|-----------|-------------|------------|------------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Eve-|. . . . . . .|. . . . . .|. . . . . . .|............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ning|             |           |             |          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|             |           |             |          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----|-------------|-----------|-------------|------------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Legend:......... = flexible adjournment/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enda Monday Sept 14, 199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Opening of sess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~10:30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ret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ll c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oting righ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tendance list, Regist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gistics (breaks, lunch, copying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cument distribu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Other announc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enda Monday Sept 14, 199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Approval of the minutes of previous meet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Jolla meet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-98/257r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tters arising from the min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Repo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1 to the ExCom in La Jol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2 of the Call For Appl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Review of submis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 Adoption of the agend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-98/29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ve to approve the agenda as modifi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enda Monday Sept 14, 199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finished Busi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1 CFA Summ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2 Determine key WPAN MAC/PHY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jo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enda Tuesday Sept 15, 199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685800" y="167652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view of CFAs with Full W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:30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1 Liaison Upd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meRF Working Group -98/29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luetooth Special Interest Group -98/3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2 Continue “La Jolla” MAC Layer discussion with WG (Ask for MAC experts inpu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mary of La Jolla MAC Layer Discussion” Bruce Kraemer, Harris -98/29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3 Create a WPAN Comparison Matri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jou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enda Wednesday Sept 16, 1998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Business (continued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:30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4 Create WPAN Compare &amp; Contrast of 802.11 Annex - PICS Proforma list and repeat for remaining candidates (see La Jolla Meeting Report -98/256r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5 Examine WPAN 2.4 GHz coexistence with 802.11 devices (G. Ennis paper -8/319 on Bluetooth coexisten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6 Review SG Objec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7 Determine SG Goals For Albuquer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journ prior to the 802.11 Full W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enda Thur Sept 17, 199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view of CFA summary li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:00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1 Review of FH PHY P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2 Review of MACS P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d highlighted versions for intermediate working sessions before Albuquerque mt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3 Prepare SG Report for Friday’s Full W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jou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Ian Gifford</dc:creator>
  <dc:description>Ian Gifford, M/A-COM</dc:description>
  <dc:language>en-US</dc:language>
  <cp:lastModifiedBy>Ian Gifford</cp:lastModifiedBy>
  <cp:revision>0</cp:revision>
  <dc:subject>Tentative Agenda Westford</dc:subject>
  <dc:title>doc.: IEEE 802.11-98/xxx</dc:title>
</cp:coreProperties>
</file>