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05D5A6-4616-480D-B2F0-0448D8C12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164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ireless Personal Area Network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Study Group Repor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8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, Massachuse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results of the Call For Applications -98/2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Pitch -98/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HomeRF Working Group Pitch -98/2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he discussion on the 802.11 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 of La Jolla MAC Layer Discussion” Bruce Kraemer, Harris -98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the work of the SG and plan for Albuquer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002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responses to the CFA [-8/288] with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d in discussion to determine applicability of existing 802.11 MAC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a summary matrix [-8/2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“La Jolla” MAC Layer discussion in Ple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lishmen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d the MAC &amp; FH PICS for suitability to W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2 802.11 PICS vs WPA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3 802.11 Terminology related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PIC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potential areas for mod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on the impact to power consumption, compatibility &amp;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 &amp; prioritize the CFA summar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the MAC &amp; FH 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key points in the 802.11 MAC that cause difficulties to WP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this activity is to recommend to the 802.11 WG in November to ei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the existing MAC, 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Plan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 a modified PAR to the November 802.11 Plenary for appr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ee on the direction of the WPAN 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ther form a TG within 802.11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w WG within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AR is approved by the 802.11 Plenary, then forward it to ExCom for approval at the March 1999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ober Ad-hoc meeting concurrent with Bluetooth Developers Conference in Atlanta (Oct 26-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-15 - Grosevenor Resort, Lake Buena Vista, FL, Interim (Harr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8-12 - Hyatt Regency,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TBD - Japan?, Interim (Clar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y 5-9 - Queen Elizabeth, Montreal, P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 TBD - Israel?, Interim (BreezeC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8-12 - Hyatt Regency Kauai, Koloa, 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 Mailing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ftp.flexipc.com/wearablesgrou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grouper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ds-802-wpan@majordomo.iee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Ian Gifford</cp:lastModifiedBy>
  <cp:revision>0</cp:revision>
  <dc:subject>Tentative Agenda Westford</dc:subject>
  <dc:title>doc.: IEEE 802.11-98/xxx</dc:title>
</cp:coreProperties>
</file>