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480"/>
            <a:ext cx="776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9040" y="6477120"/>
            <a:ext cx="784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590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Jolla MAC Layer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Jolla Questions about W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6765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 proper subset of 802.11 MAC be used for P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 subset of the 802.11 MAC lead to a significant implementation simplification and power consumption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what means and by how much can the MAC be simplified? What ratio of cost reduction might be ex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ncremental benefit can be derived from simplifying the RF (PHY) relative to the MA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ntary on M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way to coexist with 802.11 is to reuse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s “could”  be accomplished by selecting a subset of options from those available in  802.11 and then hard wiring those op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and AP complexity are compa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still requires A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WEP are significant contributors to MAC complex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 Zegelin  foresees single RF and single MAC de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 slave - is the lowest power arran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Commentary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82880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ing AP function would greatly simplify MAC - but adds complexity every where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 MAC could be simplified to talk to ad hoc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es association work in ad hoc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access point assignment to reduce power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MAC is not optimized for low power - there are better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alescing adds great complexity which should be concentrat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the 802.11 M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at option set of the 802.11 MAC would be appropriate for WP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to KE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B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 to peer data fr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SS Beacon/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to EXT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 new power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685800"/>
            <a:ext cx="7772400" cy="112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s to REMOVE or make OPT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real time computational 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/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/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/DT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S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S / from 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