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600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2590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ve Shellhamm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echnologies, Inc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ll@symbol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Multipl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828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 transmits bar code data to the ter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sends bar code label information to the pr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sends display information to the wrist I/O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information is sent from wrist I/O unit to ter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Multipl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may likely also contain an IEEE 802.11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inal receives message from host over 802.ll W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radios inside the terminal need to coexist peacefu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Multipl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form of association is for the scanner to scan a bar code on the terminal and then scan bar codes on the other peripher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: 30 ma at 3 vo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:  0.25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1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transfer between P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eople with PDAs, portable terminals, or laptop computers, meet in any location and want to be able to exchange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 as low as 19.2 Kbps for PDA type applications to 1 Mbps for laptop type applications (i.e. larger fi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initiated by one of the users and accepted by the other u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transfer between P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-to-point 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to 20 feet of range is f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y is not an issue.  Total file transfer time is conc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ossible interference since you could be an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: 30 ma at 3 vo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:  0.25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1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information in a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users (2 ~ 20 people) attend a meeting and one person would like to be able to broadcast a file to all the users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ood example of this is the IEEE 802.11 meetings.  (In that case the number of users could be much high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information in a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05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ster broadcasts to the sl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ster could change since different people may want to transmit a file at different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should be initiated automatically when you are in the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r accepts association with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ing information in a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ates as high as 1 Mbps would be useful if the files are l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y is not an issue.  Total file transfer time is conce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ossible interference, since you could be anyw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: 30 ma at 3 vo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:  0.25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1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Information for People Entering a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 user, who is carrying a PDA, enters a location (e.g. store or office room), he receives mess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 is automat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nformation is passed in the association request sig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accepts association either manually, or for some applications, auto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Information for People Entering a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-slave configuration, with fixed transmitter acting as master, and the users with their PDAs, being sl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(e.g. advertising) is broad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 can act on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y is not a major iss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sizes are likely under 1 Kby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 of Possib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Scan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connection of multiple wearable or hand-held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transfer between several PDAs or portable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Information for People Entering a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228600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2 Kbps is probably f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could include WLAN and cordless ph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: 30 ma at 3 vo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:  0.25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1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Scan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rdless connection is used as a “cable eliminator” to allow the user to wander around his work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-to-point 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-way communication with an acknowled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up to 100 feet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Scan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828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data rate required - 19.2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to 15 characters every second at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s can be associated by scanning a bar code on the rece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s do not associate with a base auto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y of 200 ms is okay.  We give audible feedback before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Scan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anner has to coexist peacefully in many possible RF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 MHz Wireless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Wireless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other cordless scanners in th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pho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: 30 ma at 3 vo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:  0.25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1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ither a hand-held or wearable terminal we need to form a cordless connection to either a belt worn or fixed mounted pr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-to-point op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ay communication with an acknowled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of about 20 feet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data rate required - 19.2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- 1000 characters every 3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can be associated by scanning a bar code on the pr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s do not associate with a base automatic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ency of 200 ms is ok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67652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inal &amp; printer have to coexist peacefully in many possible RF environ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 MHz Wireless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Wireless 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other cordless terminals in th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phon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: 30 ma at 3 vo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:  1 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Multipl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-held or belt-worn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st I/O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acts as the master and the other devices are the sl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to 15 feet of rang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Tim Blaney</cp:lastModifiedBy>
  <cp:revision>0</cp:revision>
  <dc:subject/>
  <dc:title>No Slide Title</dc:title>
</cp:coreProperties>
</file>