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9040" y="609480"/>
            <a:ext cx="776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9040" y="6477120"/>
            <a:ext cx="784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C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shal Chha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as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hhaya@ti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ly High Bandwid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red: 1-2 M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 transfers (broadc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s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Cost Sensi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devices are PDAs, calculators, data logger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 US$ 100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price premium for networking cannot exceed 20% of the cost of the endpoint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ct Power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s are battery pow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eak power drain: 100 ma @ 3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network and endpoint devices must be capable of continuous uninterrupted operation for an entire working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 unreliable network is unusable - too disrup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st case should be a slow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676520"/>
            <a:ext cx="7772400" cy="424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should be scalable from classrooms (~30 students) to lecture halls (~100 stud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support outdoor networking (field trip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ce of minimal emitters - data loggers, pointing device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classroom cells connected via (wired?) School 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ligible interference with other consumer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ly co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gulatory constraints (no EMI issu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of sight propa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adation in direct sun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line-of-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of vendors/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with adjacent cells (clas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ory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lear choi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r: access to network should be position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t: a battery life of 8-12 hrs, ideally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bulk transfers, isochronous and asynchronou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ap to implement: network devices are not computationally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y of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 within controller’s sphere of influence can join th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“logged in”, they use the network to transfe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s of data-transfer are MAC-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devices can access other networks (school LAN, Internet) via the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cenario for W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of personal computing devices in a classroom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y of Operation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acent networks (cells) should not interf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ir controllers may communicate via another network (school L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This Interes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ly untapped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10 million communications capable hand-held devices in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the “last 10 m”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access to vast resources on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NSF initiativ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ially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85800" y="7621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application: Classroom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s/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for a New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room net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d  range (typical range &lt; 10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d  ad-hoc networking (has well defined network control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d  support for telepho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ed  roaming/hand-off between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f which are part of LAN stds and a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, cost,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haracte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of the educational network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There is a teacher (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A concentrated set of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Nearby cells (classroo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Moderate high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Very cost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 Long battery life (24 h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Data reliability/premium on usability/self-correcting/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defined Control (Teach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imary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eer-peer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724120" y="3956040"/>
            <a:ext cx="2667240" cy="2158920"/>
            <a:chOff x="2724120" y="3956040"/>
            <a:chExt cx="2667240" cy="2158920"/>
          </a:xfrm>
        </p:grpSpPr>
        <p:sp>
          <p:nvSpPr>
            <p:cNvPr id="54" name=""/>
            <p:cNvSpPr/>
            <p:nvPr/>
          </p:nvSpPr>
          <p:spPr>
            <a:xfrm>
              <a:off x="3657600" y="3956040"/>
              <a:ext cx="914400" cy="2570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52960" y="4475160"/>
              <a:ext cx="0" cy="1004760"/>
            </a:xfrm>
            <a:prstGeom prst="line">
              <a:avLst/>
            </a:prstGeom>
            <a:ln w="127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108360" bIns="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724120" y="5468760"/>
              <a:ext cx="2667240" cy="646200"/>
              <a:chOff x="2724120" y="5468760"/>
              <a:chExt cx="2667240" cy="646200"/>
            </a:xfrm>
          </p:grpSpPr>
          <p:sp>
            <p:nvSpPr>
              <p:cNvPr id="57" name=""/>
              <p:cNvSpPr/>
              <p:nvPr/>
            </p:nvSpPr>
            <p:spPr>
              <a:xfrm>
                <a:off x="2724120" y="5483160"/>
                <a:ext cx="266760" cy="2127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724120" y="5902200"/>
                <a:ext cx="266760" cy="2127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086440" y="5483160"/>
                <a:ext cx="266760" cy="2127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14760" y="5483160"/>
                <a:ext cx="266760" cy="2127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533840" y="5872320"/>
                <a:ext cx="266760" cy="2127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295800" y="5468760"/>
                <a:ext cx="266760" cy="2127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314880" y="5888160"/>
                <a:ext cx="266760" cy="2127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24600" y="5843520"/>
                <a:ext cx="266760" cy="21096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flipV="1">
              <a:off x="2865600" y="4508640"/>
              <a:ext cx="403200" cy="784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398760" y="4522680"/>
              <a:ext cx="250920" cy="860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4452840" y="4478400"/>
              <a:ext cx="295200" cy="860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4795920" y="4462560"/>
              <a:ext cx="390600" cy="846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941560" y="5032440"/>
              <a:ext cx="289080" cy="815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570120" y="4957920"/>
              <a:ext cx="155880" cy="860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4452840" y="4911840"/>
              <a:ext cx="200160" cy="846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4890960" y="4897440"/>
              <a:ext cx="333360" cy="860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760920" y="5661000"/>
              <a:ext cx="63180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89440" y="5742000"/>
              <a:ext cx="377640" cy="2365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 flipH="1">
            <a:off x="3965400" y="5641920"/>
            <a:ext cx="225720" cy="3780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952880" y="3836880"/>
            <a:ext cx="12254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roll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622840" y="5375160"/>
            <a:ext cx="158760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rtable un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d Set of N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(school) - 128 (college) students in a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distance from teacher &lt; 1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between students (nodes) ~ 1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26436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acent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oining classrooms create co-located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ghboring networks shoul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es limited communication range for hand-held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869080" cy="5830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181160" y="114480"/>
            <a:ext cx="4114800" cy="3352680"/>
          </a:xfrm>
          <a:prstGeom prst="ellipse">
            <a:avLst/>
          </a:prstGeom>
          <a:noFill/>
          <a:ln w="76320">
            <a:solidFill>
              <a:srgbClr val="ff33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05240" y="247680"/>
            <a:ext cx="3886200" cy="3352680"/>
          </a:xfrm>
          <a:prstGeom prst="ellipse">
            <a:avLst/>
          </a:prstGeom>
          <a:noFill/>
          <a:ln w="76320">
            <a:solidFill>
              <a:srgbClr val="3333cc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16320" y="2476440"/>
            <a:ext cx="3898800" cy="403848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7640" y="2628720"/>
            <a:ext cx="4038480" cy="3809880"/>
          </a:xfrm>
          <a:prstGeom prst="ellipse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