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2EA-42F8-41D7-8048-0CF8B6769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92BA-234C-4845-B822-32050476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DBEF-6ED7-4F06-B3EA-5CB4CE93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352E-D263-40B2-926C-9AD3DA36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C4B-CE4A-4FD3-AE9E-2FCB5DB7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C48-7E93-48FA-B657-51DE6B38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2F31-3CEB-40DE-A6A5-A138C4BC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80D-DFBE-4FA2-AB74-BD25839C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167D-EE09-4620-A8EF-7A004780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F599-7A9E-43B3-A0B2-94D99DE7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A8E3-875F-4B45-81FD-D57D0FF5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8D1-C9A2-466E-95B2-351B84A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228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D41867-6D9D-4B6E-BAC7-732603BB8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6477120"/>
            <a:ext cx="1082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238880" y="6060960"/>
          <a:ext cx="131472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6060960"/>
                    <a:ext cx="13147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erformance of PBC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C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 rot="10800000">
          <a:off x="2286000" y="4065120"/>
          <a:ext cx="449568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2286000" y="4065120"/>
                    <a:ext cx="449568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935440" y="2387520"/>
            <a:ext cx="304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thew Shoemak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752-10AC-4350-BE03-5168F231C2F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3dB is worth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eater Building Penetration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dditional 3 dB coding gain allows the system to achieve transmission “through one more wall”.  This again yields an increased cell size and more flexible cell/network planning.</a:t>
            </a:r>
            <a:br>
              <a:rPr sz="14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ystem Robustness in the ISM Bands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services are beginning to crowd the ISM bands utilized by the 802.11 2.4 GHz wireless LAN standard. An additional 3 dB coding gain provides system robustness and operating margin against existing and emerging services within the 2.4 GHz ISM ban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igher Network Throughpu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dditional 3 dB coding gain improves network throughput. First, an additional 3 dB coding gain improves the performance of marginal clients. Clients operating at a 30 ~ 40% packet error rate with the standard FEC can now operate at 10% PER with the optional high-performance FEC. Second, clients operating at 10% PER with the standard FEC can now operate at significantly lower PERs with the optional high-performance FEC. In either case, the overall throughput of the network will increase significan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0FD-6068-4A30-A2C0-651970DE07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B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 state binary convolutional enc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er requires 6 bits of mem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ed onto QPSK, just like C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84440" y="3886200"/>
          <a:ext cx="3973680" cy="109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4440" y="3886200"/>
                    <a:ext cx="39736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EE1-6A02-435D-8878-CBD8888ADD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is an 8 bit in, 16 bit out block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is rate 1/2, just like P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is described by a generator over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 = [ 1 1 1 1 1 1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1 1 1 0 0 0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0 1 1 0 0 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1 0 1 0 1 0 1]     (see doc 98-3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17F7-7C5C-4220-ACAB-2C5F1DEED4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requires 26 add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CC requires 132 add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requires 16 compare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BCC requires 64 compares per info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771D-B312-428E-BD45-07D8686D7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Error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06400" y="1565280"/>
            <a:ext cx="5537520" cy="5216400"/>
            <a:chOff x="1706400" y="1565280"/>
            <a:chExt cx="5537520" cy="5216400"/>
          </a:xfrm>
        </p:grpSpPr>
        <p:sp>
          <p:nvSpPr>
            <p:cNvPr id="61" name=""/>
            <p:cNvSpPr/>
            <p:nvPr/>
          </p:nvSpPr>
          <p:spPr>
            <a:xfrm>
              <a:off x="2236680" y="1830240"/>
              <a:ext cx="4960800" cy="392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6680" y="1830240"/>
              <a:ext cx="4960800" cy="392760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23668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2880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3352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2564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1776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2284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496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0852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0064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703920" y="1830240"/>
              <a:ext cx="144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197480" y="1830240"/>
              <a:ext cx="1800" cy="392760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36680" y="575784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36680" y="4973400"/>
              <a:ext cx="496080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36680" y="4190760"/>
              <a:ext cx="496080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236680" y="339552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36680" y="261288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6680" y="1830240"/>
              <a:ext cx="496080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36680" y="1830240"/>
              <a:ext cx="4960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36680" y="1830240"/>
              <a:ext cx="496080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2236680" y="1830240"/>
              <a:ext cx="144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36680" y="5757840"/>
              <a:ext cx="4960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236680" y="1830240"/>
              <a:ext cx="144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3668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3668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9708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72880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2880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1396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23352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23352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9392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72564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2564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080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21776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1776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60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472284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2284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0764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21496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1496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7680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70852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852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59368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20064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0064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6104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703920" y="57117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03920" y="18302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89080" y="58039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97480" y="57117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97480" y="18302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57880" y="5803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36680" y="57578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151400" y="575784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28880" y="5665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95200" y="560700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36680" y="497340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151400" y="4973400"/>
              <a:ext cx="45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8880" y="4881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95200" y="48243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36680" y="419076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151400" y="4190760"/>
              <a:ext cx="45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28880" y="4098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95200" y="4041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6680" y="33955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7151400" y="339552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28880" y="3303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095200" y="32461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36680" y="26128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7151400" y="261288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28880" y="2520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95200" y="246348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36680" y="18302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151400" y="1830240"/>
              <a:ext cx="45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28880" y="1738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95560" y="1680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36680" y="1830240"/>
              <a:ext cx="4960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236680" y="1830240"/>
              <a:ext cx="496080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236680" y="1830240"/>
              <a:ext cx="144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6680" y="2520720"/>
              <a:ext cx="2978280" cy="335160"/>
            </a:xfrm>
            <a:custGeom>
              <a:avLst/>
              <a:gdLst/>
              <a:ahLst/>
              <a:rect l="l" t="t" r="r" b="b"/>
              <a:pathLst>
                <a:path w="1876" h="211">
                  <a:moveTo>
                    <a:pt x="0" y="0"/>
                  </a:moveTo>
                  <a:lnTo>
                    <a:pt x="65" y="7"/>
                  </a:lnTo>
                  <a:lnTo>
                    <a:pt x="122" y="15"/>
                  </a:lnTo>
                  <a:lnTo>
                    <a:pt x="187" y="15"/>
                  </a:lnTo>
                  <a:lnTo>
                    <a:pt x="252" y="22"/>
                  </a:lnTo>
                  <a:lnTo>
                    <a:pt x="310" y="29"/>
                  </a:lnTo>
                  <a:lnTo>
                    <a:pt x="375" y="36"/>
                  </a:lnTo>
                  <a:lnTo>
                    <a:pt x="440" y="36"/>
                  </a:lnTo>
                  <a:lnTo>
                    <a:pt x="498" y="44"/>
                  </a:lnTo>
                  <a:lnTo>
                    <a:pt x="563" y="51"/>
                  </a:lnTo>
                  <a:lnTo>
                    <a:pt x="628" y="58"/>
                  </a:lnTo>
                  <a:lnTo>
                    <a:pt x="685" y="65"/>
                  </a:lnTo>
                  <a:lnTo>
                    <a:pt x="750" y="73"/>
                  </a:lnTo>
                  <a:lnTo>
                    <a:pt x="815" y="80"/>
                  </a:lnTo>
                  <a:lnTo>
                    <a:pt x="873" y="80"/>
                  </a:lnTo>
                  <a:lnTo>
                    <a:pt x="938" y="87"/>
                  </a:lnTo>
                  <a:lnTo>
                    <a:pt x="1003" y="94"/>
                  </a:lnTo>
                  <a:lnTo>
                    <a:pt x="1061" y="102"/>
                  </a:lnTo>
                  <a:lnTo>
                    <a:pt x="1126" y="109"/>
                  </a:lnTo>
                  <a:lnTo>
                    <a:pt x="1191" y="116"/>
                  </a:lnTo>
                  <a:lnTo>
                    <a:pt x="1248" y="123"/>
                  </a:lnTo>
                  <a:lnTo>
                    <a:pt x="1313" y="138"/>
                  </a:lnTo>
                  <a:lnTo>
                    <a:pt x="1378" y="145"/>
                  </a:lnTo>
                  <a:lnTo>
                    <a:pt x="1436" y="152"/>
                  </a:lnTo>
                  <a:lnTo>
                    <a:pt x="1501" y="160"/>
                  </a:lnTo>
                  <a:lnTo>
                    <a:pt x="1566" y="167"/>
                  </a:lnTo>
                  <a:lnTo>
                    <a:pt x="1624" y="174"/>
                  </a:lnTo>
                  <a:lnTo>
                    <a:pt x="1689" y="181"/>
                  </a:lnTo>
                  <a:lnTo>
                    <a:pt x="1746" y="196"/>
                  </a:lnTo>
                  <a:lnTo>
                    <a:pt x="1811" y="203"/>
                  </a:lnTo>
                  <a:lnTo>
                    <a:pt x="1876" y="211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01760" y="359244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05080" y="367344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96880" y="3741480"/>
              <a:ext cx="9072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0200" y="383364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03520" y="390348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93880" y="401796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7200" y="408780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00160" y="420192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92320" y="426060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95640" y="438624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98600" y="445608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90760" y="457020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94080" y="461628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97040" y="4708440"/>
              <a:ext cx="9072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87760" y="489420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90720" y="496224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94040" y="507816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518148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89160" y="527364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92480" y="541152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4640" y="5549760"/>
              <a:ext cx="903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87600" y="5607000"/>
              <a:ext cx="9072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3160" y="1565280"/>
              <a:ext cx="92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it Error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87400" y="599904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1640520" y="3728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36680" y="3627360"/>
              <a:ext cx="2978280" cy="3154320"/>
            </a:xfrm>
            <a:custGeom>
              <a:avLst/>
              <a:gdLst/>
              <a:ahLst/>
              <a:rect l="l" t="t" r="r" b="b"/>
              <a:pathLst>
                <a:path w="1876" h="1987">
                  <a:moveTo>
                    <a:pt x="0" y="0"/>
                  </a:moveTo>
                  <a:lnTo>
                    <a:pt x="65" y="50"/>
                  </a:lnTo>
                  <a:lnTo>
                    <a:pt x="122" y="94"/>
                  </a:lnTo>
                  <a:lnTo>
                    <a:pt x="187" y="152"/>
                  </a:lnTo>
                  <a:lnTo>
                    <a:pt x="252" y="195"/>
                  </a:lnTo>
                  <a:lnTo>
                    <a:pt x="310" y="268"/>
                  </a:lnTo>
                  <a:lnTo>
                    <a:pt x="375" y="311"/>
                  </a:lnTo>
                  <a:lnTo>
                    <a:pt x="440" y="384"/>
                  </a:lnTo>
                  <a:lnTo>
                    <a:pt x="498" y="420"/>
                  </a:lnTo>
                  <a:lnTo>
                    <a:pt x="563" y="500"/>
                  </a:lnTo>
                  <a:lnTo>
                    <a:pt x="628" y="544"/>
                  </a:lnTo>
                  <a:lnTo>
                    <a:pt x="685" y="616"/>
                  </a:lnTo>
                  <a:lnTo>
                    <a:pt x="750" y="645"/>
                  </a:lnTo>
                  <a:lnTo>
                    <a:pt x="815" y="703"/>
                  </a:lnTo>
                  <a:lnTo>
                    <a:pt x="873" y="819"/>
                  </a:lnTo>
                  <a:lnTo>
                    <a:pt x="938" y="863"/>
                  </a:lnTo>
                  <a:lnTo>
                    <a:pt x="1003" y="935"/>
                  </a:lnTo>
                  <a:lnTo>
                    <a:pt x="1061" y="1001"/>
                  </a:lnTo>
                  <a:lnTo>
                    <a:pt x="1126" y="1059"/>
                  </a:lnTo>
                  <a:lnTo>
                    <a:pt x="1191" y="1146"/>
                  </a:lnTo>
                  <a:lnTo>
                    <a:pt x="1248" y="1233"/>
                  </a:lnTo>
                  <a:lnTo>
                    <a:pt x="1313" y="1269"/>
                  </a:lnTo>
                  <a:lnTo>
                    <a:pt x="1378" y="1371"/>
                  </a:lnTo>
                  <a:lnTo>
                    <a:pt x="1436" y="1429"/>
                  </a:lnTo>
                  <a:lnTo>
                    <a:pt x="1501" y="1472"/>
                  </a:lnTo>
                  <a:lnTo>
                    <a:pt x="1566" y="1566"/>
                  </a:lnTo>
                  <a:lnTo>
                    <a:pt x="1624" y="1595"/>
                  </a:lnTo>
                  <a:lnTo>
                    <a:pt x="1689" y="1726"/>
                  </a:lnTo>
                  <a:lnTo>
                    <a:pt x="1746" y="1784"/>
                  </a:lnTo>
                  <a:lnTo>
                    <a:pt x="1811" y="1849"/>
                  </a:lnTo>
                  <a:lnTo>
                    <a:pt x="1876" y="1987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17760" y="2716200"/>
              <a:ext cx="2979720" cy="507960"/>
            </a:xfrm>
            <a:custGeom>
              <a:avLst/>
              <a:gdLst/>
              <a:ahLst/>
              <a:rect l="l" t="t" r="r" b="b"/>
              <a:pathLst>
                <a:path w="1877" h="320">
                  <a:moveTo>
                    <a:pt x="0" y="0"/>
                  </a:moveTo>
                  <a:lnTo>
                    <a:pt x="65" y="15"/>
                  </a:lnTo>
                  <a:lnTo>
                    <a:pt x="130" y="22"/>
                  </a:lnTo>
                  <a:lnTo>
                    <a:pt x="188" y="29"/>
                  </a:lnTo>
                  <a:lnTo>
                    <a:pt x="253" y="37"/>
                  </a:lnTo>
                  <a:lnTo>
                    <a:pt x="318" y="44"/>
                  </a:lnTo>
                  <a:lnTo>
                    <a:pt x="376" y="51"/>
                  </a:lnTo>
                  <a:lnTo>
                    <a:pt x="441" y="58"/>
                  </a:lnTo>
                  <a:lnTo>
                    <a:pt x="498" y="73"/>
                  </a:lnTo>
                  <a:lnTo>
                    <a:pt x="563" y="80"/>
                  </a:lnTo>
                  <a:lnTo>
                    <a:pt x="628" y="88"/>
                  </a:lnTo>
                  <a:lnTo>
                    <a:pt x="686" y="95"/>
                  </a:lnTo>
                  <a:lnTo>
                    <a:pt x="751" y="109"/>
                  </a:lnTo>
                  <a:lnTo>
                    <a:pt x="816" y="117"/>
                  </a:lnTo>
                  <a:lnTo>
                    <a:pt x="874" y="131"/>
                  </a:lnTo>
                  <a:lnTo>
                    <a:pt x="939" y="138"/>
                  </a:lnTo>
                  <a:lnTo>
                    <a:pt x="1003" y="146"/>
                  </a:lnTo>
                  <a:lnTo>
                    <a:pt x="1061" y="160"/>
                  </a:lnTo>
                  <a:lnTo>
                    <a:pt x="1126" y="167"/>
                  </a:lnTo>
                  <a:lnTo>
                    <a:pt x="1191" y="182"/>
                  </a:lnTo>
                  <a:lnTo>
                    <a:pt x="1249" y="196"/>
                  </a:lnTo>
                  <a:lnTo>
                    <a:pt x="1314" y="204"/>
                  </a:lnTo>
                  <a:lnTo>
                    <a:pt x="1379" y="218"/>
                  </a:lnTo>
                  <a:lnTo>
                    <a:pt x="1437" y="225"/>
                  </a:lnTo>
                  <a:lnTo>
                    <a:pt x="1501" y="240"/>
                  </a:lnTo>
                  <a:lnTo>
                    <a:pt x="1566" y="254"/>
                  </a:lnTo>
                  <a:lnTo>
                    <a:pt x="1624" y="269"/>
                  </a:lnTo>
                  <a:lnTo>
                    <a:pt x="1689" y="283"/>
                  </a:lnTo>
                  <a:lnTo>
                    <a:pt x="1754" y="291"/>
                  </a:lnTo>
                  <a:lnTo>
                    <a:pt x="1812" y="305"/>
                  </a:lnTo>
                  <a:lnTo>
                    <a:pt x="1877" y="32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72040" y="358128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17760" y="353520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75000" y="362736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21080" y="358128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78320" y="36734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24400" y="362736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70480" y="371952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16200" y="367344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3440" y="37414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19520" y="369540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76760" y="37987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2840" y="3752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8920" y="3844800"/>
              <a:ext cx="903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814640" y="379872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71880" y="3879720"/>
              <a:ext cx="9072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17960" y="3833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62600" y="394956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08320" y="390348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65560" y="39830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11640" y="393696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68880" y="40287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14960" y="398304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261040" y="409860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06760" y="405288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64000" y="412092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10080" y="40748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67320" y="41907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3400" y="414468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59480" y="4236840"/>
              <a:ext cx="903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05200" y="419076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62440" y="4282920"/>
              <a:ext cx="9072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08520" y="42368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65760" y="4375080"/>
              <a:ext cx="903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10040" y="432900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56120" y="44449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43988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59440" y="45129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05520" y="446724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62400" y="453708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08480" y="449100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154560" y="465120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00640" y="460512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57880" y="467496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03960" y="462888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361200" y="4686120"/>
              <a:ext cx="918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6920" y="464004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3000" y="4835520"/>
              <a:ext cx="9072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99080" y="478944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56320" y="4859280"/>
              <a:ext cx="903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600600" y="481320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59640" y="5008320"/>
              <a:ext cx="903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3920" y="49622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750000" y="50320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96080" y="4986360"/>
              <a:ext cx="144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3320" y="507816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99040" y="503208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56280" y="51926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2360" y="514656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8440" y="52387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4520" y="5192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51760" y="5330520"/>
              <a:ext cx="568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97480" y="5284800"/>
              <a:ext cx="1800" cy="9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95800" y="3557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195800" y="3557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98760" y="3603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298760" y="3603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02080" y="36496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4402080" y="36496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92440" y="3695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2440" y="3695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95760" y="3719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595760" y="3719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99080" y="377640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698720" y="377640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90880" y="38224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790880" y="38224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4200" y="3857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4894200" y="3857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86360" y="3925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986360" y="3925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89320" y="39607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5089320" y="39607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92640" y="4006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192640" y="40068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4074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283000" y="4074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86320" y="4098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386320" y="4098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9640" y="4167000"/>
              <a:ext cx="4572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489280" y="4167000"/>
              <a:ext cx="4572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81440" y="4214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81440" y="42145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84760" y="4260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5684760" y="42606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788080" y="435276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787720" y="4352760"/>
              <a:ext cx="457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79880" y="44211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879880" y="44211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83200" y="44910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983200" y="44910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86520" y="4512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086520" y="4512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76880" y="4628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6176880" y="4628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80200" y="4651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280200" y="4651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83160" y="46623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383160" y="46623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75320" y="4813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475320" y="48132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78640" y="4835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578640" y="483552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681600" y="498636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681600" y="498636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73760" y="5008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6773760" y="5008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77080" y="5054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877080" y="5054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80040" y="5170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6980040" y="517032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70760" y="5216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7070760" y="521640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73720" y="530856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173360" y="531972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17760" y="3581280"/>
              <a:ext cx="2979720" cy="1749240"/>
            </a:xfrm>
            <a:custGeom>
              <a:avLst/>
              <a:gdLst/>
              <a:ahLst/>
              <a:rect l="l" t="t" r="r" b="b"/>
              <a:pathLst>
                <a:path w="1877" h="1102">
                  <a:moveTo>
                    <a:pt x="0" y="0"/>
                  </a:moveTo>
                  <a:lnTo>
                    <a:pt x="65" y="29"/>
                  </a:lnTo>
                  <a:lnTo>
                    <a:pt x="130" y="58"/>
                  </a:lnTo>
                  <a:lnTo>
                    <a:pt x="188" y="87"/>
                  </a:lnTo>
                  <a:lnTo>
                    <a:pt x="253" y="101"/>
                  </a:lnTo>
                  <a:lnTo>
                    <a:pt x="318" y="137"/>
                  </a:lnTo>
                  <a:lnTo>
                    <a:pt x="376" y="166"/>
                  </a:lnTo>
                  <a:lnTo>
                    <a:pt x="441" y="188"/>
                  </a:lnTo>
                  <a:lnTo>
                    <a:pt x="498" y="232"/>
                  </a:lnTo>
                  <a:lnTo>
                    <a:pt x="563" y="253"/>
                  </a:lnTo>
                  <a:lnTo>
                    <a:pt x="628" y="282"/>
                  </a:lnTo>
                  <a:lnTo>
                    <a:pt x="686" y="326"/>
                  </a:lnTo>
                  <a:lnTo>
                    <a:pt x="751" y="340"/>
                  </a:lnTo>
                  <a:lnTo>
                    <a:pt x="816" y="384"/>
                  </a:lnTo>
                  <a:lnTo>
                    <a:pt x="874" y="413"/>
                  </a:lnTo>
                  <a:lnTo>
                    <a:pt x="939" y="442"/>
                  </a:lnTo>
                  <a:lnTo>
                    <a:pt x="1003" y="500"/>
                  </a:lnTo>
                  <a:lnTo>
                    <a:pt x="1061" y="544"/>
                  </a:lnTo>
                  <a:lnTo>
                    <a:pt x="1126" y="587"/>
                  </a:lnTo>
                  <a:lnTo>
                    <a:pt x="1191" y="602"/>
                  </a:lnTo>
                  <a:lnTo>
                    <a:pt x="1249" y="674"/>
                  </a:lnTo>
                  <a:lnTo>
                    <a:pt x="1314" y="689"/>
                  </a:lnTo>
                  <a:lnTo>
                    <a:pt x="1379" y="696"/>
                  </a:lnTo>
                  <a:lnTo>
                    <a:pt x="1437" y="790"/>
                  </a:lnTo>
                  <a:lnTo>
                    <a:pt x="1501" y="805"/>
                  </a:lnTo>
                  <a:lnTo>
                    <a:pt x="1566" y="899"/>
                  </a:lnTo>
                  <a:lnTo>
                    <a:pt x="1624" y="914"/>
                  </a:lnTo>
                  <a:lnTo>
                    <a:pt x="1689" y="943"/>
                  </a:lnTo>
                  <a:lnTo>
                    <a:pt x="1754" y="1015"/>
                  </a:lnTo>
                  <a:lnTo>
                    <a:pt x="1812" y="1044"/>
                  </a:lnTo>
                  <a:lnTo>
                    <a:pt x="1877" y="1102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D8B-2969-4498-B76B-A28E9904D5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ock Error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1523880" y="1579680"/>
            <a:ext cx="5602320" cy="4669200"/>
            <a:chOff x="1523880" y="1579680"/>
            <a:chExt cx="5602320" cy="4669200"/>
          </a:xfrm>
        </p:grpSpPr>
        <p:sp>
          <p:nvSpPr>
            <p:cNvPr id="300" name=""/>
            <p:cNvSpPr/>
            <p:nvPr/>
          </p:nvSpPr>
          <p:spPr>
            <a:xfrm>
              <a:off x="2058840" y="1847880"/>
              <a:ext cx="5021280" cy="397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58840" y="1847880"/>
              <a:ext cx="5021280" cy="397368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588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5574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668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6544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6548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74880" y="1847880"/>
              <a:ext cx="180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7348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7208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70320" y="1847880"/>
              <a:ext cx="180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81520" y="1847880"/>
              <a:ext cx="180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80120" y="1847880"/>
              <a:ext cx="1440" cy="3973680"/>
            </a:xfrm>
            <a:custGeom>
              <a:avLst/>
              <a:gdLst/>
              <a:ahLst/>
              <a:rect l="l" t="t" r="r" b="b"/>
              <a:pathLst>
                <a:path w="0" h="341">
                  <a:moveTo>
                    <a:pt x="0" y="34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58840" y="5821560"/>
              <a:ext cx="50212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58840" y="4492800"/>
              <a:ext cx="5021280" cy="144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58840" y="3176640"/>
              <a:ext cx="502128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58840" y="1847880"/>
              <a:ext cx="5021280" cy="1800"/>
            </a:xfrm>
            <a:custGeom>
              <a:avLst/>
              <a:gdLst/>
              <a:ahLst/>
              <a:rect l="l" t="t" r="r" b="b"/>
              <a:pathLst>
                <a:path w="433" h="0">
                  <a:moveTo>
                    <a:pt x="0" y="0"/>
                  </a:moveTo>
                  <a:lnTo>
                    <a:pt x="433" y="0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58840" y="1847880"/>
              <a:ext cx="5021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8840" y="1847880"/>
              <a:ext cx="5021280" cy="39736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58840" y="1847880"/>
              <a:ext cx="1440" cy="397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58840" y="5821560"/>
              <a:ext cx="5021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058840" y="1847880"/>
              <a:ext cx="1440" cy="397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0588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588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1924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5574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574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44080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0668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668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2724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56544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6544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5024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06548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06548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2552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74880" y="57754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74880" y="18478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5824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7348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348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3388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57208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7208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5544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070320" y="57754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70320" y="18478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3072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581520" y="57754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1520" y="184788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64880" y="58676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080120" y="57754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80120" y="184788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040160" y="5867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58840" y="582156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7032600" y="582156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47800" y="5727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15920" y="567072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58840" y="449280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032600" y="449280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47800" y="4399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15920" y="43419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58840" y="317664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32600" y="317664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47800" y="30830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15920" y="3024360"/>
              <a:ext cx="90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58840" y="184788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7032600" y="184788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47800" y="1754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15920" y="16956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8840" y="1847880"/>
              <a:ext cx="5021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58840" y="1847880"/>
              <a:ext cx="5021280" cy="39736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058840" y="1847880"/>
              <a:ext cx="1440" cy="3973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58840" y="3013200"/>
              <a:ext cx="3014640" cy="569880"/>
            </a:xfrm>
            <a:custGeom>
              <a:avLst/>
              <a:gdLst/>
              <a:ahLst/>
              <a:rect l="l" t="t" r="r" b="b"/>
              <a:pathLst>
                <a:path w="1899" h="359">
                  <a:moveTo>
                    <a:pt x="0" y="0"/>
                  </a:moveTo>
                  <a:lnTo>
                    <a:pt x="66" y="7"/>
                  </a:lnTo>
                  <a:lnTo>
                    <a:pt x="124" y="22"/>
                  </a:lnTo>
                  <a:lnTo>
                    <a:pt x="190" y="29"/>
                  </a:lnTo>
                  <a:lnTo>
                    <a:pt x="256" y="36"/>
                  </a:lnTo>
                  <a:lnTo>
                    <a:pt x="314" y="44"/>
                  </a:lnTo>
                  <a:lnTo>
                    <a:pt x="380" y="58"/>
                  </a:lnTo>
                  <a:lnTo>
                    <a:pt x="445" y="66"/>
                  </a:lnTo>
                  <a:lnTo>
                    <a:pt x="504" y="73"/>
                  </a:lnTo>
                  <a:lnTo>
                    <a:pt x="570" y="88"/>
                  </a:lnTo>
                  <a:lnTo>
                    <a:pt x="635" y="95"/>
                  </a:lnTo>
                  <a:lnTo>
                    <a:pt x="694" y="110"/>
                  </a:lnTo>
                  <a:lnTo>
                    <a:pt x="760" y="117"/>
                  </a:lnTo>
                  <a:lnTo>
                    <a:pt x="825" y="132"/>
                  </a:lnTo>
                  <a:lnTo>
                    <a:pt x="884" y="139"/>
                  </a:lnTo>
                  <a:lnTo>
                    <a:pt x="949" y="154"/>
                  </a:lnTo>
                  <a:lnTo>
                    <a:pt x="1015" y="161"/>
                  </a:lnTo>
                  <a:lnTo>
                    <a:pt x="1074" y="176"/>
                  </a:lnTo>
                  <a:lnTo>
                    <a:pt x="1139" y="191"/>
                  </a:lnTo>
                  <a:lnTo>
                    <a:pt x="1205" y="198"/>
                  </a:lnTo>
                  <a:lnTo>
                    <a:pt x="1264" y="213"/>
                  </a:lnTo>
                  <a:lnTo>
                    <a:pt x="1329" y="227"/>
                  </a:lnTo>
                  <a:lnTo>
                    <a:pt x="1395" y="242"/>
                  </a:lnTo>
                  <a:lnTo>
                    <a:pt x="1453" y="257"/>
                  </a:lnTo>
                  <a:lnTo>
                    <a:pt x="1519" y="264"/>
                  </a:lnTo>
                  <a:lnTo>
                    <a:pt x="1585" y="279"/>
                  </a:lnTo>
                  <a:lnTo>
                    <a:pt x="1643" y="293"/>
                  </a:lnTo>
                  <a:lnTo>
                    <a:pt x="1709" y="308"/>
                  </a:lnTo>
                  <a:lnTo>
                    <a:pt x="1768" y="323"/>
                  </a:lnTo>
                  <a:lnTo>
                    <a:pt x="1833" y="337"/>
                  </a:lnTo>
                  <a:lnTo>
                    <a:pt x="1899" y="359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23920" y="181296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28680" y="1812960"/>
              <a:ext cx="921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20840" y="1812960"/>
              <a:ext cx="936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25600" y="181296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0360" y="181296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22160" y="1812960"/>
              <a:ext cx="9396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27280" y="1824120"/>
              <a:ext cx="918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2040" y="1847880"/>
              <a:ext cx="91800" cy="921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23840" y="185904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28600" y="192888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31920" y="19638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125520" y="206856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30280" y="210348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333600" y="218448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27200" y="2395800"/>
              <a:ext cx="9216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31960" y="247680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5280" y="261648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28880" y="277992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32200" y="293076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6960" y="315288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30560" y="3303720"/>
              <a:ext cx="918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133520" y="3432240"/>
              <a:ext cx="939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38280" y="3700440"/>
              <a:ext cx="93960" cy="939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32240" y="3794400"/>
              <a:ext cx="91800" cy="918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35200" y="3921120"/>
              <a:ext cx="93600" cy="939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39960" y="415476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32120" y="42246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36880" y="45864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30480" y="4795920"/>
              <a:ext cx="9216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33800" y="4935600"/>
              <a:ext cx="93600" cy="9360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38560" y="5238720"/>
              <a:ext cx="93600" cy="93960"/>
            </a:xfrm>
            <a:prstGeom prst="ellipse">
              <a:avLst/>
            </a:prstGeom>
            <a:noFill/>
            <a:ln w="11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8640" y="157968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lock Error 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36560" y="606600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6200000">
              <a:off x="1458000" y="377028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8840" y="1847880"/>
              <a:ext cx="3014640" cy="3425760"/>
            </a:xfrm>
            <a:custGeom>
              <a:avLst/>
              <a:gdLst/>
              <a:ahLst/>
              <a:rect l="l" t="t" r="r" b="b"/>
              <a:pathLst>
                <a:path w="1899" h="2158">
                  <a:moveTo>
                    <a:pt x="0" y="0"/>
                  </a:moveTo>
                  <a:lnTo>
                    <a:pt x="66" y="0"/>
                  </a:lnTo>
                  <a:lnTo>
                    <a:pt x="124" y="0"/>
                  </a:lnTo>
                  <a:lnTo>
                    <a:pt x="190" y="0"/>
                  </a:lnTo>
                  <a:lnTo>
                    <a:pt x="256" y="0"/>
                  </a:lnTo>
                  <a:lnTo>
                    <a:pt x="314" y="0"/>
                  </a:lnTo>
                  <a:lnTo>
                    <a:pt x="380" y="7"/>
                  </a:lnTo>
                  <a:lnTo>
                    <a:pt x="445" y="22"/>
                  </a:lnTo>
                  <a:lnTo>
                    <a:pt x="504" y="29"/>
                  </a:lnTo>
                  <a:lnTo>
                    <a:pt x="570" y="73"/>
                  </a:lnTo>
                  <a:lnTo>
                    <a:pt x="635" y="95"/>
                  </a:lnTo>
                  <a:lnTo>
                    <a:pt x="694" y="161"/>
                  </a:lnTo>
                  <a:lnTo>
                    <a:pt x="760" y="183"/>
                  </a:lnTo>
                  <a:lnTo>
                    <a:pt x="825" y="235"/>
                  </a:lnTo>
                  <a:lnTo>
                    <a:pt x="884" y="367"/>
                  </a:lnTo>
                  <a:lnTo>
                    <a:pt x="949" y="418"/>
                  </a:lnTo>
                  <a:lnTo>
                    <a:pt x="1015" y="506"/>
                  </a:lnTo>
                  <a:lnTo>
                    <a:pt x="1074" y="609"/>
                  </a:lnTo>
                  <a:lnTo>
                    <a:pt x="1139" y="704"/>
                  </a:lnTo>
                  <a:lnTo>
                    <a:pt x="1205" y="844"/>
                  </a:lnTo>
                  <a:lnTo>
                    <a:pt x="1264" y="939"/>
                  </a:lnTo>
                  <a:lnTo>
                    <a:pt x="1329" y="1020"/>
                  </a:lnTo>
                  <a:lnTo>
                    <a:pt x="1395" y="1189"/>
                  </a:lnTo>
                  <a:lnTo>
                    <a:pt x="1453" y="1248"/>
                  </a:lnTo>
                  <a:lnTo>
                    <a:pt x="1519" y="1328"/>
                  </a:lnTo>
                  <a:lnTo>
                    <a:pt x="1585" y="1475"/>
                  </a:lnTo>
                  <a:lnTo>
                    <a:pt x="1643" y="1519"/>
                  </a:lnTo>
                  <a:lnTo>
                    <a:pt x="1709" y="1747"/>
                  </a:lnTo>
                  <a:lnTo>
                    <a:pt x="1768" y="1879"/>
                  </a:lnTo>
                  <a:lnTo>
                    <a:pt x="1833" y="1967"/>
                  </a:lnTo>
                  <a:lnTo>
                    <a:pt x="1899" y="2158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65480" y="3351240"/>
              <a:ext cx="3014640" cy="851040"/>
            </a:xfrm>
            <a:custGeom>
              <a:avLst/>
              <a:gdLst/>
              <a:ahLst/>
              <a:rect l="l" t="t" r="r" b="b"/>
              <a:pathLst>
                <a:path w="1899" h="536">
                  <a:moveTo>
                    <a:pt x="0" y="0"/>
                  </a:moveTo>
                  <a:lnTo>
                    <a:pt x="65" y="14"/>
                  </a:lnTo>
                  <a:lnTo>
                    <a:pt x="131" y="29"/>
                  </a:lnTo>
                  <a:lnTo>
                    <a:pt x="189" y="44"/>
                  </a:lnTo>
                  <a:lnTo>
                    <a:pt x="255" y="51"/>
                  </a:lnTo>
                  <a:lnTo>
                    <a:pt x="321" y="66"/>
                  </a:lnTo>
                  <a:lnTo>
                    <a:pt x="379" y="80"/>
                  </a:lnTo>
                  <a:lnTo>
                    <a:pt x="445" y="95"/>
                  </a:lnTo>
                  <a:lnTo>
                    <a:pt x="504" y="110"/>
                  </a:lnTo>
                  <a:lnTo>
                    <a:pt x="569" y="124"/>
                  </a:lnTo>
                  <a:lnTo>
                    <a:pt x="635" y="146"/>
                  </a:lnTo>
                  <a:lnTo>
                    <a:pt x="693" y="161"/>
                  </a:lnTo>
                  <a:lnTo>
                    <a:pt x="759" y="176"/>
                  </a:lnTo>
                  <a:lnTo>
                    <a:pt x="825" y="191"/>
                  </a:lnTo>
                  <a:lnTo>
                    <a:pt x="883" y="213"/>
                  </a:lnTo>
                  <a:lnTo>
                    <a:pt x="949" y="227"/>
                  </a:lnTo>
                  <a:lnTo>
                    <a:pt x="1015" y="242"/>
                  </a:lnTo>
                  <a:lnTo>
                    <a:pt x="1073" y="264"/>
                  </a:lnTo>
                  <a:lnTo>
                    <a:pt x="1139" y="279"/>
                  </a:lnTo>
                  <a:lnTo>
                    <a:pt x="1205" y="301"/>
                  </a:lnTo>
                  <a:lnTo>
                    <a:pt x="1263" y="323"/>
                  </a:lnTo>
                  <a:lnTo>
                    <a:pt x="1329" y="337"/>
                  </a:lnTo>
                  <a:lnTo>
                    <a:pt x="1395" y="359"/>
                  </a:lnTo>
                  <a:lnTo>
                    <a:pt x="1453" y="381"/>
                  </a:lnTo>
                  <a:lnTo>
                    <a:pt x="1519" y="403"/>
                  </a:lnTo>
                  <a:lnTo>
                    <a:pt x="1585" y="425"/>
                  </a:lnTo>
                  <a:lnTo>
                    <a:pt x="1643" y="447"/>
                  </a:lnTo>
                  <a:lnTo>
                    <a:pt x="1709" y="469"/>
                  </a:lnTo>
                  <a:lnTo>
                    <a:pt x="1775" y="491"/>
                  </a:lnTo>
                  <a:lnTo>
                    <a:pt x="1833" y="514"/>
                  </a:lnTo>
                  <a:lnTo>
                    <a:pt x="1899" y="536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17600" y="1847880"/>
              <a:ext cx="939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06548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22360" y="1847880"/>
              <a:ext cx="939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6844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27480" y="184788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7320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1928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6536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24040" y="18478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47012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28800" y="18478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7488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62096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6704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25720" y="184788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7180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1788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65400" y="1847880"/>
              <a:ext cx="180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922640" y="184788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968720" y="1847880"/>
              <a:ext cx="144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27400" y="187020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73480" y="1847880"/>
              <a:ext cx="1440" cy="698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119560" y="187020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65640" y="1847880"/>
              <a:ext cx="1440" cy="698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24320" y="185904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70400" y="1847880"/>
              <a:ext cx="1440" cy="572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29080" y="19051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75160" y="185904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21240" y="1917720"/>
              <a:ext cx="936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67320" y="187020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26000" y="196380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572080" y="191772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30760" y="199872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76840" y="1952640"/>
              <a:ext cx="144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22560" y="2033640"/>
              <a:ext cx="939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68640" y="198756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27680" y="211464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873400" y="206856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932440" y="2138400"/>
              <a:ext cx="9180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978160" y="2092320"/>
              <a:ext cx="1800" cy="921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24240" y="223200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70320" y="218448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29000" y="225612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175080" y="220824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32320" y="232596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279840" y="227808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325920" y="24656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372000" y="2417760"/>
              <a:ext cx="1440" cy="9396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430680" y="2522520"/>
              <a:ext cx="9216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6760" y="247680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34000" y="273384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81520" y="2686320"/>
              <a:ext cx="180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27600" y="276876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73680" y="272124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732360" y="282600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78440" y="277992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35680" y="3013200"/>
              <a:ext cx="9360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83200" y="296568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29280" y="3083040"/>
              <a:ext cx="92160" cy="144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75360" y="303552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32600" y="3246480"/>
              <a:ext cx="58680" cy="18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080120" y="3198960"/>
              <a:ext cx="1440" cy="9360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548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04136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02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14612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73200" y="1847880"/>
              <a:ext cx="241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4249440" y="1847880"/>
              <a:ext cx="237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6716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43430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71920" y="1847880"/>
              <a:ext cx="219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444780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74880" y="1847880"/>
              <a:ext cx="237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4551120" y="1847880"/>
              <a:ext cx="2376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66848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64472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7732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474948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6540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484164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016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946400" y="1847880"/>
              <a:ext cx="22320" cy="223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49720" y="18478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5049720" y="18478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143320" y="1847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143320" y="18478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59240" y="184788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247720" y="184788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51400" y="18828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5351400" y="18828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45000" y="1893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445000" y="18939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49760" y="19400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549760" y="19400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52720" y="197496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5652720" y="197496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46680" y="200988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5746680" y="200988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49640" y="2092320"/>
              <a:ext cx="478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5849280" y="2092320"/>
              <a:ext cx="478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54400" y="21146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954400" y="2114640"/>
              <a:ext cx="46080" cy="475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48000" y="2208240"/>
              <a:ext cx="46080" cy="478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048000" y="2208240"/>
              <a:ext cx="46080" cy="478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51320" y="2232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151320" y="2232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256080" y="2301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256080" y="23018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49680" y="24418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349680" y="2441880"/>
              <a:ext cx="46080" cy="457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53000" y="25005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453000" y="250056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557760" y="27100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557760" y="27100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49920" y="2745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649920" y="274500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754680" y="28036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754680" y="280368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859440" y="29894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859440" y="2989440"/>
              <a:ext cx="4608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51600" y="30592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951600" y="3059280"/>
              <a:ext cx="47520" cy="4608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56360" y="322272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7056000" y="3233880"/>
              <a:ext cx="34920" cy="34920"/>
            </a:xfrm>
            <a:prstGeom prst="line">
              <a:avLst/>
            </a:prstGeom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65480" y="1847880"/>
              <a:ext cx="3014640" cy="1398600"/>
            </a:xfrm>
            <a:custGeom>
              <a:avLst/>
              <a:gdLst/>
              <a:ahLst/>
              <a:rect l="l" t="t" r="r" b="b"/>
              <a:pathLst>
                <a:path w="1899" h="881">
                  <a:moveTo>
                    <a:pt x="0" y="0"/>
                  </a:moveTo>
                  <a:lnTo>
                    <a:pt x="65" y="0"/>
                  </a:lnTo>
                  <a:lnTo>
                    <a:pt x="131" y="0"/>
                  </a:lnTo>
                  <a:lnTo>
                    <a:pt x="189" y="0"/>
                  </a:lnTo>
                  <a:lnTo>
                    <a:pt x="255" y="0"/>
                  </a:lnTo>
                  <a:lnTo>
                    <a:pt x="321" y="0"/>
                  </a:lnTo>
                  <a:lnTo>
                    <a:pt x="379" y="0"/>
                  </a:lnTo>
                  <a:lnTo>
                    <a:pt x="445" y="0"/>
                  </a:lnTo>
                  <a:lnTo>
                    <a:pt x="504" y="0"/>
                  </a:lnTo>
                  <a:lnTo>
                    <a:pt x="569" y="0"/>
                  </a:lnTo>
                  <a:lnTo>
                    <a:pt x="635" y="14"/>
                  </a:lnTo>
                  <a:lnTo>
                    <a:pt x="693" y="14"/>
                  </a:lnTo>
                  <a:lnTo>
                    <a:pt x="759" y="7"/>
                  </a:lnTo>
                  <a:lnTo>
                    <a:pt x="825" y="36"/>
                  </a:lnTo>
                  <a:lnTo>
                    <a:pt x="883" y="44"/>
                  </a:lnTo>
                  <a:lnTo>
                    <a:pt x="949" y="73"/>
                  </a:lnTo>
                  <a:lnTo>
                    <a:pt x="1015" y="95"/>
                  </a:lnTo>
                  <a:lnTo>
                    <a:pt x="1073" y="117"/>
                  </a:lnTo>
                  <a:lnTo>
                    <a:pt x="1139" y="168"/>
                  </a:lnTo>
                  <a:lnTo>
                    <a:pt x="1205" y="183"/>
                  </a:lnTo>
                  <a:lnTo>
                    <a:pt x="1263" y="242"/>
                  </a:lnTo>
                  <a:lnTo>
                    <a:pt x="1329" y="257"/>
                  </a:lnTo>
                  <a:lnTo>
                    <a:pt x="1395" y="301"/>
                  </a:lnTo>
                  <a:lnTo>
                    <a:pt x="1453" y="389"/>
                  </a:lnTo>
                  <a:lnTo>
                    <a:pt x="1519" y="425"/>
                  </a:lnTo>
                  <a:lnTo>
                    <a:pt x="1585" y="558"/>
                  </a:lnTo>
                  <a:lnTo>
                    <a:pt x="1643" y="580"/>
                  </a:lnTo>
                  <a:lnTo>
                    <a:pt x="1709" y="616"/>
                  </a:lnTo>
                  <a:lnTo>
                    <a:pt x="1775" y="734"/>
                  </a:lnTo>
                  <a:lnTo>
                    <a:pt x="1833" y="778"/>
                  </a:lnTo>
                  <a:lnTo>
                    <a:pt x="1899" y="881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AE3C-CF78-40F4-9A30-27D209CFDE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ath 64 byte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295280" y="1600200"/>
          <a:ext cx="640080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6400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CB0-2E6E-4DA4-9EBC-54457BD007E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ath, 1000 byte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19320" y="1625760"/>
          <a:ext cx="6392880" cy="50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25760"/>
                    <a:ext cx="6392880" cy="50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529-1C54-4F1F-A00F-432A1770C57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3dB is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ell Size Increase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 additional 3 dB coding gain equates roughly to a 30% increase in transmission distance in an open-air environment. For a given service area, the number of cells is roughly proportional to the service area divided by the transmission distance squared (area/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distance ^ 2). With a 3dB gain, the area covered by a cell is 70% larger which means that the number of cells required is reduced to approximately 60% that of a standard FEC system for the identical service are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duced Power at the Client</a:t>
            </a:r>
            <a:br>
              <a:rPr sz="16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ser/network operator can configure the system to utilize the optional FEC for the access point to client transmission (AP -&gt; C), the client to access point transmission (C -&gt; AP), or both. One possible scenario is to use the optional, high-performance FEC for C -&gt; AP transmission and the standard FEC for AP -&gt; C transmission. Only the low-cost/low-complexity encoder of the optional FEC is implemented at the client, while the increased complexity and power of the high-performance decoder are consumed at the access point, where the power and complexity are not as critical. On the C -&gt; AP transmission, the client may transmit at a lower power than the AP -&gt; C transmission, yet still retain equivalent performance. The result is lower power consumption at the client, increasing the operating time at the point where it is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B306-296E-43F5-858E-CF8AB5073F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rodane</cp:lastModifiedBy>
  <cp:lastPrinted>1998-02-10T13:28:06Z</cp:lastPrinted>
  <dcterms:modified xsi:type="dcterms:W3CDTF">1999-07-21T13:40:50Z</dcterms:modified>
  <cp:revision>50</cp:revision>
  <dc:subject/>
  <dc:title>Code Performance</dc:title>
</cp:coreProperties>
</file>