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D619F-01F3-45FC-8DD0-BAEFB5F884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35C17-8F3D-44C1-986F-88D4EF599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FEDE7-647F-4469-A11D-8328434B1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EE2AC-638E-46EC-A34E-660C4B9E2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315E4-786E-49D4-9CC7-F8869E220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05C60-6260-492D-9984-B103AD48D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B6604-659B-4FCD-A656-B9AD8862C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A8864-6864-44A8-B082-D0BD7F94B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4B4D6-04A4-4C55-8AED-85814A619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54270-D75B-4C53-B57F-E1A71BCF3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1217E-0353-457D-AD50-9A1BE884C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E4EDB-42F2-44FF-9062-B4F69C159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439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4887FF-D4AB-4D51-9BF7-70DE48218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8/316</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553080"/>
            <a:ext cx="8380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Multirate is Broken</a:t>
            </a:r>
            <a:endParaRPr b="0" lang="en-US" sz="48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il K. Sanwalka and Tom Tsoulogianni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esus Datacom  Consulta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AF7915D1-E94C-4D17-AB8C-A4EB383C3D1E}" type="slidenum">
              <a:t>1</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troduction</a:t>
            </a:r>
            <a:endParaRPr b="0" lang="en-US" sz="4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ultirate mechanism allows implementations to be created that are not interoperable for the new high-speed PHYs.</a:t>
            </a:r>
            <a:endParaRPr b="0" lang="en-US" sz="2400" spc="-1" strike="noStrike">
              <a:solidFill>
                <a:srgbClr val="000000"/>
              </a:solidFill>
              <a:latin typeface="Times New Roman"/>
            </a:endParaRPr>
          </a:p>
          <a:p>
            <a:pPr marL="343080" indent="-34308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cept is sound but some details need to be modified to provide the correct behaviour.</a:t>
            </a:r>
            <a:endParaRPr b="0" lang="en-US" sz="2400" spc="-1" strike="noStrike">
              <a:solidFill>
                <a:srgbClr val="000000"/>
              </a:solidFill>
              <a:latin typeface="Times New Roman"/>
            </a:endParaRPr>
          </a:p>
          <a:p>
            <a:pPr marL="343080" indent="-343080" algn="just">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do we fix the standar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429564AE-B083-443E-AF27-AB93E939298B}" type="slidenum">
              <a:t>2</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enario 1</a:t>
            </a:r>
            <a:endParaRPr b="0" lang="en-US" sz="4800" spc="-1" strike="noStrike">
              <a:solidFill>
                <a:srgbClr val="000000"/>
              </a:solidFill>
              <a:latin typeface="Times New Roman"/>
            </a:endParaRPr>
          </a:p>
        </p:txBody>
      </p:sp>
      <p:sp>
        <p:nvSpPr>
          <p:cNvPr id="50" name="PlaceHolder 2"/>
          <p:cNvSpPr>
            <a:spLocks noGrp="1"/>
          </p:cNvSpPr>
          <p:nvPr>
            <p:ph/>
          </p:nvPr>
        </p:nvSpPr>
        <p:spPr>
          <a:xfrm>
            <a:off x="685440" y="1905120"/>
            <a:ext cx="807732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SS configured with 1, 2 and 5.5 Mb/s as rates in the BSS basic rate set.</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receiving a 5.5 Mb/s frame an STA is supposed to check the PHY mandatory rates.</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 mandatory rates are not defined.</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blem can be resolved by removing the reference to PHY mandatory rat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A3B0DDDD-1B40-48B9-ADF5-09E8B20C8F44}" type="slidenum">
              <a:t>3</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enario 2</a:t>
            </a:r>
            <a:endParaRPr b="0" lang="en-US" sz="4800" spc="-1" strike="noStrike">
              <a:solidFill>
                <a:srgbClr val="000000"/>
              </a:solidFill>
              <a:latin typeface="Times New Roman"/>
            </a:endParaRPr>
          </a:p>
        </p:txBody>
      </p:sp>
      <p:sp>
        <p:nvSpPr>
          <p:cNvPr id="52" name="PlaceHolder 2"/>
          <p:cNvSpPr>
            <a:spLocks noGrp="1"/>
          </p:cNvSpPr>
          <p:nvPr>
            <p:ph/>
          </p:nvPr>
        </p:nvSpPr>
        <p:spPr>
          <a:xfrm>
            <a:off x="685440" y="1905120"/>
            <a:ext cx="807732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SS configured with 1 and 2 Mb/s as rates in the BSS basic rate set.</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receiving a 1 Mb/s frame an STA is incorrectly required to transmit the control response frame at 2 Mb/s.</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blem can be resolved by the response being sent at the highest rate in the BSS basic rate set that is less than or equal to the rate of the received fra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459D52BB-75FF-4D19-A5D0-5D013BEE527B}" type="slidenum">
              <a:t>4</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enario 3</a:t>
            </a:r>
            <a:endParaRPr b="0" lang="en-US" sz="4800" spc="-1" strike="noStrike">
              <a:solidFill>
                <a:srgbClr val="000000"/>
              </a:solidFill>
              <a:latin typeface="Times New Roman"/>
            </a:endParaRPr>
          </a:p>
        </p:txBody>
      </p:sp>
      <p:sp>
        <p:nvSpPr>
          <p:cNvPr id="54" name="PlaceHolder 2"/>
          <p:cNvSpPr>
            <a:spLocks noGrp="1"/>
          </p:cNvSpPr>
          <p:nvPr>
            <p:ph/>
          </p:nvPr>
        </p:nvSpPr>
        <p:spPr>
          <a:xfrm>
            <a:off x="685440" y="1905120"/>
            <a:ext cx="807732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SS configured with 1, 2 and 5.5 Mb/s as rates in the BSS basic rate set.</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receiving a 5.5 Mb/s frame an STA is required to respond with a 5.5 Mb/s control response frame.</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SS basic rate set definition requires that STAs be able to receive at all the rates in the set and transmit at one of the rates.</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 that all STAs in a BSS be able to receive and transmit at all the rates in the BSS basic rate s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60F6A225-F114-4CE8-BE94-F11F119BBADB}" type="slidenum">
              <a:t>5</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enario 4</a:t>
            </a:r>
            <a:endParaRPr b="0" lang="en-US" sz="4800" spc="-1" strike="noStrike">
              <a:solidFill>
                <a:srgbClr val="000000"/>
              </a:solidFill>
              <a:latin typeface="Times New Roman"/>
            </a:endParaRPr>
          </a:p>
        </p:txBody>
      </p:sp>
      <p:sp>
        <p:nvSpPr>
          <p:cNvPr id="56" name="PlaceHolder 2"/>
          <p:cNvSpPr>
            <a:spLocks noGrp="1"/>
          </p:cNvSpPr>
          <p:nvPr>
            <p:ph/>
          </p:nvPr>
        </p:nvSpPr>
        <p:spPr>
          <a:xfrm>
            <a:off x="685440" y="1905120"/>
            <a:ext cx="807732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finition of aMPDUDurationFactor in clause 10.4.3.2 specifies it as an integer.</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the value assigned it in clause 14.9 is 1.03125.</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blem can be overcome easily by normalizing the value with an integer so that the effect of discarding a fractional component will be less than 1 </a:t>
            </a:r>
            <a:r>
              <a:rPr b="0" lang="en-US" sz="2400" spc="-1" strike="noStrike">
                <a:solidFill>
                  <a:srgbClr val="000000"/>
                </a:solidFill>
                <a:latin typeface="Symbol"/>
                <a:ea typeface="Symbol"/>
              </a:rPr>
              <a:t></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685407BE-C6B7-4F47-AE74-3A2F9F7904BD}" type="slidenum">
              <a:t>6</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cenario 5</a:t>
            </a:r>
            <a:endParaRPr b="0" lang="en-US" sz="4800" spc="-1" strike="noStrike">
              <a:solidFill>
                <a:srgbClr val="000000"/>
              </a:solidFill>
              <a:latin typeface="Times New Roman"/>
            </a:endParaRPr>
          </a:p>
        </p:txBody>
      </p:sp>
      <p:sp>
        <p:nvSpPr>
          <p:cNvPr id="58" name="PlaceHolder 2"/>
          <p:cNvSpPr>
            <a:spLocks noGrp="1"/>
          </p:cNvSpPr>
          <p:nvPr>
            <p:ph/>
          </p:nvPr>
        </p:nvSpPr>
        <p:spPr>
          <a:xfrm>
            <a:off x="685440" y="1905120"/>
            <a:ext cx="807732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mechanism for an MLME on one STA to discover the receive rates supported by a remote STA.</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is needed to implement the unspecified rate switching mechanism.</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e Solutions</a:t>
            </a:r>
            <a:endParaRPr b="0" lang="en-US" sz="2400" spc="-1" strike="noStrike">
              <a:solidFill>
                <a:srgbClr val="000000"/>
              </a:solidFill>
              <a:latin typeface="Times New Roman"/>
            </a:endParaRPr>
          </a:p>
          <a:p>
            <a:pPr lvl="1" marL="743040" indent="-285840">
              <a:spcBef>
                <a:spcPts val="4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rial and error.</a:t>
            </a:r>
            <a:endParaRPr b="0" lang="en-US" sz="2000" spc="-1" strike="noStrike">
              <a:solidFill>
                <a:srgbClr val="000000"/>
              </a:solidFill>
              <a:latin typeface="Times New Roman"/>
            </a:endParaRPr>
          </a:p>
          <a:p>
            <a:pPr lvl="1" marL="743040" indent="-285840">
              <a:spcBef>
                <a:spcPts val="499"/>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a service primitives to retrieve the receive capabilities of remote STA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C8D64E1E-B261-48F4-A6EC-04D74063131F}" type="slidenum">
              <a:t>7</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nteroperability Problems?</a:t>
            </a:r>
            <a:endParaRPr b="0" lang="en-US" sz="4800" spc="-1" strike="noStrike">
              <a:solidFill>
                <a:srgbClr val="000000"/>
              </a:solidFill>
              <a:latin typeface="Times New Roman"/>
            </a:endParaRPr>
          </a:p>
        </p:txBody>
      </p:sp>
      <p:sp>
        <p:nvSpPr>
          <p:cNvPr id="60" name="PlaceHolder 2"/>
          <p:cNvSpPr>
            <a:spLocks noGrp="1"/>
          </p:cNvSpPr>
          <p:nvPr>
            <p:ph/>
          </p:nvPr>
        </p:nvSpPr>
        <p:spPr>
          <a:xfrm>
            <a:off x="685440" y="1905120"/>
            <a:ext cx="8077320" cy="4114800"/>
          </a:xfrm>
          <a:prstGeom prst="rect">
            <a:avLst/>
          </a:prstGeom>
          <a:noFill/>
          <a:ln w="0">
            <a:noFill/>
          </a:ln>
        </p:spPr>
        <p:txBody>
          <a:bodyPr lIns="92160" rIns="92160" tIns="46080" bIns="46080" anchor="t">
            <a:normAutofit/>
          </a:bodyPr>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rrect definition of the BSS basic rate set.</a:t>
            </a:r>
            <a:endParaRPr b="0" lang="en-US" sz="2400" spc="-1" strike="noStrike">
              <a:solidFill>
                <a:srgbClr val="000000"/>
              </a:solidFill>
              <a:latin typeface="Times New Roman"/>
            </a:endParaRPr>
          </a:p>
          <a:p>
            <a:pPr marL="343080" indent="-343080">
              <a:spcBef>
                <a:spcPts val="601"/>
              </a:spcBef>
              <a:spcAft>
                <a:spcPts val="11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ing interpretations of the rate of the control response fram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4425457D-0352-40B5-BAF0-E4B8CD16781C}" type="slidenum">
              <a:t>8</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ow do we fix it?</a:t>
            </a:r>
            <a:endParaRPr b="0" lang="en-US" sz="4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 for a new P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e a response to an interpretation reque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ggyback it to TGrev.</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anwalka, Tsoulogiannis, Neesus Datacom</a:t>
            </a:r>
          </a:p>
        </p:txBody>
      </p:sp>
      <p:sp>
        <p:nvSpPr>
          <p:cNvPr id="5" name="PlaceHolder 4"/>
          <p:cNvSpPr>
            <a:spLocks noGrp="1"/>
          </p:cNvSpPr>
          <p:nvPr>
            <p:ph type="sldNum" idx="3"/>
          </p:nvPr>
        </p:nvSpPr>
        <p:spPr/>
        <p:txBody>
          <a:bodyPr/>
          <a:p>
            <a:fld id="{BB0F7C70-41C0-4DDD-B105-93B481AB2923}" type="slidenum">
              <a:t>9</a:t>
            </a:fld>
          </a:p>
        </p:txBody>
      </p:sp>
      <p:sp>
        <p:nvSpPr>
          <p:cNvPr id="6" name="PlaceHolder 5"/>
          <p:cNvSpPr>
            <a:spLocks noGrp="1"/>
          </p:cNvSpPr>
          <p:nvPr>
            <p:ph type="dt" idx="1"/>
          </p:nvPr>
        </p:nvSpPr>
        <p:spPr/>
        <p:txBody>
          <a:bodyPr/>
          <a:p>
            <a:r>
              <a:rPr lang="en-US"/>
              <a:t>September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6-13T19:03:32Z</dcterms:created>
  <dc:creator>Tom Tsoulogiannis</dc:creator>
  <dc:description/>
  <dc:language>en-US</dc:language>
  <cp:lastModifiedBy>rodane</cp:lastModifiedBy>
  <cp:lastPrinted>1999-07-21T13:28:43Z</cp:lastPrinted>
  <dcterms:modified xsi:type="dcterms:W3CDTF">1999-07-21T13:29:04Z</dcterms:modified>
  <cp:revision>12</cp:revision>
  <dc:subject/>
  <dc:title>Neesus Datacom</dc:title>
</cp:coreProperties>
</file>