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1400" y="380880"/>
            <a:ext cx="7975440" cy="6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ember 199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802.11-98/319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93720" y="762120"/>
            <a:ext cx="8062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19120" y="6172200"/>
            <a:ext cx="793116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                                            page </a:t>
            </a:r>
            <a:fld id="{BE1AE302-790E-4148-8BAD-C4F6722A83C5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Greg Ennis, Ennis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11280" y="6248520"/>
            <a:ext cx="815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Bluetooth on 802.11 Direct Sequence Wireless 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g En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nis Associ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331 Englewood A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Gatos, CA 950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9144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ing Time and Frequency Overlap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North American operation, the probability that an 802.11 packet of duration L experiences no Bluetooth collisions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/3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L/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(2/3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L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2209680"/>
            <a:ext cx="8001000" cy="3505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802.11 Mechanisms to u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acket size, hence likelihood of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/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won’t obey.  RTS/CTS may succeed yet DATA transfer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sociation to a new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interference will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allows for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in of frames DATA-ACK-DATA-ACK, separated by S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error, transmitter backs off, continues starting with errored fra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head: PHY and MAC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l under high error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of Bluetooth/802.11 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 developed incorporating calculation on overlap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s: 802 Data rate + packet size, Bluetooth hop rate + picocell util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: “Degradation Factor” versus fragme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Factor is ratio of nonfragmented unimpaired transmission time to impaire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at 5.5. Mb/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43280" y="1741320"/>
            <a:ext cx="477504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BT picocell utiliz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93680" y="2038320"/>
            <a:ext cx="728028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Mb/s Sit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50760" y="2038320"/>
            <a:ext cx="78724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/s, 500 byte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3880" y="2009880"/>
            <a:ext cx="54244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andwidth Sit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nce, Japan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is even more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if only two 802.11 channels available, expression for non-collision be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/2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L/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(1/2)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1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en-US" sz="3200" spc="-1" strike="noStrike" baseline="5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L/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Versus 3 Channe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1876320"/>
            <a:ext cx="603252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Frequency Ho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is a fast frequency hopping system focused on PA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hopping period 625 micro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oice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ower with higher pow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arrier sense, no d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within 2.4 GHz 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can impact 802.11 DS significantly, particularly on larg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802.11 mechanisms for responding to  poor channel quality either have no impact or make things w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ation can help, mainly at lower data rates and high picocell util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back to low-rate FH may be us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/802.11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2048040"/>
            <a:ext cx="671688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-induced coll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1752480"/>
            <a:ext cx="7813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probability that an 802.11 packet and a Bluetooth transmission will overlap in both time and frequenc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: depends on duration of packet and relative timing of BT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verlap: depends upon number of channels - geographic 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L = 802.11 packet dur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= Bluetooth dwell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will partially overlap eith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 dwell periods, depending on relative ti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⎤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iling(x) = least integer greater than or equal to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Time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d = the "delta" between the last Bluetooth hop and the start of the packet, where L = 1.3H and d &gt; .7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the packet will overlap 3 Bluetooth dwell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00200" y="3962520"/>
            <a:ext cx="7607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verlap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that an 802.11 packet of duration L will overlap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uetooth dwell periods of duration 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ability that it overlaps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 dwell periods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/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L/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North America, the probability that at any given time a Bluetooth transmitter is on a narrowband channel outside of a given wideband 802.11 DS channel is 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n 802.11 packet overlaps with N Bluetooth dwell periods, the probability of no frequency overlap is (2/3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Ennis</dc:creator>
  <dc:description/>
  <dc:language>en-US</dc:language>
  <cp:lastModifiedBy>rodane</cp:lastModifiedBy>
  <cp:revision>0</cp:revision>
  <dc:subject/>
  <dc:title>Impact of Bluetooth on 802.11 Direct Sequence Wireless LANs</dc:title>
</cp:coreProperties>
</file>