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23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0480" y="609480"/>
            <a:ext cx="776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0480" y="6477120"/>
            <a:ext cx="7844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Analys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s &amp; Suggestions as they relate to the W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(PC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 Coordination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controls access to the medium for contention fre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ction can be removed from the MAC if the concept of WPAN-AP power saving modes are included in the design of the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pproach allows the WPAN-AP to power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tion of this cha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ens the joining process (by a few 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/Defragment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C6 &amp; PC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pends upon the error characteristics of the channel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is needed to support efficient use of the radio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of the WPAN will be better if this function is implemented at the MAC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reduces the overall # of bytes transmitted per MS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we keep i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implementation is a wash - this is needed somewhere in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rate Support (PC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is option is removed it may limit the future extensions of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 extensions to higher spe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ption can add complexity to the implementation of the MAC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the WPAN requirements need to place a relative value on its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Synchronization (PC11.1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ive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cept of timing needs to exist within the network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the network maintain its timing if the AP losses its pow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is scenario, the network timing function can be transferred to another station eithe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in the MAC (Distributed Beaconing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 higher layer protocol 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ly by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Synchronization (PC11.1) [Cont.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“Distributed Beacon” mechanism and tweak it so that one station will assume the role of sending the beacon (WPAN-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llows for the immediate recognition &amp; recovery of the network when the beaconer is lost or goes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would push the function of frame buffering onto the stations in the network capable of being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ly, this could increase memory requirements, and likely the WPAN device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B (PC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formation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it be re-defined for WPA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MIB will affect power consumption and memory requirements for WPA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address authentication &amp; encryption in our review of the new MIB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Fram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 that the WPAN MAC frame format remain identical to the existing 802.11 frame form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may need to define at least one and maybe two new IUTs (Implementation Under Te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“new” devices would be compliant as new classes of 802.11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MAC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95% of the existing 802.11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current 802.11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 gains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functionality migrates between WPAN capabl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 some O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 down the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RTS/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 I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tudy Group Vi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2240" y="3757680"/>
            <a:ext cx="162864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42920" y="3728880"/>
            <a:ext cx="17254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req. Ho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46440" y="3757680"/>
            <a:ext cx="168768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32040" y="3728880"/>
            <a:ext cx="1712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4 GHz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pread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5040" y="3757680"/>
            <a:ext cx="789120" cy="144936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51400" y="4137120"/>
            <a:ext cx="880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ra-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0560" y="3497400"/>
            <a:ext cx="5070240" cy="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87800" y="3521160"/>
            <a:ext cx="0" cy="2206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0680" y="3341520"/>
            <a:ext cx="0" cy="16056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36800" y="3513240"/>
            <a:ext cx="0" cy="25056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12960" y="3521160"/>
            <a:ext cx="0" cy="25092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9440" y="5234040"/>
            <a:ext cx="8492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2560" y="5251320"/>
            <a:ext cx="777960" cy="48276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98600" y="5234040"/>
            <a:ext cx="85104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33520" y="5251320"/>
            <a:ext cx="777960" cy="48276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05040" y="5234040"/>
            <a:ext cx="789120" cy="550800"/>
          </a:xfrm>
          <a:prstGeom prst="rect">
            <a:avLst/>
          </a:prstGeom>
          <a:noFill/>
          <a:ln w="38160">
            <a:solidFill>
              <a:srgbClr val="3333cc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622680" y="5256360"/>
            <a:ext cx="75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2 Mbit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25520" y="5877000"/>
            <a:ext cx="2652840" cy="29376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gend: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ali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(and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) = 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70440" y="3521160"/>
            <a:ext cx="0" cy="25884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26120" y="3521160"/>
            <a:ext cx="0" cy="220680"/>
          </a:xfrm>
          <a:prstGeom prst="line">
            <a:avLst/>
          </a:prstGeom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67240" y="3757680"/>
            <a:ext cx="108756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95840" y="3757680"/>
            <a:ext cx="1149480" cy="144936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0560" y="5234040"/>
            <a:ext cx="903240" cy="58428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1080" y="5234040"/>
            <a:ext cx="849240" cy="826920"/>
          </a:xfrm>
          <a:prstGeom prst="rect">
            <a:avLst/>
          </a:prstGeom>
          <a:noFill/>
          <a:ln w="38160">
            <a:solidFill>
              <a:srgbClr val="3333cc"/>
            </a:solidFill>
            <a:custDash>
              <a:ds d="100000" sp="100000"/>
            </a:custDash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41324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2.4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632560" y="3780000"/>
            <a:ext cx="1138320" cy="11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r data rate extension in 5 G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35640" y="5245200"/>
            <a:ext cx="853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1 &amp; 5.5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bit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813280" y="5262480"/>
            <a:ext cx="79200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-12-18...54 Mbit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09760" y="2409840"/>
            <a:ext cx="5772240" cy="9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167520" y="2104920"/>
            <a:ext cx="2995560" cy="3909960"/>
            <a:chOff x="6167520" y="2104920"/>
            <a:chExt cx="2995560" cy="3909960"/>
          </a:xfrm>
        </p:grpSpPr>
        <p:grpSp>
          <p:nvGrpSpPr>
            <p:cNvPr id="76" name=""/>
            <p:cNvGrpSpPr/>
            <p:nvPr/>
          </p:nvGrpSpPr>
          <p:grpSpPr>
            <a:xfrm>
              <a:off x="7128000" y="3711600"/>
              <a:ext cx="1174680" cy="2303280"/>
              <a:chOff x="7128000" y="3711600"/>
              <a:chExt cx="1174680" cy="2303280"/>
            </a:xfrm>
          </p:grpSpPr>
          <p:sp>
            <p:nvSpPr>
              <p:cNvPr id="77" name=""/>
              <p:cNvSpPr/>
              <p:nvPr/>
            </p:nvSpPr>
            <p:spPr>
              <a:xfrm>
                <a:off x="7128000" y="3711600"/>
                <a:ext cx="1149480" cy="144936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139160" y="5187960"/>
                <a:ext cx="1117440" cy="82692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custDash>
                  <a:ds d="100000" sp="100000"/>
                </a:custDash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7164360" y="3733920"/>
                <a:ext cx="1138320" cy="115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Lower data rate extension in 2.4 GHz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02.11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7240680" y="5216400"/>
                <a:ext cx="990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&lt;1Mbit/s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6167520" y="2104920"/>
              <a:ext cx="2995560" cy="1625760"/>
              <a:chOff x="6167520" y="2104920"/>
              <a:chExt cx="2995560" cy="16257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6210360" y="2104920"/>
                <a:ext cx="2952720" cy="1400400"/>
                <a:chOff x="6210360" y="2104920"/>
                <a:chExt cx="2952720" cy="14004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686720" y="3052800"/>
                  <a:ext cx="0" cy="45252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 txBox="1"/>
                <p:nvPr/>
              </p:nvSpPr>
              <p:spPr>
                <a:xfrm>
                  <a:off x="6210360" y="2104920"/>
                  <a:ext cx="2952720" cy="971640"/>
                </a:xfrm>
                <a:prstGeom prst="rect">
                  <a:avLst/>
                </a:prstGeom>
                <a:noFill/>
                <a:ln w="38160">
                  <a:solidFill>
                    <a:srgbClr val="3333cc"/>
                  </a:solidFill>
                  <a:round/>
                </a:ln>
              </p:spPr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MAC </a:t>
                  </a:r>
                  <a:r>
                    <a:rPr b="1" i="1" lang="en-US" sz="24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Lit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6167520" y="3505320"/>
                <a:ext cx="151920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86720" y="3510000"/>
                <a:ext cx="0" cy="220680"/>
              </a:xfrm>
              <a:prstGeom prst="line">
                <a:avLst/>
              </a:prstGeom>
              <a:ln w="381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Point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P is a station that organizes all of the other stations in the wireless LAN around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acts as a conduit for all of these stations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802.11, if there is an AP present then there is no peer-to-pee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requirement on how the protocol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on of a WPAN “A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n IUT (WPAN “AP”) to the existing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for a “deeper” power management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avoids the need for the ATIM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 of the WPAN “A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“AP” would wake up and send a beacon then go to sleep. It basically sets the NAV in this beacon to help “shutdown” other devices in the WP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ther stations in the WPAN could go to sleep during the same “sleep” period as the “AP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 is for a non-continuously powered 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unction could be implemented with a new element in the existing 802.11 bea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-AP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hat are Uni-directional in their communications model can “sleep” for as long as they n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evices that are Bi-directional and require longer sleep peri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ing of data packets is impl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tradeoff that needs to be considered in the architecture and classes of devices supported by the W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ggestions for 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present purposes, define the PICS for the WPAN with an AP and a station as its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ress the need for no single point of failure at least one and possibly more stations need to assume tha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nction of transitioning to another AP is undefined at present and may be placed at a higher level in the stack than the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n AP may be the only way to meet the WPAN pow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(PC1.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52388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ss of identifying another station and deciding to allow/disallow communication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devices can enter and leave the WPAN with authentic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authentication allows for a positive ACK for any device that comes in range of the WPAN (PHY parameters &amp; BSS ID must be set prior to this ste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shared keys provide for a higher level of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on &amp; exchange of the shared key is not part of the 802.11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 (PC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encryption for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WEP present, you could have a manual authent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EP &amp; a shared key authentication, or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pen authentication with higher level functions (including manual)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minimal co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PC3.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Allocation 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“virtual” busy signal from the network to handle the hidden nod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t prevents stations from accessing the medium before the ACK re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ASSUM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ll nodes within a WPAN can hear each other at all times, then the NAV function is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Ian C. Gifford</cp:lastModifiedBy>
  <cp:revision>0</cp:revision>
  <dc:subject/>
  <dc:title>No Slide Title</dc:title>
</cp:coreProperties>
</file>