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F6FCE-B5F3-4D9A-9E52-DA67DEA98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075360" y="396720"/>
            <a:ext cx="2382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L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-IEEE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Chair’s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5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720" y="776160"/>
            <a:ext cx="1552680" cy="1522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175520" y="824040"/>
            <a:ext cx="122400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applications require limitation of RF power need to save 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link services require distances to be spanned so require more RF power, but have no AC power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ployment of devices of the two services mentioned above should therefore be outside each others geographic location or frequency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of mobile and fixed users of similar applications must be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frequencies with other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is a scarce resource and re-use should be encour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should be done where-ever possible, however, the co-existence should be warranted by careful and realistic calculation, on each application’s me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standard development should be our ultimate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riats should agree on a form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pectrum policy is needed to respond to users and manufactur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applications versus spectrum bandwidth and use is required on a globa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between RLAN Standards Committ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69920"/>
            <a:ext cx="7772400" cy="38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 done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 is difficult to achi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RLAN issue is administration of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of drafts and standards is required to prevent du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lia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BRAN and IEEE P802.11 have had informal liaison over the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s were exchanged based on Chairman’s discr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rials were received by both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groups in both bodies selected the same modul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the groups are further looking at selecting the same or similar system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is to obtain the benefit of large scale volumes from multiple 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also provide better co-existence pos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ized Liai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policy in either body that permits making draft standards or standards available to any of the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chair could not make the 802.11-1997 standard available to the group in ETSI working on Home R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formal structure to input comments into each other’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development of a 5 GHz specification that enables a true global standard over and above the professional and technical differences of each group is hard to achieve (geographic differences, frequency allocation and application differenc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 and System related 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vs Fixed service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with othe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availability of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frequency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monization of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example is the 2.45 GHz band, which is now available to RLAN devices virtually 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area of expansion may be found in the 5 GHz b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band is available in Europe as the HIPERLAN band and in the USA as the U-NII b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ada and Japan are planning to introduce allocations for RLAN in the 5 GHz b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censed vs licensed b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advising regulatory agencies to Segregate the rules for licensed and unlicensed applications into different frequency segments if the application is within the sam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quest ETSI to advis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vs Co-existence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295280"/>
            <a:ext cx="7772400" cy="43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.45 GHz band is a good example of rules and regulations that are only concerned with co-existence requirement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 has been in use since the rules and regulations were ap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5 GHz band in Europe requires the use of an interoperability standard for RLAN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nd has been allocated from the early 1990s, but is still not used by RLA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IEEE 802.11 RLAN devices under development for the 5 GHz band are not permitted due to the fact that the band may only be used by HIPERLAN device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s to be in contradiction of the European policy for free trade i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is requesting ETSI’s assistance to include RLAN devices as another type of HIPERLAN device in the 5 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396720"/>
            <a:ext cx="12193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97760" y="6475320"/>
            <a:ext cx="2413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, Chair, Lucent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e bandwidth needed to make practical system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tion of voice or data applications versus range, frequency re-use and digital data rates requires ample bandwidth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rted efforts of IEEE and ETSI are required to harmonize the allocation of spectrum and system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