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4495680" y="396720"/>
            <a:ext cx="3962520" cy="21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828800"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8/35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9040" y="609480"/>
            <a:ext cx="7769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685800" y="6475320"/>
            <a:ext cx="7113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89040" y="6477120"/>
            <a:ext cx="784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1828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reless Personal Area Net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3352680"/>
            <a:ext cx="7772400" cy="178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EEE 802.11 Study Group Report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ttribute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vember 10, 19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PAN Application 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PAN Study Group issued a Call for Applications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8/295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July 24, 1998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ring the interim meeting held during September 1998 in Westford, MA, six of the application submissions were presented to the study group. A seventh was received after the mee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d upon these inputs, the study group selected a set of 16 attributes which were deemed sufficient to capture and summarize these applications. During the November meeting these attributes were refined and  prioritiz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PAN Application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26960" y="2128680"/>
            <a:ext cx="8348760" cy="1998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80880" y="4495680"/>
            <a:ext cx="8418600" cy="1925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449280" y="1693800"/>
            <a:ext cx="1182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954600" y="1617840"/>
            <a:ext cx="1197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rib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20960" y="1968480"/>
            <a:ext cx="669744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PAN Application Attribute L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981080"/>
            <a:ext cx="7772400" cy="43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consumption (pow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nge (rang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of devices associated in one network (devic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ive Encryption (encryp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achment/initialization procedures (joini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topology (topolog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et data (packe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ochronous data (isoc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imum device response time (respons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 device throughput (ra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of independent but coexisting networks (densit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ze (siz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speed between devices (mobilit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ive IP (NI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ion to other networks (gatewa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existence with 802.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3184560" y="1036800"/>
            <a:ext cx="122220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441360" y="4648320"/>
            <a:ext cx="7788240" cy="745920"/>
            <a:chOff x="441360" y="4648320"/>
            <a:chExt cx="7788240" cy="745920"/>
          </a:xfrm>
        </p:grpSpPr>
        <p:sp>
          <p:nvSpPr>
            <p:cNvPr id="57" name=""/>
            <p:cNvSpPr/>
            <p:nvPr/>
          </p:nvSpPr>
          <p:spPr>
            <a:xfrm>
              <a:off x="617400" y="4648320"/>
              <a:ext cx="7612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09480" y="4656240"/>
              <a:ext cx="0" cy="220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05120" y="4656240"/>
              <a:ext cx="0" cy="220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048120" y="4656240"/>
              <a:ext cx="0" cy="220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343400" y="4656240"/>
              <a:ext cx="0" cy="220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486400" y="4656240"/>
              <a:ext cx="0" cy="220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629400" y="4656240"/>
              <a:ext cx="0" cy="220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924680" y="4656240"/>
              <a:ext cx="0" cy="220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 txBox="1"/>
            <p:nvPr/>
          </p:nvSpPr>
          <p:spPr>
            <a:xfrm>
              <a:off x="441360" y="4937040"/>
              <a:ext cx="3366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 txBox="1"/>
            <p:nvPr/>
          </p:nvSpPr>
          <p:spPr>
            <a:xfrm>
              <a:off x="1660680" y="4937040"/>
              <a:ext cx="4888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 txBox="1"/>
            <p:nvPr/>
          </p:nvSpPr>
          <p:spPr>
            <a:xfrm>
              <a:off x="2803680" y="4937040"/>
              <a:ext cx="4888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 txBox="1"/>
            <p:nvPr/>
          </p:nvSpPr>
          <p:spPr>
            <a:xfrm>
              <a:off x="4098960" y="4937040"/>
              <a:ext cx="4888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 txBox="1"/>
            <p:nvPr/>
          </p:nvSpPr>
          <p:spPr>
            <a:xfrm>
              <a:off x="5241960" y="4937040"/>
              <a:ext cx="4888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 txBox="1"/>
            <p:nvPr/>
          </p:nvSpPr>
          <p:spPr>
            <a:xfrm>
              <a:off x="6384960" y="4937040"/>
              <a:ext cx="4888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 txBox="1"/>
            <p:nvPr/>
          </p:nvSpPr>
          <p:spPr>
            <a:xfrm>
              <a:off x="7680240" y="4937040"/>
              <a:ext cx="4888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/>
          <p:cNvSpPr txBox="1"/>
          <p:nvPr/>
        </p:nvSpPr>
        <p:spPr>
          <a:xfrm>
            <a:off x="3718080" y="5546880"/>
            <a:ext cx="1030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822240" y="4175280"/>
            <a:ext cx="42552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7680240" y="4175280"/>
            <a:ext cx="42552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050920" y="3948120"/>
            <a:ext cx="1447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065320" y="4371840"/>
            <a:ext cx="1443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5120" y="1608120"/>
            <a:ext cx="0" cy="3040200"/>
          </a:xfrm>
          <a:prstGeom prst="line">
            <a:avLst/>
          </a:prstGeom>
          <a:ln w="38160">
            <a:solidFill>
              <a:srgbClr val="ff3300"/>
            </a:solidFill>
            <a:custDash>
              <a:ds d="2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746360" y="4241880"/>
            <a:ext cx="241200" cy="2412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298600" y="4241880"/>
            <a:ext cx="241200" cy="2412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46360" y="3803760"/>
            <a:ext cx="241200" cy="2412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79520" y="3808440"/>
            <a:ext cx="241200" cy="2412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46360" y="3379680"/>
            <a:ext cx="241200" cy="2412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46360" y="2936880"/>
            <a:ext cx="241200" cy="2412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746360" y="2494080"/>
            <a:ext cx="241200" cy="2412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50760" y="4222800"/>
            <a:ext cx="241200" cy="2412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65920" y="4260960"/>
            <a:ext cx="241200" cy="2412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685800" y="6858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PAN Attributes Requirements Priorit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8640" y="4633920"/>
            <a:ext cx="81457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82600" y="2179800"/>
            <a:ext cx="1488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en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58920" y="317016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58920" y="5151600"/>
            <a:ext cx="893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46360" y="2203560"/>
            <a:ext cx="0" cy="41828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787920" y="1722600"/>
            <a:ext cx="1214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720880" y="2255760"/>
            <a:ext cx="79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226200" y="2255760"/>
            <a:ext cx="7430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2279520"/>
            <a:ext cx="0" cy="4106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4960" y="2728800"/>
            <a:ext cx="80694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341440" y="3200400"/>
            <a:ext cx="18111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h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265480" y="5181480"/>
            <a:ext cx="23637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rring ca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465880" y="3200400"/>
            <a:ext cx="21160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ce to h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183280" y="5181480"/>
            <a:ext cx="2994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thetic bick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873520" y="3703680"/>
            <a:ext cx="488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873520" y="5684760"/>
            <a:ext cx="488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302520" y="3703680"/>
            <a:ext cx="488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302520" y="5684760"/>
            <a:ext cx="488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PAN Application Feature L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80960" y="5227560"/>
            <a:ext cx="8145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4920" y="2011320"/>
            <a:ext cx="1488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en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80880" y="27734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80880" y="5288040"/>
            <a:ext cx="893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68320" y="2035080"/>
            <a:ext cx="0" cy="41832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809880" y="1554120"/>
            <a:ext cx="1214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514600" y="2087640"/>
            <a:ext cx="79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248520" y="2087640"/>
            <a:ext cx="7430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045040" y="2111400"/>
            <a:ext cx="0" cy="4106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7280" y="2560680"/>
            <a:ext cx="806904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905120" y="2666880"/>
            <a:ext cx="2643120" cy="28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co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pow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all siz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et dat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 Mbp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ng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evice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&lt;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al auth/auto att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existence with 802.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257800" y="2666880"/>
            <a:ext cx="2341440" cy="16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et + isochron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ry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bility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0 m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te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ive 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334120" y="5486400"/>
            <a:ext cx="2414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pan conne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981080" y="5486400"/>
            <a:ext cx="25225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evices 10 - 1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existing PANs 4-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736640" y="2575080"/>
            <a:ext cx="5927760" cy="21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etailed PIC Sugg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re summarize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n -98/322r2 &amp; 32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ruce Kraemer</dc:creator>
  <dc:description>Bruce Kraemer, Harris</dc:description>
  <dc:language>en-US</dc:language>
  <cp:lastModifiedBy>rodane</cp:lastModifiedBy>
  <cp:revision>0</cp:revision>
  <dc:subject>Submission</dc:subject>
  <dc:title>WPAN Attribute Requirements</dc:title>
</cp:coreProperties>
</file>