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828800"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35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92280" y="609480"/>
            <a:ext cx="7765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593640" y="6446880"/>
            <a:ext cx="895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92280" y="6477120"/>
            <a:ext cx="7842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22860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reless Personal Area Network Study Gro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 Working Grou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oming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vember 9, 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PAN SG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PAN SG Chartered from 7/98 to 11/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stford, MA Interim Meeting, 9/14-16/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lanta, GA Ad Hoc Meeting, 10/26/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PAN SG needs more study time to evaluate the Liaisons (HomeRF &amp; Bluetooth) and IEEE 802.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G timeframe will be extended, via a motion, from 11/98 to 3/99 [Albuquerque to Austin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plan on submitting a PAR &amp; 5C after the Orlando Interim ~2/99 for the 3/99 Plen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stford Accomplish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15 Attend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wed responses to the CFA [-8/288] with Full W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gaged in discussion to determine applicability of existing 802.11 MAC to W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ted a summary matrix [-8/298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aison Up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meRF Working Group -98/2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uetooth Special Interest Group -98/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6858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stford Accomplishments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09480" y="1905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yzed the MAC &amp; FH PICS for suitability to WPAN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8/322 802.11 PICS vs WPAN requi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8/323 802.11 Terminology related to W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H PHY PICS 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ied potential areas fo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ntrated on the impact to power consumption, compatibility &amp; complex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lanta Accomplish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15 Attend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ain, reviewed the Call for Applications (CF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8/29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A 1 - Fedex CFA (D. Braley) September 15, 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8/29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A 2 - Symbol CFA (S. Shellhammer, Symbol), September 15, 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8/29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A 3 - PED CFA (T. Blakadar) September 15, 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8/297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A 4 - TI CFA, (H. Chaya, TI) September 15, 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8/352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FA 5 - Kodak CFA (A. Heberling, Kodak) October 26, 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ain, reviewed the MAC &amp; FHSS P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received a Liaison from Blueto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buquerque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828800"/>
            <a:ext cx="7772400" cy="43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uss Atlanta Ad Hoc and Westford Interim Mee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w Call For Applications (CFA) -98/29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e CFA and establish a baseline WPAN 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didate WPAN MAC &amp; PHY Review Tea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am A - Review the modified 802.11 MAC &amp; PHY P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e IEEE 802.11 Working Group/Individual inter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am B - Review the HomeRF Specification v0.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am C - Review the Bluetooth Specification v0.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e the (public info only) Team and Study Group’s findings in a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pare a modified WPAN MAC &amp; PHY PAR  and Five Criteria for our Sponsor to review and dis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working on a Liaison “terms sheet” for adoption of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meRF 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uetooth 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buquerque Objectives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67652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rify &amp; prioritize the CFA summary ma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ize the review of the MAC &amp; FH P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y the key points in the 802.11 MAC that cause difficulties to WP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goal of this activity is to recommend to the 802.11 WG in November to ei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se the existing MAC, or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a new M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ain, the SG timeframe will be extended, via a motion, from 11/98 to 3/99 [Albuquerque to Austin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buquerque, NM 11/9-13/9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8153280" cy="46576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2813040" y="3803760"/>
            <a:ext cx="1308240" cy="8510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an Gifford</dc:creator>
  <dc:description>Ian Gifford, M/A-COM</dc:description>
  <dc:language>en-US</dc:language>
  <cp:lastModifiedBy>Applied Research &amp; Technology</cp:lastModifiedBy>
  <cp:revision>0</cp:revision>
  <dc:subject>doc.: IEEE 802.11-98/357</dc:subject>
  <dc:title>WPAN 802.11 Working Group</dc:title>
</cp:coreProperties>
</file>