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396720"/>
            <a:ext cx="39625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35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7240" y="609480"/>
            <a:ext cx="7770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6475320"/>
            <a:ext cx="711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7240" y="6477120"/>
            <a:ext cx="7847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Personal Area Network Study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iaison Updat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ry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Sponsor submitted an IEEE Liaison Letter to the following Grou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M Forum Wireless ATM (WATM)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tooth Special Interest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SI Broadband Radio Access Networks (BRAN)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rared Data Association (Ir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 Engineering Task Force (IETF), Mobile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 Radio Frequency Working Group (HRFW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LAN Alliance (WLA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27040" y="5403960"/>
            <a:ext cx="8166240" cy="851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omeRF Working Group and Bluetooth Special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 were the first and only to send delegates to the S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r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RF Working Group Formed March 4, 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aison #1 May 5, 1998 -98/2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aison #2 July 7, 1998 -98/251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aison #3 September 15, 1998 -98/2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tooth Special Interest Group Formed May 20, 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aison #1 July 7, 1998 -98/2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aison #2 September 15, 1998 -98/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aison #3 October 26, 1998 -98/350 (Minutes on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 Layer Compari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280" y="2019240"/>
            <a:ext cx="8915400" cy="3987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52280" y="5943600"/>
            <a:ext cx="1841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: -98/249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aisons by v1.0 Release 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52280" y="3581280"/>
            <a:ext cx="8610840" cy="1013040"/>
            <a:chOff x="152280" y="3581280"/>
            <a:chExt cx="8610840" cy="1013040"/>
          </a:xfrm>
        </p:grpSpPr>
        <p:sp>
          <p:nvSpPr>
            <p:cNvPr id="55" name=""/>
            <p:cNvSpPr/>
            <p:nvPr/>
          </p:nvSpPr>
          <p:spPr>
            <a:xfrm>
              <a:off x="160200" y="4267080"/>
              <a:ext cx="8602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 txBox="1"/>
            <p:nvPr/>
          </p:nvSpPr>
          <p:spPr>
            <a:xfrm>
              <a:off x="901800" y="3581280"/>
              <a:ext cx="793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99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 txBox="1"/>
            <p:nvPr/>
          </p:nvSpPr>
          <p:spPr>
            <a:xfrm>
              <a:off x="4406760" y="3581280"/>
              <a:ext cx="793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99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4880" y="3919680"/>
              <a:ext cx="0" cy="674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7600" y="4202280"/>
              <a:ext cx="0" cy="141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40040" y="4202280"/>
              <a:ext cx="0" cy="141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92480" y="4202280"/>
              <a:ext cx="0" cy="141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44920" y="4202280"/>
              <a:ext cx="0" cy="141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97360" y="4202280"/>
              <a:ext cx="0" cy="141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149800" y="4202280"/>
              <a:ext cx="0" cy="141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502240" y="4202280"/>
              <a:ext cx="0" cy="141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854680" y="4202280"/>
              <a:ext cx="0" cy="141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35560" y="4202280"/>
              <a:ext cx="0" cy="141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588000" y="4202280"/>
              <a:ext cx="0" cy="141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940440" y="4202280"/>
              <a:ext cx="0" cy="141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35200" y="4202280"/>
              <a:ext cx="0" cy="141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87280" y="4202280"/>
              <a:ext cx="0" cy="141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539720" y="4202280"/>
              <a:ext cx="0" cy="141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920960" y="4202280"/>
              <a:ext cx="0" cy="141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73400" y="4202280"/>
              <a:ext cx="0" cy="141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625840" y="4202280"/>
              <a:ext cx="0" cy="141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3960" y="4202280"/>
              <a:ext cx="0" cy="141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 txBox="1"/>
            <p:nvPr/>
          </p:nvSpPr>
          <p:spPr>
            <a:xfrm>
              <a:off x="530280" y="3908520"/>
              <a:ext cx="2858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 txBox="1"/>
            <p:nvPr/>
          </p:nvSpPr>
          <p:spPr>
            <a:xfrm>
              <a:off x="911160" y="3908520"/>
              <a:ext cx="2858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>
              <a:off x="1216080" y="3908520"/>
              <a:ext cx="318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1596960" y="3908520"/>
              <a:ext cx="318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1978200" y="3908520"/>
              <a:ext cx="3430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2359080" y="390852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2739960" y="390852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3121200" y="3908520"/>
              <a:ext cx="2858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3425760" y="3908520"/>
              <a:ext cx="3078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3807000" y="3908520"/>
              <a:ext cx="3538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4187880" y="3908520"/>
              <a:ext cx="318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4492800" y="3908520"/>
              <a:ext cx="3538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4873680" y="3908520"/>
              <a:ext cx="2858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5178600" y="3908520"/>
              <a:ext cx="2858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5559480" y="3886200"/>
              <a:ext cx="2728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5864400" y="3908520"/>
              <a:ext cx="318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6245280" y="3908520"/>
              <a:ext cx="3430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6626160" y="390852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152280" y="3908520"/>
              <a:ext cx="3538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6934320" y="3908520"/>
              <a:ext cx="3301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5200" y="3894120"/>
              <a:ext cx="0" cy="674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319480" y="1785960"/>
            <a:ext cx="1444680" cy="1170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352680" y="2827440"/>
            <a:ext cx="0" cy="982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753000" y="1542960"/>
            <a:ext cx="1320840" cy="1417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962520" y="2827440"/>
            <a:ext cx="0" cy="982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729560" y="1557360"/>
            <a:ext cx="1263600" cy="1440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1219320" y="5029200"/>
            <a:ext cx="4151160" cy="882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458200" y="2903400"/>
            <a:ext cx="0" cy="982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001000" y="3886200"/>
            <a:ext cx="878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/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86200" y="2792520"/>
            <a:ext cx="118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to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3270240" y="1670040"/>
            <a:ext cx="577800" cy="1758960"/>
            <a:chOff x="3270240" y="1670040"/>
            <a:chExt cx="577800" cy="1758960"/>
          </a:xfrm>
        </p:grpSpPr>
        <p:sp>
          <p:nvSpPr>
            <p:cNvPr id="108" name=""/>
            <p:cNvSpPr/>
            <p:nvPr/>
          </p:nvSpPr>
          <p:spPr>
            <a:xfrm>
              <a:off x="3581280" y="1989000"/>
              <a:ext cx="0" cy="144000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3270240" y="1670040"/>
              <a:ext cx="577800" cy="299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0000"/>
                  </a:solidFill>
                  <a:latin typeface="Arial Narrow"/>
                  <a:ea typeface="Arial Narrow"/>
                </a:rPr>
                <a:t>Tod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RF WG - 11/9/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79520" y="3406680"/>
            <a:ext cx="7078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124000" y="2720880"/>
            <a:ext cx="79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629320" y="2720880"/>
            <a:ext cx="79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3056040"/>
            <a:ext cx="0" cy="677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10160" y="333864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62600" y="333864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15040" y="333864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67480" y="333864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19920" y="333864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72360" y="333864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24800" y="333864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77240" y="333864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458120" y="333864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810560" y="333864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63000" y="333864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333864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09840" y="333864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62280" y="333864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43160" y="333864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95600" y="333864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48040" y="333864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333864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752480" y="3048120"/>
            <a:ext cx="28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133720" y="3048120"/>
            <a:ext cx="28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438280" y="3048120"/>
            <a:ext cx="318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819520" y="3048120"/>
            <a:ext cx="318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00400" y="30481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581280" y="304812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962520" y="304812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343400" y="3048120"/>
            <a:ext cx="28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648320" y="3048120"/>
            <a:ext cx="307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029200" y="3048120"/>
            <a:ext cx="353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410080" y="3048120"/>
            <a:ext cx="318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715000" y="3048120"/>
            <a:ext cx="353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095880" y="3048120"/>
            <a:ext cx="28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400800" y="3048120"/>
            <a:ext cx="28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781680" y="3025800"/>
            <a:ext cx="27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086600" y="3048120"/>
            <a:ext cx="318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467480" y="30481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848720" y="304812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108320" y="2428920"/>
            <a:ext cx="1077840" cy="299880"/>
          </a:xfrm>
          <a:prstGeom prst="rect">
            <a:avLst/>
          </a:prstGeom>
          <a:solidFill>
            <a:srgbClr val="00ff00">
              <a:alpha val="50000"/>
            </a:srgbClr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+ Rev 1.0 sp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327640" y="2124000"/>
            <a:ext cx="1279440" cy="299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First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517760" y="2127240"/>
            <a:ext cx="1077840" cy="299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+ Rev 0.5 sp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81080" y="2449440"/>
            <a:ext cx="0" cy="297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2674800"/>
            <a:ext cx="0" cy="449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19720" y="2751120"/>
            <a:ext cx="0" cy="297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265720" y="2446200"/>
            <a:ext cx="525600" cy="601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498840" y="2124000"/>
            <a:ext cx="1077840" cy="29988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+ Rev 0.9 sp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05320" y="2446200"/>
            <a:ext cx="0" cy="677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813040" y="2428920"/>
            <a:ext cx="1077840" cy="29988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+ Rev 0.7 sp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699240" y="2127240"/>
            <a:ext cx="1058760" cy="299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First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467480" y="2446200"/>
            <a:ext cx="0" cy="601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3270240" y="1670040"/>
            <a:ext cx="577800" cy="1758960"/>
            <a:chOff x="3270240" y="1670040"/>
            <a:chExt cx="577800" cy="1758960"/>
          </a:xfrm>
        </p:grpSpPr>
        <p:sp>
          <p:nvSpPr>
            <p:cNvPr id="164" name=""/>
            <p:cNvSpPr/>
            <p:nvPr/>
          </p:nvSpPr>
          <p:spPr>
            <a:xfrm>
              <a:off x="3581280" y="1989000"/>
              <a:ext cx="0" cy="144000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3270240" y="1670040"/>
              <a:ext cx="577800" cy="299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0000"/>
                  </a:solidFill>
                  <a:latin typeface="Arial Narrow"/>
                  <a:ea typeface="Arial Narrow"/>
                </a:rPr>
                <a:t>Tod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tooth SIG - 11/9/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79520" y="3406680"/>
            <a:ext cx="7078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124000" y="2720880"/>
            <a:ext cx="79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629320" y="2720880"/>
            <a:ext cx="79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67080" y="3056040"/>
            <a:ext cx="0" cy="677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10160" y="333864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962600" y="333864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15040" y="333864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67480" y="333864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19920" y="333864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72360" y="333864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24800" y="333864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077240" y="333864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458120" y="333864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10560" y="333864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163000" y="333864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333864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09840" y="333864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62280" y="333864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43160" y="333864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495600" y="333864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48040" y="333864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76520" y="333864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752480" y="3048120"/>
            <a:ext cx="28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133720" y="3048120"/>
            <a:ext cx="28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438280" y="3048120"/>
            <a:ext cx="318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819520" y="3048120"/>
            <a:ext cx="318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200400" y="30481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81280" y="304812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962520" y="304812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343400" y="3048120"/>
            <a:ext cx="28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648320" y="3048120"/>
            <a:ext cx="307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029200" y="3048120"/>
            <a:ext cx="353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410080" y="3048120"/>
            <a:ext cx="318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715000" y="3048120"/>
            <a:ext cx="353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095880" y="3048120"/>
            <a:ext cx="28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400800" y="3048120"/>
            <a:ext cx="28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781680" y="3025800"/>
            <a:ext cx="27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7086600" y="3048120"/>
            <a:ext cx="318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7467480" y="30481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848720" y="304812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136520" y="3952800"/>
            <a:ext cx="1149480" cy="482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Comprehen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Spec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746360" y="4638600"/>
            <a:ext cx="2027160" cy="847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+ Draft Notebook design gu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- Module defi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- Layout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- FCC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660760" y="3879720"/>
            <a:ext cx="1308240" cy="665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+ Training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+ Design gu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+ Match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498840" y="2124000"/>
            <a:ext cx="1077840" cy="29988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+ Rev 0.8 sp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184640" y="4641840"/>
            <a:ext cx="1612800" cy="665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+ Beta module (100’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+ Beta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+ Design gu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27640" y="2124000"/>
            <a:ext cx="1131840" cy="482760"/>
          </a:xfrm>
          <a:prstGeom prst="rect">
            <a:avLst/>
          </a:prstGeom>
          <a:solidFill>
            <a:srgbClr val="00ff00">
              <a:alpha val="50000"/>
            </a:srgbClr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+ Rev 1.0 sp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+ Public lau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556240" y="3876840"/>
            <a:ext cx="1703520" cy="482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+ Final hardware (1000’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+ Gold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050920" y="2124000"/>
            <a:ext cx="1077840" cy="299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+ Rev 0.6 sp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813040" y="2432160"/>
            <a:ext cx="1077840" cy="29988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+ Rev 0.7 sp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828800" y="3510000"/>
            <a:ext cx="0" cy="449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14600" y="3814920"/>
            <a:ext cx="0" cy="830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519280" y="3510000"/>
            <a:ext cx="220680" cy="297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3276720" y="3510000"/>
            <a:ext cx="0" cy="372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032360" y="3876840"/>
            <a:ext cx="1273320" cy="665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Prototype 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for eval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(10’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343400" y="3510000"/>
            <a:ext cx="0" cy="372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5410080" y="3814920"/>
            <a:ext cx="0" cy="830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110200" y="3510000"/>
            <a:ext cx="297000" cy="297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095880" y="3510000"/>
            <a:ext cx="0" cy="372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90920" y="2446200"/>
            <a:ext cx="0" cy="297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52680" y="2751120"/>
            <a:ext cx="0" cy="449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91120" y="2446200"/>
            <a:ext cx="0" cy="677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00600" y="2751120"/>
            <a:ext cx="0" cy="297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5265720" y="2598840"/>
            <a:ext cx="372960" cy="449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5880" y="4876920"/>
            <a:ext cx="28432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 3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 v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 4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 v0.7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 5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 v0.8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 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 v0.9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 1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 v1.0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 24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Requirement spec1.0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 4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specv0.9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 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specv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108320" y="2428920"/>
            <a:ext cx="1077840" cy="29988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+ Rev 0.9 sp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SG 11/9/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79520" y="3406680"/>
            <a:ext cx="7078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124000" y="2720880"/>
            <a:ext cx="79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629320" y="2720880"/>
            <a:ext cx="79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10160" y="333864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62600" y="333864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15040" y="333864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667480" y="333864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019920" y="333864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72360" y="333864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724800" y="333864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77240" y="333864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458120" y="333864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810560" y="333864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163000" y="333864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057400" y="333864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09840" y="333864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62280" y="333864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143160" y="333864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495600" y="333864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48040" y="333864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76520" y="333864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752480" y="3048120"/>
            <a:ext cx="28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133720" y="3048120"/>
            <a:ext cx="28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438280" y="3048120"/>
            <a:ext cx="318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819520" y="3048120"/>
            <a:ext cx="318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200400" y="30481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581280" y="304812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62520" y="304812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343400" y="3048120"/>
            <a:ext cx="28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648320" y="3048120"/>
            <a:ext cx="307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5029200" y="3048120"/>
            <a:ext cx="353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410080" y="3048120"/>
            <a:ext cx="318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715000" y="3048120"/>
            <a:ext cx="353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095880" y="3048120"/>
            <a:ext cx="28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400800" y="3048120"/>
            <a:ext cx="285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781680" y="3025800"/>
            <a:ext cx="27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7086600" y="3048120"/>
            <a:ext cx="318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7467480" y="3048120"/>
            <a:ext cx="343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7848720" y="304812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267080" y="3056040"/>
            <a:ext cx="0" cy="677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289160" y="3956040"/>
            <a:ext cx="809640" cy="482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Irving, T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5/19-21/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523880" y="3513240"/>
            <a:ext cx="0" cy="449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289160" y="5022720"/>
            <a:ext cx="892080" cy="482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LaJolla, 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7/6-10/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2133720" y="3586320"/>
            <a:ext cx="0" cy="1439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2508120" y="4489560"/>
            <a:ext cx="1015920" cy="482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Westford, 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9/14-18/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971800" y="3586320"/>
            <a:ext cx="0" cy="906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0" y="3962520"/>
            <a:ext cx="1095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im S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0" y="4495680"/>
            <a:ext cx="1174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im W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0" y="5029200"/>
            <a:ext cx="806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n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889360" y="5022720"/>
            <a:ext cx="1246320" cy="482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Albuquerque,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11/9-13/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581280" y="3584520"/>
            <a:ext cx="0" cy="1440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3270240" y="1670040"/>
            <a:ext cx="577800" cy="1758960"/>
            <a:chOff x="3270240" y="1670040"/>
            <a:chExt cx="577800" cy="1758960"/>
          </a:xfrm>
        </p:grpSpPr>
        <p:sp>
          <p:nvSpPr>
            <p:cNvPr id="285" name=""/>
            <p:cNvSpPr/>
            <p:nvPr/>
          </p:nvSpPr>
          <p:spPr>
            <a:xfrm>
              <a:off x="3581280" y="1989000"/>
              <a:ext cx="0" cy="144000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 txBox="1"/>
            <p:nvPr/>
          </p:nvSpPr>
          <p:spPr>
            <a:xfrm>
              <a:off x="3270240" y="1670040"/>
              <a:ext cx="577800" cy="299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ff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0000"/>
                  </a:solidFill>
                  <a:latin typeface="Arial Narrow"/>
                  <a:ea typeface="Arial Narrow"/>
                </a:rPr>
                <a:t>Tod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1295280" y="2286000"/>
            <a:ext cx="763920" cy="687600"/>
            <a:chOff x="1295280" y="2286000"/>
            <a:chExt cx="763920" cy="687600"/>
          </a:xfrm>
        </p:grpSpPr>
        <p:sp>
          <p:nvSpPr>
            <p:cNvPr id="288" name=""/>
            <p:cNvSpPr/>
            <p:nvPr/>
          </p:nvSpPr>
          <p:spPr>
            <a:xfrm>
              <a:off x="1295280" y="2286000"/>
              <a:ext cx="763920" cy="687600"/>
            </a:xfrm>
            <a:custGeom>
              <a:avLst/>
              <a:gdLst/>
              <a:ahLst/>
              <a:rect l="0" t="0" r="r" b="b"/>
              <a:pathLst>
                <a:path w="2122" h="1910">
                  <a:moveTo>
                    <a:pt x="0" y="0"/>
                  </a:moveTo>
                  <a:lnTo>
                    <a:pt x="2122" y="0"/>
                  </a:lnTo>
                  <a:lnTo>
                    <a:pt x="2122" y="1273"/>
                  </a:lnTo>
                  <a:lnTo>
                    <a:pt x="1326" y="1273"/>
                  </a:lnTo>
                  <a:lnTo>
                    <a:pt x="1326" y="1592"/>
                  </a:lnTo>
                  <a:lnTo>
                    <a:pt x="1591" y="1592"/>
                  </a:lnTo>
                  <a:lnTo>
                    <a:pt x="1060" y="1910"/>
                  </a:lnTo>
                  <a:lnTo>
                    <a:pt x="530" y="1592"/>
                  </a:lnTo>
                  <a:lnTo>
                    <a:pt x="795" y="1592"/>
                  </a:lnTo>
                  <a:lnTo>
                    <a:pt x="795" y="1273"/>
                  </a:lnTo>
                  <a:lnTo>
                    <a:pt x="0" y="12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 txBox="1"/>
            <p:nvPr/>
          </p:nvSpPr>
          <p:spPr>
            <a:xfrm>
              <a:off x="1392120" y="2336760"/>
              <a:ext cx="568440" cy="526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PAR &amp; 5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6/3/9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7620120" y="2133720"/>
            <a:ext cx="763920" cy="916200"/>
            <a:chOff x="7620120" y="2133720"/>
            <a:chExt cx="763920" cy="916200"/>
          </a:xfrm>
        </p:grpSpPr>
        <p:sp>
          <p:nvSpPr>
            <p:cNvPr id="291" name=""/>
            <p:cNvSpPr/>
            <p:nvPr/>
          </p:nvSpPr>
          <p:spPr>
            <a:xfrm>
              <a:off x="7620120" y="2133720"/>
              <a:ext cx="763920" cy="916200"/>
            </a:xfrm>
            <a:custGeom>
              <a:avLst/>
              <a:gdLst/>
              <a:ahLst/>
              <a:rect l="0" t="0" r="r" b="b"/>
              <a:pathLst>
                <a:path w="2122" h="2545">
                  <a:moveTo>
                    <a:pt x="0" y="0"/>
                  </a:moveTo>
                  <a:lnTo>
                    <a:pt x="2122" y="0"/>
                  </a:lnTo>
                  <a:lnTo>
                    <a:pt x="2122" y="1697"/>
                  </a:lnTo>
                  <a:lnTo>
                    <a:pt x="1326" y="1697"/>
                  </a:lnTo>
                  <a:lnTo>
                    <a:pt x="1326" y="2121"/>
                  </a:lnTo>
                  <a:lnTo>
                    <a:pt x="1591" y="2121"/>
                  </a:lnTo>
                  <a:lnTo>
                    <a:pt x="1060" y="2545"/>
                  </a:lnTo>
                  <a:lnTo>
                    <a:pt x="530" y="2121"/>
                  </a:lnTo>
                  <a:lnTo>
                    <a:pt x="795" y="2121"/>
                  </a:lnTo>
                  <a:lnTo>
                    <a:pt x="795" y="1697"/>
                  </a:lnTo>
                  <a:lnTo>
                    <a:pt x="0" y="16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 txBox="1"/>
            <p:nvPr/>
          </p:nvSpPr>
          <p:spPr>
            <a:xfrm>
              <a:off x="7716960" y="2184480"/>
              <a:ext cx="5684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Unapprov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raf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11/9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7620120" y="762120"/>
            <a:ext cx="763920" cy="1144800"/>
            <a:chOff x="7620120" y="762120"/>
            <a:chExt cx="763920" cy="1144800"/>
          </a:xfrm>
        </p:grpSpPr>
        <p:sp>
          <p:nvSpPr>
            <p:cNvPr id="294" name=""/>
            <p:cNvSpPr/>
            <p:nvPr/>
          </p:nvSpPr>
          <p:spPr>
            <a:xfrm>
              <a:off x="7620120" y="762120"/>
              <a:ext cx="763920" cy="1144800"/>
            </a:xfrm>
            <a:custGeom>
              <a:avLst/>
              <a:gdLst/>
              <a:ahLst/>
              <a:rect l="0" t="0" r="r" b="b"/>
              <a:pathLst>
                <a:path w="2122" h="3180">
                  <a:moveTo>
                    <a:pt x="0" y="0"/>
                  </a:moveTo>
                  <a:lnTo>
                    <a:pt x="2122" y="0"/>
                  </a:lnTo>
                  <a:lnTo>
                    <a:pt x="2122" y="2120"/>
                  </a:lnTo>
                  <a:lnTo>
                    <a:pt x="1326" y="2120"/>
                  </a:lnTo>
                  <a:lnTo>
                    <a:pt x="1326" y="2650"/>
                  </a:lnTo>
                  <a:lnTo>
                    <a:pt x="1591" y="2650"/>
                  </a:lnTo>
                  <a:lnTo>
                    <a:pt x="1060" y="3180"/>
                  </a:lnTo>
                  <a:lnTo>
                    <a:pt x="530" y="2650"/>
                  </a:lnTo>
                  <a:lnTo>
                    <a:pt x="795" y="2650"/>
                  </a:lnTo>
                  <a:lnTo>
                    <a:pt x="795" y="2120"/>
                  </a:lnTo>
                  <a:lnTo>
                    <a:pt x="0" y="2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 txBox="1"/>
            <p:nvPr/>
          </p:nvSpPr>
          <p:spPr>
            <a:xfrm>
              <a:off x="7716960" y="812880"/>
              <a:ext cx="568440" cy="10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802.11 W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rov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raf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5/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8381880" y="762120"/>
            <a:ext cx="763920" cy="1144800"/>
            <a:chOff x="8381880" y="762120"/>
            <a:chExt cx="763920" cy="1144800"/>
          </a:xfrm>
        </p:grpSpPr>
        <p:sp>
          <p:nvSpPr>
            <p:cNvPr id="297" name=""/>
            <p:cNvSpPr/>
            <p:nvPr/>
          </p:nvSpPr>
          <p:spPr>
            <a:xfrm>
              <a:off x="8381880" y="762120"/>
              <a:ext cx="763920" cy="1144800"/>
            </a:xfrm>
            <a:custGeom>
              <a:avLst/>
              <a:gdLst/>
              <a:ahLst/>
              <a:rect l="0" t="0" r="r" b="b"/>
              <a:pathLst>
                <a:path w="2122" h="3180">
                  <a:moveTo>
                    <a:pt x="0" y="0"/>
                  </a:moveTo>
                  <a:lnTo>
                    <a:pt x="2122" y="0"/>
                  </a:lnTo>
                  <a:lnTo>
                    <a:pt x="2122" y="2120"/>
                  </a:lnTo>
                  <a:lnTo>
                    <a:pt x="1326" y="2120"/>
                  </a:lnTo>
                  <a:lnTo>
                    <a:pt x="1326" y="2650"/>
                  </a:lnTo>
                  <a:lnTo>
                    <a:pt x="1591" y="2650"/>
                  </a:lnTo>
                  <a:lnTo>
                    <a:pt x="1060" y="3180"/>
                  </a:lnTo>
                  <a:lnTo>
                    <a:pt x="530" y="2650"/>
                  </a:lnTo>
                  <a:lnTo>
                    <a:pt x="795" y="2650"/>
                  </a:lnTo>
                  <a:lnTo>
                    <a:pt x="795" y="2120"/>
                  </a:lnTo>
                  <a:lnTo>
                    <a:pt x="0" y="2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 txBox="1"/>
            <p:nvPr/>
          </p:nvSpPr>
          <p:spPr>
            <a:xfrm>
              <a:off x="8478720" y="812880"/>
              <a:ext cx="568440" cy="10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IEEE SA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rov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raf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11/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 txBox="1"/>
          <p:nvPr/>
        </p:nvSpPr>
        <p:spPr>
          <a:xfrm>
            <a:off x="4489560" y="5022720"/>
            <a:ext cx="828720" cy="482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Austin, T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3/7-12/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105520" y="3586320"/>
            <a:ext cx="0" cy="1439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861160" y="5022720"/>
            <a:ext cx="731880" cy="482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Mont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7/4-9/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6477120" y="3586320"/>
            <a:ext cx="0" cy="1439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7385040" y="5022720"/>
            <a:ext cx="809640" cy="482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Koloa, 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11/7-12/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8001000" y="3586320"/>
            <a:ext cx="0" cy="1439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065320" y="2286000"/>
            <a:ext cx="3499200" cy="687600"/>
            <a:chOff x="2065320" y="2286000"/>
            <a:chExt cx="3499200" cy="687600"/>
          </a:xfrm>
        </p:grpSpPr>
        <p:sp>
          <p:nvSpPr>
            <p:cNvPr id="306" name=""/>
            <p:cNvSpPr/>
            <p:nvPr/>
          </p:nvSpPr>
          <p:spPr>
            <a:xfrm>
              <a:off x="4800600" y="2286000"/>
              <a:ext cx="763920" cy="687600"/>
            </a:xfrm>
            <a:custGeom>
              <a:avLst/>
              <a:gdLst/>
              <a:ahLst/>
              <a:rect l="0" t="0" r="r" b="b"/>
              <a:pathLst>
                <a:path w="2122" h="1910">
                  <a:moveTo>
                    <a:pt x="0" y="0"/>
                  </a:moveTo>
                  <a:lnTo>
                    <a:pt x="2122" y="0"/>
                  </a:lnTo>
                  <a:lnTo>
                    <a:pt x="2122" y="1273"/>
                  </a:lnTo>
                  <a:lnTo>
                    <a:pt x="1326" y="1273"/>
                  </a:lnTo>
                  <a:lnTo>
                    <a:pt x="1326" y="1592"/>
                  </a:lnTo>
                  <a:lnTo>
                    <a:pt x="1591" y="1592"/>
                  </a:lnTo>
                  <a:lnTo>
                    <a:pt x="1060" y="1910"/>
                  </a:lnTo>
                  <a:lnTo>
                    <a:pt x="530" y="1592"/>
                  </a:lnTo>
                  <a:lnTo>
                    <a:pt x="795" y="1592"/>
                  </a:lnTo>
                  <a:lnTo>
                    <a:pt x="795" y="1273"/>
                  </a:lnTo>
                  <a:lnTo>
                    <a:pt x="0" y="12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3333cc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 txBox="1"/>
            <p:nvPr/>
          </p:nvSpPr>
          <p:spPr>
            <a:xfrm>
              <a:off x="4897440" y="2336760"/>
              <a:ext cx="568440" cy="526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3333cc"/>
                  </a:solidFill>
                  <a:latin typeface="Arial Narrow"/>
                  <a:ea typeface="Arial Narrow"/>
                </a:rPr>
                <a:t>PAR &amp; 5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3333cc"/>
                  </a:solidFill>
                  <a:latin typeface="Arial Narrow"/>
                  <a:ea typeface="Arial Narrow"/>
                </a:rPr>
                <a:t>2/9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65320" y="2438280"/>
              <a:ext cx="2735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 flipV="1">
            <a:off x="3429000" y="3513240"/>
            <a:ext cx="0" cy="449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193920" y="3956040"/>
            <a:ext cx="890640" cy="48276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Atlanta, 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Arial Narrow"/>
              </a:rPr>
              <a:t>10/26/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an Gifford</dc:creator>
  <dc:description>Ian Gifford, M/A-COM</dc:description>
  <dc:language>en-US</dc:language>
  <cp:lastModifiedBy>Ian C. Gifford</cp:lastModifiedBy>
  <cp:revision>0</cp:revision>
  <dc:subject>Submission</dc:subject>
  <dc:title>doc.: IEEE 802.11-98/359</dc:title>
</cp:coreProperties>
</file>