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52D-62DD-47A3-B5F2-2868DD96B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D82-B447-430B-B9AD-AA2CBB71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88C-6FE1-4BE8-8A6B-5E77D29D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2D0-DD18-4ADA-AE95-40DDDD5F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F76-7CAC-4B2D-933E-7E1EFB55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E7AF-CBBB-4D8D-975B-330C8CF4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364D-366A-46F2-9AF9-D72CA2EB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AB5B-F02B-40C8-920D-47DEA3F4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9EC-B447-4D13-8B77-406C4C9C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8CB-E791-4EF2-88B7-7952DDEC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ABA-5D63-4627-A207-20C5CFDD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2D2-8101-495E-A1F7-5C53F21C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18160" indent="-218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960" indent="-2214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777960" indent="-111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999360" indent="-1083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217880" indent="-105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217880" indent="-105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217880" indent="-105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76760"/>
            <a:ext cx="3124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4BA6CA3-9762-4C62-A984-1C2E84221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3720" y="609480"/>
            <a:ext cx="776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93720" y="6477120"/>
            <a:ext cx="784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Working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 Liaison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1359000" cy="1084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9EB-E926-47AE-A09D-632001A1853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Lite’s Mission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2286000"/>
            <a:ext cx="69343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bring about the existence of a broad range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operable consumer de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establishing open industry specifications for unlicensed, untether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pheral, control and entertainment devi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quiring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west cost and lowest power consum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unications between compliant devic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ywhere in and around the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BB4-8890-41E4-8BEC-27FC5604DE9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Lite MRD 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13840" indent="-21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ion of Mission Statement by Subcommitte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ion of Mission Statement for review by Steering Committee by 10/12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of Mission Statement by Steering Committee by 10/19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Pass of MRD expected to be ready for distribution by 11/9 (Rev 0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3840" indent="-21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P-Lite Subcommittee meeting to review MRD at Com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1800" indent="-217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 is 11/19 at the Flamingo Hilton Ho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F99A-ACB3-427C-A0E8-6E27DB412C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RD Timeline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0680" indent="-220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Pass of MRD expected to be ready for distribution by 12/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223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95 Technical meeting in early Dec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ion of MRD by HomeRF-Lite subcommittee prior to Full WG meeting expected to occur in February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8720" indent="-2239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ssion to HomeRF reflector 2 weeks prior to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to HomeRF WG for review in February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of Technical Specification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9F7F-CDE0-44F8-877D-FE2E1D687ED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ission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nable the existence of a broad range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operable consumer dev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establishing 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 industry specif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unlicensed RF digital communications for PCs and consumer devic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ywhere, in and around the h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D563-162F-48EC-B57B-3917136D4F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bership Ros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vanced Micro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ironet Wireless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ps Electric Co.,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oadcom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terfly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io Computer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sco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aq Computer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ricsson Enterprise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jitsu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2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ris Semicon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siden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l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nsai Electric Co.,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G Electronic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sushita Electric Industrial Co. (Panason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29720" y="1413000"/>
            <a:ext cx="401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Updated November 11, 199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B90-48B5-4189-B4C2-D2F123D297C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ber Roster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tsubishi Electric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tor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ional Semicondu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C Corp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t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ki Electric Industry Co.,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hilips Consumer Communications (P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max Electronics,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x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F Monolithic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ckwell Semiconductor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sung Electronic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reWave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rp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eme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licon Wave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mbio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ymbol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as Instr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G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FB75-1732-4740-B983-9008BBF8829B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er America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alog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rkeley Concept Research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rrus Logic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amond Multi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pson Research &amp; Development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lobal Converging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neywell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ustrial Technology &amp; Research Institute (IT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val Research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-O Data Device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eady Cor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nda Tsushin Kogyo Co.,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vel One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DC Commun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sitis Software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ytheon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F Micro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wtek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.Megga Telecommunications L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ilog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00000" y="1413000"/>
            <a:ext cx="3691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1 NEW Members Added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038D-6F64-4B49-B423-F593C5773792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ime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51040" y="3970440"/>
            <a:ext cx="7823160" cy="372960"/>
            <a:chOff x="851040" y="3970440"/>
            <a:chExt cx="7823160" cy="372960"/>
          </a:xfrm>
        </p:grpSpPr>
        <p:sp>
          <p:nvSpPr>
            <p:cNvPr id="63" name=""/>
            <p:cNvSpPr/>
            <p:nvPr/>
          </p:nvSpPr>
          <p:spPr>
            <a:xfrm>
              <a:off x="851040" y="3975120"/>
              <a:ext cx="782316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00600" y="397044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58000" y="397044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397044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28600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8772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3000000">
            <a:off x="2039400" y="4930200"/>
            <a:ext cx="144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unch  3/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44240" y="1391760"/>
            <a:ext cx="8229960" cy="2036160"/>
            <a:chOff x="444240" y="1391760"/>
            <a:chExt cx="8229960" cy="2036160"/>
          </a:xfrm>
        </p:grpSpPr>
        <p:sp>
          <p:nvSpPr>
            <p:cNvPr id="73" name=""/>
            <p:cNvSpPr/>
            <p:nvPr/>
          </p:nvSpPr>
          <p:spPr>
            <a:xfrm>
              <a:off x="469800" y="3022560"/>
              <a:ext cx="8204400" cy="355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00600" y="3017880"/>
              <a:ext cx="144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58000" y="3017880"/>
              <a:ext cx="144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43200" y="3017880"/>
              <a:ext cx="144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55600" y="2973240"/>
              <a:ext cx="1117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0400" y="2973240"/>
              <a:ext cx="1117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13000" y="2973240"/>
              <a:ext cx="1117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75520" y="2973240"/>
              <a:ext cx="1117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9080000">
              <a:off x="1455480" y="2374560"/>
              <a:ext cx="70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792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948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4832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3412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1460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0040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8080" y="3017880"/>
              <a:ext cx="0" cy="372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9080000">
              <a:off x="380880" y="21333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st Me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9080000">
              <a:off x="2309400" y="1976040"/>
              <a:ext cx="1870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WAP Selec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9080000">
              <a:off x="3067920" y="2334960"/>
              <a:ext cx="995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u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9080000">
              <a:off x="5073120" y="2004480"/>
              <a:ext cx="1972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Arial"/>
                </a:rPr>
                <a:t>1st Compon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9080000">
              <a:off x="6365520" y="2165040"/>
              <a:ext cx="1565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Arial"/>
                </a:rPr>
                <a:t>1st Produ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9080000">
              <a:off x="4576320" y="2111400"/>
              <a:ext cx="141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WAP R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53080" y="2865600"/>
              <a:ext cx="0" cy="14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 flipH="1">
            <a:off x="846000" y="3398760"/>
            <a:ext cx="1897200" cy="5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9960" y="3398760"/>
            <a:ext cx="3876840" cy="56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5320" y="396684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03080" y="396684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27160" y="396684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32280" y="396684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3000000">
            <a:off x="2382480" y="4830120"/>
            <a:ext cx="123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0.1  3/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3000000">
            <a:off x="3446280" y="5236200"/>
            <a:ext cx="2351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. Seminars  6/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3000000">
            <a:off x="4312800" y="4794840"/>
            <a:ext cx="1170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0.5 6/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3000000">
            <a:off x="7153200" y="4837680"/>
            <a:ext cx="1361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0.9  10/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4344840"/>
            <a:ext cx="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308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9568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56764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4363920"/>
            <a:ext cx="0" cy="14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3000000">
            <a:off x="6128640" y="4874400"/>
            <a:ext cx="1234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0.7  9/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3000000">
            <a:off x="6306840" y="5258520"/>
            <a:ext cx="228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. Seminars 9/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3000000">
            <a:off x="8231400" y="4537080"/>
            <a:ext cx="879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/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4351320"/>
            <a:ext cx="0" cy="144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C04-8842-4176-A1A0-5E45059B592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Response to W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00520" indent="-200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omeRF WG recently granted to a select number of individuals of the IEEE 802.11 WPAN SG the ability to review in full technical detail revision 0.9 of the SWAP-CA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0520" indent="-200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ddition, there has been a request to inform the SG of the activities of the emerging HomeRF Lite sub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08320" indent="-203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 meeting is November 20, 1998 at the Flamingo Hilton Hotel in Las Ve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31DB-9960-4B8F-8977-5886994D31F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PAN’s Review 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18160" indent="-218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llowing WPAN SG members have volunteered to review the SWAP-CA rev. 0.9 specification for applicability to WP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960" indent="-221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uce Kraemer - Harris Semicondu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960" indent="-221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an Gifford - 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960" indent="-221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ve Shellhammer - Symbol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960" indent="-221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b O’Hara - Informed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2960" indent="-2214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 Blaney - Commcepts (liais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2E22-E562-4611-8DD3-9E91D7C089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r>
              <a:rPr b="0" lang="en-US" sz="3200" spc="-1" strike="noStrike" baseline="72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05200" indent="-205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omeRF WG is interested in continuing the open dialogue with the WPAN SG, in particular with the emerging HomeRF Lite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5200" indent="-205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G is open to investigating the possibility of the WPAN SG “standardizing” a version of their SWAP-CA implementation, or the emerging HomeRF Lite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5200" indent="-205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back from the SG’s review of the specification will be presented to the WG at their next steering committe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Blaney, Commcep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C66F-7CE7-4F53-A7DD-BBA8660FA8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1T01:32:44Z</dcterms:created>
  <dc:creator>Tim Blaney</dc:creator>
  <dc:description>Tim Blaney, Commcepts</dc:description>
  <cp:keywords>November 1998</cp:keywords>
  <dc:language>en-US</dc:language>
  <cp:lastModifiedBy>The Boeing Company</cp:lastModifiedBy>
  <cp:lastPrinted>1998-09-11T18:06:47Z</cp:lastPrinted>
  <dcterms:modified xsi:type="dcterms:W3CDTF">1998-11-13T07:23:54Z</dcterms:modified>
  <cp:revision>55</cp:revision>
  <dc:subject>Submission</dc:subject>
  <dc:title>doc.: IEEE 802.11-98/360</dc:title>
</cp:coreProperties>
</file>