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396720"/>
            <a:ext cx="39625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36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9040" y="609480"/>
            <a:ext cx="776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9040" y="6477120"/>
            <a:ext cx="784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Personal Area Networ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ing Group Thursday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um Interoperability Continu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1527120"/>
            <a:ext cx="0" cy="456876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622840" y="4556160"/>
            <a:ext cx="3363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 White noi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699160" y="1660680"/>
            <a:ext cx="3135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802.11 Comp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5240" y="2819520"/>
            <a:ext cx="4187880" cy="0"/>
          </a:xfrm>
          <a:prstGeom prst="line">
            <a:avLst/>
          </a:prstGeom>
          <a:ln w="12600">
            <a:solidFill>
              <a:srgbClr val="00cc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165640" y="2575080"/>
            <a:ext cx="3016080" cy="48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cc99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able to 802.11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03840" y="3886200"/>
            <a:ext cx="4187880" cy="0"/>
          </a:xfrm>
          <a:prstGeom prst="line">
            <a:avLst/>
          </a:prstGeom>
          <a:ln w="12600">
            <a:solidFill>
              <a:srgbClr val="00cc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94240" y="3641760"/>
            <a:ext cx="2444760" cy="48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cc99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proposal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46640" y="4800600"/>
            <a:ext cx="12160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70320" y="1911240"/>
            <a:ext cx="1292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622840" y="5470560"/>
            <a:ext cx="313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Destructive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46640" y="5715000"/>
            <a:ext cx="1216080" cy="0"/>
          </a:xfrm>
          <a:prstGeom prst="line">
            <a:avLst/>
          </a:prstGeom>
          <a:ln w="12600">
            <a:solidFill>
              <a:srgbClr val="ff0033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622840" y="5716440"/>
            <a:ext cx="3032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Significant degra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19520" y="1984320"/>
            <a:ext cx="0" cy="1673280"/>
          </a:xfrm>
          <a:prstGeom prst="line">
            <a:avLst/>
          </a:prstGeom>
          <a:ln w="12600">
            <a:solidFill>
              <a:srgbClr val="ff33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1984320"/>
            <a:ext cx="0" cy="296856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5108400"/>
            <a:ext cx="0" cy="1140120"/>
          </a:xfrm>
          <a:prstGeom prst="line">
            <a:avLst/>
          </a:prstGeom>
          <a:ln w="12600">
            <a:solidFill>
              <a:srgbClr val="3333cc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36440" y="3413160"/>
            <a:ext cx="16383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exis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677960" y="2428920"/>
            <a:ext cx="219852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2400" spc="-1" strike="noStrike">
                <a:solidFill>
                  <a:srgbClr val="ff33ff"/>
                </a:solidFill>
                <a:latin typeface="Times New Roman"/>
                <a:ea typeface="Times New Roman"/>
              </a:rPr>
              <a:t>interope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33ff"/>
                </a:solidFill>
                <a:latin typeface="Times New Roman"/>
                <a:ea typeface="Times New Roman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0480" y="5394240"/>
            <a:ext cx="17557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95680" y="1908000"/>
            <a:ext cx="0" cy="1673280"/>
          </a:xfrm>
          <a:prstGeom prst="line">
            <a:avLst/>
          </a:prstGeom>
          <a:ln w="38160">
            <a:solidFill>
              <a:srgbClr val="00cc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3203640"/>
            <a:ext cx="0" cy="1368360"/>
          </a:xfrm>
          <a:prstGeom prst="line">
            <a:avLst/>
          </a:prstGeom>
          <a:ln w="38160">
            <a:solidFill>
              <a:srgbClr val="00cc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736800"/>
            <a:ext cx="0" cy="12924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125800" y="4002120"/>
            <a:ext cx="1317600" cy="67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iquet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07800" y="5029200"/>
            <a:ext cx="3273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Interoperability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4 - Full Compliance to the 802.11 MAC &amp; PHY 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lass 3 - Compatibility there is a way on the medium to exchange data without an intermediate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2 - Bridge-like (1 MAC/2 PHY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1 - Gateway-like (&gt; 1 M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0 - Non Interope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ob Heile</dc:creator>
  <dc:description>Bob Heile, GTE Internetworking</dc:description>
  <dc:language>en-US</dc:language>
  <cp:lastModifiedBy>Applied Research &amp; Technology</cp:lastModifiedBy>
  <cp:revision>0</cp:revision>
  <dc:subject>doc.: IEEE 802.11-98/364</dc:subject>
  <dc:title>WPAN SG Report to WG</dc:title>
</cp:coreProperties>
</file>