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8620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8800" y="9720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79000" y="701640"/>
            <a:ext cx="4627800" cy="347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24600" cy="417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401800" y="8988120"/>
            <a:ext cx="925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49720" y="89881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4D6A6F-E374-4B58-8EDA-CCCAE6404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0440" y="89884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8640" y="8986680"/>
            <a:ext cx="552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2320" y="297000"/>
            <a:ext cx="568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249720" y="89881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405BC9A-897E-44C1-9B99-BC2774D96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401800" y="8988120"/>
            <a:ext cx="925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8620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58800" y="9720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9280" y="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20840" y="782640"/>
            <a:ext cx="4354560" cy="32655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29880" y="4411440"/>
            <a:ext cx="51246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249720" y="89881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01E8EB4-DA60-4264-9797-50667C1E7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01800" y="8988120"/>
            <a:ext cx="925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8620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58800" y="9720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20840" y="782640"/>
            <a:ext cx="4354560" cy="32655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29880" y="4411440"/>
            <a:ext cx="51246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A39C-5068-4F9A-85E6-57608A21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93E6-2294-4F79-A1A6-E69B9093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813C-F6F6-432E-83C3-1CE6120B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3D4-36F7-4664-B69D-14AEE527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2EA-C387-49CC-A262-C8B3AAB9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AAB2-98DA-45F0-8545-3D90F768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CF44-9EED-4504-A329-D876AE3B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C98-B6A9-44EA-B659-453194BF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D748-678E-4070-B6D4-BDAB5B76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5BCB-43B0-42D6-8D25-93188828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45C5-1198-4AC4-94B3-09A5A26A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1AF6-CCC2-451D-AC09-60FFC0E5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201780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23329F8-9F5D-4FAA-9AC9-525BC61EE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3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1295280"/>
            <a:ext cx="74674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easured Spectra for OFDM Transmission Based on PA Models of BR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386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amshid Khun-Jush </a:t>
            </a:r>
            <a:r>
              <a:rPr b="0" lang="en-GB" sz="2000" spc="-1" strike="noStrike" baseline="52000">
                <a:solidFill>
                  <a:srgbClr val="000000"/>
                </a:solidFill>
                <a:latin typeface="Times New Roman"/>
              </a:rPr>
              <a:t>(*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and Peter Schra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ricsson Eurolab - Nürnbe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baseline="52000">
                <a:solidFill>
                  <a:srgbClr val="000000"/>
                </a:solidFill>
                <a:latin typeface="Times New Roman"/>
              </a:rPr>
              <a:t>(*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o-ordinator of HIPERLAN-2 Standard Area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air of Physical Layer Technical Specification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CDD3-97B2-40AB-9DAE-F3E929A2385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 Models - Class 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90720" y="1905120"/>
          <a:ext cx="2666880" cy="243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05120"/>
                    <a:ext cx="26668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952880" y="1905120"/>
          <a:ext cx="2667240" cy="2438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1905120"/>
                    <a:ext cx="26672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990720" y="5105520"/>
          <a:ext cx="5209920" cy="361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5105520"/>
                    <a:ext cx="520992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952880" y="5105520"/>
          <a:ext cx="5210280" cy="3618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5105520"/>
                    <a:ext cx="521028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F8D1-47E6-42D1-B2E0-CE95EBE859E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379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eband parameters as in IEEE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0 MHz sampling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8 sub-carriers used, no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4 point F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2821-43D6-407C-A933-E0BCA84E39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D for Rapp’s Model (p=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s for decision on channel spacing for IEEE 802.1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fig4IEEE_psd_Rapp2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48640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B4E9-15F7-4143-B618-673F27AEFF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D for Class A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fig4IEEE_psd_A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5623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C5D3-3394-42CC-ADA0-DB2A8723116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SD for Class AB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fig4IEEE_psd_AB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410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B5BD-8573-46FB-8DA5-D802FD1EFCA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773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Rapp’s model with p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istance from the UNII band edges in the order of 28 MHz is needed for a PA OBO of 6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lass AB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than 30 MHz distance from the UNII band edges needed with a PA OBO of 10.5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istance from the HIPERLAN band edges in the order of 22 MHz is needed to fulfil CEPT regulations with a PA OBO of 5.5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lass A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than 30 MHz distance from the UNII band edges needed with a PA OBO of 7.5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istance from the HIPERLAN band edges in the order of 20 MHz is needed to fulfil CEPT regulations with a PA OBO of 5.5 dB. The PA back-off could be relaxed by using 22 MHz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7E17-F165-4FDD-8FA2-A96F9D2AF9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Critical Consid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further results on PA needed before channel spacing is fixed for IEEE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IEEE 802.11 really gain an additional channel by using 18 MHz instead of 20 MHz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an additional channel, what is with the gain in the overall system throughpu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2EB8-AC34-4B88-8E6D-47AACC9EC40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CB93-E6EF-4435-953A-8170E92A13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 Models - Class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90720" y="2209680"/>
          <a:ext cx="274320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27432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562720" y="2209680"/>
          <a:ext cx="2590560" cy="251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2209680"/>
                    <a:ext cx="25905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990720" y="5181480"/>
          <a:ext cx="5209920" cy="362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5181480"/>
                    <a:ext cx="52099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5562720" y="5181480"/>
          <a:ext cx="5209920" cy="3621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5181480"/>
                    <a:ext cx="52099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rics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D4B1-735B-4B3F-B519-B8BCDA41E26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9T23:33:08Z</dcterms:created>
  <dc:creator>Naftali Chayat</dc:creator>
  <dc:description/>
  <dc:language>en-US</dc:language>
  <cp:lastModifiedBy>Naftali Chayat</cp:lastModifiedBy>
  <cp:lastPrinted>1998-11-10T00:09:19Z</cp:lastPrinted>
  <dcterms:modified xsi:type="dcterms:W3CDTF">1998-11-10T00:23:38Z</dcterms:modified>
  <cp:revision>3</cp:revision>
  <dc:subject/>
  <dc:title> Measured Spectra for OFDM Transmission Based on PA Models of BRAN</dc:title>
</cp:coreProperties>
</file>