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8620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8800" y="9720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79000" y="701640"/>
            <a:ext cx="4627800" cy="347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24600" cy="417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401800" y="8988120"/>
            <a:ext cx="925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249720" y="89881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4CF1231-60EB-42E6-9C61-537DED363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0440" y="89884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8640" y="8986680"/>
            <a:ext cx="552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2320" y="297000"/>
            <a:ext cx="568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249720" y="89881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B37B44E-A6FA-4035-907C-657AE00E3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401800" y="8988120"/>
            <a:ext cx="925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68620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58800" y="9720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59280" y="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928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3025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19040" y="782640"/>
            <a:ext cx="4356360" cy="3267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29880" y="4412880"/>
            <a:ext cx="5124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9515-BA34-4C9B-BE76-13E4AD31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E836-C59D-4F79-A609-45D448F5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8A4B-4C94-4BF4-9BC1-1FA49814E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0AF-4E33-4266-9829-D755A427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2E43-A2B2-4027-B518-95AD86D6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6639-9673-40AC-A45F-E495ED58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2ADA-1BD1-4AC1-86F4-84B69549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C3EA-B810-4726-AFD5-087D637D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A316-E21B-4F78-9D74-AD5752DA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1F57-8671-4885-A664-A75F0366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6B2-EBCA-43C4-9A94-E866AC47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A1A-AD97-464F-853C-BBA97E5C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201780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5360" y="6474960"/>
            <a:ext cx="465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54FE64B-C5DB-427F-A1F5-DEE7BEAF4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3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1295280"/>
            <a:ext cx="80010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RAN#11 PHY Decisions &amp; Issues to Resolved with 80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3864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amshid Khun-Ju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ricsson Eurolab - Nürnbe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-ordinator of HIPERLAN-2 Standard Area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hair of Physical Layer Technical Specification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22D3-BC6D-4A29-A32A-3159703A326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s on Carrier Spacing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914040"/>
            <a:ext cx="7774200" cy="492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decision on the sampling rate which determines the bit rate supported in a radio channe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wo different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rate of 20 Msamples/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sults in a reduced adjacent channel interference (A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ight be translated in an increased overall system capac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higher sampling rate (e.g. 22 Msamples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creased instantaneous bit rate in one radio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 algn="just">
              <a:spcBef>
                <a:spcPts val="451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but also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increased ACI that might be translated in degradation of the overall system through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6240" indent="-2034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me mixed frequency products making the RF implementation more com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ide on all issues in the PHY interim meeting in Decemb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12B-AA66-4D1F-808D-AE9123EE6B1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379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isions on Baseb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isions on Carrier Sp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9B8C-27B4-42A7-BABF-BB6B31476CC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6854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s on baseband Parameters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FT siz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4 po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umber of used sub-carri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guard interv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00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b-carrier mod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PSK, QPSK, 16QAM, possibly 8PSK and optionally 64 Q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modulation in sub-carri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h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3583-CF67-49A8-88A9-9E17DCD36D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4944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s on baseband Parameters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E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mandatory convolutional mother code with constraint length 7 and rate 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quired code rates ½, ¾ obtained by punctu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de rate 2/3 will possibly be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de rates 1/3 or ¼ might be needed to provide more protection for short control PDU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code rates shall be selected in such a way that each PDU should be mapped into an integer multiple of OFDM symbols current assumption on data PDU size: 54 by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Optional coding schemes might be added to the specification later (not in the first stag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D2BD-F288-4EA3-8D74-5A1B9AD0CD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s on baseband Parameters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leav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 decide yet, if the interleaving is to be done OFDM symbol wise or PDU wis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ore investigation are needed. To be discussed and maybe decided at the interim meeting of the PHY TS Rapporteur Group on December 1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scillator accurac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+/- 20 p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ectral shap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me approach as IEEE 80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44280" indent="-19872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 time windowing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4280" indent="-19872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nstellation accuracy test specifications in combination with spectral mask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BEE-AB41-405A-B21D-42783C12FA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s on baseband Parameters-4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aining sequ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ree different preambles needed, due to the centralised DLC protocol applied to HIPERLAN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520" indent="-1803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for the beginning of MAC frame could have the same structure as the first part of the training sequence proposed for IEEE 802.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28600" indent="-18036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GC symbol(s), the symbols for coarse frequency and timing estimation and the long symbol for fine frequency offset and channel estima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28600" indent="-18036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 need for the training part SIGNAL, because the signalling of PHY mode will be performed in other part of the protoc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520" indent="-1803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e for each downlink burst and one for each uplink burst could have the same structure as the long symbol T1 in IEEE 802.11 propos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520" indent="-18036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t clea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128600" indent="-18036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ymbols for coarse frequency offset estimation and timing are needed for downlink and uplink bur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28600" indent="-18036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GC symbol(s) in uplink bursts needed if power control is used in uplin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C6A0-6CD6-4D44-87CB-C299D272F7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4944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s on baseband Parameters-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ase tracking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phase tracking scheme is needed due to coherent demodu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need for pilot symbols to perform phase tra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sessment based on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initial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results of some members of the PHY TS Rapporteur Grou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Bu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more results needed to make a final decision (to be discussed at the PHY TS interim meeting in Dece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pilot symbol aided scheme versus a  decision directed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CE56-CC8A-4C2C-9FED-8781893A9AE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4944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s on Carrier Spacing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50 MHz bandwidth currently available in Europe for HIPER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the range 5.15 – 5.3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ess than –33 dBm/100kHz emitted spurious power outside this band is allowed bel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ssuming a transmit power of 200 mW, a 35 dB attenuation necessary at both edges of the HIPERLAN frequency ban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mulation results show that the spacing of the outmost channels from the band’s edges have to be in the order of 22 MH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 algn="just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nlinear model for a class AB power amplifier with an out put backoff of 5.5 dB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95F7-D880-4DEF-A99F-3DBB278991F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cisions on Carrier Spacing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1" marL="713160" indent="-27432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umber of radio channels achieved by an 18 MHz channel spacing is equal to that achieved by a channel spacing of 20 MH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ix radio channels could be obtained in current HIPERLAN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nce of the outmost channel from each band edge is 25 MH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laxed requirements on the PA backof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ith HIPERLAN/2 PA models, the outmost channels in UNII band need even more distance from the band edges if practical PA backoff values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ith 20 MHz channel spacing, 8 radio channels for the 200 MHz band starting at 5.15 GHz (lower and middle U-NII bands) achiev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 addition enough spacing for the outmost channels from the band edge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shid Khun-Jush, ETSI-BR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FC09-B978-49D7-B4A1-6FD3473B299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9T23:33:08Z</dcterms:created>
  <dc:creator>Naftali Chayat</dc:creator>
  <dc:description/>
  <dc:language>en-US</dc:language>
  <cp:lastModifiedBy>Naftali Chayat</cp:lastModifiedBy>
  <cp:lastPrinted>1998-11-10T00:17:48Z</cp:lastPrinted>
  <dcterms:modified xsi:type="dcterms:W3CDTF">1998-11-10T00:20:44Z</dcterms:modified>
  <cp:revision>4</cp:revision>
  <dc:subject/>
  <dc:title> Measured Spectra for OFDM Transmission Based on PA Models of BRAN</dc:title>
</cp:coreProperties>
</file>