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32600" cy="9396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82560" y="380160"/>
            <a:ext cx="1197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November 199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165080" y="6477120"/>
            <a:ext cx="1375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chard Paine, Boe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921DA977-7587-41B8-92B4-D7AFFCCD6A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67080" y="396000"/>
            <a:ext cx="2397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98/39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87240" y="609480"/>
            <a:ext cx="7770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472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7240" y="6477120"/>
            <a:ext cx="7847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1295280"/>
            <a:ext cx="8001000" cy="24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sponse to the TGA IEEE 802.11/BRAN Liaison Issues for a Common PM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71600" y="3962520"/>
            <a:ext cx="638640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chard Pa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eing - Seattle, W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aison on a 5GHz Common PM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8320" y="1677960"/>
            <a:ext cx="80719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amble design/multiple preambles (majo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mpling rate (majo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nel spacing (majo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leaving (major-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rier recovery pilot vs. decision aided (major-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existence (preamble+duration vs. carrier sense) (mino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4440" y="990720"/>
            <a:ext cx="78829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st of Issues and Importance from 11/9/9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80880" y="990720"/>
            <a:ext cx="8325000" cy="15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ts Group Formed After July Meetings o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02.11 and BR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367640" y="2209680"/>
            <a:ext cx="6783840" cy="34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mshid Khun-Jus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AN - Ericcs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ka Kassli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AN - Nok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ter Karlss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AN - Tel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za Ah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EEE 802.11 - RadioL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sahiro Morikur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EEE 802.11 - N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ftali Chaya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EEE 802.11 - Breeze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97720" y="2057400"/>
            <a:ext cx="8539560" cy="405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mshid Khun-Jus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AN - Ericcson (Experts Grou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ka Kassli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AN - Nokia (Experts Grou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uha Heiskal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AN - Nok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za Ah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EEE 802.11 - RadioLAN (Experts Grou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sahiro Morikur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EEE 802.11 - NTT (Experts Grou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chard Pain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EEE 802.11 - Boe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Gra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EEE 802.11 - Nokia Amer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5520" y="838080"/>
            <a:ext cx="78141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aison Team and Experts Group Meeting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11/10/9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743200" y="990720"/>
            <a:ext cx="3740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sk of the Te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066680" y="2363760"/>
            <a:ext cx="7162920" cy="22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 see if there are any possible actions for either 802.11 or BRAN in resolving the issues raised on 11/9/98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914400" y="1981080"/>
          <a:ext cx="7251840" cy="3953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981080"/>
                    <a:ext cx="7251840" cy="395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1523160" y="912960"/>
            <a:ext cx="6916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ssessment of the Experts Te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359800" y="912960"/>
            <a:ext cx="50662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eam Recommend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62120" y="1981080"/>
            <a:ext cx="7696080" cy="30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estigate with model – Richard van Nee and Hitochi co-simulate a 4 channel standard and make a recommendation for common channelization and sampling rate for submission at the January meeting and proceed with common PMD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10T22:21:54Z</dcterms:created>
  <dc:creator>Applied Research &amp; Technology</dc:creator>
  <dc:description/>
  <dc:language>en-US</dc:language>
  <cp:lastModifiedBy>The Boeing Company</cp:lastModifiedBy>
  <cp:lastPrinted>1998-11-11T17:53:14Z</cp:lastPrinted>
  <dcterms:modified xsi:type="dcterms:W3CDTF">1998-11-13T06:38:10Z</dcterms:modified>
  <cp:revision>11</cp:revision>
  <dc:subject/>
  <dc:title>No Slide Title</dc:title>
</cp:coreProperties>
</file>