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95160" y="609480"/>
            <a:ext cx="775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94360" y="6448320"/>
            <a:ext cx="894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95160" y="6477120"/>
            <a:ext cx="783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0671CAD-91A1-47FA-AD33-55A86305D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ahiro Morikura, N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spectrum of 5GHz b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ETSI BRAN HPA model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4290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ahiro Morik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TT Wireless Systems Labora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ikura@mhosun.wslab.ntt.co.j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600200" y="685800"/>
            <a:ext cx="5487840" cy="572760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2730600" y="4737240"/>
            <a:ext cx="171360" cy="190440"/>
            <a:chOff x="2730600" y="4737240"/>
            <a:chExt cx="171360" cy="190440"/>
          </a:xfrm>
        </p:grpSpPr>
        <p:sp>
          <p:nvSpPr>
            <p:cNvPr id="49" name=""/>
            <p:cNvSpPr/>
            <p:nvPr/>
          </p:nvSpPr>
          <p:spPr>
            <a:xfrm>
              <a:off x="2730600" y="4737240"/>
              <a:ext cx="17136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32040" y="492300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81440" y="474012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313320" y="5462640"/>
            <a:ext cx="171720" cy="190440"/>
            <a:chOff x="6313320" y="5462640"/>
            <a:chExt cx="171720" cy="190440"/>
          </a:xfrm>
        </p:grpSpPr>
        <p:sp>
          <p:nvSpPr>
            <p:cNvPr id="53" name=""/>
            <p:cNvSpPr/>
            <p:nvPr/>
          </p:nvSpPr>
          <p:spPr>
            <a:xfrm>
              <a:off x="6313320" y="5462640"/>
              <a:ext cx="17172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15120" y="564840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23040" y="546408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241720" y="4737240"/>
            <a:ext cx="171360" cy="190440"/>
            <a:chOff x="2241720" y="4737240"/>
            <a:chExt cx="171360" cy="190440"/>
          </a:xfrm>
        </p:grpSpPr>
        <p:sp>
          <p:nvSpPr>
            <p:cNvPr id="57" name=""/>
            <p:cNvSpPr/>
            <p:nvPr/>
          </p:nvSpPr>
          <p:spPr>
            <a:xfrm>
              <a:off x="2241720" y="4737240"/>
              <a:ext cx="17136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43160" y="492300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392200" y="474012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808680" y="5468760"/>
            <a:ext cx="171720" cy="190800"/>
            <a:chOff x="6808680" y="5468760"/>
            <a:chExt cx="171720" cy="190800"/>
          </a:xfrm>
        </p:grpSpPr>
        <p:sp>
          <p:nvSpPr>
            <p:cNvPr id="61" name=""/>
            <p:cNvSpPr/>
            <p:nvPr/>
          </p:nvSpPr>
          <p:spPr>
            <a:xfrm>
              <a:off x="6808680" y="5468760"/>
              <a:ext cx="171720" cy="19080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10480" y="565452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8400" y="547056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676520" y="711360"/>
            <a:ext cx="5337000" cy="570204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2311560" y="4788000"/>
            <a:ext cx="171360" cy="190440"/>
            <a:chOff x="2311560" y="4788000"/>
            <a:chExt cx="171360" cy="190440"/>
          </a:xfrm>
        </p:grpSpPr>
        <p:sp>
          <p:nvSpPr>
            <p:cNvPr id="66" name=""/>
            <p:cNvSpPr/>
            <p:nvPr/>
          </p:nvSpPr>
          <p:spPr>
            <a:xfrm>
              <a:off x="2311560" y="4788000"/>
              <a:ext cx="17136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13000" y="497376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462040" y="479124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806560" y="4800600"/>
            <a:ext cx="171720" cy="190440"/>
            <a:chOff x="2806560" y="4800600"/>
            <a:chExt cx="171720" cy="190440"/>
          </a:xfrm>
        </p:grpSpPr>
        <p:sp>
          <p:nvSpPr>
            <p:cNvPr id="70" name=""/>
            <p:cNvSpPr/>
            <p:nvPr/>
          </p:nvSpPr>
          <p:spPr>
            <a:xfrm>
              <a:off x="2806560" y="4800600"/>
              <a:ext cx="17172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08360" y="498636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57400" y="480384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275520" y="5450040"/>
            <a:ext cx="171360" cy="190440"/>
            <a:chOff x="6275520" y="5450040"/>
            <a:chExt cx="171360" cy="190440"/>
          </a:xfrm>
        </p:grpSpPr>
        <p:sp>
          <p:nvSpPr>
            <p:cNvPr id="74" name=""/>
            <p:cNvSpPr/>
            <p:nvPr/>
          </p:nvSpPr>
          <p:spPr>
            <a:xfrm>
              <a:off x="6275520" y="5450040"/>
              <a:ext cx="17136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276960" y="563580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84880" y="545148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751800" y="5450040"/>
            <a:ext cx="171360" cy="190440"/>
            <a:chOff x="6751800" y="5450040"/>
            <a:chExt cx="171360" cy="190440"/>
          </a:xfrm>
        </p:grpSpPr>
        <p:sp>
          <p:nvSpPr>
            <p:cNvPr id="78" name=""/>
            <p:cNvSpPr/>
            <p:nvPr/>
          </p:nvSpPr>
          <p:spPr>
            <a:xfrm>
              <a:off x="6751800" y="5450040"/>
              <a:ext cx="17136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53240" y="563580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61160" y="545148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5448240" cy="572760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2317680" y="4749840"/>
            <a:ext cx="171360" cy="190440"/>
            <a:chOff x="2317680" y="4749840"/>
            <a:chExt cx="171360" cy="190440"/>
          </a:xfrm>
        </p:grpSpPr>
        <p:sp>
          <p:nvSpPr>
            <p:cNvPr id="83" name=""/>
            <p:cNvSpPr/>
            <p:nvPr/>
          </p:nvSpPr>
          <p:spPr>
            <a:xfrm>
              <a:off x="2317680" y="4749840"/>
              <a:ext cx="17136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19480" y="4935600"/>
              <a:ext cx="16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468520" y="475308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838600" y="4737240"/>
            <a:ext cx="171360" cy="190440"/>
            <a:chOff x="2838600" y="4737240"/>
            <a:chExt cx="171360" cy="190440"/>
          </a:xfrm>
        </p:grpSpPr>
        <p:sp>
          <p:nvSpPr>
            <p:cNvPr id="87" name=""/>
            <p:cNvSpPr/>
            <p:nvPr/>
          </p:nvSpPr>
          <p:spPr>
            <a:xfrm>
              <a:off x="2838600" y="4737240"/>
              <a:ext cx="17136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840040" y="492300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89440" y="4740120"/>
              <a:ext cx="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357960" y="5450040"/>
            <a:ext cx="171360" cy="190440"/>
            <a:chOff x="6357960" y="5450040"/>
            <a:chExt cx="171360" cy="190440"/>
          </a:xfrm>
        </p:grpSpPr>
        <p:sp>
          <p:nvSpPr>
            <p:cNvPr id="91" name=""/>
            <p:cNvSpPr/>
            <p:nvPr/>
          </p:nvSpPr>
          <p:spPr>
            <a:xfrm>
              <a:off x="6357960" y="5450040"/>
              <a:ext cx="17136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59400" y="563580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67320" y="545148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859440" y="5450040"/>
            <a:ext cx="171720" cy="190440"/>
            <a:chOff x="6859440" y="5450040"/>
            <a:chExt cx="171720" cy="190440"/>
          </a:xfrm>
        </p:grpSpPr>
        <p:sp>
          <p:nvSpPr>
            <p:cNvPr id="95" name=""/>
            <p:cNvSpPr/>
            <p:nvPr/>
          </p:nvSpPr>
          <p:spPr>
            <a:xfrm>
              <a:off x="6859440" y="5450040"/>
              <a:ext cx="171720" cy="190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861240" y="5635800"/>
              <a:ext cx="169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69160" y="545148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he Boeing Company</cp:lastModifiedBy>
  <dcterms:modified xsi:type="dcterms:W3CDTF">1998-11-13T05:48:02Z</dcterms:modified>
  <cp:revision>3</cp:revision>
  <dc:subject/>
  <dc:title>No Slide Title</dc:title>
</cp:coreProperties>
</file>