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BF6-C239-42E2-96ED-B0106621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232-AB37-4258-9689-ED15142B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9EC8-5CCC-42A6-A031-1AB969B88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1F2-C60E-4EF4-AAC8-2AE19EDC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F070-1F37-47B4-8AA1-64182E7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994-25D2-4B15-AE92-FEEB3189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D31-D3AF-4AD2-B0CE-8CFC0FD6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D68-6CA7-499D-BD18-E7E9D077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5DD-4EFD-435F-A921-D0FBFE0E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22E-E6D9-4180-8EE7-0CF215D0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7979-949E-46AF-BCD1-5D342EC6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D9A5-A3B9-4AED-AC1D-6A0EBB0D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1000" y="37044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7640" y="6494040"/>
            <a:ext cx="16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3DA2CE-6EAE-4492-B840-0DC6CA6FD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4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assignment of 5GHz b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20MHz channel separation case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 Wireless Systems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mhosun.wslab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2158-7B7E-49FB-BF18-9AA2F48165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400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536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0520" y="2147760"/>
            <a:ext cx="180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6708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9572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60880" y="214776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5908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47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876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956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7948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3032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7316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832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34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6052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1148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572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465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3880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8308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767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2960" y="29084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2616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184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19840" y="290844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5400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14" y="928"/>
                </a:lnTo>
                <a:lnTo>
                  <a:pt x="27" y="928"/>
                </a:lnTo>
                <a:lnTo>
                  <a:pt x="40" y="928"/>
                </a:lnTo>
                <a:lnTo>
                  <a:pt x="54" y="914"/>
                </a:lnTo>
                <a:lnTo>
                  <a:pt x="54" y="898"/>
                </a:lnTo>
                <a:lnTo>
                  <a:pt x="81" y="898"/>
                </a:lnTo>
                <a:lnTo>
                  <a:pt x="81" y="884"/>
                </a:lnTo>
                <a:lnTo>
                  <a:pt x="95" y="884"/>
                </a:lnTo>
                <a:lnTo>
                  <a:pt x="95" y="868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8" y="839"/>
                </a:lnTo>
                <a:lnTo>
                  <a:pt x="162" y="823"/>
                </a:lnTo>
                <a:lnTo>
                  <a:pt x="176" y="809"/>
                </a:lnTo>
                <a:lnTo>
                  <a:pt x="176" y="779"/>
                </a:lnTo>
                <a:lnTo>
                  <a:pt x="176" y="764"/>
                </a:lnTo>
                <a:lnTo>
                  <a:pt x="190" y="734"/>
                </a:lnTo>
                <a:lnTo>
                  <a:pt x="190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6" y="569"/>
                </a:lnTo>
                <a:lnTo>
                  <a:pt x="256" y="554"/>
                </a:lnTo>
                <a:lnTo>
                  <a:pt x="256" y="539"/>
                </a:lnTo>
                <a:lnTo>
                  <a:pt x="270" y="524"/>
                </a:lnTo>
                <a:lnTo>
                  <a:pt x="284" y="509"/>
                </a:lnTo>
                <a:lnTo>
                  <a:pt x="297" y="494"/>
                </a:lnTo>
                <a:lnTo>
                  <a:pt x="311" y="479"/>
                </a:lnTo>
                <a:lnTo>
                  <a:pt x="324" y="479"/>
                </a:lnTo>
                <a:lnTo>
                  <a:pt x="324" y="464"/>
                </a:lnTo>
                <a:lnTo>
                  <a:pt x="338" y="449"/>
                </a:lnTo>
                <a:lnTo>
                  <a:pt x="351" y="449"/>
                </a:lnTo>
                <a:lnTo>
                  <a:pt x="351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59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270"/>
                </a:lnTo>
                <a:lnTo>
                  <a:pt x="473" y="104"/>
                </a:lnTo>
                <a:lnTo>
                  <a:pt x="473" y="0"/>
                </a:lnTo>
                <a:lnTo>
                  <a:pt x="486" y="0"/>
                </a:lnTo>
                <a:lnTo>
                  <a:pt x="499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81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5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84" y="104"/>
                </a:lnTo>
                <a:lnTo>
                  <a:pt x="784" y="254"/>
                </a:lnTo>
                <a:lnTo>
                  <a:pt x="797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905" y="419"/>
                </a:lnTo>
                <a:lnTo>
                  <a:pt x="905" y="434"/>
                </a:lnTo>
                <a:lnTo>
                  <a:pt x="905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986" y="539"/>
                </a:lnTo>
                <a:lnTo>
                  <a:pt x="1000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26" y="584"/>
                </a:lnTo>
                <a:lnTo>
                  <a:pt x="1026" y="599"/>
                </a:lnTo>
                <a:lnTo>
                  <a:pt x="1040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67" y="704"/>
                </a:lnTo>
                <a:lnTo>
                  <a:pt x="1067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80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48" y="868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188" y="898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43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8264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04960" y="155412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7800" y="306540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52560" y="304956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4328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568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540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57360" y="1544760"/>
            <a:ext cx="197352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7808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5447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21120" y="15447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43440" y="15447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933800" y="15159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73520" y="153504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95840" y="153504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86560" y="15066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2592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48240" y="155412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3896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8680" y="155412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00640" y="1554120"/>
            <a:ext cx="197352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91360" y="152568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9960" y="3227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26920" y="325584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6996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2360" y="329400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320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55960" y="326556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89280" y="324648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232320" y="322740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75000" y="3208320"/>
            <a:ext cx="451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58040" y="306864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61480" y="3227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3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62640" y="1544760"/>
            <a:ext cx="0" cy="196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1880" y="3551400"/>
            <a:ext cx="738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3080" y="1447920"/>
            <a:ext cx="951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4720" y="144792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89000" y="114156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74600" y="113184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73080" y="1066680"/>
            <a:ext cx="4151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6960" y="1076400"/>
            <a:ext cx="310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99200" y="789120"/>
            <a:ext cx="1754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 use : 10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8040" y="779400"/>
            <a:ext cx="2271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or/outdoor use : 17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25760" y="258120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37000" y="2313000"/>
            <a:ext cx="1040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7dBm/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16440" y="2516040"/>
            <a:ext cx="331560" cy="4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54360" y="42879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14" y="928"/>
                </a:lnTo>
                <a:lnTo>
                  <a:pt x="27" y="928"/>
                </a:lnTo>
                <a:lnTo>
                  <a:pt x="40" y="928"/>
                </a:lnTo>
                <a:lnTo>
                  <a:pt x="54" y="914"/>
                </a:lnTo>
                <a:lnTo>
                  <a:pt x="54" y="898"/>
                </a:lnTo>
                <a:lnTo>
                  <a:pt x="81" y="898"/>
                </a:lnTo>
                <a:lnTo>
                  <a:pt x="81" y="884"/>
                </a:lnTo>
                <a:lnTo>
                  <a:pt x="95" y="884"/>
                </a:lnTo>
                <a:lnTo>
                  <a:pt x="95" y="868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8" y="839"/>
                </a:lnTo>
                <a:lnTo>
                  <a:pt x="162" y="823"/>
                </a:lnTo>
                <a:lnTo>
                  <a:pt x="176" y="809"/>
                </a:lnTo>
                <a:lnTo>
                  <a:pt x="176" y="779"/>
                </a:lnTo>
                <a:lnTo>
                  <a:pt x="176" y="764"/>
                </a:lnTo>
                <a:lnTo>
                  <a:pt x="190" y="734"/>
                </a:lnTo>
                <a:lnTo>
                  <a:pt x="190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6" y="569"/>
                </a:lnTo>
                <a:lnTo>
                  <a:pt x="256" y="554"/>
                </a:lnTo>
                <a:lnTo>
                  <a:pt x="256" y="539"/>
                </a:lnTo>
                <a:lnTo>
                  <a:pt x="270" y="524"/>
                </a:lnTo>
                <a:lnTo>
                  <a:pt x="284" y="509"/>
                </a:lnTo>
                <a:lnTo>
                  <a:pt x="297" y="494"/>
                </a:lnTo>
                <a:lnTo>
                  <a:pt x="311" y="479"/>
                </a:lnTo>
                <a:lnTo>
                  <a:pt x="324" y="479"/>
                </a:lnTo>
                <a:lnTo>
                  <a:pt x="324" y="464"/>
                </a:lnTo>
                <a:lnTo>
                  <a:pt x="338" y="449"/>
                </a:lnTo>
                <a:lnTo>
                  <a:pt x="351" y="449"/>
                </a:lnTo>
                <a:lnTo>
                  <a:pt x="351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59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270"/>
                </a:lnTo>
                <a:lnTo>
                  <a:pt x="473" y="104"/>
                </a:lnTo>
                <a:lnTo>
                  <a:pt x="473" y="0"/>
                </a:lnTo>
                <a:lnTo>
                  <a:pt x="486" y="0"/>
                </a:lnTo>
                <a:lnTo>
                  <a:pt x="499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81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5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84" y="104"/>
                </a:lnTo>
                <a:lnTo>
                  <a:pt x="784" y="254"/>
                </a:lnTo>
                <a:lnTo>
                  <a:pt x="797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905" y="419"/>
                </a:lnTo>
                <a:lnTo>
                  <a:pt x="905" y="434"/>
                </a:lnTo>
                <a:lnTo>
                  <a:pt x="905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986" y="539"/>
                </a:lnTo>
                <a:lnTo>
                  <a:pt x="1000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26" y="584"/>
                </a:lnTo>
                <a:lnTo>
                  <a:pt x="1026" y="599"/>
                </a:lnTo>
                <a:lnTo>
                  <a:pt x="1040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67" y="704"/>
                </a:lnTo>
                <a:lnTo>
                  <a:pt x="1067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80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48" y="868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188" y="898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43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83000" y="4287960"/>
            <a:ext cx="1995480" cy="149832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05320" y="4287960"/>
            <a:ext cx="1973160" cy="149832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52560" y="5783400"/>
            <a:ext cx="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43280" y="42591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259160"/>
            <a:ext cx="0" cy="1675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35400" y="4278240"/>
            <a:ext cx="1995480" cy="1498680"/>
          </a:xfrm>
          <a:custGeom>
            <a:avLst/>
            <a:gdLst/>
            <a:ahLst/>
            <a:rect l="l" t="t" r="r" b="b"/>
            <a:pathLst>
              <a:path w="1257" h="944">
                <a:moveTo>
                  <a:pt x="0" y="943"/>
                </a:moveTo>
                <a:lnTo>
                  <a:pt x="14" y="943"/>
                </a:lnTo>
                <a:lnTo>
                  <a:pt x="27" y="928"/>
                </a:lnTo>
                <a:lnTo>
                  <a:pt x="40" y="928"/>
                </a:lnTo>
                <a:lnTo>
                  <a:pt x="40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2" y="898"/>
                </a:lnTo>
                <a:lnTo>
                  <a:pt x="82" y="884"/>
                </a:lnTo>
                <a:lnTo>
                  <a:pt x="95" y="884"/>
                </a:lnTo>
                <a:lnTo>
                  <a:pt x="108" y="884"/>
                </a:lnTo>
                <a:lnTo>
                  <a:pt x="108" y="868"/>
                </a:lnTo>
                <a:lnTo>
                  <a:pt x="108" y="853"/>
                </a:lnTo>
                <a:lnTo>
                  <a:pt x="122" y="853"/>
                </a:lnTo>
                <a:lnTo>
                  <a:pt x="135" y="839"/>
                </a:lnTo>
                <a:lnTo>
                  <a:pt x="149" y="839"/>
                </a:lnTo>
                <a:lnTo>
                  <a:pt x="162" y="839"/>
                </a:lnTo>
                <a:lnTo>
                  <a:pt x="162" y="823"/>
                </a:lnTo>
                <a:lnTo>
                  <a:pt x="162" y="809"/>
                </a:lnTo>
                <a:lnTo>
                  <a:pt x="176" y="779"/>
                </a:lnTo>
                <a:lnTo>
                  <a:pt x="176" y="764"/>
                </a:lnTo>
                <a:lnTo>
                  <a:pt x="203" y="734"/>
                </a:lnTo>
                <a:lnTo>
                  <a:pt x="203" y="718"/>
                </a:lnTo>
                <a:lnTo>
                  <a:pt x="203" y="704"/>
                </a:lnTo>
                <a:lnTo>
                  <a:pt x="203" y="673"/>
                </a:lnTo>
                <a:lnTo>
                  <a:pt x="203" y="644"/>
                </a:lnTo>
                <a:lnTo>
                  <a:pt x="216" y="644"/>
                </a:lnTo>
                <a:lnTo>
                  <a:pt x="216" y="614"/>
                </a:lnTo>
                <a:lnTo>
                  <a:pt x="230" y="614"/>
                </a:lnTo>
                <a:lnTo>
                  <a:pt x="230" y="599"/>
                </a:lnTo>
                <a:lnTo>
                  <a:pt x="230" y="584"/>
                </a:lnTo>
                <a:lnTo>
                  <a:pt x="243" y="584"/>
                </a:lnTo>
                <a:lnTo>
                  <a:pt x="257" y="569"/>
                </a:lnTo>
                <a:lnTo>
                  <a:pt x="257" y="554"/>
                </a:lnTo>
                <a:lnTo>
                  <a:pt x="257" y="539"/>
                </a:lnTo>
                <a:lnTo>
                  <a:pt x="270" y="539"/>
                </a:lnTo>
                <a:lnTo>
                  <a:pt x="284" y="524"/>
                </a:lnTo>
                <a:lnTo>
                  <a:pt x="284" y="509"/>
                </a:lnTo>
                <a:lnTo>
                  <a:pt x="284" y="494"/>
                </a:lnTo>
                <a:lnTo>
                  <a:pt x="311" y="494"/>
                </a:lnTo>
                <a:lnTo>
                  <a:pt x="325" y="479"/>
                </a:lnTo>
                <a:lnTo>
                  <a:pt x="325" y="464"/>
                </a:lnTo>
                <a:lnTo>
                  <a:pt x="338" y="449"/>
                </a:lnTo>
                <a:lnTo>
                  <a:pt x="351" y="449"/>
                </a:lnTo>
                <a:lnTo>
                  <a:pt x="365" y="434"/>
                </a:lnTo>
                <a:lnTo>
                  <a:pt x="365" y="419"/>
                </a:lnTo>
                <a:lnTo>
                  <a:pt x="378" y="419"/>
                </a:lnTo>
                <a:lnTo>
                  <a:pt x="378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89"/>
                </a:lnTo>
                <a:lnTo>
                  <a:pt x="419" y="374"/>
                </a:lnTo>
                <a:lnTo>
                  <a:pt x="433" y="374"/>
                </a:lnTo>
                <a:lnTo>
                  <a:pt x="446" y="359"/>
                </a:lnTo>
                <a:lnTo>
                  <a:pt x="446" y="344"/>
                </a:lnTo>
                <a:lnTo>
                  <a:pt x="459" y="329"/>
                </a:lnTo>
                <a:lnTo>
                  <a:pt x="459" y="314"/>
                </a:lnTo>
                <a:lnTo>
                  <a:pt x="473" y="314"/>
                </a:lnTo>
                <a:lnTo>
                  <a:pt x="473" y="270"/>
                </a:lnTo>
                <a:lnTo>
                  <a:pt x="473" y="104"/>
                </a:lnTo>
                <a:lnTo>
                  <a:pt x="486" y="0"/>
                </a:lnTo>
                <a:lnTo>
                  <a:pt x="500" y="0"/>
                </a:lnTo>
                <a:lnTo>
                  <a:pt x="513" y="0"/>
                </a:lnTo>
                <a:lnTo>
                  <a:pt x="527" y="0"/>
                </a:lnTo>
                <a:lnTo>
                  <a:pt x="541" y="0"/>
                </a:lnTo>
                <a:lnTo>
                  <a:pt x="554" y="0"/>
                </a:lnTo>
                <a:lnTo>
                  <a:pt x="567" y="0"/>
                </a:lnTo>
                <a:lnTo>
                  <a:pt x="594" y="0"/>
                </a:lnTo>
                <a:lnTo>
                  <a:pt x="608" y="0"/>
                </a:lnTo>
                <a:lnTo>
                  <a:pt x="621" y="0"/>
                </a:lnTo>
                <a:lnTo>
                  <a:pt x="635" y="0"/>
                </a:lnTo>
                <a:lnTo>
                  <a:pt x="649" y="0"/>
                </a:lnTo>
                <a:lnTo>
                  <a:pt x="662" y="0"/>
                </a:lnTo>
                <a:lnTo>
                  <a:pt x="676" y="0"/>
                </a:lnTo>
                <a:lnTo>
                  <a:pt x="689" y="0"/>
                </a:lnTo>
                <a:lnTo>
                  <a:pt x="702" y="0"/>
                </a:lnTo>
                <a:lnTo>
                  <a:pt x="716" y="0"/>
                </a:lnTo>
                <a:lnTo>
                  <a:pt x="729" y="0"/>
                </a:lnTo>
                <a:lnTo>
                  <a:pt x="743" y="0"/>
                </a:lnTo>
                <a:lnTo>
                  <a:pt x="757" y="0"/>
                </a:lnTo>
                <a:lnTo>
                  <a:pt x="770" y="0"/>
                </a:lnTo>
                <a:lnTo>
                  <a:pt x="784" y="0"/>
                </a:lnTo>
                <a:lnTo>
                  <a:pt x="797" y="104"/>
                </a:lnTo>
                <a:lnTo>
                  <a:pt x="797" y="254"/>
                </a:lnTo>
                <a:lnTo>
                  <a:pt x="810" y="299"/>
                </a:lnTo>
                <a:lnTo>
                  <a:pt x="810" y="314"/>
                </a:lnTo>
                <a:lnTo>
                  <a:pt x="810" y="329"/>
                </a:lnTo>
                <a:lnTo>
                  <a:pt x="810" y="344"/>
                </a:lnTo>
                <a:lnTo>
                  <a:pt x="824" y="359"/>
                </a:lnTo>
                <a:lnTo>
                  <a:pt x="837" y="359"/>
                </a:lnTo>
                <a:lnTo>
                  <a:pt x="837" y="374"/>
                </a:lnTo>
                <a:lnTo>
                  <a:pt x="851" y="374"/>
                </a:lnTo>
                <a:lnTo>
                  <a:pt x="851" y="389"/>
                </a:lnTo>
                <a:lnTo>
                  <a:pt x="865" y="404"/>
                </a:lnTo>
                <a:lnTo>
                  <a:pt x="878" y="404"/>
                </a:lnTo>
                <a:lnTo>
                  <a:pt x="892" y="404"/>
                </a:lnTo>
                <a:lnTo>
                  <a:pt x="892" y="419"/>
                </a:lnTo>
                <a:lnTo>
                  <a:pt x="892" y="434"/>
                </a:lnTo>
                <a:lnTo>
                  <a:pt x="905" y="434"/>
                </a:lnTo>
                <a:lnTo>
                  <a:pt x="905" y="449"/>
                </a:lnTo>
                <a:lnTo>
                  <a:pt x="919" y="449"/>
                </a:lnTo>
                <a:lnTo>
                  <a:pt x="932" y="449"/>
                </a:lnTo>
                <a:lnTo>
                  <a:pt x="932" y="464"/>
                </a:lnTo>
                <a:lnTo>
                  <a:pt x="945" y="479"/>
                </a:lnTo>
                <a:lnTo>
                  <a:pt x="959" y="479"/>
                </a:lnTo>
                <a:lnTo>
                  <a:pt x="959" y="494"/>
                </a:lnTo>
                <a:lnTo>
                  <a:pt x="972" y="494"/>
                </a:lnTo>
                <a:lnTo>
                  <a:pt x="972" y="509"/>
                </a:lnTo>
                <a:lnTo>
                  <a:pt x="986" y="509"/>
                </a:lnTo>
                <a:lnTo>
                  <a:pt x="986" y="524"/>
                </a:lnTo>
                <a:lnTo>
                  <a:pt x="1000" y="524"/>
                </a:lnTo>
                <a:lnTo>
                  <a:pt x="1000" y="539"/>
                </a:lnTo>
                <a:lnTo>
                  <a:pt x="1013" y="539"/>
                </a:lnTo>
                <a:lnTo>
                  <a:pt x="1013" y="554"/>
                </a:lnTo>
                <a:lnTo>
                  <a:pt x="1013" y="569"/>
                </a:lnTo>
                <a:lnTo>
                  <a:pt x="1013" y="584"/>
                </a:lnTo>
                <a:lnTo>
                  <a:pt x="1027" y="584"/>
                </a:lnTo>
                <a:lnTo>
                  <a:pt x="1040" y="599"/>
                </a:lnTo>
                <a:lnTo>
                  <a:pt x="1053" y="614"/>
                </a:lnTo>
                <a:lnTo>
                  <a:pt x="1053" y="629"/>
                </a:lnTo>
                <a:lnTo>
                  <a:pt x="1053" y="644"/>
                </a:lnTo>
                <a:lnTo>
                  <a:pt x="1053" y="673"/>
                </a:lnTo>
                <a:lnTo>
                  <a:pt x="1067" y="673"/>
                </a:lnTo>
                <a:lnTo>
                  <a:pt x="1080" y="704"/>
                </a:lnTo>
                <a:lnTo>
                  <a:pt x="1080" y="718"/>
                </a:lnTo>
                <a:lnTo>
                  <a:pt x="1080" y="734"/>
                </a:lnTo>
                <a:lnTo>
                  <a:pt x="1080" y="764"/>
                </a:lnTo>
                <a:lnTo>
                  <a:pt x="1094" y="779"/>
                </a:lnTo>
                <a:lnTo>
                  <a:pt x="1094" y="809"/>
                </a:lnTo>
                <a:lnTo>
                  <a:pt x="1108" y="809"/>
                </a:lnTo>
                <a:lnTo>
                  <a:pt x="1108" y="823"/>
                </a:lnTo>
                <a:lnTo>
                  <a:pt x="1108" y="839"/>
                </a:lnTo>
                <a:lnTo>
                  <a:pt x="1121" y="839"/>
                </a:lnTo>
                <a:lnTo>
                  <a:pt x="1135" y="839"/>
                </a:lnTo>
                <a:lnTo>
                  <a:pt x="1135" y="853"/>
                </a:lnTo>
                <a:lnTo>
                  <a:pt x="1148" y="853"/>
                </a:lnTo>
                <a:lnTo>
                  <a:pt x="1161" y="853"/>
                </a:lnTo>
                <a:lnTo>
                  <a:pt x="1161" y="868"/>
                </a:lnTo>
                <a:lnTo>
                  <a:pt x="1175" y="868"/>
                </a:lnTo>
                <a:lnTo>
                  <a:pt x="1175" y="884"/>
                </a:lnTo>
                <a:lnTo>
                  <a:pt x="1188" y="884"/>
                </a:lnTo>
                <a:lnTo>
                  <a:pt x="1202" y="898"/>
                </a:lnTo>
                <a:lnTo>
                  <a:pt x="1216" y="898"/>
                </a:lnTo>
                <a:lnTo>
                  <a:pt x="1229" y="898"/>
                </a:lnTo>
                <a:lnTo>
                  <a:pt x="1229" y="914"/>
                </a:lnTo>
                <a:lnTo>
                  <a:pt x="1229" y="928"/>
                </a:lnTo>
                <a:lnTo>
                  <a:pt x="1243" y="928"/>
                </a:lnTo>
                <a:lnTo>
                  <a:pt x="1256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57720" y="4278240"/>
            <a:ext cx="1973160" cy="1498680"/>
          </a:xfrm>
          <a:custGeom>
            <a:avLst/>
            <a:gdLst/>
            <a:ahLst/>
            <a:rect l="l" t="t" r="r" b="b"/>
            <a:pathLst>
              <a:path w="1243" h="944">
                <a:moveTo>
                  <a:pt x="0" y="943"/>
                </a:moveTo>
                <a:lnTo>
                  <a:pt x="13" y="943"/>
                </a:lnTo>
                <a:lnTo>
                  <a:pt x="26" y="943"/>
                </a:lnTo>
                <a:lnTo>
                  <a:pt x="26" y="928"/>
                </a:lnTo>
                <a:lnTo>
                  <a:pt x="26" y="914"/>
                </a:lnTo>
                <a:lnTo>
                  <a:pt x="40" y="898"/>
                </a:lnTo>
                <a:lnTo>
                  <a:pt x="54" y="898"/>
                </a:lnTo>
                <a:lnTo>
                  <a:pt x="68" y="898"/>
                </a:lnTo>
                <a:lnTo>
                  <a:pt x="81" y="884"/>
                </a:lnTo>
                <a:lnTo>
                  <a:pt x="94" y="884"/>
                </a:lnTo>
                <a:lnTo>
                  <a:pt x="94" y="868"/>
                </a:lnTo>
                <a:lnTo>
                  <a:pt x="108" y="853"/>
                </a:lnTo>
                <a:lnTo>
                  <a:pt x="121" y="853"/>
                </a:lnTo>
                <a:lnTo>
                  <a:pt x="121" y="839"/>
                </a:lnTo>
                <a:lnTo>
                  <a:pt x="135" y="839"/>
                </a:lnTo>
                <a:lnTo>
                  <a:pt x="148" y="839"/>
                </a:lnTo>
                <a:lnTo>
                  <a:pt x="148" y="823"/>
                </a:lnTo>
                <a:lnTo>
                  <a:pt x="148" y="809"/>
                </a:lnTo>
                <a:lnTo>
                  <a:pt x="162" y="793"/>
                </a:lnTo>
                <a:lnTo>
                  <a:pt x="176" y="764"/>
                </a:lnTo>
                <a:lnTo>
                  <a:pt x="189" y="734"/>
                </a:lnTo>
                <a:lnTo>
                  <a:pt x="189" y="718"/>
                </a:lnTo>
                <a:lnTo>
                  <a:pt x="189" y="704"/>
                </a:lnTo>
                <a:lnTo>
                  <a:pt x="189" y="689"/>
                </a:lnTo>
                <a:lnTo>
                  <a:pt x="189" y="673"/>
                </a:lnTo>
                <a:lnTo>
                  <a:pt x="189" y="659"/>
                </a:lnTo>
                <a:lnTo>
                  <a:pt x="202" y="644"/>
                </a:lnTo>
                <a:lnTo>
                  <a:pt x="202" y="629"/>
                </a:lnTo>
                <a:lnTo>
                  <a:pt x="216" y="629"/>
                </a:lnTo>
                <a:lnTo>
                  <a:pt x="216" y="614"/>
                </a:lnTo>
                <a:lnTo>
                  <a:pt x="229" y="599"/>
                </a:lnTo>
                <a:lnTo>
                  <a:pt x="229" y="584"/>
                </a:lnTo>
                <a:lnTo>
                  <a:pt x="243" y="584"/>
                </a:lnTo>
                <a:lnTo>
                  <a:pt x="243" y="569"/>
                </a:lnTo>
                <a:lnTo>
                  <a:pt x="243" y="554"/>
                </a:lnTo>
                <a:lnTo>
                  <a:pt x="256" y="539"/>
                </a:lnTo>
                <a:lnTo>
                  <a:pt x="270" y="539"/>
                </a:lnTo>
                <a:lnTo>
                  <a:pt x="270" y="524"/>
                </a:lnTo>
                <a:lnTo>
                  <a:pt x="270" y="509"/>
                </a:lnTo>
                <a:lnTo>
                  <a:pt x="284" y="509"/>
                </a:lnTo>
                <a:lnTo>
                  <a:pt x="284" y="494"/>
                </a:lnTo>
                <a:lnTo>
                  <a:pt x="297" y="494"/>
                </a:lnTo>
                <a:lnTo>
                  <a:pt x="311" y="494"/>
                </a:lnTo>
                <a:lnTo>
                  <a:pt x="311" y="479"/>
                </a:lnTo>
                <a:lnTo>
                  <a:pt x="324" y="464"/>
                </a:lnTo>
                <a:lnTo>
                  <a:pt x="337" y="449"/>
                </a:lnTo>
                <a:lnTo>
                  <a:pt x="351" y="449"/>
                </a:lnTo>
                <a:lnTo>
                  <a:pt x="351" y="434"/>
                </a:lnTo>
                <a:lnTo>
                  <a:pt x="364" y="434"/>
                </a:lnTo>
                <a:lnTo>
                  <a:pt x="364" y="419"/>
                </a:lnTo>
                <a:lnTo>
                  <a:pt x="377" y="419"/>
                </a:lnTo>
                <a:lnTo>
                  <a:pt x="377" y="404"/>
                </a:lnTo>
                <a:lnTo>
                  <a:pt x="391" y="404"/>
                </a:lnTo>
                <a:lnTo>
                  <a:pt x="405" y="404"/>
                </a:lnTo>
                <a:lnTo>
                  <a:pt x="405" y="389"/>
                </a:lnTo>
                <a:lnTo>
                  <a:pt x="419" y="374"/>
                </a:lnTo>
                <a:lnTo>
                  <a:pt x="432" y="374"/>
                </a:lnTo>
                <a:lnTo>
                  <a:pt x="432" y="359"/>
                </a:lnTo>
                <a:lnTo>
                  <a:pt x="445" y="344"/>
                </a:lnTo>
                <a:lnTo>
                  <a:pt x="445" y="329"/>
                </a:lnTo>
                <a:lnTo>
                  <a:pt x="459" y="314"/>
                </a:lnTo>
                <a:lnTo>
                  <a:pt x="459" y="270"/>
                </a:lnTo>
                <a:lnTo>
                  <a:pt x="459" y="120"/>
                </a:lnTo>
                <a:lnTo>
                  <a:pt x="472" y="15"/>
                </a:lnTo>
                <a:lnTo>
                  <a:pt x="472" y="0"/>
                </a:lnTo>
                <a:lnTo>
                  <a:pt x="486" y="0"/>
                </a:lnTo>
                <a:lnTo>
                  <a:pt x="513" y="0"/>
                </a:lnTo>
                <a:lnTo>
                  <a:pt x="527" y="0"/>
                </a:lnTo>
                <a:lnTo>
                  <a:pt x="540" y="0"/>
                </a:lnTo>
                <a:lnTo>
                  <a:pt x="553" y="0"/>
                </a:lnTo>
                <a:lnTo>
                  <a:pt x="567" y="0"/>
                </a:lnTo>
                <a:lnTo>
                  <a:pt x="580" y="0"/>
                </a:lnTo>
                <a:lnTo>
                  <a:pt x="594" y="0"/>
                </a:lnTo>
                <a:lnTo>
                  <a:pt x="607" y="0"/>
                </a:lnTo>
                <a:lnTo>
                  <a:pt x="621" y="0"/>
                </a:lnTo>
                <a:lnTo>
                  <a:pt x="635" y="0"/>
                </a:lnTo>
                <a:lnTo>
                  <a:pt x="648" y="0"/>
                </a:lnTo>
                <a:lnTo>
                  <a:pt x="662" y="0"/>
                </a:lnTo>
                <a:lnTo>
                  <a:pt x="675" y="0"/>
                </a:lnTo>
                <a:lnTo>
                  <a:pt x="688" y="0"/>
                </a:lnTo>
                <a:lnTo>
                  <a:pt x="702" y="0"/>
                </a:lnTo>
                <a:lnTo>
                  <a:pt x="715" y="0"/>
                </a:lnTo>
                <a:lnTo>
                  <a:pt x="729" y="0"/>
                </a:lnTo>
                <a:lnTo>
                  <a:pt x="743" y="0"/>
                </a:lnTo>
                <a:lnTo>
                  <a:pt x="756" y="0"/>
                </a:lnTo>
                <a:lnTo>
                  <a:pt x="770" y="0"/>
                </a:lnTo>
                <a:lnTo>
                  <a:pt x="770" y="15"/>
                </a:lnTo>
                <a:lnTo>
                  <a:pt x="783" y="120"/>
                </a:lnTo>
                <a:lnTo>
                  <a:pt x="783" y="270"/>
                </a:lnTo>
                <a:lnTo>
                  <a:pt x="796" y="314"/>
                </a:lnTo>
                <a:lnTo>
                  <a:pt x="796" y="329"/>
                </a:lnTo>
                <a:lnTo>
                  <a:pt x="796" y="344"/>
                </a:lnTo>
                <a:lnTo>
                  <a:pt x="796" y="359"/>
                </a:lnTo>
                <a:lnTo>
                  <a:pt x="810" y="359"/>
                </a:lnTo>
                <a:lnTo>
                  <a:pt x="823" y="359"/>
                </a:lnTo>
                <a:lnTo>
                  <a:pt x="823" y="374"/>
                </a:lnTo>
                <a:lnTo>
                  <a:pt x="837" y="389"/>
                </a:lnTo>
                <a:lnTo>
                  <a:pt x="837" y="404"/>
                </a:lnTo>
                <a:lnTo>
                  <a:pt x="851" y="404"/>
                </a:lnTo>
                <a:lnTo>
                  <a:pt x="864" y="404"/>
                </a:lnTo>
                <a:lnTo>
                  <a:pt x="878" y="404"/>
                </a:lnTo>
                <a:lnTo>
                  <a:pt x="878" y="419"/>
                </a:lnTo>
                <a:lnTo>
                  <a:pt x="878" y="434"/>
                </a:lnTo>
                <a:lnTo>
                  <a:pt x="878" y="449"/>
                </a:lnTo>
                <a:lnTo>
                  <a:pt x="891" y="449"/>
                </a:lnTo>
                <a:lnTo>
                  <a:pt x="905" y="449"/>
                </a:lnTo>
                <a:lnTo>
                  <a:pt x="918" y="449"/>
                </a:lnTo>
                <a:lnTo>
                  <a:pt x="918" y="479"/>
                </a:lnTo>
                <a:lnTo>
                  <a:pt x="931" y="479"/>
                </a:lnTo>
                <a:lnTo>
                  <a:pt x="945" y="494"/>
                </a:lnTo>
                <a:lnTo>
                  <a:pt x="958" y="494"/>
                </a:lnTo>
                <a:lnTo>
                  <a:pt x="958" y="509"/>
                </a:lnTo>
                <a:lnTo>
                  <a:pt x="972" y="524"/>
                </a:lnTo>
                <a:lnTo>
                  <a:pt x="986" y="539"/>
                </a:lnTo>
                <a:lnTo>
                  <a:pt x="999" y="539"/>
                </a:lnTo>
                <a:lnTo>
                  <a:pt x="999" y="554"/>
                </a:lnTo>
                <a:lnTo>
                  <a:pt x="999" y="569"/>
                </a:lnTo>
                <a:lnTo>
                  <a:pt x="999" y="584"/>
                </a:lnTo>
                <a:lnTo>
                  <a:pt x="1013" y="584"/>
                </a:lnTo>
                <a:lnTo>
                  <a:pt x="1026" y="599"/>
                </a:lnTo>
                <a:lnTo>
                  <a:pt x="1026" y="614"/>
                </a:lnTo>
                <a:lnTo>
                  <a:pt x="1039" y="629"/>
                </a:lnTo>
                <a:lnTo>
                  <a:pt x="1039" y="644"/>
                </a:lnTo>
                <a:lnTo>
                  <a:pt x="1039" y="659"/>
                </a:lnTo>
                <a:lnTo>
                  <a:pt x="1039" y="673"/>
                </a:lnTo>
                <a:lnTo>
                  <a:pt x="1053" y="689"/>
                </a:lnTo>
                <a:lnTo>
                  <a:pt x="1066" y="704"/>
                </a:lnTo>
                <a:lnTo>
                  <a:pt x="1066" y="718"/>
                </a:lnTo>
                <a:lnTo>
                  <a:pt x="1066" y="748"/>
                </a:lnTo>
                <a:lnTo>
                  <a:pt x="1080" y="764"/>
                </a:lnTo>
                <a:lnTo>
                  <a:pt x="1080" y="793"/>
                </a:lnTo>
                <a:lnTo>
                  <a:pt x="1080" y="809"/>
                </a:lnTo>
                <a:lnTo>
                  <a:pt x="1094" y="823"/>
                </a:lnTo>
                <a:lnTo>
                  <a:pt x="1094" y="839"/>
                </a:lnTo>
                <a:lnTo>
                  <a:pt x="1107" y="839"/>
                </a:lnTo>
                <a:lnTo>
                  <a:pt x="1121" y="853"/>
                </a:lnTo>
                <a:lnTo>
                  <a:pt x="1134" y="853"/>
                </a:lnTo>
                <a:lnTo>
                  <a:pt x="1147" y="868"/>
                </a:lnTo>
                <a:lnTo>
                  <a:pt x="1161" y="868"/>
                </a:lnTo>
                <a:lnTo>
                  <a:pt x="1161" y="884"/>
                </a:lnTo>
                <a:lnTo>
                  <a:pt x="1174" y="898"/>
                </a:lnTo>
                <a:lnTo>
                  <a:pt x="1188" y="898"/>
                </a:lnTo>
                <a:lnTo>
                  <a:pt x="1202" y="898"/>
                </a:lnTo>
                <a:lnTo>
                  <a:pt x="1202" y="914"/>
                </a:lnTo>
                <a:lnTo>
                  <a:pt x="1215" y="914"/>
                </a:lnTo>
                <a:lnTo>
                  <a:pt x="1215" y="928"/>
                </a:lnTo>
                <a:lnTo>
                  <a:pt x="1215" y="943"/>
                </a:lnTo>
                <a:lnTo>
                  <a:pt x="1229" y="943"/>
                </a:lnTo>
                <a:lnTo>
                  <a:pt x="1242" y="943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48440" y="4249800"/>
            <a:ext cx="0" cy="1674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70320" y="596124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26920" y="598968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9960" y="599904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2360" y="6027840"/>
            <a:ext cx="528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7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37120" y="6056280"/>
            <a:ext cx="814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825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3440" y="4181400"/>
            <a:ext cx="950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45080" y="4181400"/>
            <a:ext cx="74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89000" y="387504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74960" y="3865680"/>
            <a:ext cx="649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39880" y="5791320"/>
            <a:ext cx="37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00640" y="579276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CF44-FEA9-4413-AA77-B9A0964C47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Boeing Company</cp:lastModifiedBy>
  <dcterms:modified xsi:type="dcterms:W3CDTF">1998-11-13T05:46:02Z</dcterms:modified>
  <cp:revision>3</cp:revision>
  <dc:subject/>
  <dc:title>No Slide Title</dc:title>
</cp:coreProperties>
</file>