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63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 and the 802.11 M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802.11 MAC is designed to operate with exact r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 is used in sever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Supported Rates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Probe Request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Association/Re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RXVECTOR, TX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Dur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 and the 802.11 M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Supported Rates element is used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Announcing rates in a BSS (Beacon TX, Probe 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Selecting a BSS (Scanning, Jo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ing AP if Station capabilities (Association, Reassoc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nformation does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need to be ex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All stations must have the same understanding of a value in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value in the element can be considered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 for 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 and the 802.11 M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XVECTOR contains the rate at which a frame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XVECTOR contains rate at which a frame is to be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rate information is used to calculate the duration field in the MAC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ccurate to make this calculation acc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ffect of Inexa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exact rate information in the calculation of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wastes valuable (usable) bandwidth when the representation of the rate is less than the actual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NAV does not expire until well after frame exchange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causes otherwise avoidable collisions when the representation of the rate is greater than the actual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NAV expires before frame exchange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Effect of Inexa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Ra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mount of wasted bandwidth or time vulnerable to collisions is proportional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ercentag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error in the representation of the actu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Large frames cause greatest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Large frames are most vulnerable to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cp:revision>0</cp:revision>
  <dc:subject>MAC/PHY Interaction</dc:subject>
  <dc:title>Effect of Inexact Rate Information</dc:title>
</cp:coreProperties>
</file>