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6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06600" y="64594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238880" y="6060960"/>
            <a:ext cx="1314360" cy="4158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10666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eview of the Alantro 11Mbps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138480" y="2846520"/>
            <a:ext cx="23050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 Heeg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228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7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eg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 versus Convolutional Co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C’s are a well established technique that dominates successful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34, v.90, HDTV, DirectTV, CDMA cell phones, 802.14, HDSL-2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 codes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C’s have a consistent trellis structure that compliments the trellis of the multi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609480" y="228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7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eg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Code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which coding options will provide for the best trade-off between AWGN performance, complexity and multipath robus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son of coding techniques should be made on a quantitative technical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able code??? (v.34, HDSL-2,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609480" y="228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7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eg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lantro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PSK @ 11Ms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Rate: 11Mbps (R = 1/2), 64 state B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ing Gain of ~ 7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ate via puncturing (500kbps possi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llent Multipath performance with reasonable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09480" y="228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7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eg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id Alantro get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752480"/>
            <a:ext cx="7772400" cy="42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standard that will realistically meet the goal of robust, cost effective, transmission in excess of 10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ied existing proposals (summer ‘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ded Harris was best starting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OK “code” w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coding 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s with joint M.P./De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ied B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r 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able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match to joint M.P./de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228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7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eg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llises: A unifying concept for digital trans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: h(z)=1+az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1828800"/>
            <a:ext cx="2633760" cy="198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67240" y="1974960"/>
            <a:ext cx="2031840" cy="16095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7240" y="1974960"/>
            <a:ext cx="203220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67240" y="1974960"/>
            <a:ext cx="2032200" cy="1609920"/>
          </a:xfrm>
          <a:custGeom>
            <a:avLst/>
            <a:gdLst/>
            <a:ahLst/>
            <a:rect l="0" t="0" r="r" b="b"/>
            <a:pathLst>
              <a:path fill="none" w="5645" h="4472">
                <a:moveTo>
                  <a:pt x="0" y="4472"/>
                </a:moveTo>
                <a:lnTo>
                  <a:pt x="5645" y="4472"/>
                </a:lnTo>
                <a:lnTo>
                  <a:pt x="5645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367240" y="1974960"/>
            <a:ext cx="1800" cy="1609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7240" y="3584520"/>
            <a:ext cx="203220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367240" y="1974960"/>
            <a:ext cx="1800" cy="1609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367240" y="3565440"/>
            <a:ext cx="180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67240" y="1974960"/>
            <a:ext cx="180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18280" y="3616200"/>
            <a:ext cx="100080" cy="1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-0.5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873760" y="3565440"/>
            <a:ext cx="144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73760" y="1974960"/>
            <a:ext cx="144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872320" y="3616200"/>
            <a:ext cx="3168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384960" y="3565440"/>
            <a:ext cx="144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84960" y="1974960"/>
            <a:ext cx="144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356520" y="3616200"/>
            <a:ext cx="79200" cy="1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0.5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892920" y="3565440"/>
            <a:ext cx="144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92920" y="1974960"/>
            <a:ext cx="144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91480" y="3616200"/>
            <a:ext cx="3168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7399440" y="3565440"/>
            <a:ext cx="144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99440" y="1974960"/>
            <a:ext cx="144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369200" y="3616200"/>
            <a:ext cx="79200" cy="1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67240" y="3584520"/>
            <a:ext cx="1908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380360" y="3584520"/>
            <a:ext cx="1908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257800" y="3559320"/>
            <a:ext cx="100080" cy="1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-0.5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67240" y="3182760"/>
            <a:ext cx="1908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380360" y="3182760"/>
            <a:ext cx="1908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27640" y="3159000"/>
            <a:ext cx="3168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67240" y="2782800"/>
            <a:ext cx="1908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7380360" y="2782800"/>
            <a:ext cx="1908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276880" y="2757600"/>
            <a:ext cx="79200" cy="1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0.5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7240" y="2376360"/>
            <a:ext cx="1908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7380360" y="2376360"/>
            <a:ext cx="1908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27640" y="2351160"/>
            <a:ext cx="3168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67240" y="1974960"/>
            <a:ext cx="1908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7380360" y="1974960"/>
            <a:ext cx="1908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276880" y="1949400"/>
            <a:ext cx="79200" cy="1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67240" y="1974960"/>
            <a:ext cx="203220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67240" y="1974960"/>
            <a:ext cx="2032200" cy="1609920"/>
          </a:xfrm>
          <a:custGeom>
            <a:avLst/>
            <a:gdLst/>
            <a:ahLst/>
            <a:rect l="0" t="0" r="r" b="b"/>
            <a:pathLst>
              <a:path fill="none" w="5645" h="4472">
                <a:moveTo>
                  <a:pt x="0" y="4472"/>
                </a:moveTo>
                <a:lnTo>
                  <a:pt x="5645" y="4472"/>
                </a:lnTo>
                <a:lnTo>
                  <a:pt x="5645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367240" y="1974960"/>
            <a:ext cx="1800" cy="1609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59360" y="3168720"/>
            <a:ext cx="38160" cy="38160"/>
          </a:xfrm>
          <a:prstGeom prst="ellipse">
            <a:avLst/>
          </a:prstGeom>
          <a:noFill/>
          <a:ln w="12600">
            <a:solidFill>
              <a:srgbClr val="ff0000"/>
            </a:solidFill>
            <a:round/>
          </a:ln>
        </p:spPr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59360" y="2362320"/>
            <a:ext cx="38160" cy="38160"/>
          </a:xfrm>
          <a:prstGeom prst="ellipse">
            <a:avLst/>
          </a:prstGeom>
          <a:noFill/>
          <a:ln w="12600">
            <a:solidFill>
              <a:srgbClr val="ff0000"/>
            </a:solidFill>
            <a:round/>
          </a:ln>
        </p:spPr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78520" y="3168720"/>
            <a:ext cx="38160" cy="38160"/>
          </a:xfrm>
          <a:prstGeom prst="ellipse">
            <a:avLst/>
          </a:prstGeom>
          <a:noFill/>
          <a:ln w="12600">
            <a:solidFill>
              <a:srgbClr val="ff0000"/>
            </a:solidFill>
            <a:round/>
          </a:ln>
        </p:spPr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78520" y="2362320"/>
            <a:ext cx="38160" cy="38160"/>
          </a:xfrm>
          <a:prstGeom prst="ellipse">
            <a:avLst/>
          </a:prstGeom>
          <a:noFill/>
          <a:ln w="12600">
            <a:solidFill>
              <a:srgbClr val="ff0000"/>
            </a:solidFill>
            <a:round/>
          </a:ln>
        </p:spPr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73760" y="3182760"/>
            <a:ext cx="1019160" cy="1800"/>
          </a:xfrm>
          <a:prstGeom prst="line">
            <a:avLst/>
          </a:prstGeom>
          <a:ln w="12600">
            <a:solidFill>
              <a:srgbClr val="0000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73760" y="2376360"/>
            <a:ext cx="1019160" cy="806400"/>
          </a:xfrm>
          <a:prstGeom prst="line">
            <a:avLst/>
          </a:prstGeom>
          <a:ln w="12600">
            <a:solidFill>
              <a:srgbClr val="0000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873760" y="2376360"/>
            <a:ext cx="1019160" cy="806400"/>
          </a:xfrm>
          <a:prstGeom prst="line">
            <a:avLst/>
          </a:prstGeom>
          <a:ln w="12600">
            <a:solidFill>
              <a:srgbClr val="0000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73760" y="2376360"/>
            <a:ext cx="1019160" cy="1800"/>
          </a:xfrm>
          <a:prstGeom prst="line">
            <a:avLst/>
          </a:prstGeom>
          <a:ln w="12600">
            <a:solidFill>
              <a:srgbClr val="0000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32520" y="1994040"/>
            <a:ext cx="6415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+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840280" y="2679840"/>
            <a:ext cx="5698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727600" y="2374920"/>
            <a:ext cx="7412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+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043680" y="3137040"/>
            <a:ext cx="6714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81080" y="4205160"/>
            <a:ext cx="4532400" cy="204300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1828800" y="2590920"/>
            <a:ext cx="1676520" cy="1533240"/>
            <a:chOff x="1828800" y="2590920"/>
            <a:chExt cx="1676520" cy="1533240"/>
          </a:xfrm>
        </p:grpSpPr>
        <p:sp>
          <p:nvSpPr>
            <p:cNvPr id="115" name=""/>
            <p:cNvSpPr/>
            <p:nvPr/>
          </p:nvSpPr>
          <p:spPr>
            <a:xfrm>
              <a:off x="2057400" y="2895480"/>
              <a:ext cx="38088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2971800" y="2590920"/>
              <a:ext cx="228600" cy="33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28800" y="266688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09680" y="26668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5480" y="35053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124080" y="2825640"/>
              <a:ext cx="0" cy="679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00400" y="26668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2666880" y="335268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09680" y="35053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743200" y="35812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2603520" y="3670200"/>
              <a:ext cx="3160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09680" y="3276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 txBox="1"/>
          <p:nvPr/>
        </p:nvSpPr>
        <p:spPr>
          <a:xfrm>
            <a:off x="609480" y="228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7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eg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C Trel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676520"/>
            <a:ext cx="2666880" cy="32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= [1+D+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+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gular trellis structure is consistent with the multipath trel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ambling helps with multipath robust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984400" y="4127400"/>
            <a:ext cx="3058920" cy="2108160"/>
            <a:chOff x="2984400" y="4127400"/>
            <a:chExt cx="3058920" cy="2108160"/>
          </a:xfrm>
        </p:grpSpPr>
        <p:sp>
          <p:nvSpPr>
            <p:cNvPr id="133" name=""/>
            <p:cNvSpPr/>
            <p:nvPr/>
          </p:nvSpPr>
          <p:spPr>
            <a:xfrm>
              <a:off x="3117960" y="4160880"/>
              <a:ext cx="2889360" cy="193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17960" y="4160880"/>
              <a:ext cx="2889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17960" y="4160880"/>
              <a:ext cx="2889720" cy="1932480"/>
            </a:xfrm>
            <a:custGeom>
              <a:avLst/>
              <a:gdLst/>
              <a:ahLst/>
              <a:rect l="0" t="0" r="r" b="b"/>
              <a:pathLst>
                <a:path fill="none" w="8027" h="5368">
                  <a:moveTo>
                    <a:pt x="0" y="5368"/>
                  </a:moveTo>
                  <a:lnTo>
                    <a:pt x="8027" y="5368"/>
                  </a:lnTo>
                  <a:lnTo>
                    <a:pt x="8027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3117960" y="4159080"/>
              <a:ext cx="1440" cy="1932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17960" y="6093000"/>
              <a:ext cx="2889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3117960" y="4159080"/>
              <a:ext cx="1440" cy="1932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117960" y="6070680"/>
              <a:ext cx="144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117960" y="4160880"/>
              <a:ext cx="144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3111480" y="6129360"/>
              <a:ext cx="44280" cy="10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598920" y="6070680"/>
              <a:ext cx="144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98920" y="4160880"/>
              <a:ext cx="144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3591000" y="6129360"/>
              <a:ext cx="44280" cy="10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078440" y="6070680"/>
              <a:ext cx="144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78440" y="4160880"/>
              <a:ext cx="144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4071960" y="6129360"/>
              <a:ext cx="44280" cy="10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4565520" y="6070680"/>
              <a:ext cx="180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65520" y="4160880"/>
              <a:ext cx="180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4559400" y="6129360"/>
              <a:ext cx="44280" cy="10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5046840" y="6070680"/>
              <a:ext cx="144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46840" y="4160880"/>
              <a:ext cx="144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5038560" y="6129360"/>
              <a:ext cx="44280" cy="10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5526000" y="6070680"/>
              <a:ext cx="180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26000" y="4160880"/>
              <a:ext cx="180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5518080" y="6129360"/>
              <a:ext cx="44280" cy="10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6006960" y="6070680"/>
              <a:ext cx="180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06960" y="4160880"/>
              <a:ext cx="180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5999040" y="6129360"/>
              <a:ext cx="44280" cy="10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17960" y="609300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5978520" y="609300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3057480" y="6060960"/>
              <a:ext cx="44280" cy="10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17960" y="577044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5978520" y="577044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2984400" y="5738760"/>
              <a:ext cx="11124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17960" y="544680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978520" y="544680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3057480" y="5415120"/>
              <a:ext cx="44280" cy="10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17960" y="512928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5978520" y="512928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2984400" y="5097600"/>
              <a:ext cx="11124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17960" y="480708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5978520" y="480708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3057480" y="4773600"/>
              <a:ext cx="44280" cy="10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17960" y="448452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978520" y="448452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2984400" y="4451400"/>
              <a:ext cx="11124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17960" y="416088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978520" y="416088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3057480" y="4127400"/>
              <a:ext cx="44280" cy="10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17960" y="4160880"/>
              <a:ext cx="2889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17960" y="4160880"/>
              <a:ext cx="2889720" cy="1932480"/>
            </a:xfrm>
            <a:custGeom>
              <a:avLst/>
              <a:gdLst/>
              <a:ahLst/>
              <a:rect l="0" t="0" r="r" b="b"/>
              <a:pathLst>
                <a:path fill="none" w="8027" h="5368">
                  <a:moveTo>
                    <a:pt x="0" y="5368"/>
                  </a:moveTo>
                  <a:lnTo>
                    <a:pt x="8027" y="5368"/>
                  </a:lnTo>
                  <a:lnTo>
                    <a:pt x="8027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117960" y="4159080"/>
              <a:ext cx="1440" cy="1932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98880" y="6075360"/>
              <a:ext cx="5256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78400" y="6075360"/>
              <a:ext cx="5400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59360" y="6075360"/>
              <a:ext cx="5256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46440" y="6075360"/>
              <a:ext cx="5256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25960" y="6075360"/>
              <a:ext cx="5400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5480" y="6075360"/>
              <a:ext cx="5400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86440" y="6075360"/>
              <a:ext cx="5400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98880" y="5430960"/>
              <a:ext cx="5256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578400" y="5430960"/>
              <a:ext cx="5400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59360" y="5430960"/>
              <a:ext cx="5256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46440" y="5430960"/>
              <a:ext cx="5256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25960" y="5430960"/>
              <a:ext cx="5400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05480" y="5430960"/>
              <a:ext cx="5400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86440" y="5430960"/>
              <a:ext cx="5400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98880" y="4791240"/>
              <a:ext cx="52560" cy="428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78400" y="4791240"/>
              <a:ext cx="54000" cy="428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59360" y="4791240"/>
              <a:ext cx="52560" cy="428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46440" y="4791240"/>
              <a:ext cx="52560" cy="428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25960" y="4791240"/>
              <a:ext cx="54000" cy="428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505480" y="4791240"/>
              <a:ext cx="54000" cy="428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86440" y="4791240"/>
              <a:ext cx="54000" cy="428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98880" y="4143240"/>
              <a:ext cx="5256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78400" y="4143240"/>
              <a:ext cx="5400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59360" y="4143240"/>
              <a:ext cx="5256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546440" y="4143240"/>
              <a:ext cx="5256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25960" y="4143240"/>
              <a:ext cx="5400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05480" y="4143240"/>
              <a:ext cx="5400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986440" y="4143240"/>
              <a:ext cx="5400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17960" y="6093000"/>
              <a:ext cx="480960" cy="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17960" y="4807080"/>
              <a:ext cx="480960" cy="128592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3117960" y="5445000"/>
              <a:ext cx="480960" cy="64620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7960" y="4807080"/>
              <a:ext cx="480960" cy="63972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3117960" y="4805280"/>
              <a:ext cx="480960" cy="63972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17960" y="4160880"/>
              <a:ext cx="480960" cy="64440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3117960" y="4159080"/>
              <a:ext cx="480960" cy="128448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17960" y="4160880"/>
              <a:ext cx="480960" cy="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98920" y="6093000"/>
              <a:ext cx="479520" cy="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598920" y="4807080"/>
              <a:ext cx="479520" cy="128592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3598920" y="5445000"/>
              <a:ext cx="479520" cy="64620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98920" y="4807080"/>
              <a:ext cx="479520" cy="63972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3598920" y="4805280"/>
              <a:ext cx="479520" cy="63972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98920" y="4160880"/>
              <a:ext cx="479520" cy="64440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598920" y="4159080"/>
              <a:ext cx="479520" cy="128448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98920" y="4160880"/>
              <a:ext cx="479520" cy="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78440" y="6093000"/>
              <a:ext cx="487080" cy="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78440" y="4807080"/>
              <a:ext cx="487080" cy="128592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078440" y="5445000"/>
              <a:ext cx="487080" cy="64620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78440" y="4807080"/>
              <a:ext cx="487080" cy="63972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078440" y="4805280"/>
              <a:ext cx="487080" cy="63972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78440" y="4160880"/>
              <a:ext cx="487080" cy="64440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4078440" y="4159080"/>
              <a:ext cx="487080" cy="128448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78440" y="4160880"/>
              <a:ext cx="487080" cy="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65520" y="6093000"/>
              <a:ext cx="481320" cy="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565520" y="4807080"/>
              <a:ext cx="481320" cy="128592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565520" y="5445000"/>
              <a:ext cx="481320" cy="64620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65520" y="4807080"/>
              <a:ext cx="481320" cy="63972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4565520" y="4805280"/>
              <a:ext cx="481320" cy="63972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565520" y="4160880"/>
              <a:ext cx="481320" cy="64440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4565520" y="4159080"/>
              <a:ext cx="481320" cy="128448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65520" y="4160880"/>
              <a:ext cx="481320" cy="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046840" y="6093000"/>
              <a:ext cx="479160" cy="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46840" y="4807080"/>
              <a:ext cx="479160" cy="128592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046840" y="5445000"/>
              <a:ext cx="479160" cy="64620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046840" y="4807080"/>
              <a:ext cx="479160" cy="63972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5046840" y="4805280"/>
              <a:ext cx="479160" cy="63972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046840" y="4160880"/>
              <a:ext cx="479160" cy="64440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5046840" y="4159080"/>
              <a:ext cx="479160" cy="128448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46840" y="4160880"/>
              <a:ext cx="479160" cy="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26000" y="6093000"/>
              <a:ext cx="480960" cy="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26000" y="4807080"/>
              <a:ext cx="480960" cy="128592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5526000" y="5445000"/>
              <a:ext cx="480960" cy="64620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26000" y="4807080"/>
              <a:ext cx="480960" cy="63972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5526000" y="4805280"/>
              <a:ext cx="480960" cy="63972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26000" y="4160880"/>
              <a:ext cx="480960" cy="64440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5526000" y="4159080"/>
              <a:ext cx="480960" cy="128448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26000" y="4160880"/>
              <a:ext cx="480960" cy="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17960" y="6093000"/>
              <a:ext cx="48096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598920" y="5445000"/>
              <a:ext cx="479520" cy="6462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4078440" y="4159080"/>
              <a:ext cx="487080" cy="128448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65520" y="4160880"/>
              <a:ext cx="481320" cy="6444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46840" y="4807080"/>
              <a:ext cx="479160" cy="63972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5526000" y="4159080"/>
              <a:ext cx="480960" cy="128448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962520" y="1676520"/>
            <a:ext cx="3733560" cy="1904760"/>
            <a:chOff x="3962520" y="1676520"/>
            <a:chExt cx="3733560" cy="1904760"/>
          </a:xfrm>
        </p:grpSpPr>
        <p:sp>
          <p:nvSpPr>
            <p:cNvPr id="267" name=""/>
            <p:cNvSpPr/>
            <p:nvPr/>
          </p:nvSpPr>
          <p:spPr>
            <a:xfrm>
              <a:off x="4191120" y="2362320"/>
              <a:ext cx="38088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5105520" y="1828800"/>
              <a:ext cx="228600" cy="33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43400" y="2895480"/>
              <a:ext cx="711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190512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43400" y="1905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5257800" y="20574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334120" y="1905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43400" y="27432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43400" y="33526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91120" y="2971800"/>
              <a:ext cx="38088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5486400" y="2057400"/>
              <a:ext cx="228600" cy="33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5638680" y="2286000"/>
              <a:ext cx="0" cy="1295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15000" y="22096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6248520" y="1676520"/>
              <a:ext cx="9144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iod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crambl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PSK M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5105520" y="2743200"/>
              <a:ext cx="228600" cy="33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5257800" y="297180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43400" y="358128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162920" y="19810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43400" y="220968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 txBox="1"/>
          <p:nvPr/>
        </p:nvSpPr>
        <p:spPr>
          <a:xfrm>
            <a:off x="609480" y="228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7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eg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llis of a Block 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=8, k=4, d=4) 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rregular trellis structure makes it difficult to jointly demodulate/de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851040" y="3625920"/>
            <a:ext cx="7315200" cy="2066760"/>
            <a:chOff x="851040" y="3625920"/>
            <a:chExt cx="7315200" cy="2066760"/>
          </a:xfrm>
        </p:grpSpPr>
        <p:sp>
          <p:nvSpPr>
            <p:cNvPr id="293" name=""/>
            <p:cNvSpPr/>
            <p:nvPr/>
          </p:nvSpPr>
          <p:spPr>
            <a:xfrm>
              <a:off x="898560" y="3657600"/>
              <a:ext cx="2409840" cy="1908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98560" y="3657600"/>
              <a:ext cx="24098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98560" y="3657600"/>
              <a:ext cx="2410200" cy="1908360"/>
            </a:xfrm>
            <a:custGeom>
              <a:avLst/>
              <a:gdLst/>
              <a:ahLst/>
              <a:rect l="0" t="0" r="r" b="b"/>
              <a:pathLst>
                <a:path fill="none" w="6695" h="5301">
                  <a:moveTo>
                    <a:pt x="0" y="5301"/>
                  </a:moveTo>
                  <a:lnTo>
                    <a:pt x="6695" y="5301"/>
                  </a:lnTo>
                  <a:lnTo>
                    <a:pt x="669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898560" y="3657600"/>
              <a:ext cx="1440" cy="1908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98560" y="5565600"/>
              <a:ext cx="240984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898560" y="3657600"/>
              <a:ext cx="1440" cy="1908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898560" y="554040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98560" y="3657600"/>
              <a:ext cx="144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895320" y="560052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1200240" y="554040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200240" y="3657600"/>
              <a:ext cx="144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>
              <a:off x="1195560" y="560052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1500120" y="554040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500120" y="3657600"/>
              <a:ext cx="180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>
              <a:off x="1495440" y="560052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1800360" y="554040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800360" y="3657600"/>
              <a:ext cx="144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1797120" y="560052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2106720" y="554040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106720" y="3657600"/>
              <a:ext cx="144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2103480" y="560052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2406600" y="554040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406600" y="3657600"/>
              <a:ext cx="180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2403360" y="560052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708280" y="554040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08280" y="3657600"/>
              <a:ext cx="144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>
              <a:off x="2703600" y="560052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008160" y="554040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08160" y="3657600"/>
              <a:ext cx="180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3003480" y="560052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308400" y="554040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08400" y="3657600"/>
              <a:ext cx="144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>
              <a:off x="3305160" y="560052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98560" y="5565600"/>
              <a:ext cx="223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286080" y="5565600"/>
              <a:ext cx="223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851040" y="553248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98560" y="5291280"/>
              <a:ext cx="223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286080" y="5291280"/>
              <a:ext cx="223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851040" y="525924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98560" y="5022720"/>
              <a:ext cx="223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286080" y="5022720"/>
              <a:ext cx="223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 txBox="1"/>
            <p:nvPr/>
          </p:nvSpPr>
          <p:spPr>
            <a:xfrm>
              <a:off x="851040" y="499104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98560" y="4748040"/>
              <a:ext cx="223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3286080" y="4748040"/>
              <a:ext cx="223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 txBox="1"/>
            <p:nvPr/>
          </p:nvSpPr>
          <p:spPr>
            <a:xfrm>
              <a:off x="851040" y="471636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98560" y="4475160"/>
              <a:ext cx="223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3286080" y="4475160"/>
              <a:ext cx="223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 txBox="1"/>
            <p:nvPr/>
          </p:nvSpPr>
          <p:spPr>
            <a:xfrm>
              <a:off x="851040" y="444168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98560" y="4200480"/>
              <a:ext cx="223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286080" y="4200480"/>
              <a:ext cx="223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851040" y="416880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98560" y="3932280"/>
              <a:ext cx="223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286080" y="3932280"/>
              <a:ext cx="223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851040" y="390060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98560" y="3657600"/>
              <a:ext cx="223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286080" y="3657600"/>
              <a:ext cx="223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851040" y="362592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98560" y="3657600"/>
              <a:ext cx="24098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898560" y="3657600"/>
              <a:ext cx="1440" cy="1908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8272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8260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98560" y="5565600"/>
              <a:ext cx="301680" cy="180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8272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18260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898560" y="5289480"/>
              <a:ext cx="301680" cy="27468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18260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8260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82840" y="5548320"/>
              <a:ext cx="460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82840" y="5273640"/>
              <a:ext cx="460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00240" y="5565600"/>
              <a:ext cx="299880" cy="180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00240" y="5291280"/>
              <a:ext cx="299880" cy="144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18260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8260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82840" y="5005440"/>
              <a:ext cx="460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82840" y="4732200"/>
              <a:ext cx="460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1200240" y="4746600"/>
              <a:ext cx="299880" cy="81756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1200240" y="5021280"/>
              <a:ext cx="299880" cy="26820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82840" y="5548320"/>
              <a:ext cx="460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82840" y="5273640"/>
              <a:ext cx="460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82840" y="5005440"/>
              <a:ext cx="460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482840" y="4732200"/>
              <a:ext cx="460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8452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8452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84520" y="50054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84520" y="473220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500120" y="5565600"/>
              <a:ext cx="300240" cy="180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00120" y="5291280"/>
              <a:ext cx="300240" cy="144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00120" y="5022720"/>
              <a:ext cx="300240" cy="180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500120" y="4748040"/>
              <a:ext cx="300240" cy="180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82840" y="5548320"/>
              <a:ext cx="460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482840" y="5273640"/>
              <a:ext cx="460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82840" y="5005440"/>
              <a:ext cx="460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82840" y="4732200"/>
              <a:ext cx="460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84520" y="445788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84520" y="418320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84520" y="39146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84520" y="364176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1500120" y="4200480"/>
              <a:ext cx="300240" cy="136512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1500120" y="4475160"/>
              <a:ext cx="300240" cy="81612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1500120" y="3657600"/>
              <a:ext cx="300240" cy="136512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1500120" y="3932280"/>
              <a:ext cx="300240" cy="81576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78452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784520" y="50054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784520" y="445788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784520" y="39146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09088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9088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090880" y="50054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090880" y="473220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00360" y="5565600"/>
              <a:ext cx="306360" cy="180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00360" y="5022720"/>
              <a:ext cx="306360" cy="26856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00360" y="4475160"/>
              <a:ext cx="306360" cy="54756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00360" y="3932280"/>
              <a:ext cx="306360" cy="81576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78452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784520" y="473220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784520" y="418320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784520" y="364176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9088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9088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090880" y="50054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90880" y="473220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1800360" y="4748040"/>
              <a:ext cx="306360" cy="54324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00360" y="4748040"/>
              <a:ext cx="306360" cy="27468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00360" y="4200480"/>
              <a:ext cx="306360" cy="109080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00360" y="3657600"/>
              <a:ext cx="306360" cy="190800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9088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9088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0880" y="50054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090880" y="473220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9076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9076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390760" y="50054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390760" y="473220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106720" y="5565600"/>
              <a:ext cx="299880" cy="180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106720" y="5291280"/>
              <a:ext cx="299880" cy="144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106720" y="5022720"/>
              <a:ext cx="299880" cy="180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06720" y="4748040"/>
              <a:ext cx="299880" cy="180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9088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09088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090880" y="50054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90880" y="473220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390760" y="445788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390760" y="418320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390760" y="39146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390760" y="364176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2106720" y="4473720"/>
              <a:ext cx="299880" cy="109044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2106720" y="4199040"/>
              <a:ext cx="299880" cy="109044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106720" y="3930480"/>
              <a:ext cx="299880" cy="109080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2106720" y="3656160"/>
              <a:ext cx="299880" cy="109044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9076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39076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390760" y="39146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90760" y="364176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9064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9064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90640" y="50054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90640" y="473220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406600" y="5565600"/>
              <a:ext cx="301680" cy="180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406600" y="5291280"/>
              <a:ext cx="301680" cy="144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406600" y="3932280"/>
              <a:ext cx="301680" cy="109044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406600" y="3657600"/>
              <a:ext cx="301680" cy="109044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90760" y="50054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390760" y="473220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390760" y="445788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390760" y="418320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69064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69064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690640" y="50054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690640" y="473220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2406600" y="4746600"/>
              <a:ext cx="301680" cy="27468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406600" y="4748040"/>
              <a:ext cx="301680" cy="27468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406600" y="4475160"/>
              <a:ext cx="301680" cy="81612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406600" y="4200480"/>
              <a:ext cx="301680" cy="136512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69064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690640" y="473220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9088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99088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708280" y="5565600"/>
              <a:ext cx="299880" cy="180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708280" y="4748040"/>
              <a:ext cx="299880" cy="54324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9064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690640" y="50054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99088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99088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08280" y="5291280"/>
              <a:ext cx="299880" cy="144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708280" y="5022720"/>
              <a:ext cx="299880" cy="54288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99088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29256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008160" y="5565600"/>
              <a:ext cx="300240" cy="180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99088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29256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008160" y="5291280"/>
              <a:ext cx="300240" cy="27432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301920" y="3657600"/>
              <a:ext cx="2409840" cy="1908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01920" y="3657600"/>
              <a:ext cx="24098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01920" y="3657600"/>
              <a:ext cx="2410200" cy="1908360"/>
            </a:xfrm>
            <a:custGeom>
              <a:avLst/>
              <a:gdLst/>
              <a:ahLst/>
              <a:rect l="0" t="0" r="r" b="b"/>
              <a:pathLst>
                <a:path fill="none" w="6695" h="5301">
                  <a:moveTo>
                    <a:pt x="0" y="5301"/>
                  </a:moveTo>
                  <a:lnTo>
                    <a:pt x="6695" y="5301"/>
                  </a:lnTo>
                  <a:lnTo>
                    <a:pt x="669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3301920" y="3657600"/>
              <a:ext cx="1800" cy="1908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01920" y="5565600"/>
              <a:ext cx="240984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3301920" y="3657600"/>
              <a:ext cx="1800" cy="1908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3301920" y="554040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301920" y="3657600"/>
              <a:ext cx="180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 txBox="1"/>
            <p:nvPr/>
          </p:nvSpPr>
          <p:spPr>
            <a:xfrm>
              <a:off x="3298680" y="560052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3603600" y="554040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603600" y="3657600"/>
              <a:ext cx="144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 txBox="1"/>
            <p:nvPr/>
          </p:nvSpPr>
          <p:spPr>
            <a:xfrm>
              <a:off x="3598920" y="560052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3903840" y="554040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903840" y="3657600"/>
              <a:ext cx="144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3898800" y="560052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4203720" y="554040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203720" y="3657600"/>
              <a:ext cx="144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 txBox="1"/>
            <p:nvPr/>
          </p:nvSpPr>
          <p:spPr>
            <a:xfrm>
              <a:off x="4200480" y="560052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4510080" y="554040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10080" y="3657600"/>
              <a:ext cx="144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 txBox="1"/>
            <p:nvPr/>
          </p:nvSpPr>
          <p:spPr>
            <a:xfrm>
              <a:off x="4506840" y="560052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4809960" y="554040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809960" y="3657600"/>
              <a:ext cx="180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 txBox="1"/>
            <p:nvPr/>
          </p:nvSpPr>
          <p:spPr>
            <a:xfrm>
              <a:off x="4807080" y="560052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5111640" y="554040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111640" y="3657600"/>
              <a:ext cx="180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 txBox="1"/>
            <p:nvPr/>
          </p:nvSpPr>
          <p:spPr>
            <a:xfrm>
              <a:off x="5106960" y="560052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5411880" y="554040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411880" y="3657600"/>
              <a:ext cx="144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 txBox="1"/>
            <p:nvPr/>
          </p:nvSpPr>
          <p:spPr>
            <a:xfrm>
              <a:off x="5407200" y="560052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5711760" y="554040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11760" y="3657600"/>
              <a:ext cx="180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 txBox="1"/>
            <p:nvPr/>
          </p:nvSpPr>
          <p:spPr>
            <a:xfrm>
              <a:off x="5708520" y="560052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301920" y="5565600"/>
              <a:ext cx="223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5689440" y="5565600"/>
              <a:ext cx="223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 txBox="1"/>
            <p:nvPr/>
          </p:nvSpPr>
          <p:spPr>
            <a:xfrm>
              <a:off x="3254400" y="553248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301920" y="5291280"/>
              <a:ext cx="223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5689440" y="5291280"/>
              <a:ext cx="223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 txBox="1"/>
            <p:nvPr/>
          </p:nvSpPr>
          <p:spPr>
            <a:xfrm>
              <a:off x="3254400" y="525924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301920" y="5022720"/>
              <a:ext cx="223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5689440" y="5022720"/>
              <a:ext cx="223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 txBox="1"/>
            <p:nvPr/>
          </p:nvSpPr>
          <p:spPr>
            <a:xfrm>
              <a:off x="3254400" y="499104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301920" y="4748040"/>
              <a:ext cx="223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5689440" y="4748040"/>
              <a:ext cx="223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 txBox="1"/>
            <p:nvPr/>
          </p:nvSpPr>
          <p:spPr>
            <a:xfrm>
              <a:off x="3254400" y="471636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301920" y="4475160"/>
              <a:ext cx="223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5689440" y="4475160"/>
              <a:ext cx="223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 txBox="1"/>
            <p:nvPr/>
          </p:nvSpPr>
          <p:spPr>
            <a:xfrm>
              <a:off x="3254400" y="444168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01920" y="4200480"/>
              <a:ext cx="223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5689440" y="4200480"/>
              <a:ext cx="223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 txBox="1"/>
            <p:nvPr/>
          </p:nvSpPr>
          <p:spPr>
            <a:xfrm>
              <a:off x="3254400" y="416880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301920" y="3932280"/>
              <a:ext cx="223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5689440" y="3932280"/>
              <a:ext cx="223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 txBox="1"/>
            <p:nvPr/>
          </p:nvSpPr>
          <p:spPr>
            <a:xfrm>
              <a:off x="3254400" y="390060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301920" y="3657600"/>
              <a:ext cx="223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5689440" y="3657600"/>
              <a:ext cx="223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 txBox="1"/>
            <p:nvPr/>
          </p:nvSpPr>
          <p:spPr>
            <a:xfrm>
              <a:off x="3254400" y="362592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301920" y="3657600"/>
              <a:ext cx="24098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3301920" y="3657600"/>
              <a:ext cx="1800" cy="1908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28608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58632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301920" y="5565600"/>
              <a:ext cx="301680" cy="180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28608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58632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3301920" y="5289480"/>
              <a:ext cx="301680" cy="27468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8632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58632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86200" y="5548320"/>
              <a:ext cx="460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86200" y="5273640"/>
              <a:ext cx="460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603600" y="5565600"/>
              <a:ext cx="300240" cy="180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603600" y="5291280"/>
              <a:ext cx="300240" cy="144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8632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58632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886200" y="5005440"/>
              <a:ext cx="460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86200" y="4732200"/>
              <a:ext cx="460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3603600" y="4746600"/>
              <a:ext cx="300240" cy="81756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3603600" y="5021280"/>
              <a:ext cx="300240" cy="26820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886200" y="5548320"/>
              <a:ext cx="460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86200" y="5273640"/>
              <a:ext cx="460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886200" y="5005440"/>
              <a:ext cx="460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86200" y="4732200"/>
              <a:ext cx="460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18788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18788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187880" y="50054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187880" y="473220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903840" y="5565600"/>
              <a:ext cx="299880" cy="180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903840" y="5291280"/>
              <a:ext cx="299880" cy="144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903840" y="5022720"/>
              <a:ext cx="299880" cy="180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903840" y="4748040"/>
              <a:ext cx="299880" cy="180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86200" y="5548320"/>
              <a:ext cx="460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886200" y="5273640"/>
              <a:ext cx="460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886200" y="5005440"/>
              <a:ext cx="460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886200" y="4732200"/>
              <a:ext cx="460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187880" y="445788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187880" y="418320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187880" y="39146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187880" y="364176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3903840" y="4200480"/>
              <a:ext cx="299880" cy="136512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3903840" y="4475160"/>
              <a:ext cx="299880" cy="81612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3903840" y="3657600"/>
              <a:ext cx="299880" cy="136512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3903840" y="3932280"/>
              <a:ext cx="299880" cy="81576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18788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187880" y="50054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187880" y="445788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187880" y="39146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9424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9424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494240" y="50054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494240" y="473220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203720" y="5565600"/>
              <a:ext cx="306360" cy="180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203720" y="5022720"/>
              <a:ext cx="306360" cy="26856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03720" y="4475160"/>
              <a:ext cx="306360" cy="54756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203720" y="3932280"/>
              <a:ext cx="306360" cy="81576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18788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187880" y="473220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187880" y="418320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87880" y="364176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49424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49424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494240" y="50054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494240" y="473220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4203720" y="4748040"/>
              <a:ext cx="306360" cy="54324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203720" y="4748040"/>
              <a:ext cx="306360" cy="27468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203720" y="4200480"/>
              <a:ext cx="306360" cy="109080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203720" y="3657600"/>
              <a:ext cx="306360" cy="190800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49424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49424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494240" y="50054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494240" y="473220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79412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79412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794120" y="50054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794120" y="473220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510080" y="5565600"/>
              <a:ext cx="299880" cy="180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510080" y="5291280"/>
              <a:ext cx="299880" cy="144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510080" y="5022720"/>
              <a:ext cx="299880" cy="180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510080" y="4748040"/>
              <a:ext cx="299880" cy="180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49424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49424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494240" y="50054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494240" y="473220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794120" y="445788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794120" y="418320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794120" y="39146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794120" y="364176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4510080" y="4473720"/>
              <a:ext cx="299880" cy="109044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4510080" y="4199040"/>
              <a:ext cx="299880" cy="109044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4510080" y="3930480"/>
              <a:ext cx="299880" cy="109080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4510080" y="3656160"/>
              <a:ext cx="299880" cy="109044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79412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79412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794120" y="39146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794120" y="364176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9436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09436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094360" y="50054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094360" y="473220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809960" y="5565600"/>
              <a:ext cx="301680" cy="180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809960" y="5291280"/>
              <a:ext cx="301680" cy="144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809960" y="3932280"/>
              <a:ext cx="301680" cy="109044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809960" y="3657600"/>
              <a:ext cx="301680" cy="109044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794120" y="50054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794120" y="473220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794120" y="445788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794120" y="418320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09436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09436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094360" y="50054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94360" y="473220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4809960" y="4746600"/>
              <a:ext cx="301680" cy="27468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809960" y="4748040"/>
              <a:ext cx="301680" cy="27468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09960" y="4475160"/>
              <a:ext cx="301680" cy="81612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809960" y="4200480"/>
              <a:ext cx="301680" cy="136512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09436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094360" y="473220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39424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39424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111640" y="5565600"/>
              <a:ext cx="300240" cy="180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111640" y="4748040"/>
              <a:ext cx="300240" cy="54324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09436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094360" y="50054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39424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39424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11640" y="5291280"/>
              <a:ext cx="300240" cy="144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111640" y="5022720"/>
              <a:ext cx="300240" cy="54288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39424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69592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411880" y="5565600"/>
              <a:ext cx="299880" cy="180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39424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69592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411880" y="5291280"/>
              <a:ext cx="299880" cy="27432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721480" y="3657600"/>
              <a:ext cx="2409840" cy="1908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721480" y="3657600"/>
              <a:ext cx="24098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21480" y="3657600"/>
              <a:ext cx="2410200" cy="1908360"/>
            </a:xfrm>
            <a:custGeom>
              <a:avLst/>
              <a:gdLst/>
              <a:ahLst/>
              <a:rect l="0" t="0" r="r" b="b"/>
              <a:pathLst>
                <a:path fill="none" w="6695" h="5301">
                  <a:moveTo>
                    <a:pt x="0" y="5301"/>
                  </a:moveTo>
                  <a:lnTo>
                    <a:pt x="6695" y="5301"/>
                  </a:lnTo>
                  <a:lnTo>
                    <a:pt x="669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5721480" y="3657600"/>
              <a:ext cx="1440" cy="1908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1480" y="5565600"/>
              <a:ext cx="240984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5721480" y="3657600"/>
              <a:ext cx="1440" cy="1908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5721480" y="554040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721480" y="3657600"/>
              <a:ext cx="144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 txBox="1"/>
            <p:nvPr/>
          </p:nvSpPr>
          <p:spPr>
            <a:xfrm>
              <a:off x="5718240" y="560052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6022800" y="554040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022800" y="3657600"/>
              <a:ext cx="180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 txBox="1"/>
            <p:nvPr/>
          </p:nvSpPr>
          <p:spPr>
            <a:xfrm>
              <a:off x="6018120" y="560052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6323040" y="554040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323040" y="3657600"/>
              <a:ext cx="144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 txBox="1"/>
            <p:nvPr/>
          </p:nvSpPr>
          <p:spPr>
            <a:xfrm>
              <a:off x="6318360" y="560052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6622920" y="554040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622920" y="3657600"/>
              <a:ext cx="180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 txBox="1"/>
            <p:nvPr/>
          </p:nvSpPr>
          <p:spPr>
            <a:xfrm>
              <a:off x="6620040" y="560052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6929280" y="554040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929280" y="3657600"/>
              <a:ext cx="180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 txBox="1"/>
            <p:nvPr/>
          </p:nvSpPr>
          <p:spPr>
            <a:xfrm>
              <a:off x="6926400" y="560052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7229520" y="554040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229520" y="3657600"/>
              <a:ext cx="144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 txBox="1"/>
            <p:nvPr/>
          </p:nvSpPr>
          <p:spPr>
            <a:xfrm>
              <a:off x="7226280" y="560052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7531200" y="554040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531200" y="3657600"/>
              <a:ext cx="144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>
              <a:off x="7526160" y="560052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7831080" y="554040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831080" y="3657600"/>
              <a:ext cx="180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 txBox="1"/>
            <p:nvPr/>
          </p:nvSpPr>
          <p:spPr>
            <a:xfrm>
              <a:off x="7826400" y="560052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8131320" y="554040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131320" y="3657600"/>
              <a:ext cx="144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 txBox="1"/>
            <p:nvPr/>
          </p:nvSpPr>
          <p:spPr>
            <a:xfrm>
              <a:off x="8128080" y="560052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721480" y="5565600"/>
              <a:ext cx="2196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8109000" y="5565600"/>
              <a:ext cx="223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 txBox="1"/>
            <p:nvPr/>
          </p:nvSpPr>
          <p:spPr>
            <a:xfrm>
              <a:off x="5673600" y="553248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21480" y="5291280"/>
              <a:ext cx="219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8109000" y="5291280"/>
              <a:ext cx="223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 txBox="1"/>
            <p:nvPr/>
          </p:nvSpPr>
          <p:spPr>
            <a:xfrm>
              <a:off x="5673600" y="525924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721480" y="5022720"/>
              <a:ext cx="2196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8109000" y="5022720"/>
              <a:ext cx="223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 txBox="1"/>
            <p:nvPr/>
          </p:nvSpPr>
          <p:spPr>
            <a:xfrm>
              <a:off x="5673600" y="499104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721480" y="4748040"/>
              <a:ext cx="2196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8109000" y="4748040"/>
              <a:ext cx="223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 txBox="1"/>
            <p:nvPr/>
          </p:nvSpPr>
          <p:spPr>
            <a:xfrm>
              <a:off x="5673600" y="471636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721480" y="4475160"/>
              <a:ext cx="219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8109000" y="4475160"/>
              <a:ext cx="223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 txBox="1"/>
            <p:nvPr/>
          </p:nvSpPr>
          <p:spPr>
            <a:xfrm>
              <a:off x="5673600" y="444168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721480" y="4200480"/>
              <a:ext cx="2196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8109000" y="4200480"/>
              <a:ext cx="223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 txBox="1"/>
            <p:nvPr/>
          </p:nvSpPr>
          <p:spPr>
            <a:xfrm>
              <a:off x="5673600" y="416880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721480" y="3932280"/>
              <a:ext cx="219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8109000" y="3932280"/>
              <a:ext cx="223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 txBox="1"/>
            <p:nvPr/>
          </p:nvSpPr>
          <p:spPr>
            <a:xfrm>
              <a:off x="5673600" y="390060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721480" y="3657600"/>
              <a:ext cx="219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8109000" y="3657600"/>
              <a:ext cx="223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 txBox="1"/>
            <p:nvPr/>
          </p:nvSpPr>
          <p:spPr>
            <a:xfrm>
              <a:off x="5673600" y="3625920"/>
              <a:ext cx="3816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721480" y="3657600"/>
              <a:ext cx="24098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5721480" y="3657600"/>
              <a:ext cx="1440" cy="1908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70564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0552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721480" y="5565600"/>
              <a:ext cx="301320" cy="180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70564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00552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5721480" y="5289480"/>
              <a:ext cx="301320" cy="27468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00552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00552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305400" y="5548320"/>
              <a:ext cx="460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305400" y="5273640"/>
              <a:ext cx="460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22800" y="5565600"/>
              <a:ext cx="300240" cy="180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022800" y="5291280"/>
              <a:ext cx="300240" cy="144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00552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0552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305400" y="5005440"/>
              <a:ext cx="460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305400" y="4732200"/>
              <a:ext cx="460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022800" y="4746600"/>
              <a:ext cx="300240" cy="81756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6022800" y="5021280"/>
              <a:ext cx="300240" cy="26820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305400" y="5548320"/>
              <a:ext cx="460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305400" y="5273640"/>
              <a:ext cx="460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305400" y="5005440"/>
              <a:ext cx="460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305400" y="4732200"/>
              <a:ext cx="460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60708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60708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607080" y="50054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607080" y="473220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323040" y="5565600"/>
              <a:ext cx="299880" cy="180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323040" y="5291280"/>
              <a:ext cx="299880" cy="144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323040" y="5022720"/>
              <a:ext cx="299880" cy="180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323040" y="4748040"/>
              <a:ext cx="299880" cy="180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305400" y="5548320"/>
              <a:ext cx="460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305400" y="5273640"/>
              <a:ext cx="460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305400" y="5005440"/>
              <a:ext cx="460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305400" y="4732200"/>
              <a:ext cx="460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607080" y="445788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607080" y="418320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607080" y="39146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607080" y="364176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6323040" y="4200480"/>
              <a:ext cx="299880" cy="136512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6323040" y="4475160"/>
              <a:ext cx="299880" cy="81612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6323040" y="3657600"/>
              <a:ext cx="299880" cy="136512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6323040" y="3932280"/>
              <a:ext cx="299880" cy="81576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60708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07080" y="50054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607080" y="445788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607080" y="39146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91344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91344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913440" y="50054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913440" y="473220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622920" y="5565600"/>
              <a:ext cx="306360" cy="180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622920" y="5022720"/>
              <a:ext cx="306360" cy="26856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622920" y="4475160"/>
              <a:ext cx="306360" cy="54756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622920" y="3932280"/>
              <a:ext cx="306360" cy="81576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60708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607080" y="473220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07080" y="418320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607080" y="364176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91344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91344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913440" y="50054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913440" y="473220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6622920" y="4748040"/>
              <a:ext cx="306360" cy="54324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622920" y="4748040"/>
              <a:ext cx="306360" cy="27468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622920" y="4200480"/>
              <a:ext cx="306360" cy="109080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622920" y="3657600"/>
              <a:ext cx="306360" cy="190800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91344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91344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913440" y="50054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913440" y="473220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21368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21368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213680" y="50054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213680" y="473220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929280" y="5565600"/>
              <a:ext cx="300240" cy="180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929280" y="5291280"/>
              <a:ext cx="300240" cy="144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929280" y="5022720"/>
              <a:ext cx="300240" cy="180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929280" y="4748040"/>
              <a:ext cx="300240" cy="180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91344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91344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913440" y="50054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913440" y="473220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213680" y="445788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213680" y="418320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213680" y="39146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213680" y="364176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6929280" y="4473720"/>
              <a:ext cx="300240" cy="109044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6929280" y="4199040"/>
              <a:ext cx="300240" cy="109044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6929280" y="3930480"/>
              <a:ext cx="300240" cy="109080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6929280" y="3656160"/>
              <a:ext cx="300240" cy="109044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21368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21368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213680" y="39146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213680" y="364176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51356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51356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513560" y="50054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513560" y="473220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229520" y="5565600"/>
              <a:ext cx="301680" cy="180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229520" y="5291280"/>
              <a:ext cx="301680" cy="144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229520" y="3932280"/>
              <a:ext cx="301680" cy="109044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229520" y="3657600"/>
              <a:ext cx="301680" cy="109044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213680" y="50054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213680" y="473220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213680" y="445788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213680" y="418320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51356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51356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513560" y="50054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513560" y="473220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7229520" y="4746600"/>
              <a:ext cx="301680" cy="27468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229520" y="4748040"/>
              <a:ext cx="301680" cy="27468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229520" y="4475160"/>
              <a:ext cx="301680" cy="81612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229520" y="4200480"/>
              <a:ext cx="301680" cy="136512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51356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513560" y="473220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81380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81380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531200" y="5565600"/>
              <a:ext cx="299880" cy="180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531200" y="4748040"/>
              <a:ext cx="299880" cy="54324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51356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513560" y="500544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81380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81380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531200" y="5291280"/>
              <a:ext cx="299880" cy="144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531200" y="5022720"/>
              <a:ext cx="299880" cy="54288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81380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11548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831080" y="5565600"/>
              <a:ext cx="300240" cy="180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813800" y="5273640"/>
              <a:ext cx="44280" cy="46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115480" y="5548320"/>
              <a:ext cx="44280" cy="44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831080" y="5291280"/>
              <a:ext cx="300240" cy="274320"/>
            </a:xfrm>
            <a:prstGeom prst="line">
              <a:avLst/>
            </a:prstGeom>
            <a:ln w="12600">
              <a:solidFill>
                <a:srgbClr val="0000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"/>
          <p:cNvSpPr txBox="1"/>
          <p:nvPr/>
        </p:nvSpPr>
        <p:spPr>
          <a:xfrm>
            <a:off x="609480" y="228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7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eg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 txBox="1"/>
          <p:nvPr/>
        </p:nvSpPr>
        <p:spPr>
          <a:xfrm>
            <a:off x="685800" y="1219320"/>
            <a:ext cx="7772400" cy="21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K cod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=8, k=4) Z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(n=16, k=8) 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990720" y="2743200"/>
            <a:ext cx="73915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= [1 1 1 1 1 1 1 1]         a = [0 0 0 2 0 0 2 0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[1 0 1 0 1 0 1 0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[1 1 0 0 1 1 0 0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[1 1 1 1 0 0 0 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(over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inear code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with scrambling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Nearest Neighbors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609480" y="228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7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eg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 Distance (AWGN tole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ing 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R vs Eb/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s/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sons/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Robus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Demodulation/De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R vs Eb/No with Delay Sp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609480" y="228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7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eg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=2, k=1, v=2) [4 state BC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= 5 (3.97 dB), adds = 12, cmps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=8, k=4) E.H.C. - 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MBOK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= 4 (3.01 dB), adds = 14, cmps = 3.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=8, k=4) Z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[CCK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(n=16, k=8) 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= 4 (3.01 dB), adds = 32, cmps =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=2, k=1, v=6) [64 state BC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= 10 (6.99 dB), adds = 132, cmps = 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609480" y="228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7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eg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 Heegard</dc:creator>
  <dc:description/>
  <dc:language>en-US</dc:language>
  <cp:lastModifiedBy>Chris Heegard</cp:lastModifiedBy>
  <cp:revision>0</cp:revision>
  <dc:subject/>
  <dc:title>Alantro Proposal</dc:title>
</cp:coreProperties>
</file>