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24EDF-6EF4-4476-A95E-0689B1970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: office, home, restaurant, theatre, hotel, airport, shopping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 - thin serv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9810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taneous Proximity Networking with Piano-enable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D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ystem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6658@email.sps.m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service-specific user interfaces for multiple services without pre-configuring a client for each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a service-specific user interface for newly encount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may be downloaded on demand from the internet/intranet, from the server offering the service, or may be pre-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Piano team has focused on the “things you come near” aspect of short-range wireless networking (I.e., Personal Operating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Goal: work within Bluetooth and the IEEE to standardize the Egalitarian, ad hoc networking protocols and Application Programming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P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code name for short-range spontaneous wirel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re transient, formed as needed when devices come into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without a designated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ut does not require a connection to the internet/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Vision for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ture in which many electronic devices (enabled with Piano)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ther nearby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cap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ex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c information about fundament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temporary wireless networks, as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-Enable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/Location-specific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osks - printing, 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reduction - hotel, theater,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User Interface - thin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mak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 Feature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ni-direc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hidden, automatic operation (I.e., briefcase comp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small size, portabl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an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frequency sharing through spacial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enables ubi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equivalent priva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otection from eavesdropping and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evice can detect and communicate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b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operate as peers without the use of a central contro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can begin communicating without device-specific configuration or human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ssociations are tempo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users to see availabl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enough information for user to decide if further interaction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devices to automatically utilize recogn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formation on service protocols and connec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to establish a session with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naming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iscovery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naming separate from device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grouping and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notification when a requested service enters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support for caching of ser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discovery based on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Ditch</dc:creator>
  <dc:description>Rich Ditch, Motorola</dc:description>
  <dc:language>en-US</dc:language>
  <cp:lastModifiedBy>Rich Ditch</cp:lastModifiedBy>
  <cp:revision>0</cp:revision>
  <dc:subject>doc.: IEEE 802.11-98/252</dc:subject>
  <dc:title>Motorola PIANO Update</dc:title>
</cp:coreProperties>
</file>