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F61-FD24-4018-887E-37E3A9AB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499-F056-455A-A304-8948B07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80E-B3EA-43C3-B08B-05F434DA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EC8-29C6-4AD1-8549-88E889EA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DB1-F845-4A00-A576-587330B1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9FC-9A79-4374-BE90-10393F23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A0A-64CD-4648-A905-A3753EE7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D71-6822-477E-AD22-7861680A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258-EDD3-480C-93F2-8F02169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FBF-7D17-4D65-86C3-52CD109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304-EBB0-478C-82D3-6732EB6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80B-A38B-49B5-96CF-1CE223E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3BF8DA-1F1D-4BBF-A580-911C8541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A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panese Standar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22D-44B0-4789-ABC9-4035004598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4572000"/>
            <a:ext cx="19047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SI B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9051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9880"/>
            <a:ext cx="1905120" cy="83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Eth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67652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/60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1394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5257800" cy="213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295280"/>
            <a:ext cx="9903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3280" y="12952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1600200"/>
            <a:ext cx="2666880" cy="243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0" y="2057400"/>
            <a:ext cx="685800" cy="457200"/>
            <a:chOff x="6858000" y="2057400"/>
            <a:chExt cx="685800" cy="457200"/>
          </a:xfrm>
        </p:grpSpPr>
        <p:sp>
          <p:nvSpPr>
            <p:cNvPr id="58" name=""/>
            <p:cNvSpPr/>
            <p:nvPr/>
          </p:nvSpPr>
          <p:spPr>
            <a:xfrm>
              <a:off x="6858000" y="20574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800" y="217008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96080" y="2057400"/>
            <a:ext cx="685800" cy="390600"/>
            <a:chOff x="7696080" y="2057400"/>
            <a:chExt cx="685800" cy="390600"/>
          </a:xfrm>
        </p:grpSpPr>
        <p:sp>
          <p:nvSpPr>
            <p:cNvPr id="61" name=""/>
            <p:cNvSpPr/>
            <p:nvPr/>
          </p:nvSpPr>
          <p:spPr>
            <a:xfrm>
              <a:off x="7696080" y="2057400"/>
              <a:ext cx="685800" cy="390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3240" y="21430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400800" y="2666880"/>
            <a:ext cx="990720" cy="457200"/>
            <a:chOff x="6400800" y="2666880"/>
            <a:chExt cx="990720" cy="457200"/>
          </a:xfrm>
        </p:grpSpPr>
        <p:sp>
          <p:nvSpPr>
            <p:cNvPr id="64" name=""/>
            <p:cNvSpPr/>
            <p:nvPr/>
          </p:nvSpPr>
          <p:spPr>
            <a:xfrm>
              <a:off x="6400800" y="2666880"/>
              <a:ext cx="99072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39400" y="277956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T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934320" y="3429000"/>
            <a:ext cx="1371600" cy="459000"/>
            <a:chOff x="6934320" y="3429000"/>
            <a:chExt cx="1371600" cy="459000"/>
          </a:xfrm>
        </p:grpSpPr>
        <p:sp>
          <p:nvSpPr>
            <p:cNvPr id="67" name=""/>
            <p:cNvSpPr/>
            <p:nvPr/>
          </p:nvSpPr>
          <p:spPr>
            <a:xfrm>
              <a:off x="6934320" y="3429000"/>
              <a:ext cx="13716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1120" y="3429000"/>
              <a:ext cx="10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4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reless 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086600" y="1447920"/>
            <a:ext cx="9907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1040" y="14479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5120" y="31240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3276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0120" y="2666880"/>
            <a:ext cx="1063080" cy="459000"/>
            <a:chOff x="7620120" y="2666880"/>
            <a:chExt cx="1063080" cy="459000"/>
          </a:xfrm>
        </p:grpSpPr>
        <p:sp>
          <p:nvSpPr>
            <p:cNvPr id="76" name=""/>
            <p:cNvSpPr/>
            <p:nvPr/>
          </p:nvSpPr>
          <p:spPr>
            <a:xfrm>
              <a:off x="7620120" y="2666880"/>
              <a:ext cx="99036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9320" y="2666880"/>
              <a:ext cx="98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git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ad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18288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L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-60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129564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5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123720" y="228600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286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E73-924D-46CA-AF09-90DD41EC9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2:16:10Z</dcterms:created>
  <dc:creator>morikura</dc:creator>
  <dc:description/>
  <dc:language>en-US</dc:language>
  <cp:lastModifiedBy>morikura</cp:lastModifiedBy>
  <cp:lastPrinted>1998-02-10T13:28:06Z</cp:lastPrinted>
  <dcterms:modified xsi:type="dcterms:W3CDTF">1998-07-09T16:54:02Z</dcterms:modified>
  <cp:revision>6</cp:revision>
  <dc:subject/>
  <dc:title>ｽﾗｲﾄﾞ ﾀｲﾄﾙなし</dc:title>
</cp:coreProperties>
</file>