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3124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from TG 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d all comments received in latest lette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omments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revD6.1.doc available on FLASH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changes made were edi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corrections in the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 of spelling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changes were tech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 Techn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group added to MIB conformance section for new notifications added to draft 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cation of dot11StationID requires that the OBJECT-GROUP to which it belongs be deprecated also and a new group defined for the objects remaining with 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 Techn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map Control field ambiguity cor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corrected in DS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94 cor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behalf of TG rev, I move that document 802.11revD6.doc be forwarded to the sponsor for a ten day, default reconfirmation bal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cp:revision>0</cp:revision>
  <dc:subject/>
  <dc:title>Report of TG rev</dc:title>
</cp:coreProperties>
</file>