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54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 Executive Committee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the WPAN SG made a motion to the 802.11 WG Plenary and it was not approved due to lack of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and Wednesday the WPAN SG received expert advice from MAC Layer experts from .11 on how to better understand th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the WPAN SG decided to extend the Study and additional objectives were iden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sion motion was approved in the W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Group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Group timeframe will be extended from 7/98 to 11/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 ?-?, 1998 Interim Meeting WPAN SG (I. Gifford, M/A-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 14-18, 1998 Westford, MA USA Interim Meeting 802.11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 1998 Interim Meeting WPAN SG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 8-13, 1998 Albuquerque, NM USA Plenary Meeting 8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 Study Group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WPAN/WLAN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Need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arranted, draft a PAR and 5 Criteria for submittal to 802/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k appropriate Sponsorship within 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Group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Study Group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key WPAN MAC/PH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for WPAN Application &amp; Usage Scenarios submissions to identify the relevant MAC/PHY parameters for implementation of WP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PAN Comparison Matrix for use with the following MAC/PHY candi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 Proposals MAC/PHY (Intermec, GTE, Motorola, AM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 Liai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MAC/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MAC/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/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PAN Compare &amp; Contrast of 802.11 Annex - PICS Proforma list and repeat, when available, for remaining candidates (see ab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e WPAN 2.4 GHz coexistence with 802.11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o extend the timeframe of the Wireless PAN Study Group under 802.11 with the charter of drafting a WPAN PAR for presentation at the next Plenary of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: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e Chair: Bob H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y/Tech Editor: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otion: Gifford/O’Hara 42-5-7 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om Mo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308640" y="879480"/>
            <a:ext cx="2460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: 4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990720"/>
            <a:ext cx="19191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r: Ha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Ian Gifford</cp:lastModifiedBy>
  <cp:revision>0</cp:revision>
  <dc:subject>doc.: IEEE 802.11-98/254r1</dc:subject>
  <dc:title>IEEE 802.11 WPAN SG ExCom Summary</dc:title>
</cp:coreProperties>
</file>