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6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8400" y="609480"/>
            <a:ext cx="7759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77120"/>
            <a:ext cx="783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Meeting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Joll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6th - 10th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G would like to thank ExCom, 802, and the 802.11 WG, and the Task Groups for their assistance and patience with the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look forward to your participation in the September 802.11 WG Interim Meeting and November 802 Plenar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flexipc.com/wearablesgrou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ds-802-wpan@majordomo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 owner I. Gifford; please send e-mail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iffordi@amp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add your name to the reflect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WPAN 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om Report -98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G Report -98/248 &amp; Motion -98/25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WPAN S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G Administration -98/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Business var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Discu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Pitches -98/251, 52, 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WPAN S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G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WPAN S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objectives for the extended Stud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te Motion to extend the Study Group from 7/98 to 11/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G Report &amp; Motion -98/256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July 6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802 Ex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802.11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Mo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802.11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699000" cy="27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5271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July 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l call identified 22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on 2 Irving Minutes -98/236r1 approved by unanimous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on 3 LaJolla Agenda -98/255 approved by unanimous cons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Guidelines -98/160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pplicability -98/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Criteria -98/161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Discu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P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“PIANO” -98/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“SWAP” -98/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-98/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July 8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l call identified 18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Discussion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Meeting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g ?-?, 1998 Interim Meeting WPAN SG (I. Gifford, M/A-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 14-18, 1998 Westford, MA USA Interim Meeting 802.11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1998 Interim Meeting WPAN SG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8-13, 1998 Albuquerque, NM USA Plenary Meeting 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extending the Study Group time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July 8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udy Group timeframe would be 7/98 to 11/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Study Group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PAN/WLA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Need fo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arranted, draft a PAR and 5 Criteria for submittal to 802/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 appropriate Sponsorship within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July 8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itional Study Group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ermine key WPAN MAC/PH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 for WPAN Application &amp; Usage Scenarios submissions to identify the relevant MAC/PHY parameters for implementation of WP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 WPAN Comparison Matrix for use with the following MAC/PHY candid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SG Proposals MAC/PHY (Intermec, GTE, Motorola, 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SG Lia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uetooth Special Interest Group MAC/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RF Working Group MAC/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802.11 MAC/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e WPAN Compare &amp; Contrast of 802.11 Annex - PICS Proforma list and repeat, when available, for remaining candidates (see ab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ine WPAN 2.4 GHz coexistence with 802.11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July 9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 call identified 9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S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G Wrote Mo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 was approved by unanimous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behalf of the SG 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extend the timeframe of the Wireless PAN Study Group under 802.11 with the charter of drafting a WPAN PAR for presentation at the next Plenary of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: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 Chair: Bob H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/Tech Editor: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Gifford/O’Hara 42-5-7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C. Gifford</cp:lastModifiedBy>
  <cp:revision>0</cp:revision>
  <dc:subject>doc.: IEEE 802.11-98/256r1</dc:subject>
  <dc:title>WPAN SG LaJolla Meeting Report</dc:title>
</cp:coreProperties>
</file>