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828800"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.: IEEE 802.11-98/240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7240" y="609480"/>
            <a:ext cx="77709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593640" y="6446880"/>
            <a:ext cx="895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87240" y="6477120"/>
            <a:ext cx="78472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66760" y="1236600"/>
            <a:ext cx="8772480" cy="50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ects of Microwave Interference On IEEE 802.11WLAN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im Zyren, jzyren@harris.c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Bruce Kraemer, bkraemer@harri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mitted by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uce Kra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rris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kraemer@harris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-155520" y="1909800"/>
            <a:ext cx="10018800" cy="4753080"/>
            <a:chOff x="-155520" y="1909800"/>
            <a:chExt cx="10018800" cy="4753080"/>
          </a:xfrm>
        </p:grpSpPr>
        <p:grpSp>
          <p:nvGrpSpPr>
            <p:cNvPr id="429" name=""/>
            <p:cNvGrpSpPr/>
            <p:nvPr/>
          </p:nvGrpSpPr>
          <p:grpSpPr>
            <a:xfrm>
              <a:off x="2667960" y="1933560"/>
              <a:ext cx="7195320" cy="3787920"/>
              <a:chOff x="2667960" y="1933560"/>
              <a:chExt cx="7195320" cy="3787920"/>
            </a:xfrm>
          </p:grpSpPr>
          <p:sp>
            <p:nvSpPr>
              <p:cNvPr id="430" name=""/>
              <p:cNvSpPr/>
              <p:nvPr/>
            </p:nvSpPr>
            <p:spPr>
              <a:xfrm>
                <a:off x="6031080" y="3498840"/>
                <a:ext cx="282600" cy="144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31" name=""/>
              <p:cNvGrpSpPr/>
              <p:nvPr/>
            </p:nvGrpSpPr>
            <p:grpSpPr>
              <a:xfrm>
                <a:off x="6013800" y="1933560"/>
                <a:ext cx="3849480" cy="844920"/>
                <a:chOff x="6013800" y="1933560"/>
                <a:chExt cx="3849480" cy="8449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301800" y="1933560"/>
                  <a:ext cx="3561480" cy="803520"/>
                </a:xfrm>
                <a:custGeom>
                  <a:avLst/>
                  <a:gdLst/>
                  <a:ahLst/>
                  <a:rect l="0" t="0" r="r" b="b"/>
                  <a:pathLst>
                    <a:path w="9893" h="2232">
                      <a:moveTo>
                        <a:pt x="32" y="2232"/>
                      </a:moveTo>
                      <a:lnTo>
                        <a:pt x="9893" y="2232"/>
                      </a:lnTo>
                      <a:lnTo>
                        <a:pt x="9893" y="2232"/>
                      </a:lnTo>
                      <a:lnTo>
                        <a:pt x="9893" y="2232"/>
                      </a:lnTo>
                      <a:cubicBezTo>
                        <a:pt x="9893" y="1840"/>
                        <a:pt x="9437" y="1455"/>
                        <a:pt x="8572" y="1116"/>
                      </a:cubicBezTo>
                      <a:cubicBezTo>
                        <a:pt x="7706" y="777"/>
                        <a:pt x="6462" y="495"/>
                        <a:pt x="4963" y="299"/>
                      </a:cubicBezTo>
                      <a:cubicBezTo>
                        <a:pt x="3463" y="103"/>
                        <a:pt x="1763" y="0"/>
                        <a:pt x="32" y="0"/>
                      </a:cubicBezTo>
                      <a:cubicBezTo>
                        <a:pt x="21" y="0"/>
                        <a:pt x="11" y="0"/>
                        <a:pt x="0" y="0"/>
                      </a:cubicBezTo>
                      <a:lnTo>
                        <a:pt x="32" y="22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6013800" y="2006640"/>
                  <a:ext cx="3335400" cy="771840"/>
                </a:xfrm>
                <a:custGeom>
                  <a:avLst/>
                  <a:gdLst/>
                  <a:ahLst/>
                  <a:rect l="0" t="0" r="r" b="b"/>
                  <a:pathLst>
                    <a:path w="9265" h="2144">
                      <a:moveTo>
                        <a:pt x="30" y="2144"/>
                      </a:moveTo>
                      <a:lnTo>
                        <a:pt x="9265" y="2144"/>
                      </a:lnTo>
                      <a:lnTo>
                        <a:pt x="9265" y="2144"/>
                      </a:lnTo>
                      <a:lnTo>
                        <a:pt x="9265" y="2144"/>
                      </a:lnTo>
                      <a:cubicBezTo>
                        <a:pt x="9265" y="1768"/>
                        <a:pt x="8838" y="1398"/>
                        <a:pt x="8028" y="1072"/>
                      </a:cubicBezTo>
                      <a:cubicBezTo>
                        <a:pt x="7217" y="746"/>
                        <a:pt x="6052" y="475"/>
                        <a:pt x="4648" y="287"/>
                      </a:cubicBezTo>
                      <a:cubicBezTo>
                        <a:pt x="3244" y="99"/>
                        <a:pt x="1652" y="0"/>
                        <a:pt x="31" y="0"/>
                      </a:cubicBezTo>
                      <a:cubicBezTo>
                        <a:pt x="21" y="0"/>
                        <a:pt x="10" y="0"/>
                        <a:pt x="0" y="0"/>
                      </a:cubicBezTo>
                      <a:lnTo>
                        <a:pt x="30" y="21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2667960" y="4908600"/>
                <a:ext cx="3630240" cy="812880"/>
                <a:chOff x="2667960" y="4908600"/>
                <a:chExt cx="3630240" cy="81288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2730240" y="4917960"/>
                  <a:ext cx="3567960" cy="803520"/>
                </a:xfrm>
                <a:custGeom>
                  <a:avLst/>
                  <a:gdLst/>
                  <a:ahLst/>
                  <a:rect l="0" t="0" r="r" b="b"/>
                  <a:pathLst>
                    <a:path w="9911" h="2232">
                      <a:moveTo>
                        <a:pt x="53" y="0"/>
                      </a:moveTo>
                      <a:lnTo>
                        <a:pt x="0" y="2232"/>
                      </a:lnTo>
                      <a:lnTo>
                        <a:pt x="0" y="2232"/>
                      </a:lnTo>
                      <a:cubicBezTo>
                        <a:pt x="18" y="2232"/>
                        <a:pt x="36" y="2232"/>
                        <a:pt x="54" y="2232"/>
                      </a:cubicBezTo>
                      <a:cubicBezTo>
                        <a:pt x="1784" y="2232"/>
                        <a:pt x="3484" y="2129"/>
                        <a:pt x="4983" y="1933"/>
                      </a:cubicBezTo>
                      <a:cubicBezTo>
                        <a:pt x="6481" y="1737"/>
                        <a:pt x="7725" y="1455"/>
                        <a:pt x="8590" y="1116"/>
                      </a:cubicBezTo>
                      <a:cubicBezTo>
                        <a:pt x="9454" y="777"/>
                        <a:pt x="9909" y="393"/>
                        <a:pt x="9911" y="2"/>
                      </a:cubicBez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2667960" y="4908600"/>
                  <a:ext cx="3341160" cy="771840"/>
                </a:xfrm>
                <a:custGeom>
                  <a:avLst/>
                  <a:gdLst/>
                  <a:ahLst/>
                  <a:rect l="0" t="0" r="r" b="b"/>
                  <a:pathLst>
                    <a:path w="9281" h="2144">
                      <a:moveTo>
                        <a:pt x="50" y="0"/>
                      </a:moveTo>
                      <a:lnTo>
                        <a:pt x="0" y="2144"/>
                      </a:lnTo>
                      <a:lnTo>
                        <a:pt x="0" y="2144"/>
                      </a:lnTo>
                      <a:cubicBezTo>
                        <a:pt x="17" y="2144"/>
                        <a:pt x="33" y="2144"/>
                        <a:pt x="50" y="2144"/>
                      </a:cubicBezTo>
                      <a:cubicBezTo>
                        <a:pt x="1670" y="2144"/>
                        <a:pt x="3262" y="2045"/>
                        <a:pt x="4666" y="1857"/>
                      </a:cubicBezTo>
                      <a:cubicBezTo>
                        <a:pt x="6069" y="1669"/>
                        <a:pt x="7234" y="1398"/>
                        <a:pt x="8044" y="1072"/>
                      </a:cubicBezTo>
                      <a:cubicBezTo>
                        <a:pt x="8853" y="747"/>
                        <a:pt x="9280" y="378"/>
                        <a:pt x="9281" y="2"/>
                      </a:cubicBez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37" name=""/>
            <p:cNvGrpSpPr/>
            <p:nvPr/>
          </p:nvGrpSpPr>
          <p:grpSpPr>
            <a:xfrm>
              <a:off x="1557360" y="1909800"/>
              <a:ext cx="6629400" cy="3884400"/>
              <a:chOff x="1557360" y="1909800"/>
              <a:chExt cx="6629400" cy="3884400"/>
            </a:xfrm>
          </p:grpSpPr>
          <p:sp>
            <p:nvSpPr>
              <p:cNvPr id="438" name=""/>
              <p:cNvSpPr/>
              <p:nvPr/>
            </p:nvSpPr>
            <p:spPr>
              <a:xfrm>
                <a:off x="1557360" y="1909800"/>
                <a:ext cx="0" cy="388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558800" y="5794200"/>
                <a:ext cx="6627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4595760" y="2095560"/>
              <a:ext cx="0" cy="369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05400" y="2106720"/>
              <a:ext cx="0" cy="3692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40320" y="2184480"/>
              <a:ext cx="792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84680" y="2178000"/>
              <a:ext cx="792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 txBox="1"/>
            <p:nvPr/>
          </p:nvSpPr>
          <p:spPr>
            <a:xfrm>
              <a:off x="2060640" y="2001960"/>
              <a:ext cx="1701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ccupied Cha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936720" y="2708280"/>
              <a:ext cx="617400" cy="2522520"/>
              <a:chOff x="936720" y="2708280"/>
              <a:chExt cx="617400" cy="2522520"/>
            </a:xfrm>
          </p:grpSpPr>
          <p:sp>
            <p:nvSpPr>
              <p:cNvPr id="446" name=""/>
              <p:cNvSpPr/>
              <p:nvPr/>
            </p:nvSpPr>
            <p:spPr>
              <a:xfrm flipH="1">
                <a:off x="1452600" y="284940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1452600" y="355752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1454040" y="427212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1447920" y="5072040"/>
                <a:ext cx="9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 txBox="1"/>
              <p:nvPr/>
            </p:nvSpPr>
            <p:spPr>
              <a:xfrm>
                <a:off x="955800" y="2708280"/>
                <a:ext cx="531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 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 txBox="1"/>
              <p:nvPr/>
            </p:nvSpPr>
            <p:spPr>
              <a:xfrm>
                <a:off x="949320" y="3422520"/>
                <a:ext cx="531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 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 txBox="1"/>
              <p:nvPr/>
            </p:nvSpPr>
            <p:spPr>
              <a:xfrm>
                <a:off x="942840" y="4138560"/>
                <a:ext cx="531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 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 txBox="1"/>
              <p:nvPr/>
            </p:nvSpPr>
            <p:spPr>
              <a:xfrm>
                <a:off x="936720" y="4956120"/>
                <a:ext cx="531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 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1446120" y="5797440"/>
              <a:ext cx="6105600" cy="376200"/>
              <a:chOff x="1446120" y="5797440"/>
              <a:chExt cx="6105600" cy="376200"/>
            </a:xfrm>
          </p:grpSpPr>
          <p:sp>
            <p:nvSpPr>
              <p:cNvPr id="455" name=""/>
              <p:cNvSpPr/>
              <p:nvPr/>
            </p:nvSpPr>
            <p:spPr>
              <a:xfrm>
                <a:off x="1682640" y="580068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18440" y="580392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41760" y="579744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97080" y="580392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54760" y="580392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 txBox="1"/>
              <p:nvPr/>
            </p:nvSpPr>
            <p:spPr>
              <a:xfrm>
                <a:off x="1446120" y="591012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 txBox="1"/>
              <p:nvPr/>
            </p:nvSpPr>
            <p:spPr>
              <a:xfrm>
                <a:off x="2865600" y="592920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2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 txBox="1"/>
              <p:nvPr/>
            </p:nvSpPr>
            <p:spPr>
              <a:xfrm>
                <a:off x="4303800" y="591984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4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 txBox="1"/>
              <p:nvPr/>
            </p:nvSpPr>
            <p:spPr>
              <a:xfrm>
                <a:off x="5722920" y="591984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6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 txBox="1"/>
              <p:nvPr/>
            </p:nvSpPr>
            <p:spPr>
              <a:xfrm>
                <a:off x="7085160" y="591984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8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"/>
            <p:cNvSpPr txBox="1"/>
            <p:nvPr/>
          </p:nvSpPr>
          <p:spPr>
            <a:xfrm>
              <a:off x="3446640" y="6326280"/>
              <a:ext cx="1765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quency (MHz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 txBox="1"/>
            <p:nvPr/>
          </p:nvSpPr>
          <p:spPr>
            <a:xfrm>
              <a:off x="-155520" y="3848040"/>
              <a:ext cx="1312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(mse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 txBox="1"/>
            <p:nvPr/>
          </p:nvSpPr>
          <p:spPr>
            <a:xfrm>
              <a:off x="7007400" y="4065480"/>
              <a:ext cx="5284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w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30960" y="2487600"/>
              <a:ext cx="12600" cy="32734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24120" y="2496960"/>
              <a:ext cx="12600" cy="32734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933560" y="2635200"/>
              <a:ext cx="792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61200" y="2664000"/>
              <a:ext cx="792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7196040" y="2562120"/>
              <a:ext cx="546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we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48320" y="2857680"/>
              <a:ext cx="327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 flipV="1">
              <a:off x="7230960" y="2909880"/>
              <a:ext cx="1800" cy="10810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14840" y="5618160"/>
              <a:ext cx="3274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7245360" y="4467240"/>
              <a:ext cx="3240" cy="1120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 txBox="1"/>
          <p:nvPr/>
        </p:nvSpPr>
        <p:spPr>
          <a:xfrm>
            <a:off x="1019160" y="987480"/>
            <a:ext cx="67597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 Radio with MWO Jam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020600" y="92556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2243160" y="3038400"/>
            <a:ext cx="4267080" cy="1820880"/>
            <a:chOff x="2243160" y="3038400"/>
            <a:chExt cx="4267080" cy="1820880"/>
          </a:xfrm>
        </p:grpSpPr>
        <p:sp>
          <p:nvSpPr>
            <p:cNvPr id="480" name=""/>
            <p:cNvSpPr txBox="1"/>
            <p:nvPr/>
          </p:nvSpPr>
          <p:spPr>
            <a:xfrm>
              <a:off x="5742000" y="4368960"/>
              <a:ext cx="768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(mse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43160" y="4494240"/>
              <a:ext cx="351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63840" y="449568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003560" y="449568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565600" y="44942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 txBox="1"/>
            <p:nvPr/>
          </p:nvSpPr>
          <p:spPr>
            <a:xfrm>
              <a:off x="2343240" y="4579920"/>
              <a:ext cx="268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 txBox="1"/>
            <p:nvPr/>
          </p:nvSpPr>
          <p:spPr>
            <a:xfrm>
              <a:off x="5319720" y="4584600"/>
              <a:ext cx="4809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 txBox="1"/>
            <p:nvPr/>
          </p:nvSpPr>
          <p:spPr>
            <a:xfrm>
              <a:off x="3743280" y="4581360"/>
              <a:ext cx="4809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.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540160" y="3697200"/>
              <a:ext cx="615960" cy="7970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4075200" y="3355920"/>
              <a:ext cx="1440" cy="336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076640" y="3691080"/>
              <a:ext cx="615960" cy="7970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16200" y="3755880"/>
              <a:ext cx="457200" cy="74304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3560760" y="3994200"/>
              <a:ext cx="585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3238560" y="3792600"/>
              <a:ext cx="351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3456000" y="39654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3160800" y="397512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3618000" y="3127320"/>
              <a:ext cx="1440" cy="68904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3627360" y="3495600"/>
              <a:ext cx="436680" cy="274680"/>
              <a:chOff x="3627360" y="3495600"/>
              <a:chExt cx="436680" cy="274680"/>
            </a:xfrm>
          </p:grpSpPr>
          <p:sp>
            <p:nvSpPr>
              <p:cNvPr id="498" name=""/>
              <p:cNvSpPr txBox="1"/>
              <p:nvPr/>
            </p:nvSpPr>
            <p:spPr>
              <a:xfrm>
                <a:off x="3662280" y="3495600"/>
                <a:ext cx="3445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3627360" y="3632040"/>
                <a:ext cx="436680" cy="0"/>
                <a:chOff x="3627360" y="3632040"/>
                <a:chExt cx="436680" cy="0"/>
              </a:xfrm>
            </p:grpSpPr>
            <p:sp>
              <p:nvSpPr>
                <p:cNvPr id="500" name=""/>
                <p:cNvSpPr/>
                <p:nvPr/>
              </p:nvSpPr>
              <p:spPr>
                <a:xfrm flipH="1">
                  <a:off x="3932280" y="3632040"/>
                  <a:ext cx="13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>
                  <a:off x="3627360" y="3632040"/>
                  <a:ext cx="13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2" name=""/>
            <p:cNvSpPr txBox="1"/>
            <p:nvPr/>
          </p:nvSpPr>
          <p:spPr>
            <a:xfrm>
              <a:off x="3957480" y="3038400"/>
              <a:ext cx="343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284720" y="316548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 flipV="1">
              <a:off x="4694400" y="3089160"/>
              <a:ext cx="1440" cy="60336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"/>
            <p:cNvGrpSpPr/>
            <p:nvPr/>
          </p:nvGrpSpPr>
          <p:grpSpPr>
            <a:xfrm>
              <a:off x="4084560" y="3390840"/>
              <a:ext cx="598680" cy="274680"/>
              <a:chOff x="4084560" y="3390840"/>
              <a:chExt cx="598680" cy="274680"/>
            </a:xfrm>
          </p:grpSpPr>
          <p:sp>
            <p:nvSpPr>
              <p:cNvPr id="506" name=""/>
              <p:cNvSpPr txBox="1"/>
              <p:nvPr/>
            </p:nvSpPr>
            <p:spPr>
              <a:xfrm>
                <a:off x="4186080" y="3390840"/>
                <a:ext cx="3445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4484520" y="3508200"/>
                <a:ext cx="19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4084560" y="3508200"/>
                <a:ext cx="19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9" name=""/>
            <p:cNvSpPr/>
            <p:nvPr/>
          </p:nvSpPr>
          <p:spPr>
            <a:xfrm flipH="1">
              <a:off x="3637080" y="316548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24120" y="4505400"/>
              <a:ext cx="1800" cy="88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91160" y="449568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243240" y="450540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3476520" y="4551480"/>
              <a:ext cx="2793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lang="en-US" sz="11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95920" y="450540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 txBox="1"/>
            <p:nvPr/>
          </p:nvSpPr>
          <p:spPr>
            <a:xfrm>
              <a:off x="4562640" y="4541760"/>
              <a:ext cx="2793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lang="en-US" sz="11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"/>
          <p:cNvSpPr txBox="1"/>
          <p:nvPr/>
        </p:nvSpPr>
        <p:spPr>
          <a:xfrm>
            <a:off x="1031760" y="1166760"/>
            <a:ext cx="70833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 Radio w/MWO Inter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et Timing (worst ca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641520" y="1395360"/>
            <a:ext cx="7772400" cy="10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orectical Performance: DS vs. FH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MWO Inter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1"/>
          <a:stretch/>
        </p:blipFill>
        <p:spPr>
          <a:xfrm>
            <a:off x="1155600" y="2506680"/>
            <a:ext cx="690876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HSS@1Mbps: PER vs. Eb/No for Various Packet Lengths (by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508040" y="2368440"/>
            <a:ext cx="60627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SSS@1Mbps: PER vs. Eb/No for Various Packet Lengths (by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636560" y="2279520"/>
            <a:ext cx="606276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097000" y="2786040"/>
            <a:ext cx="4719600" cy="3468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784080" y="1303200"/>
            <a:ext cx="699120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IA Repor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x Hold” Spectrum Analyzer Pl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080" y="2530440"/>
            <a:ext cx="8316720" cy="3818160"/>
            <a:chOff x="46080" y="2530440"/>
            <a:chExt cx="8316720" cy="3818160"/>
          </a:xfrm>
        </p:grpSpPr>
        <p:grpSp>
          <p:nvGrpSpPr>
            <p:cNvPr id="47" name=""/>
            <p:cNvGrpSpPr/>
            <p:nvPr/>
          </p:nvGrpSpPr>
          <p:grpSpPr>
            <a:xfrm>
              <a:off x="1225440" y="5419800"/>
              <a:ext cx="7137360" cy="457200"/>
              <a:chOff x="1225440" y="5419800"/>
              <a:chExt cx="7137360" cy="457200"/>
            </a:xfrm>
          </p:grpSpPr>
          <p:sp>
            <p:nvSpPr>
              <p:cNvPr id="48" name=""/>
              <p:cNvSpPr/>
              <p:nvPr/>
            </p:nvSpPr>
            <p:spPr>
              <a:xfrm>
                <a:off x="1225440" y="5419800"/>
                <a:ext cx="713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454040" y="542304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096400" y="543564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676680" y="543564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5911920" y="543564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571840" y="543564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807080" y="543564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029360" y="5423040"/>
                <a:ext cx="0" cy="14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 txBox="1"/>
              <p:nvPr/>
            </p:nvSpPr>
            <p:spPr>
              <a:xfrm>
                <a:off x="1316160" y="5583240"/>
                <a:ext cx="26820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 txBox="1"/>
              <p:nvPr/>
            </p:nvSpPr>
            <p:spPr>
              <a:xfrm>
                <a:off x="3430440" y="5591160"/>
                <a:ext cx="4809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.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>
                <a:off x="6765840" y="5578560"/>
                <a:ext cx="4809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1.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 txBox="1"/>
              <p:nvPr/>
            </p:nvSpPr>
            <p:spPr>
              <a:xfrm>
                <a:off x="5662440" y="5572080"/>
                <a:ext cx="4809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3.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 txBox="1"/>
              <p:nvPr/>
            </p:nvSpPr>
            <p:spPr>
              <a:xfrm>
                <a:off x="4560840" y="5595840"/>
                <a:ext cx="4809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5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 txBox="1"/>
              <p:nvPr/>
            </p:nvSpPr>
            <p:spPr>
              <a:xfrm>
                <a:off x="2376360" y="5602320"/>
                <a:ext cx="3952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.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 txBox="1"/>
              <p:nvPr/>
            </p:nvSpPr>
            <p:spPr>
              <a:xfrm>
                <a:off x="7826400" y="5586480"/>
                <a:ext cx="4809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0.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"/>
            <p:cNvSpPr txBox="1"/>
            <p:nvPr/>
          </p:nvSpPr>
          <p:spPr>
            <a:xfrm>
              <a:off x="46080" y="4417920"/>
              <a:ext cx="1706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jammer 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3675240" y="2577960"/>
              <a:ext cx="0" cy="28260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794120" y="2543040"/>
              <a:ext cx="0" cy="28260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15160" y="2882880"/>
              <a:ext cx="10800" cy="25099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286080" y="269388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390920" y="307656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287880" y="3359160"/>
              <a:ext cx="37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808520" y="267336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5956200" y="305604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5950080" y="3409920"/>
              <a:ext cx="37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5140440" y="2530440"/>
              <a:ext cx="3826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6273720" y="2884320"/>
              <a:ext cx="3888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f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6296040" y="3251160"/>
              <a:ext cx="7272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i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4102200" y="6012000"/>
              <a:ext cx="1312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(mse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1409760" y="3567240"/>
              <a:ext cx="1151280" cy="1860840"/>
              <a:chOff x="1409760" y="3567240"/>
              <a:chExt cx="1151280" cy="1860840"/>
            </a:xfrm>
          </p:grpSpPr>
          <p:sp>
            <p:nvSpPr>
              <p:cNvPr id="78" name=""/>
              <p:cNvSpPr/>
              <p:nvPr/>
            </p:nvSpPr>
            <p:spPr>
              <a:xfrm flipV="1">
                <a:off x="1495440" y="3732120"/>
                <a:ext cx="85680" cy="1629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1498680" y="3586320"/>
                <a:ext cx="82800" cy="82800"/>
              </a:xfrm>
              <a:custGeom>
                <a:avLst/>
                <a:gdLst/>
                <a:ahLst/>
                <a:rect l="0" t="0" r="r" b="b"/>
                <a:pathLst>
                  <a:path fill="none" w="230" h="230">
                    <a:moveTo>
                      <a:pt x="230" y="230"/>
                    </a:moveTo>
                    <a:lnTo>
                      <a:pt x="230" y="0"/>
                    </a:lnTo>
                    <a:lnTo>
                      <a:pt x="230" y="0"/>
                    </a:lnTo>
                    <a:cubicBezTo>
                      <a:pt x="190" y="0"/>
                      <a:pt x="150" y="11"/>
                      <a:pt x="115" y="31"/>
                    </a:cubicBezTo>
                    <a:cubicBezTo>
                      <a:pt x="80" y="51"/>
                      <a:pt x="51" y="80"/>
                      <a:pt x="31" y="115"/>
                    </a:cubicBezTo>
                    <a:cubicBezTo>
                      <a:pt x="11" y="150"/>
                      <a:pt x="0" y="190"/>
                      <a:pt x="0" y="23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1409760" y="5332680"/>
                <a:ext cx="82800" cy="82800"/>
              </a:xfrm>
              <a:custGeom>
                <a:avLst/>
                <a:gdLst/>
                <a:ahLst/>
                <a:rect l="0" t="0" r="r" b="b"/>
                <a:pathLst>
                  <a:path fill="none" w="230" h="230">
                    <a:moveTo>
                      <a:pt x="0" y="230"/>
                    </a:moveTo>
                    <a:lnTo>
                      <a:pt x="0" y="230"/>
                    </a:lnTo>
                    <a:cubicBezTo>
                      <a:pt x="40" y="230"/>
                      <a:pt x="80" y="219"/>
                      <a:pt x="115" y="199"/>
                    </a:cubicBezTo>
                    <a:cubicBezTo>
                      <a:pt x="150" y="179"/>
                      <a:pt x="179" y="150"/>
                      <a:pt x="199" y="115"/>
                    </a:cubicBezTo>
                    <a:cubicBezTo>
                      <a:pt x="219" y="80"/>
                      <a:pt x="230" y="40"/>
                      <a:pt x="23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1" name=""/>
              <p:cNvGrpSpPr/>
              <p:nvPr/>
            </p:nvGrpSpPr>
            <p:grpSpPr>
              <a:xfrm>
                <a:off x="2394000" y="3567240"/>
                <a:ext cx="167040" cy="1860840"/>
                <a:chOff x="2394000" y="3567240"/>
                <a:chExt cx="167040" cy="1860840"/>
              </a:xfrm>
            </p:grpSpPr>
            <p:sp>
              <p:nvSpPr>
                <p:cNvPr id="82" name=""/>
                <p:cNvSpPr/>
                <p:nvPr/>
              </p:nvSpPr>
              <p:spPr>
                <a:xfrm flipH="1" flipV="1">
                  <a:off x="2394000" y="3724200"/>
                  <a:ext cx="85680" cy="162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2478240" y="5345280"/>
                  <a:ext cx="82800" cy="82800"/>
                </a:xfrm>
                <a:custGeom>
                  <a:avLst/>
                  <a:gdLst/>
                  <a:ahLst/>
                  <a:rect l="0" t="0" r="r" b="b"/>
                  <a:pathLst>
                    <a:path fill="none" w="230" h="230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0" y="40"/>
                        <a:pt x="11" y="80"/>
                        <a:pt x="31" y="115"/>
                      </a:cubicBezTo>
                      <a:cubicBezTo>
                        <a:pt x="51" y="150"/>
                        <a:pt x="80" y="179"/>
                        <a:pt x="115" y="199"/>
                      </a:cubicBezTo>
                      <a:cubicBezTo>
                        <a:pt x="150" y="219"/>
                        <a:pt x="190" y="230"/>
                        <a:pt x="230" y="230"/>
                      </a:cubicBez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408400" y="3567240"/>
                  <a:ext cx="82800" cy="82800"/>
                </a:xfrm>
                <a:custGeom>
                  <a:avLst/>
                  <a:gdLst/>
                  <a:ahLst/>
                  <a:rect l="0" t="0" r="r" b="b"/>
                  <a:pathLst>
                    <a:path fill="none" w="230" h="230">
                      <a:moveTo>
                        <a:pt x="0" y="230"/>
                      </a:moveTo>
                      <a:lnTo>
                        <a:pt x="230" y="230"/>
                      </a:lnTo>
                      <a:lnTo>
                        <a:pt x="230" y="230"/>
                      </a:lnTo>
                      <a:cubicBezTo>
                        <a:pt x="230" y="190"/>
                        <a:pt x="219" y="150"/>
                        <a:pt x="199" y="115"/>
                      </a:cubicBezTo>
                      <a:cubicBezTo>
                        <a:pt x="179" y="80"/>
                        <a:pt x="150" y="51"/>
                        <a:pt x="115" y="31"/>
                      </a:cubicBezTo>
                      <a:cubicBezTo>
                        <a:pt x="80" y="11"/>
                        <a:pt x="40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"/>
              <p:cNvSpPr/>
              <p:nvPr/>
            </p:nvSpPr>
            <p:spPr>
              <a:xfrm>
                <a:off x="1658880" y="3656160"/>
                <a:ext cx="64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5891040" y="3565440"/>
              <a:ext cx="1151280" cy="1860840"/>
              <a:chOff x="5891040" y="3565440"/>
              <a:chExt cx="1151280" cy="1860840"/>
            </a:xfrm>
          </p:grpSpPr>
          <p:sp>
            <p:nvSpPr>
              <p:cNvPr id="87" name=""/>
              <p:cNvSpPr/>
              <p:nvPr/>
            </p:nvSpPr>
            <p:spPr>
              <a:xfrm flipV="1">
                <a:off x="5977080" y="3730680"/>
                <a:ext cx="85680" cy="162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979960" y="3584520"/>
                <a:ext cx="82800" cy="82800"/>
              </a:xfrm>
              <a:custGeom>
                <a:avLst/>
                <a:gdLst/>
                <a:ahLst/>
                <a:rect l="0" t="0" r="r" b="b"/>
                <a:pathLst>
                  <a:path fill="none" w="230" h="230">
                    <a:moveTo>
                      <a:pt x="230" y="230"/>
                    </a:moveTo>
                    <a:lnTo>
                      <a:pt x="230" y="0"/>
                    </a:lnTo>
                    <a:lnTo>
                      <a:pt x="230" y="0"/>
                    </a:lnTo>
                    <a:cubicBezTo>
                      <a:pt x="190" y="0"/>
                      <a:pt x="150" y="11"/>
                      <a:pt x="115" y="31"/>
                    </a:cubicBezTo>
                    <a:cubicBezTo>
                      <a:pt x="80" y="51"/>
                      <a:pt x="51" y="80"/>
                      <a:pt x="31" y="115"/>
                    </a:cubicBezTo>
                    <a:cubicBezTo>
                      <a:pt x="11" y="150"/>
                      <a:pt x="0" y="190"/>
                      <a:pt x="0" y="23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891040" y="5330880"/>
                <a:ext cx="82800" cy="82800"/>
              </a:xfrm>
              <a:custGeom>
                <a:avLst/>
                <a:gdLst/>
                <a:ahLst/>
                <a:rect l="0" t="0" r="r" b="b"/>
                <a:pathLst>
                  <a:path fill="none" w="230" h="230">
                    <a:moveTo>
                      <a:pt x="0" y="230"/>
                    </a:moveTo>
                    <a:lnTo>
                      <a:pt x="0" y="230"/>
                    </a:lnTo>
                    <a:cubicBezTo>
                      <a:pt x="40" y="230"/>
                      <a:pt x="80" y="219"/>
                      <a:pt x="115" y="199"/>
                    </a:cubicBezTo>
                    <a:cubicBezTo>
                      <a:pt x="150" y="179"/>
                      <a:pt x="179" y="150"/>
                      <a:pt x="199" y="115"/>
                    </a:cubicBezTo>
                    <a:cubicBezTo>
                      <a:pt x="219" y="80"/>
                      <a:pt x="230" y="40"/>
                      <a:pt x="23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6875640" y="3565440"/>
                <a:ext cx="166680" cy="1860840"/>
                <a:chOff x="6875640" y="3565440"/>
                <a:chExt cx="166680" cy="1860840"/>
              </a:xfrm>
            </p:grpSpPr>
            <p:sp>
              <p:nvSpPr>
                <p:cNvPr id="91" name=""/>
                <p:cNvSpPr/>
                <p:nvPr/>
              </p:nvSpPr>
              <p:spPr>
                <a:xfrm flipH="1" flipV="1">
                  <a:off x="6875640" y="3722760"/>
                  <a:ext cx="85680" cy="162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959520" y="5343480"/>
                  <a:ext cx="82800" cy="82800"/>
                </a:xfrm>
                <a:custGeom>
                  <a:avLst/>
                  <a:gdLst/>
                  <a:ahLst/>
                  <a:rect l="0" t="0" r="r" b="b"/>
                  <a:pathLst>
                    <a:path fill="none" w="230" h="230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0" y="40"/>
                        <a:pt x="11" y="80"/>
                        <a:pt x="31" y="115"/>
                      </a:cubicBezTo>
                      <a:cubicBezTo>
                        <a:pt x="51" y="150"/>
                        <a:pt x="80" y="179"/>
                        <a:pt x="115" y="199"/>
                      </a:cubicBezTo>
                      <a:cubicBezTo>
                        <a:pt x="150" y="219"/>
                        <a:pt x="190" y="230"/>
                        <a:pt x="230" y="230"/>
                      </a:cubicBez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889680" y="3565440"/>
                  <a:ext cx="82800" cy="82800"/>
                </a:xfrm>
                <a:custGeom>
                  <a:avLst/>
                  <a:gdLst/>
                  <a:ahLst/>
                  <a:rect l="0" t="0" r="r" b="b"/>
                  <a:pathLst>
                    <a:path fill="none" w="230" h="230">
                      <a:moveTo>
                        <a:pt x="0" y="230"/>
                      </a:moveTo>
                      <a:lnTo>
                        <a:pt x="230" y="230"/>
                      </a:lnTo>
                      <a:lnTo>
                        <a:pt x="230" y="230"/>
                      </a:lnTo>
                      <a:cubicBezTo>
                        <a:pt x="230" y="190"/>
                        <a:pt x="219" y="150"/>
                        <a:pt x="199" y="115"/>
                      </a:cubicBezTo>
                      <a:cubicBezTo>
                        <a:pt x="179" y="80"/>
                        <a:pt x="150" y="51"/>
                        <a:pt x="115" y="31"/>
                      </a:cubicBezTo>
                      <a:cubicBezTo>
                        <a:pt x="80" y="11"/>
                        <a:pt x="40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6140520" y="3654360"/>
                <a:ext cx="64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676680" y="3554280"/>
              <a:ext cx="1151280" cy="1860840"/>
              <a:chOff x="3676680" y="3554280"/>
              <a:chExt cx="1151280" cy="1860840"/>
            </a:xfrm>
          </p:grpSpPr>
          <p:sp>
            <p:nvSpPr>
              <p:cNvPr id="96" name=""/>
              <p:cNvSpPr/>
              <p:nvPr/>
            </p:nvSpPr>
            <p:spPr>
              <a:xfrm flipV="1">
                <a:off x="3762360" y="3719520"/>
                <a:ext cx="85680" cy="162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65600" y="3573360"/>
                <a:ext cx="82800" cy="82800"/>
              </a:xfrm>
              <a:custGeom>
                <a:avLst/>
                <a:gdLst/>
                <a:ahLst/>
                <a:rect l="0" t="0" r="r" b="b"/>
                <a:pathLst>
                  <a:path fill="none" w="230" h="230">
                    <a:moveTo>
                      <a:pt x="230" y="230"/>
                    </a:moveTo>
                    <a:lnTo>
                      <a:pt x="230" y="0"/>
                    </a:lnTo>
                    <a:lnTo>
                      <a:pt x="230" y="0"/>
                    </a:lnTo>
                    <a:cubicBezTo>
                      <a:pt x="190" y="0"/>
                      <a:pt x="150" y="11"/>
                      <a:pt x="115" y="31"/>
                    </a:cubicBezTo>
                    <a:cubicBezTo>
                      <a:pt x="80" y="51"/>
                      <a:pt x="51" y="80"/>
                      <a:pt x="31" y="115"/>
                    </a:cubicBezTo>
                    <a:cubicBezTo>
                      <a:pt x="11" y="150"/>
                      <a:pt x="0" y="190"/>
                      <a:pt x="0" y="23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676680" y="5319720"/>
                <a:ext cx="82800" cy="82800"/>
              </a:xfrm>
              <a:custGeom>
                <a:avLst/>
                <a:gdLst/>
                <a:ahLst/>
                <a:rect l="0" t="0" r="r" b="b"/>
                <a:pathLst>
                  <a:path fill="none" w="230" h="230">
                    <a:moveTo>
                      <a:pt x="0" y="230"/>
                    </a:moveTo>
                    <a:lnTo>
                      <a:pt x="0" y="230"/>
                    </a:lnTo>
                    <a:cubicBezTo>
                      <a:pt x="40" y="230"/>
                      <a:pt x="80" y="219"/>
                      <a:pt x="115" y="199"/>
                    </a:cubicBezTo>
                    <a:cubicBezTo>
                      <a:pt x="150" y="179"/>
                      <a:pt x="179" y="150"/>
                      <a:pt x="199" y="115"/>
                    </a:cubicBezTo>
                    <a:cubicBezTo>
                      <a:pt x="219" y="80"/>
                      <a:pt x="230" y="40"/>
                      <a:pt x="23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4660920" y="3554280"/>
                <a:ext cx="167040" cy="1860840"/>
                <a:chOff x="4660920" y="3554280"/>
                <a:chExt cx="167040" cy="1860840"/>
              </a:xfrm>
            </p:grpSpPr>
            <p:sp>
              <p:nvSpPr>
                <p:cNvPr id="100" name=""/>
                <p:cNvSpPr/>
                <p:nvPr/>
              </p:nvSpPr>
              <p:spPr>
                <a:xfrm flipH="1" flipV="1">
                  <a:off x="4660920" y="3711600"/>
                  <a:ext cx="85680" cy="1628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745160" y="5332320"/>
                  <a:ext cx="82800" cy="82800"/>
                </a:xfrm>
                <a:custGeom>
                  <a:avLst/>
                  <a:gdLst/>
                  <a:ahLst/>
                  <a:rect l="0" t="0" r="r" b="b"/>
                  <a:pathLst>
                    <a:path fill="none" w="230" h="230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0" y="40"/>
                        <a:pt x="11" y="80"/>
                        <a:pt x="31" y="115"/>
                      </a:cubicBezTo>
                      <a:cubicBezTo>
                        <a:pt x="51" y="150"/>
                        <a:pt x="80" y="179"/>
                        <a:pt x="115" y="199"/>
                      </a:cubicBezTo>
                      <a:cubicBezTo>
                        <a:pt x="150" y="219"/>
                        <a:pt x="190" y="230"/>
                        <a:pt x="230" y="230"/>
                      </a:cubicBez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675320" y="3554280"/>
                  <a:ext cx="82800" cy="82800"/>
                </a:xfrm>
                <a:custGeom>
                  <a:avLst/>
                  <a:gdLst/>
                  <a:ahLst/>
                  <a:rect l="0" t="0" r="r" b="b"/>
                  <a:pathLst>
                    <a:path fill="none" w="230" h="230">
                      <a:moveTo>
                        <a:pt x="0" y="230"/>
                      </a:moveTo>
                      <a:lnTo>
                        <a:pt x="230" y="230"/>
                      </a:lnTo>
                      <a:lnTo>
                        <a:pt x="230" y="230"/>
                      </a:lnTo>
                      <a:cubicBezTo>
                        <a:pt x="230" y="190"/>
                        <a:pt x="219" y="150"/>
                        <a:pt x="199" y="115"/>
                      </a:cubicBezTo>
                      <a:cubicBezTo>
                        <a:pt x="179" y="80"/>
                        <a:pt x="150" y="51"/>
                        <a:pt x="115" y="31"/>
                      </a:cubicBezTo>
                      <a:cubicBezTo>
                        <a:pt x="80" y="11"/>
                        <a:pt x="40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"/>
              <p:cNvSpPr/>
              <p:nvPr/>
            </p:nvSpPr>
            <p:spPr>
              <a:xfrm>
                <a:off x="3925800" y="3643200"/>
                <a:ext cx="646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"/>
          <p:cNvSpPr txBox="1"/>
          <p:nvPr/>
        </p:nvSpPr>
        <p:spPr>
          <a:xfrm>
            <a:off x="2511360" y="1195560"/>
            <a:ext cx="35701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WO Duty Cy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-100080" y="1765440"/>
            <a:ext cx="10247760" cy="4973400"/>
            <a:chOff x="-100080" y="1765440"/>
            <a:chExt cx="10247760" cy="4973400"/>
          </a:xfrm>
        </p:grpSpPr>
        <p:grpSp>
          <p:nvGrpSpPr>
            <p:cNvPr id="106" name=""/>
            <p:cNvGrpSpPr/>
            <p:nvPr/>
          </p:nvGrpSpPr>
          <p:grpSpPr>
            <a:xfrm>
              <a:off x="2952000" y="2009880"/>
              <a:ext cx="7195680" cy="3787920"/>
              <a:chOff x="2952000" y="2009880"/>
              <a:chExt cx="7195680" cy="3787920"/>
            </a:xfrm>
          </p:grpSpPr>
          <p:sp>
            <p:nvSpPr>
              <p:cNvPr id="107" name=""/>
              <p:cNvSpPr/>
              <p:nvPr/>
            </p:nvSpPr>
            <p:spPr>
              <a:xfrm>
                <a:off x="6337440" y="3584520"/>
                <a:ext cx="260280" cy="1417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8" name=""/>
              <p:cNvGrpSpPr/>
              <p:nvPr/>
            </p:nvGrpSpPr>
            <p:grpSpPr>
              <a:xfrm>
                <a:off x="6297840" y="2009880"/>
                <a:ext cx="3849840" cy="844920"/>
                <a:chOff x="6297840" y="2009880"/>
                <a:chExt cx="3849840" cy="84492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6586200" y="2009880"/>
                  <a:ext cx="3561480" cy="803520"/>
                </a:xfrm>
                <a:custGeom>
                  <a:avLst/>
                  <a:gdLst/>
                  <a:ahLst/>
                  <a:rect l="0" t="0" r="r" b="b"/>
                  <a:pathLst>
                    <a:path w="9893" h="2232">
                      <a:moveTo>
                        <a:pt x="32" y="2232"/>
                      </a:moveTo>
                      <a:lnTo>
                        <a:pt x="9893" y="2232"/>
                      </a:lnTo>
                      <a:lnTo>
                        <a:pt x="9893" y="2232"/>
                      </a:lnTo>
                      <a:lnTo>
                        <a:pt x="9893" y="2232"/>
                      </a:lnTo>
                      <a:cubicBezTo>
                        <a:pt x="9893" y="1840"/>
                        <a:pt x="9437" y="1455"/>
                        <a:pt x="8572" y="1116"/>
                      </a:cubicBezTo>
                      <a:cubicBezTo>
                        <a:pt x="7706" y="777"/>
                        <a:pt x="6462" y="495"/>
                        <a:pt x="4963" y="299"/>
                      </a:cubicBezTo>
                      <a:cubicBezTo>
                        <a:pt x="3463" y="103"/>
                        <a:pt x="1763" y="0"/>
                        <a:pt x="32" y="0"/>
                      </a:cubicBezTo>
                      <a:cubicBezTo>
                        <a:pt x="21" y="0"/>
                        <a:pt x="11" y="0"/>
                        <a:pt x="0" y="0"/>
                      </a:cubicBezTo>
                      <a:lnTo>
                        <a:pt x="32" y="22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297840" y="2082960"/>
                  <a:ext cx="3335400" cy="771840"/>
                </a:xfrm>
                <a:custGeom>
                  <a:avLst/>
                  <a:gdLst/>
                  <a:ahLst/>
                  <a:rect l="0" t="0" r="r" b="b"/>
                  <a:pathLst>
                    <a:path w="9265" h="2144">
                      <a:moveTo>
                        <a:pt x="30" y="2144"/>
                      </a:moveTo>
                      <a:lnTo>
                        <a:pt x="9265" y="2144"/>
                      </a:lnTo>
                      <a:lnTo>
                        <a:pt x="9265" y="2144"/>
                      </a:lnTo>
                      <a:lnTo>
                        <a:pt x="9265" y="2144"/>
                      </a:lnTo>
                      <a:cubicBezTo>
                        <a:pt x="9265" y="1768"/>
                        <a:pt x="8838" y="1398"/>
                        <a:pt x="8028" y="1072"/>
                      </a:cubicBezTo>
                      <a:cubicBezTo>
                        <a:pt x="7217" y="746"/>
                        <a:pt x="6052" y="475"/>
                        <a:pt x="4648" y="287"/>
                      </a:cubicBezTo>
                      <a:cubicBezTo>
                        <a:pt x="3244" y="99"/>
                        <a:pt x="1652" y="0"/>
                        <a:pt x="31" y="0"/>
                      </a:cubicBezTo>
                      <a:cubicBezTo>
                        <a:pt x="21" y="0"/>
                        <a:pt x="10" y="0"/>
                        <a:pt x="0" y="0"/>
                      </a:cubicBezTo>
                      <a:lnTo>
                        <a:pt x="30" y="21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2952000" y="4984920"/>
                <a:ext cx="3630240" cy="812880"/>
                <a:chOff x="2952000" y="4984920"/>
                <a:chExt cx="3630240" cy="812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014280" y="4994280"/>
                  <a:ext cx="3567960" cy="803520"/>
                </a:xfrm>
                <a:custGeom>
                  <a:avLst/>
                  <a:gdLst/>
                  <a:ahLst/>
                  <a:rect l="0" t="0" r="r" b="b"/>
                  <a:pathLst>
                    <a:path w="9911" h="2232">
                      <a:moveTo>
                        <a:pt x="53" y="0"/>
                      </a:moveTo>
                      <a:lnTo>
                        <a:pt x="0" y="2232"/>
                      </a:lnTo>
                      <a:lnTo>
                        <a:pt x="0" y="2232"/>
                      </a:lnTo>
                      <a:cubicBezTo>
                        <a:pt x="18" y="2232"/>
                        <a:pt x="36" y="2232"/>
                        <a:pt x="54" y="2232"/>
                      </a:cubicBezTo>
                      <a:cubicBezTo>
                        <a:pt x="1784" y="2232"/>
                        <a:pt x="3484" y="2129"/>
                        <a:pt x="4983" y="1933"/>
                      </a:cubicBezTo>
                      <a:cubicBezTo>
                        <a:pt x="6481" y="1737"/>
                        <a:pt x="7725" y="1455"/>
                        <a:pt x="8590" y="1116"/>
                      </a:cubicBezTo>
                      <a:cubicBezTo>
                        <a:pt x="9454" y="777"/>
                        <a:pt x="9909" y="393"/>
                        <a:pt x="9911" y="2"/>
                      </a:cubicBez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952000" y="4984920"/>
                  <a:ext cx="3341160" cy="771840"/>
                </a:xfrm>
                <a:custGeom>
                  <a:avLst/>
                  <a:gdLst/>
                  <a:ahLst/>
                  <a:rect l="0" t="0" r="r" b="b"/>
                  <a:pathLst>
                    <a:path w="9281" h="2144">
                      <a:moveTo>
                        <a:pt x="50" y="0"/>
                      </a:moveTo>
                      <a:lnTo>
                        <a:pt x="0" y="2144"/>
                      </a:lnTo>
                      <a:lnTo>
                        <a:pt x="0" y="2144"/>
                      </a:lnTo>
                      <a:cubicBezTo>
                        <a:pt x="17" y="2144"/>
                        <a:pt x="33" y="2144"/>
                        <a:pt x="50" y="2144"/>
                      </a:cubicBezTo>
                      <a:cubicBezTo>
                        <a:pt x="1670" y="2144"/>
                        <a:pt x="3262" y="2045"/>
                        <a:pt x="4666" y="1857"/>
                      </a:cubicBezTo>
                      <a:cubicBezTo>
                        <a:pt x="6069" y="1669"/>
                        <a:pt x="7234" y="1398"/>
                        <a:pt x="8044" y="1072"/>
                      </a:cubicBezTo>
                      <a:cubicBezTo>
                        <a:pt x="8853" y="747"/>
                        <a:pt x="9280" y="378"/>
                        <a:pt x="9281" y="2"/>
                      </a:cubicBez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" name=""/>
            <p:cNvGrpSpPr/>
            <p:nvPr/>
          </p:nvGrpSpPr>
          <p:grpSpPr>
            <a:xfrm>
              <a:off x="1612800" y="1986120"/>
              <a:ext cx="6629400" cy="3884400"/>
              <a:chOff x="1612800" y="1986120"/>
              <a:chExt cx="6629400" cy="3884400"/>
            </a:xfrm>
          </p:grpSpPr>
          <p:sp>
            <p:nvSpPr>
              <p:cNvPr id="115" name=""/>
              <p:cNvSpPr/>
              <p:nvPr/>
            </p:nvSpPr>
            <p:spPr>
              <a:xfrm>
                <a:off x="1612800" y="1986120"/>
                <a:ext cx="0" cy="388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14600" y="5870520"/>
                <a:ext cx="662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992160" y="2784600"/>
              <a:ext cx="617400" cy="2522520"/>
              <a:chOff x="992160" y="2784600"/>
              <a:chExt cx="617400" cy="2522520"/>
            </a:xfrm>
          </p:grpSpPr>
          <p:sp>
            <p:nvSpPr>
              <p:cNvPr id="118" name=""/>
              <p:cNvSpPr/>
              <p:nvPr/>
            </p:nvSpPr>
            <p:spPr>
              <a:xfrm flipH="1">
                <a:off x="1508040" y="292572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1508040" y="363384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1509840" y="4348080"/>
                <a:ext cx="99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1503360" y="514836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1011240" y="2784600"/>
                <a:ext cx="531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 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1004760" y="3498840"/>
                <a:ext cx="531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 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998640" y="4214880"/>
                <a:ext cx="531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 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 txBox="1"/>
              <p:nvPr/>
            </p:nvSpPr>
            <p:spPr>
              <a:xfrm>
                <a:off x="992160" y="5032440"/>
                <a:ext cx="531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 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"/>
            <p:cNvGrpSpPr/>
            <p:nvPr/>
          </p:nvGrpSpPr>
          <p:grpSpPr>
            <a:xfrm>
              <a:off x="1501920" y="5873760"/>
              <a:ext cx="6105240" cy="376200"/>
              <a:chOff x="1501920" y="5873760"/>
              <a:chExt cx="6105240" cy="376200"/>
            </a:xfrm>
          </p:grpSpPr>
          <p:sp>
            <p:nvSpPr>
              <p:cNvPr id="127" name=""/>
              <p:cNvSpPr/>
              <p:nvPr/>
            </p:nvSpPr>
            <p:spPr>
              <a:xfrm>
                <a:off x="1738440" y="587700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373880" y="5880240"/>
                <a:ext cx="0" cy="9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97560" y="587376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52880" y="5880240"/>
                <a:ext cx="0" cy="9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10200" y="5880240"/>
                <a:ext cx="0" cy="9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 txBox="1"/>
              <p:nvPr/>
            </p:nvSpPr>
            <p:spPr>
              <a:xfrm>
                <a:off x="1501920" y="598644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 txBox="1"/>
              <p:nvPr/>
            </p:nvSpPr>
            <p:spPr>
              <a:xfrm>
                <a:off x="2921040" y="600552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2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 txBox="1"/>
              <p:nvPr/>
            </p:nvSpPr>
            <p:spPr>
              <a:xfrm>
                <a:off x="4359240" y="599616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4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 txBox="1"/>
              <p:nvPr/>
            </p:nvSpPr>
            <p:spPr>
              <a:xfrm>
                <a:off x="5778360" y="599616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6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 txBox="1"/>
              <p:nvPr/>
            </p:nvSpPr>
            <p:spPr>
              <a:xfrm>
                <a:off x="7140600" y="599616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8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 txBox="1"/>
            <p:nvPr/>
          </p:nvSpPr>
          <p:spPr>
            <a:xfrm>
              <a:off x="3502080" y="6402240"/>
              <a:ext cx="1765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quency (MHz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-100080" y="3924360"/>
              <a:ext cx="1312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(mse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595920" y="2570040"/>
              <a:ext cx="7920" cy="32814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29000" y="4214880"/>
              <a:ext cx="50328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665760" y="4156200"/>
              <a:ext cx="528840" cy="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8240" bIns="-48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7243920" y="4029120"/>
              <a:ext cx="546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we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3987720" y="1778040"/>
              <a:ext cx="1206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dition 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>
              <a:off x="5797440" y="1765440"/>
              <a:ext cx="1206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dition 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227320" y="2178000"/>
              <a:ext cx="109440" cy="3695760"/>
              <a:chOff x="2227320" y="2178000"/>
              <a:chExt cx="109440" cy="3695760"/>
            </a:xfrm>
          </p:grpSpPr>
          <p:sp>
            <p:nvSpPr>
              <p:cNvPr id="146" name=""/>
              <p:cNvSpPr/>
              <p:nvPr/>
            </p:nvSpPr>
            <p:spPr>
              <a:xfrm>
                <a:off x="2227320" y="2178000"/>
                <a:ext cx="0" cy="369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336760" y="2181240"/>
                <a:ext cx="0" cy="369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 txBox="1"/>
            <p:nvPr/>
          </p:nvSpPr>
          <p:spPr>
            <a:xfrm>
              <a:off x="1695600" y="1778040"/>
              <a:ext cx="1206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ndition 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1766880" y="2374920"/>
              <a:ext cx="1046160" cy="3240"/>
              <a:chOff x="1766880" y="2374920"/>
              <a:chExt cx="1046160" cy="3240"/>
            </a:xfrm>
          </p:grpSpPr>
          <p:sp>
            <p:nvSpPr>
              <p:cNvPr id="150" name=""/>
              <p:cNvSpPr/>
              <p:nvPr/>
            </p:nvSpPr>
            <p:spPr>
              <a:xfrm>
                <a:off x="2370240" y="2374920"/>
                <a:ext cx="44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766880" y="2376360"/>
                <a:ext cx="433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570560" y="2178000"/>
              <a:ext cx="109440" cy="3695760"/>
              <a:chOff x="4570560" y="2178000"/>
              <a:chExt cx="109440" cy="3695760"/>
            </a:xfrm>
          </p:grpSpPr>
          <p:sp>
            <p:nvSpPr>
              <p:cNvPr id="153" name=""/>
              <p:cNvSpPr/>
              <p:nvPr/>
            </p:nvSpPr>
            <p:spPr>
              <a:xfrm>
                <a:off x="4570560" y="2178000"/>
                <a:ext cx="0" cy="369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680000" y="2181240"/>
                <a:ext cx="0" cy="369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4110120" y="2374920"/>
              <a:ext cx="1046160" cy="3240"/>
              <a:chOff x="4110120" y="2374920"/>
              <a:chExt cx="1046160" cy="3240"/>
            </a:xfrm>
          </p:grpSpPr>
          <p:sp>
            <p:nvSpPr>
              <p:cNvPr id="156" name=""/>
              <p:cNvSpPr/>
              <p:nvPr/>
            </p:nvSpPr>
            <p:spPr>
              <a:xfrm>
                <a:off x="4713120" y="2374920"/>
                <a:ext cx="443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110120" y="2376360"/>
                <a:ext cx="433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5929200" y="2394000"/>
              <a:ext cx="1046160" cy="3240"/>
              <a:chOff x="5929200" y="2394000"/>
              <a:chExt cx="1046160" cy="3240"/>
            </a:xfrm>
          </p:grpSpPr>
          <p:sp>
            <p:nvSpPr>
              <p:cNvPr id="159" name=""/>
              <p:cNvSpPr/>
              <p:nvPr/>
            </p:nvSpPr>
            <p:spPr>
              <a:xfrm>
                <a:off x="6532560" y="2394000"/>
                <a:ext cx="442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29200" y="2395440"/>
                <a:ext cx="43344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9320" bIns="-49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389640" y="2178000"/>
              <a:ext cx="109440" cy="3695760"/>
              <a:chOff x="6389640" y="2178000"/>
              <a:chExt cx="109440" cy="3695760"/>
            </a:xfrm>
          </p:grpSpPr>
          <p:sp>
            <p:nvSpPr>
              <p:cNvPr id="162" name=""/>
              <p:cNvSpPr/>
              <p:nvPr/>
            </p:nvSpPr>
            <p:spPr>
              <a:xfrm>
                <a:off x="6389640" y="2178000"/>
                <a:ext cx="0" cy="369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499080" y="2181240"/>
                <a:ext cx="0" cy="369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3008160" y="2598840"/>
              <a:ext cx="12960" cy="32734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 txBox="1"/>
          <p:nvPr/>
        </p:nvSpPr>
        <p:spPr>
          <a:xfrm>
            <a:off x="687240" y="957240"/>
            <a:ext cx="74628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rographic Interference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68580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Domain Interference Pro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068560" y="1865160"/>
            <a:ext cx="4813200" cy="4408560"/>
            <a:chOff x="2068560" y="1865160"/>
            <a:chExt cx="4813200" cy="4408560"/>
          </a:xfrm>
        </p:grpSpPr>
        <p:grpSp>
          <p:nvGrpSpPr>
            <p:cNvPr id="168" name=""/>
            <p:cNvGrpSpPr/>
            <p:nvPr/>
          </p:nvGrpSpPr>
          <p:grpSpPr>
            <a:xfrm>
              <a:off x="2068560" y="1865160"/>
              <a:ext cx="4813200" cy="1549440"/>
              <a:chOff x="2068560" y="1865160"/>
              <a:chExt cx="4813200" cy="1549440"/>
            </a:xfrm>
          </p:grpSpPr>
          <p:sp>
            <p:nvSpPr>
              <p:cNvPr id="169" name=""/>
              <p:cNvSpPr/>
              <p:nvPr/>
            </p:nvSpPr>
            <p:spPr>
              <a:xfrm>
                <a:off x="2068560" y="3035160"/>
                <a:ext cx="4094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511360" y="303696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051440" y="303696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613480" y="303516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 txBox="1"/>
              <p:nvPr/>
            </p:nvSpPr>
            <p:spPr>
              <a:xfrm>
                <a:off x="2381400" y="3139920"/>
                <a:ext cx="26820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 txBox="1"/>
              <p:nvPr/>
            </p:nvSpPr>
            <p:spPr>
              <a:xfrm>
                <a:off x="5367240" y="3125880"/>
                <a:ext cx="4809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3.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 txBox="1"/>
              <p:nvPr/>
            </p:nvSpPr>
            <p:spPr>
              <a:xfrm>
                <a:off x="3790800" y="3122640"/>
                <a:ext cx="48096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6.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 txBox="1"/>
              <p:nvPr/>
            </p:nvSpPr>
            <p:spPr>
              <a:xfrm>
                <a:off x="6113520" y="2903400"/>
                <a:ext cx="76824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 (msec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68600" y="2244600"/>
                <a:ext cx="57240" cy="7970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2603520" y="1868400"/>
                <a:ext cx="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custDash>
                  <a:ds d="202857" sp="202857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" name=""/>
              <p:cNvGrpSpPr/>
              <p:nvPr/>
            </p:nvGrpSpPr>
            <p:grpSpPr>
              <a:xfrm>
                <a:off x="2954160" y="1865160"/>
                <a:ext cx="1187640" cy="1176480"/>
                <a:chOff x="2954160" y="1865160"/>
                <a:chExt cx="1187640" cy="1176480"/>
              </a:xfrm>
            </p:grpSpPr>
            <p:grpSp>
              <p:nvGrpSpPr>
                <p:cNvPr id="180" name=""/>
                <p:cNvGrpSpPr/>
                <p:nvPr/>
              </p:nvGrpSpPr>
              <p:grpSpPr>
                <a:xfrm>
                  <a:off x="2954160" y="2548080"/>
                  <a:ext cx="1187640" cy="274680"/>
                  <a:chOff x="2954160" y="2548080"/>
                  <a:chExt cx="1187640" cy="274680"/>
                </a:xfrm>
              </p:grpSpPr>
              <p:grpSp>
                <p:nvGrpSpPr>
                  <p:cNvPr id="181" name=""/>
                  <p:cNvGrpSpPr/>
                  <p:nvPr/>
                </p:nvGrpSpPr>
                <p:grpSpPr>
                  <a:xfrm>
                    <a:off x="2954160" y="2678040"/>
                    <a:ext cx="525600" cy="1800"/>
                    <a:chOff x="2954160" y="2678040"/>
                    <a:chExt cx="525600" cy="1800"/>
                  </a:xfrm>
                </p:grpSpPr>
                <p:sp>
                  <p:nvSpPr>
                    <p:cNvPr id="182" name=""/>
                    <p:cNvSpPr/>
                    <p:nvPr/>
                  </p:nvSpPr>
                  <p:spPr>
                    <a:xfrm flipH="1" flipV="1">
                      <a:off x="3252960" y="2678040"/>
                      <a:ext cx="226800" cy="1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49320" bIns="-49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" name=""/>
                    <p:cNvSpPr/>
                    <p:nvPr/>
                  </p:nvSpPr>
                  <p:spPr>
                    <a:xfrm flipH="1" flipV="1">
                      <a:off x="2954160" y="2678040"/>
                      <a:ext cx="227160" cy="18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round/>
                      <a:head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6120" rIns="96120" tIns="-49320" bIns="-49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4" name=""/>
                  <p:cNvSpPr txBox="1"/>
                  <p:nvPr/>
                </p:nvSpPr>
                <p:spPr>
                  <a:xfrm>
                    <a:off x="3405240" y="2548080"/>
                    <a:ext cx="736560" cy="274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0" rIns="0" tIns="0" bIns="0" anchor="t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10 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m</a:t>
                    </a: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se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3187800" y="1865160"/>
                  <a:ext cx="57240" cy="1176480"/>
                  <a:chOff x="3187800" y="1865160"/>
                  <a:chExt cx="57240" cy="117648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3187800" y="2244600"/>
                    <a:ext cx="57240" cy="797040"/>
                  </a:xfrm>
                  <a:prstGeom prst="rect">
                    <a:avLst/>
                  </a:prstGeom>
                  <a:solidFill>
                    <a:srgbClr val="969696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 flipV="1">
                    <a:off x="3213000" y="1865160"/>
                    <a:ext cx="0" cy="3668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custDash>
                      <a:ds d="202857" sp="202857"/>
                    </a:custDash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8" name=""/>
              <p:cNvSpPr txBox="1"/>
              <p:nvPr/>
            </p:nvSpPr>
            <p:spPr>
              <a:xfrm>
                <a:off x="3441600" y="1873080"/>
                <a:ext cx="10000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 7.5 mse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3220920" y="2013120"/>
                <a:ext cx="316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289320" y="304632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42000" y="3046320"/>
                <a:ext cx="0" cy="119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92680" y="2244600"/>
                <a:ext cx="57240" cy="7970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721400" y="2244600"/>
                <a:ext cx="57240" cy="7970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30640" y="2244600"/>
                <a:ext cx="57240" cy="797040"/>
              </a:xfrm>
              <a:prstGeom prst="rect">
                <a:avLst/>
              </a:prstGeom>
              <a:solidFill>
                <a:srgbClr val="96969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278080" y="2022480"/>
                <a:ext cx="315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2414520" y="4276800"/>
              <a:ext cx="4297320" cy="1546200"/>
              <a:chOff x="2414520" y="4276800"/>
              <a:chExt cx="4297320" cy="1546200"/>
            </a:xfrm>
          </p:grpSpPr>
          <p:sp>
            <p:nvSpPr>
              <p:cNvPr id="197" name=""/>
              <p:cNvSpPr txBox="1"/>
              <p:nvPr/>
            </p:nvSpPr>
            <p:spPr>
              <a:xfrm>
                <a:off x="5945040" y="5318280"/>
                <a:ext cx="76680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 (msec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2414520" y="4276800"/>
                <a:ext cx="3589200" cy="1546200"/>
                <a:chOff x="2414520" y="4276800"/>
                <a:chExt cx="3589200" cy="154620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446200" y="5443560"/>
                  <a:ext cx="3516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666880" y="54450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206960" y="544500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769000" y="544356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 txBox="1"/>
                <p:nvPr/>
              </p:nvSpPr>
              <p:spPr>
                <a:xfrm>
                  <a:off x="2536920" y="554832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 txBox="1"/>
                <p:nvPr/>
              </p:nvSpPr>
              <p:spPr>
                <a:xfrm>
                  <a:off x="5522760" y="5533920"/>
                  <a:ext cx="480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3.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 txBox="1"/>
                <p:nvPr/>
              </p:nvSpPr>
              <p:spPr>
                <a:xfrm>
                  <a:off x="3946680" y="5530680"/>
                  <a:ext cx="480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6.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743200" y="4646520"/>
                  <a:ext cx="615960" cy="79704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2752560" y="4276800"/>
                  <a:ext cx="0" cy="36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custDash>
                    <a:ds d="202857" sp="2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 txBox="1"/>
                <p:nvPr/>
              </p:nvSpPr>
              <p:spPr>
                <a:xfrm>
                  <a:off x="3618000" y="4282920"/>
                  <a:ext cx="10000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~ 6.4 mse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3363840" y="4421160"/>
                  <a:ext cx="316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444840" y="54547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997520" y="5454720"/>
                  <a:ext cx="0" cy="119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flipH="1">
                  <a:off x="2414520" y="4430880"/>
                  <a:ext cx="316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3355920" y="4276800"/>
                  <a:ext cx="0" cy="36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custDash>
                    <a:ds d="202857" sp="202857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280040" y="4640400"/>
                  <a:ext cx="615960" cy="79704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5" name=""/>
            <p:cNvSpPr txBox="1"/>
            <p:nvPr/>
          </p:nvSpPr>
          <p:spPr>
            <a:xfrm>
              <a:off x="3209760" y="3409920"/>
              <a:ext cx="17604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ition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3330720" y="5816520"/>
              <a:ext cx="1776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dition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74520" y="1795320"/>
            <a:ext cx="10018800" cy="4753080"/>
            <a:chOff x="74520" y="1795320"/>
            <a:chExt cx="10018800" cy="4753080"/>
          </a:xfrm>
        </p:grpSpPr>
        <p:grpSp>
          <p:nvGrpSpPr>
            <p:cNvPr id="218" name=""/>
            <p:cNvGrpSpPr/>
            <p:nvPr/>
          </p:nvGrpSpPr>
          <p:grpSpPr>
            <a:xfrm>
              <a:off x="2898000" y="1819440"/>
              <a:ext cx="7195320" cy="3787920"/>
              <a:chOff x="2898000" y="1819440"/>
              <a:chExt cx="7195320" cy="3787920"/>
            </a:xfrm>
          </p:grpSpPr>
          <p:sp>
            <p:nvSpPr>
              <p:cNvPr id="219" name=""/>
              <p:cNvSpPr/>
              <p:nvPr/>
            </p:nvSpPr>
            <p:spPr>
              <a:xfrm>
                <a:off x="6261120" y="3384720"/>
                <a:ext cx="282600" cy="144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6243840" y="1819440"/>
                <a:ext cx="3849480" cy="844560"/>
                <a:chOff x="6243840" y="1819440"/>
                <a:chExt cx="3849480" cy="84456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531840" y="1819440"/>
                  <a:ext cx="3561480" cy="803520"/>
                </a:xfrm>
                <a:custGeom>
                  <a:avLst/>
                  <a:gdLst/>
                  <a:ahLst/>
                  <a:rect l="0" t="0" r="r" b="b"/>
                  <a:pathLst>
                    <a:path w="9893" h="2232">
                      <a:moveTo>
                        <a:pt x="32" y="2232"/>
                      </a:moveTo>
                      <a:lnTo>
                        <a:pt x="9893" y="2232"/>
                      </a:lnTo>
                      <a:lnTo>
                        <a:pt x="9893" y="2232"/>
                      </a:lnTo>
                      <a:lnTo>
                        <a:pt x="9893" y="2232"/>
                      </a:lnTo>
                      <a:cubicBezTo>
                        <a:pt x="9893" y="1840"/>
                        <a:pt x="9437" y="1455"/>
                        <a:pt x="8572" y="1116"/>
                      </a:cubicBezTo>
                      <a:cubicBezTo>
                        <a:pt x="7706" y="777"/>
                        <a:pt x="6462" y="495"/>
                        <a:pt x="4963" y="299"/>
                      </a:cubicBezTo>
                      <a:cubicBezTo>
                        <a:pt x="3463" y="103"/>
                        <a:pt x="1763" y="0"/>
                        <a:pt x="32" y="0"/>
                      </a:cubicBezTo>
                      <a:cubicBezTo>
                        <a:pt x="21" y="0"/>
                        <a:pt x="11" y="0"/>
                        <a:pt x="0" y="0"/>
                      </a:cubicBezTo>
                      <a:lnTo>
                        <a:pt x="32" y="22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243840" y="1892160"/>
                  <a:ext cx="3335400" cy="771840"/>
                </a:xfrm>
                <a:custGeom>
                  <a:avLst/>
                  <a:gdLst/>
                  <a:ahLst/>
                  <a:rect l="0" t="0" r="r" b="b"/>
                  <a:pathLst>
                    <a:path w="9265" h="2144">
                      <a:moveTo>
                        <a:pt x="30" y="2144"/>
                      </a:moveTo>
                      <a:lnTo>
                        <a:pt x="9265" y="2144"/>
                      </a:lnTo>
                      <a:lnTo>
                        <a:pt x="9265" y="2144"/>
                      </a:lnTo>
                      <a:lnTo>
                        <a:pt x="9265" y="2144"/>
                      </a:lnTo>
                      <a:cubicBezTo>
                        <a:pt x="9265" y="1768"/>
                        <a:pt x="8838" y="1398"/>
                        <a:pt x="8028" y="1072"/>
                      </a:cubicBezTo>
                      <a:cubicBezTo>
                        <a:pt x="7217" y="746"/>
                        <a:pt x="6052" y="475"/>
                        <a:pt x="4648" y="287"/>
                      </a:cubicBezTo>
                      <a:cubicBezTo>
                        <a:pt x="3244" y="99"/>
                        <a:pt x="1652" y="0"/>
                        <a:pt x="31" y="0"/>
                      </a:cubicBezTo>
                      <a:cubicBezTo>
                        <a:pt x="21" y="0"/>
                        <a:pt x="10" y="0"/>
                        <a:pt x="0" y="0"/>
                      </a:cubicBezTo>
                      <a:lnTo>
                        <a:pt x="30" y="21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2898000" y="4794120"/>
                <a:ext cx="3630240" cy="813240"/>
                <a:chOff x="2898000" y="4794120"/>
                <a:chExt cx="3630240" cy="813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2960280" y="4803840"/>
                  <a:ext cx="3567960" cy="803520"/>
                </a:xfrm>
                <a:custGeom>
                  <a:avLst/>
                  <a:gdLst/>
                  <a:ahLst/>
                  <a:rect l="0" t="0" r="r" b="b"/>
                  <a:pathLst>
                    <a:path w="9911" h="2232">
                      <a:moveTo>
                        <a:pt x="53" y="0"/>
                      </a:moveTo>
                      <a:lnTo>
                        <a:pt x="0" y="2232"/>
                      </a:lnTo>
                      <a:lnTo>
                        <a:pt x="0" y="2232"/>
                      </a:lnTo>
                      <a:cubicBezTo>
                        <a:pt x="18" y="2232"/>
                        <a:pt x="36" y="2232"/>
                        <a:pt x="54" y="2232"/>
                      </a:cubicBezTo>
                      <a:cubicBezTo>
                        <a:pt x="1784" y="2232"/>
                        <a:pt x="3484" y="2129"/>
                        <a:pt x="4983" y="1933"/>
                      </a:cubicBezTo>
                      <a:cubicBezTo>
                        <a:pt x="6481" y="1737"/>
                        <a:pt x="7725" y="1455"/>
                        <a:pt x="8590" y="1116"/>
                      </a:cubicBezTo>
                      <a:cubicBezTo>
                        <a:pt x="9454" y="777"/>
                        <a:pt x="9909" y="393"/>
                        <a:pt x="9911" y="2"/>
                      </a:cubicBez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898000" y="4794120"/>
                  <a:ext cx="3341160" cy="771840"/>
                </a:xfrm>
                <a:custGeom>
                  <a:avLst/>
                  <a:gdLst/>
                  <a:ahLst/>
                  <a:rect l="0" t="0" r="r" b="b"/>
                  <a:pathLst>
                    <a:path w="9281" h="2144">
                      <a:moveTo>
                        <a:pt x="50" y="0"/>
                      </a:moveTo>
                      <a:lnTo>
                        <a:pt x="0" y="2144"/>
                      </a:lnTo>
                      <a:lnTo>
                        <a:pt x="0" y="2144"/>
                      </a:lnTo>
                      <a:cubicBezTo>
                        <a:pt x="17" y="2144"/>
                        <a:pt x="33" y="2144"/>
                        <a:pt x="50" y="2144"/>
                      </a:cubicBezTo>
                      <a:cubicBezTo>
                        <a:pt x="1670" y="2144"/>
                        <a:pt x="3262" y="2045"/>
                        <a:pt x="4666" y="1857"/>
                      </a:cubicBezTo>
                      <a:cubicBezTo>
                        <a:pt x="6069" y="1669"/>
                        <a:pt x="7234" y="1398"/>
                        <a:pt x="8044" y="1072"/>
                      </a:cubicBezTo>
                      <a:cubicBezTo>
                        <a:pt x="8853" y="747"/>
                        <a:pt x="9280" y="378"/>
                        <a:pt x="9281" y="2"/>
                      </a:cubicBez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" name=""/>
            <p:cNvGrpSpPr/>
            <p:nvPr/>
          </p:nvGrpSpPr>
          <p:grpSpPr>
            <a:xfrm>
              <a:off x="1787400" y="1795320"/>
              <a:ext cx="6629400" cy="3884760"/>
              <a:chOff x="1787400" y="1795320"/>
              <a:chExt cx="6629400" cy="3884760"/>
            </a:xfrm>
          </p:grpSpPr>
          <p:sp>
            <p:nvSpPr>
              <p:cNvPr id="227" name=""/>
              <p:cNvSpPr/>
              <p:nvPr/>
            </p:nvSpPr>
            <p:spPr>
              <a:xfrm>
                <a:off x="1787400" y="1795320"/>
                <a:ext cx="0" cy="388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789200" y="5680080"/>
                <a:ext cx="662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4719600" y="1978200"/>
              <a:ext cx="109440" cy="3698640"/>
              <a:chOff x="4719600" y="1978200"/>
              <a:chExt cx="109440" cy="3698640"/>
            </a:xfrm>
          </p:grpSpPr>
          <p:sp>
            <p:nvSpPr>
              <p:cNvPr id="230" name=""/>
              <p:cNvSpPr/>
              <p:nvPr/>
            </p:nvSpPr>
            <p:spPr>
              <a:xfrm>
                <a:off x="4719600" y="1984320"/>
                <a:ext cx="0" cy="369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829040" y="1978200"/>
                <a:ext cx="0" cy="369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3908520" y="2154240"/>
              <a:ext cx="1747800" cy="6480"/>
              <a:chOff x="3908520" y="2154240"/>
              <a:chExt cx="1747800" cy="6480"/>
            </a:xfrm>
          </p:grpSpPr>
          <p:sp>
            <p:nvSpPr>
              <p:cNvPr id="233" name=""/>
              <p:cNvSpPr/>
              <p:nvPr/>
            </p:nvSpPr>
            <p:spPr>
              <a:xfrm>
                <a:off x="4863960" y="2160720"/>
                <a:ext cx="79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908520" y="2154240"/>
                <a:ext cx="79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 txBox="1"/>
            <p:nvPr/>
          </p:nvSpPr>
          <p:spPr>
            <a:xfrm>
              <a:off x="5692680" y="1994040"/>
              <a:ext cx="1701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ccupied Cha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166760" y="2593800"/>
              <a:ext cx="617760" cy="2522880"/>
              <a:chOff x="1166760" y="2593800"/>
              <a:chExt cx="617760" cy="252288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1682640" y="273528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682640" y="344340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1684440" y="415764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677960" y="495792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>
                <a:off x="1185840" y="2593800"/>
                <a:ext cx="531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 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1179360" y="3308400"/>
                <a:ext cx="531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 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1173240" y="4024440"/>
                <a:ext cx="531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 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1166760" y="4842000"/>
                <a:ext cx="531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 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676520" y="5683320"/>
              <a:ext cx="6105240" cy="376200"/>
              <a:chOff x="1676520" y="5683320"/>
              <a:chExt cx="6105240" cy="376200"/>
            </a:xfrm>
          </p:grpSpPr>
          <p:sp>
            <p:nvSpPr>
              <p:cNvPr id="246" name=""/>
              <p:cNvSpPr/>
              <p:nvPr/>
            </p:nvSpPr>
            <p:spPr>
              <a:xfrm>
                <a:off x="1913040" y="5686560"/>
                <a:ext cx="0" cy="9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48480" y="568944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72160" y="568332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327480" y="568944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184800" y="568944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1676520" y="579600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 txBox="1"/>
              <p:nvPr/>
            </p:nvSpPr>
            <p:spPr>
              <a:xfrm>
                <a:off x="3095640" y="581508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2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4533840" y="580536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4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5952960" y="580536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6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 txBox="1"/>
              <p:nvPr/>
            </p:nvSpPr>
            <p:spPr>
              <a:xfrm>
                <a:off x="7315200" y="580536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8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 txBox="1"/>
            <p:nvPr/>
          </p:nvSpPr>
          <p:spPr>
            <a:xfrm>
              <a:off x="3676680" y="6211800"/>
              <a:ext cx="1765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quency (MHz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74520" y="3733920"/>
              <a:ext cx="1312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(mse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7108920" y="3032280"/>
              <a:ext cx="488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w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7093080" y="4938840"/>
              <a:ext cx="488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w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61000" y="2373480"/>
              <a:ext cx="12960" cy="32731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954160" y="2382840"/>
              <a:ext cx="12960" cy="32734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090880" y="3976560"/>
              <a:ext cx="7920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580080" y="3976560"/>
              <a:ext cx="792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7367760" y="3819600"/>
              <a:ext cx="546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we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4722840" y="2511360"/>
              <a:ext cx="2773440" cy="493920"/>
              <a:chOff x="4722840" y="2511360"/>
              <a:chExt cx="2773440" cy="493920"/>
            </a:xfrm>
          </p:grpSpPr>
          <p:sp>
            <p:nvSpPr>
              <p:cNvPr id="266" name=""/>
              <p:cNvSpPr/>
              <p:nvPr/>
            </p:nvSpPr>
            <p:spPr>
              <a:xfrm flipV="1">
                <a:off x="4722840" y="2714760"/>
                <a:ext cx="2773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" name=""/>
              <p:cNvGrpSpPr/>
              <p:nvPr/>
            </p:nvGrpSpPr>
            <p:grpSpPr>
              <a:xfrm>
                <a:off x="7337520" y="2511360"/>
                <a:ext cx="0" cy="493920"/>
                <a:chOff x="7337520" y="2511360"/>
                <a:chExt cx="0" cy="4939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337520" y="2816280"/>
                  <a:ext cx="0" cy="18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7337520" y="2511360"/>
                  <a:ext cx="0" cy="189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"/>
              <p:cNvSpPr/>
              <p:nvPr/>
            </p:nvSpPr>
            <p:spPr>
              <a:xfrm flipV="1">
                <a:off x="4722840" y="2803680"/>
                <a:ext cx="2773440" cy="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48240" bIns="-48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flipV="1">
              <a:off x="4722840" y="5413320"/>
              <a:ext cx="2773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337520" y="5495760"/>
              <a:ext cx="0" cy="18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7337520" y="5216400"/>
              <a:ext cx="0" cy="18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722840" y="5502240"/>
              <a:ext cx="277344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 txBox="1"/>
          <p:nvPr/>
        </p:nvSpPr>
        <p:spPr>
          <a:xfrm>
            <a:off x="1020600" y="925560"/>
            <a:ext cx="6829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 B - Swept NB Jam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-65160" y="2338560"/>
            <a:ext cx="8317080" cy="3516120"/>
            <a:chOff x="-65160" y="2338560"/>
            <a:chExt cx="8317080" cy="3516120"/>
          </a:xfrm>
        </p:grpSpPr>
        <p:grpSp>
          <p:nvGrpSpPr>
            <p:cNvPr id="277" name=""/>
            <p:cNvGrpSpPr/>
            <p:nvPr/>
          </p:nvGrpSpPr>
          <p:grpSpPr>
            <a:xfrm>
              <a:off x="1114560" y="3168720"/>
              <a:ext cx="7137360" cy="2214360"/>
              <a:chOff x="1114560" y="3168720"/>
              <a:chExt cx="7137360" cy="221436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1482840" y="3168720"/>
                <a:ext cx="812520" cy="1765440"/>
                <a:chOff x="1482840" y="3168720"/>
                <a:chExt cx="812520" cy="17654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1482840" y="3168720"/>
                  <a:ext cx="63360" cy="176544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232000" y="3168720"/>
                  <a:ext cx="63360" cy="176544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3730680" y="3168720"/>
                <a:ext cx="812520" cy="1765440"/>
                <a:chOff x="3730680" y="3168720"/>
                <a:chExt cx="812520" cy="176544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730680" y="3168720"/>
                  <a:ext cx="63360" cy="176544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479840" y="3168720"/>
                  <a:ext cx="63360" cy="176544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940360" y="3168720"/>
                <a:ext cx="812880" cy="1765440"/>
                <a:chOff x="5940360" y="3168720"/>
                <a:chExt cx="812880" cy="176544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5940360" y="3168720"/>
                  <a:ext cx="63360" cy="176544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689880" y="3168720"/>
                  <a:ext cx="63360" cy="1765440"/>
                </a:xfrm>
                <a:prstGeom prst="rect">
                  <a:avLst/>
                </a:prstGeom>
                <a:solidFill>
                  <a:srgbClr val="969696"/>
                </a:solidFill>
                <a:ln w="12600">
                  <a:solidFill>
                    <a:srgbClr val="000000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114560" y="4925880"/>
                <a:ext cx="7137360" cy="457200"/>
                <a:chOff x="1114560" y="4925880"/>
                <a:chExt cx="7137360" cy="4572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114560" y="4925880"/>
                  <a:ext cx="7137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343160" y="492912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985160" y="494172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565440" y="494172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800680" y="494172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2460600" y="494172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4695840" y="494172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918480" y="4929120"/>
                  <a:ext cx="0" cy="141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 txBox="1"/>
                <p:nvPr/>
              </p:nvSpPr>
              <p:spPr>
                <a:xfrm>
                  <a:off x="1204920" y="5089680"/>
                  <a:ext cx="2682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 txBox="1"/>
                <p:nvPr/>
              </p:nvSpPr>
              <p:spPr>
                <a:xfrm>
                  <a:off x="3319560" y="5097600"/>
                  <a:ext cx="480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6.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 txBox="1"/>
                <p:nvPr/>
              </p:nvSpPr>
              <p:spPr>
                <a:xfrm>
                  <a:off x="6654960" y="5084640"/>
                  <a:ext cx="480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1.7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 txBox="1"/>
                <p:nvPr/>
              </p:nvSpPr>
              <p:spPr>
                <a:xfrm>
                  <a:off x="5551560" y="5078520"/>
                  <a:ext cx="480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3.4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 txBox="1"/>
                <p:nvPr/>
              </p:nvSpPr>
              <p:spPr>
                <a:xfrm>
                  <a:off x="4449600" y="5102280"/>
                  <a:ext cx="480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5.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 txBox="1"/>
                <p:nvPr/>
              </p:nvSpPr>
              <p:spPr>
                <a:xfrm>
                  <a:off x="2265480" y="5108400"/>
                  <a:ext cx="3952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.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 txBox="1"/>
                <p:nvPr/>
              </p:nvSpPr>
              <p:spPr>
                <a:xfrm>
                  <a:off x="7715160" y="5092560"/>
                  <a:ext cx="48096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0.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3" name=""/>
            <p:cNvSpPr txBox="1"/>
            <p:nvPr/>
          </p:nvSpPr>
          <p:spPr>
            <a:xfrm>
              <a:off x="-65160" y="3924360"/>
              <a:ext cx="17064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jammer 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794040" y="2776680"/>
              <a:ext cx="0" cy="212076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4078440" y="2733840"/>
              <a:ext cx="4680" cy="21556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 flipV="1">
              <a:off x="5541840" y="2344680"/>
              <a:ext cx="1800" cy="25830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3338640" y="3789360"/>
              <a:ext cx="3744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320920" y="3798720"/>
              <a:ext cx="374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 txBox="1"/>
            <p:nvPr/>
          </p:nvSpPr>
          <p:spPr>
            <a:xfrm>
              <a:off x="3152880" y="2690640"/>
              <a:ext cx="407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3990960" y="5518080"/>
              <a:ext cx="1312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(mse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511440" y="2844720"/>
              <a:ext cx="25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 txBox="1"/>
            <p:nvPr/>
          </p:nvSpPr>
          <p:spPr>
            <a:xfrm>
              <a:off x="2827440" y="3686040"/>
              <a:ext cx="376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D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1563840" y="380376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049480" y="3794040"/>
              <a:ext cx="1792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960720" y="3297240"/>
              <a:ext cx="684360" cy="1630440"/>
              <a:chOff x="3960720" y="3297240"/>
              <a:chExt cx="684360" cy="1630440"/>
            </a:xfrm>
          </p:grpSpPr>
          <p:sp>
            <p:nvSpPr>
              <p:cNvPr id="316" name=""/>
              <p:cNvSpPr/>
              <p:nvPr/>
            </p:nvSpPr>
            <p:spPr>
              <a:xfrm>
                <a:off x="4083120" y="3297240"/>
                <a:ext cx="388800" cy="1630440"/>
              </a:xfrm>
              <a:prstGeom prst="rect">
                <a:avLst/>
              </a:prstGeom>
              <a:blipFill rotWithShape="0">
                <a:blip r:embed="rId1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 txBox="1"/>
              <p:nvPr/>
            </p:nvSpPr>
            <p:spPr>
              <a:xfrm>
                <a:off x="3960720" y="3943440"/>
                <a:ext cx="6843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5419800" y="3298680"/>
              <a:ext cx="684360" cy="1630440"/>
              <a:chOff x="5419800" y="3298680"/>
              <a:chExt cx="684360" cy="1630440"/>
            </a:xfrm>
          </p:grpSpPr>
          <p:sp>
            <p:nvSpPr>
              <p:cNvPr id="319" name=""/>
              <p:cNvSpPr/>
              <p:nvPr/>
            </p:nvSpPr>
            <p:spPr>
              <a:xfrm>
                <a:off x="5541840" y="3298680"/>
                <a:ext cx="388800" cy="1630440"/>
              </a:xfrm>
              <a:prstGeom prst="rect">
                <a:avLst/>
              </a:prstGeom>
              <a:blipFill rotWithShape="0">
                <a:blip r:embed="rId2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5419800" y="3944880"/>
                <a:ext cx="6843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ack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H="1" flipV="1">
              <a:off x="4538520" y="2408400"/>
              <a:ext cx="3240" cy="253656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092480" y="2844720"/>
              <a:ext cx="258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540320" y="2498760"/>
              <a:ext cx="345960" cy="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7880" bIns="-47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 flipV="1">
              <a:off x="5210280" y="2490840"/>
              <a:ext cx="3110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 txBox="1"/>
            <p:nvPr/>
          </p:nvSpPr>
          <p:spPr>
            <a:xfrm>
              <a:off x="4857840" y="2338560"/>
              <a:ext cx="40788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t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1514520" y="2576520"/>
              <a:ext cx="0" cy="5983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266920" y="2557440"/>
              <a:ext cx="0" cy="5986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>
              <a:off x="1488960" y="2652840"/>
              <a:ext cx="82692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ul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par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2095560" y="2766960"/>
              <a:ext cx="158760" cy="1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320" bIns="-49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1525680" y="2774880"/>
              <a:ext cx="1699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>
              <a:off x="1722600" y="3676680"/>
              <a:ext cx="3762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D</a:t>
              </a:r>
              <a:r>
                <a:rPr b="1" lang="en-US" sz="1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935680" y="2762280"/>
              <a:ext cx="4680" cy="21556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402857" sp="4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5589720" y="2867040"/>
              <a:ext cx="28260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802480" y="298440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545080" y="298440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 txBox="1"/>
          <p:nvPr/>
        </p:nvSpPr>
        <p:spPr>
          <a:xfrm>
            <a:off x="1449360" y="1116000"/>
            <a:ext cx="60260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 B - Packet Ti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973080" y="92556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74520" y="1795320"/>
            <a:ext cx="10018800" cy="4753080"/>
            <a:chOff x="74520" y="1795320"/>
            <a:chExt cx="10018800" cy="4753080"/>
          </a:xfrm>
        </p:grpSpPr>
        <p:grpSp>
          <p:nvGrpSpPr>
            <p:cNvPr id="339" name=""/>
            <p:cNvGrpSpPr/>
            <p:nvPr/>
          </p:nvGrpSpPr>
          <p:grpSpPr>
            <a:xfrm>
              <a:off x="2898000" y="1819440"/>
              <a:ext cx="7195320" cy="3787920"/>
              <a:chOff x="2898000" y="1819440"/>
              <a:chExt cx="7195320" cy="3787920"/>
            </a:xfrm>
          </p:grpSpPr>
          <p:sp>
            <p:nvSpPr>
              <p:cNvPr id="340" name=""/>
              <p:cNvSpPr/>
              <p:nvPr/>
            </p:nvSpPr>
            <p:spPr>
              <a:xfrm>
                <a:off x="6261120" y="3384720"/>
                <a:ext cx="282600" cy="1446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6243840" y="1819440"/>
                <a:ext cx="3849480" cy="844560"/>
                <a:chOff x="6243840" y="1819440"/>
                <a:chExt cx="3849480" cy="84456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6531840" y="1819440"/>
                  <a:ext cx="3561480" cy="803520"/>
                </a:xfrm>
                <a:custGeom>
                  <a:avLst/>
                  <a:gdLst/>
                  <a:ahLst/>
                  <a:rect l="0" t="0" r="r" b="b"/>
                  <a:pathLst>
                    <a:path w="9893" h="2232">
                      <a:moveTo>
                        <a:pt x="32" y="2232"/>
                      </a:moveTo>
                      <a:lnTo>
                        <a:pt x="9893" y="2232"/>
                      </a:lnTo>
                      <a:lnTo>
                        <a:pt x="9893" y="2232"/>
                      </a:lnTo>
                      <a:lnTo>
                        <a:pt x="9893" y="2232"/>
                      </a:lnTo>
                      <a:cubicBezTo>
                        <a:pt x="9893" y="1840"/>
                        <a:pt x="9437" y="1455"/>
                        <a:pt x="8572" y="1116"/>
                      </a:cubicBezTo>
                      <a:cubicBezTo>
                        <a:pt x="7706" y="777"/>
                        <a:pt x="6462" y="495"/>
                        <a:pt x="4963" y="299"/>
                      </a:cubicBezTo>
                      <a:cubicBezTo>
                        <a:pt x="3463" y="103"/>
                        <a:pt x="1763" y="0"/>
                        <a:pt x="32" y="0"/>
                      </a:cubicBezTo>
                      <a:cubicBezTo>
                        <a:pt x="21" y="0"/>
                        <a:pt x="11" y="0"/>
                        <a:pt x="0" y="0"/>
                      </a:cubicBezTo>
                      <a:lnTo>
                        <a:pt x="32" y="223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6243840" y="1892160"/>
                  <a:ext cx="3335400" cy="771840"/>
                </a:xfrm>
                <a:custGeom>
                  <a:avLst/>
                  <a:gdLst/>
                  <a:ahLst/>
                  <a:rect l="0" t="0" r="r" b="b"/>
                  <a:pathLst>
                    <a:path w="9265" h="2144">
                      <a:moveTo>
                        <a:pt x="30" y="2144"/>
                      </a:moveTo>
                      <a:lnTo>
                        <a:pt x="9265" y="2144"/>
                      </a:lnTo>
                      <a:lnTo>
                        <a:pt x="9265" y="2144"/>
                      </a:lnTo>
                      <a:lnTo>
                        <a:pt x="9265" y="2144"/>
                      </a:lnTo>
                      <a:cubicBezTo>
                        <a:pt x="9265" y="1768"/>
                        <a:pt x="8838" y="1398"/>
                        <a:pt x="8028" y="1072"/>
                      </a:cubicBezTo>
                      <a:cubicBezTo>
                        <a:pt x="7217" y="746"/>
                        <a:pt x="6052" y="475"/>
                        <a:pt x="4648" y="287"/>
                      </a:cubicBezTo>
                      <a:cubicBezTo>
                        <a:pt x="3244" y="99"/>
                        <a:pt x="1652" y="0"/>
                        <a:pt x="31" y="0"/>
                      </a:cubicBezTo>
                      <a:cubicBezTo>
                        <a:pt x="21" y="0"/>
                        <a:pt x="10" y="0"/>
                        <a:pt x="0" y="0"/>
                      </a:cubicBezTo>
                      <a:lnTo>
                        <a:pt x="30" y="214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2898000" y="4794120"/>
                <a:ext cx="3630240" cy="813240"/>
                <a:chOff x="2898000" y="4794120"/>
                <a:chExt cx="3630240" cy="8132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2960280" y="4803840"/>
                  <a:ext cx="3567960" cy="803520"/>
                </a:xfrm>
                <a:custGeom>
                  <a:avLst/>
                  <a:gdLst/>
                  <a:ahLst/>
                  <a:rect l="0" t="0" r="r" b="b"/>
                  <a:pathLst>
                    <a:path w="9911" h="2232">
                      <a:moveTo>
                        <a:pt x="53" y="0"/>
                      </a:moveTo>
                      <a:lnTo>
                        <a:pt x="0" y="2232"/>
                      </a:lnTo>
                      <a:lnTo>
                        <a:pt x="0" y="2232"/>
                      </a:lnTo>
                      <a:cubicBezTo>
                        <a:pt x="18" y="2232"/>
                        <a:pt x="36" y="2232"/>
                        <a:pt x="54" y="2232"/>
                      </a:cubicBezTo>
                      <a:cubicBezTo>
                        <a:pt x="1784" y="2232"/>
                        <a:pt x="3484" y="2129"/>
                        <a:pt x="4983" y="1933"/>
                      </a:cubicBezTo>
                      <a:cubicBezTo>
                        <a:pt x="6481" y="1737"/>
                        <a:pt x="7725" y="1455"/>
                        <a:pt x="8590" y="1116"/>
                      </a:cubicBezTo>
                      <a:cubicBezTo>
                        <a:pt x="9454" y="777"/>
                        <a:pt x="9909" y="393"/>
                        <a:pt x="9911" y="2"/>
                      </a:cubicBezTo>
                      <a:lnTo>
                        <a:pt x="5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2898000" y="4794120"/>
                  <a:ext cx="3341160" cy="771840"/>
                </a:xfrm>
                <a:custGeom>
                  <a:avLst/>
                  <a:gdLst/>
                  <a:ahLst/>
                  <a:rect l="0" t="0" r="r" b="b"/>
                  <a:pathLst>
                    <a:path w="9281" h="2144">
                      <a:moveTo>
                        <a:pt x="50" y="0"/>
                      </a:moveTo>
                      <a:lnTo>
                        <a:pt x="0" y="2144"/>
                      </a:lnTo>
                      <a:lnTo>
                        <a:pt x="0" y="2144"/>
                      </a:lnTo>
                      <a:cubicBezTo>
                        <a:pt x="17" y="2144"/>
                        <a:pt x="33" y="2144"/>
                        <a:pt x="50" y="2144"/>
                      </a:cubicBezTo>
                      <a:cubicBezTo>
                        <a:pt x="1670" y="2144"/>
                        <a:pt x="3262" y="2045"/>
                        <a:pt x="4666" y="1857"/>
                      </a:cubicBezTo>
                      <a:cubicBezTo>
                        <a:pt x="6069" y="1669"/>
                        <a:pt x="7234" y="1398"/>
                        <a:pt x="8044" y="1072"/>
                      </a:cubicBezTo>
                      <a:cubicBezTo>
                        <a:pt x="8853" y="747"/>
                        <a:pt x="9280" y="378"/>
                        <a:pt x="9281" y="2"/>
                      </a:cubicBezTo>
                      <a:lnTo>
                        <a:pt x="5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7" name=""/>
            <p:cNvGrpSpPr/>
            <p:nvPr/>
          </p:nvGrpSpPr>
          <p:grpSpPr>
            <a:xfrm>
              <a:off x="1787400" y="1795320"/>
              <a:ext cx="6629400" cy="3884760"/>
              <a:chOff x="1787400" y="1795320"/>
              <a:chExt cx="6629400" cy="3884760"/>
            </a:xfrm>
          </p:grpSpPr>
          <p:sp>
            <p:nvSpPr>
              <p:cNvPr id="348" name=""/>
              <p:cNvSpPr/>
              <p:nvPr/>
            </p:nvSpPr>
            <p:spPr>
              <a:xfrm>
                <a:off x="1787400" y="1795320"/>
                <a:ext cx="0" cy="388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789200" y="5680080"/>
                <a:ext cx="6627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350040" y="1992240"/>
              <a:ext cx="109440" cy="3699000"/>
              <a:chOff x="6350040" y="1992240"/>
              <a:chExt cx="109440" cy="3699000"/>
            </a:xfrm>
          </p:grpSpPr>
          <p:sp>
            <p:nvSpPr>
              <p:cNvPr id="351" name=""/>
              <p:cNvSpPr/>
              <p:nvPr/>
            </p:nvSpPr>
            <p:spPr>
              <a:xfrm>
                <a:off x="6350040" y="1998720"/>
                <a:ext cx="0" cy="369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459480" y="1992240"/>
                <a:ext cx="0" cy="369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5538960" y="2139840"/>
              <a:ext cx="1747800" cy="6480"/>
              <a:chOff x="5538960" y="2139840"/>
              <a:chExt cx="1747800" cy="6480"/>
            </a:xfrm>
          </p:grpSpPr>
          <p:sp>
            <p:nvSpPr>
              <p:cNvPr id="354" name=""/>
              <p:cNvSpPr/>
              <p:nvPr/>
            </p:nvSpPr>
            <p:spPr>
              <a:xfrm>
                <a:off x="6494400" y="2146320"/>
                <a:ext cx="79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538960" y="2139840"/>
                <a:ext cx="792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"/>
            <p:cNvSpPr txBox="1"/>
            <p:nvPr/>
          </p:nvSpPr>
          <p:spPr>
            <a:xfrm>
              <a:off x="3814920" y="1963800"/>
              <a:ext cx="17017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ccupied Cha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1166760" y="2593800"/>
              <a:ext cx="617760" cy="2522880"/>
              <a:chOff x="1166760" y="2593800"/>
              <a:chExt cx="617760" cy="2522880"/>
            </a:xfrm>
          </p:grpSpPr>
          <p:sp>
            <p:nvSpPr>
              <p:cNvPr id="358" name=""/>
              <p:cNvSpPr/>
              <p:nvPr/>
            </p:nvSpPr>
            <p:spPr>
              <a:xfrm flipH="1">
                <a:off x="1682640" y="273528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1682640" y="344340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1684440" y="415764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1677960" y="4957920"/>
                <a:ext cx="100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 txBox="1"/>
              <p:nvPr/>
            </p:nvSpPr>
            <p:spPr>
              <a:xfrm>
                <a:off x="1185840" y="2593800"/>
                <a:ext cx="531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8 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 txBox="1"/>
              <p:nvPr/>
            </p:nvSpPr>
            <p:spPr>
              <a:xfrm>
                <a:off x="1179360" y="3308400"/>
                <a:ext cx="531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6 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 txBox="1"/>
              <p:nvPr/>
            </p:nvSpPr>
            <p:spPr>
              <a:xfrm>
                <a:off x="1173240" y="4024440"/>
                <a:ext cx="531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 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>
                <a:off x="1166760" y="4842000"/>
                <a:ext cx="5317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 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1676520" y="5683320"/>
              <a:ext cx="6105240" cy="376200"/>
              <a:chOff x="1676520" y="5683320"/>
              <a:chExt cx="6105240" cy="376200"/>
            </a:xfrm>
          </p:grpSpPr>
          <p:sp>
            <p:nvSpPr>
              <p:cNvPr id="367" name=""/>
              <p:cNvSpPr/>
              <p:nvPr/>
            </p:nvSpPr>
            <p:spPr>
              <a:xfrm>
                <a:off x="1913040" y="5686560"/>
                <a:ext cx="0" cy="9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600" bIns="48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548480" y="568944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772160" y="568332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327480" y="568944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184800" y="5689440"/>
                <a:ext cx="0" cy="100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48960" bIns="48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1676520" y="579600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0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 txBox="1"/>
              <p:nvPr/>
            </p:nvSpPr>
            <p:spPr>
              <a:xfrm>
                <a:off x="3095640" y="581508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2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 txBox="1"/>
              <p:nvPr/>
            </p:nvSpPr>
            <p:spPr>
              <a:xfrm>
                <a:off x="4533840" y="580536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4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5952960" y="580536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6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7315200" y="5805360"/>
                <a:ext cx="4665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48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 txBox="1"/>
            <p:nvPr/>
          </p:nvSpPr>
          <p:spPr>
            <a:xfrm>
              <a:off x="3676680" y="6211800"/>
              <a:ext cx="1765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equency (MHz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 txBox="1"/>
            <p:nvPr/>
          </p:nvSpPr>
          <p:spPr>
            <a:xfrm>
              <a:off x="74520" y="3733920"/>
              <a:ext cx="1312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ime (msec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7338960" y="3957480"/>
              <a:ext cx="4888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we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561000" y="2373480"/>
              <a:ext cx="12960" cy="327312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954160" y="2382840"/>
              <a:ext cx="12960" cy="327348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163600" y="2521080"/>
              <a:ext cx="792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591240" y="2549520"/>
              <a:ext cx="792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7426440" y="2448000"/>
              <a:ext cx="54612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swee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53280" y="5000760"/>
              <a:ext cx="171108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558200" y="4267080"/>
              <a:ext cx="0" cy="7351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6373800" y="3156120"/>
              <a:ext cx="1717560" cy="46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537320" y="3156120"/>
              <a:ext cx="6480" cy="785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 txBox="1"/>
          <p:nvPr/>
        </p:nvSpPr>
        <p:spPr>
          <a:xfrm>
            <a:off x="1230480" y="987480"/>
            <a:ext cx="68580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 C - Swept NB Jam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"/>
          <p:cNvGrpSpPr/>
          <p:nvPr/>
        </p:nvGrpSpPr>
        <p:grpSpPr>
          <a:xfrm>
            <a:off x="2243160" y="3038400"/>
            <a:ext cx="4267080" cy="1820880"/>
            <a:chOff x="2243160" y="3038400"/>
            <a:chExt cx="4267080" cy="1820880"/>
          </a:xfrm>
        </p:grpSpPr>
        <p:sp>
          <p:nvSpPr>
            <p:cNvPr id="391" name=""/>
            <p:cNvSpPr txBox="1"/>
            <p:nvPr/>
          </p:nvSpPr>
          <p:spPr>
            <a:xfrm>
              <a:off x="5742000" y="4368960"/>
              <a:ext cx="76824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 (mse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43160" y="4494240"/>
              <a:ext cx="35161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463840" y="449568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003560" y="449568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65600" y="44942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 txBox="1"/>
            <p:nvPr/>
          </p:nvSpPr>
          <p:spPr>
            <a:xfrm>
              <a:off x="2343240" y="4579920"/>
              <a:ext cx="268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 txBox="1"/>
            <p:nvPr/>
          </p:nvSpPr>
          <p:spPr>
            <a:xfrm>
              <a:off x="5319720" y="4584600"/>
              <a:ext cx="4809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33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 txBox="1"/>
            <p:nvPr/>
          </p:nvSpPr>
          <p:spPr>
            <a:xfrm>
              <a:off x="3743280" y="4581360"/>
              <a:ext cx="48096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.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40160" y="3697200"/>
              <a:ext cx="615960" cy="7970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4075200" y="3355920"/>
              <a:ext cx="1440" cy="33660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76640" y="3691080"/>
              <a:ext cx="615960" cy="797040"/>
            </a:xfrm>
            <a:prstGeom prst="rect">
              <a:avLst/>
            </a:prstGeom>
            <a:solidFill>
              <a:srgbClr val="96969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616200" y="3755880"/>
              <a:ext cx="457200" cy="74304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 txBox="1"/>
            <p:nvPr/>
          </p:nvSpPr>
          <p:spPr>
            <a:xfrm>
              <a:off x="3560760" y="3994200"/>
              <a:ext cx="585720" cy="244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 txBox="1"/>
            <p:nvPr/>
          </p:nvSpPr>
          <p:spPr>
            <a:xfrm>
              <a:off x="3238560" y="3792600"/>
              <a:ext cx="3510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t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3456000" y="39654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160800" y="397512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3618000" y="3127320"/>
              <a:ext cx="1440" cy="68904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3627360" y="3495600"/>
              <a:ext cx="436680" cy="274680"/>
              <a:chOff x="3627360" y="3495600"/>
              <a:chExt cx="436680" cy="274680"/>
            </a:xfrm>
          </p:grpSpPr>
          <p:sp>
            <p:nvSpPr>
              <p:cNvPr id="409" name=""/>
              <p:cNvSpPr txBox="1"/>
              <p:nvPr/>
            </p:nvSpPr>
            <p:spPr>
              <a:xfrm>
                <a:off x="3662280" y="3495600"/>
                <a:ext cx="3445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" name=""/>
              <p:cNvGrpSpPr/>
              <p:nvPr/>
            </p:nvGrpSpPr>
            <p:grpSpPr>
              <a:xfrm>
                <a:off x="3627360" y="3632040"/>
                <a:ext cx="436680" cy="0"/>
                <a:chOff x="3627360" y="3632040"/>
                <a:chExt cx="436680" cy="0"/>
              </a:xfrm>
            </p:grpSpPr>
            <p:sp>
              <p:nvSpPr>
                <p:cNvPr id="411" name=""/>
                <p:cNvSpPr/>
                <p:nvPr/>
              </p:nvSpPr>
              <p:spPr>
                <a:xfrm flipH="1">
                  <a:off x="3932280" y="3632040"/>
                  <a:ext cx="13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 flipH="1">
                  <a:off x="3627360" y="3632040"/>
                  <a:ext cx="13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-51120" bIns="-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13" name=""/>
            <p:cNvSpPr txBox="1"/>
            <p:nvPr/>
          </p:nvSpPr>
          <p:spPr>
            <a:xfrm>
              <a:off x="3957480" y="3038400"/>
              <a:ext cx="34308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4284720" y="316548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 flipV="1">
              <a:off x="4694400" y="3089160"/>
              <a:ext cx="1440" cy="603360"/>
            </a:xfrm>
            <a:prstGeom prst="line">
              <a:avLst/>
            </a:prstGeom>
            <a:ln w="12600">
              <a:solidFill>
                <a:srgbClr val="000000"/>
              </a:solidFill>
              <a:custDash>
                <a:ds d="202857" sp="202857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4084560" y="3390840"/>
              <a:ext cx="598680" cy="274680"/>
              <a:chOff x="4084560" y="3390840"/>
              <a:chExt cx="598680" cy="274680"/>
            </a:xfrm>
          </p:grpSpPr>
          <p:sp>
            <p:nvSpPr>
              <p:cNvPr id="417" name=""/>
              <p:cNvSpPr txBox="1"/>
              <p:nvPr/>
            </p:nvSpPr>
            <p:spPr>
              <a:xfrm>
                <a:off x="4186080" y="3390840"/>
                <a:ext cx="34452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4484520" y="3508200"/>
                <a:ext cx="19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4084560" y="3508200"/>
                <a:ext cx="198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 flipH="1">
              <a:off x="3637080" y="3165480"/>
              <a:ext cx="379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24120" y="4505400"/>
              <a:ext cx="1800" cy="88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691160" y="4495680"/>
              <a:ext cx="1440" cy="88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243240" y="450540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3476520" y="4551480"/>
              <a:ext cx="2793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lang="en-US" sz="11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95920" y="4505400"/>
              <a:ext cx="1440" cy="50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 txBox="1"/>
            <p:nvPr/>
          </p:nvSpPr>
          <p:spPr>
            <a:xfrm>
              <a:off x="4562640" y="4541760"/>
              <a:ext cx="279360" cy="260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1" lang="en-US" sz="11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 txBox="1"/>
          <p:nvPr/>
        </p:nvSpPr>
        <p:spPr>
          <a:xfrm>
            <a:off x="1349280" y="1138320"/>
            <a:ext cx="60548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 C - Packet Ti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m Zyren</dc:creator>
  <dc:description>Jim Zyren, Harris Corp.</dc:description>
  <dc:language>en-US</dc:language>
  <cp:lastModifiedBy>Ian Christopher Gifford</cp:lastModifiedBy>
  <cp:revision>0</cp:revision>
  <dc:subject>Submission</dc:subject>
  <dc:title>Effects of Microwave Interference On IEEE 802.11WLAN Reliability</dc:title>
</cp:coreProperties>
</file>