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F8C0B9-5C97-41E5-A951-B10E51A17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495680" y="396720"/>
            <a:ext cx="3962520" cy="2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685800" y="6475320"/>
            <a:ext cx="7113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479840" y="3108240"/>
            <a:ext cx="488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85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osal for a Wireless Personal Area Network Medium Access Control and Physical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2305"/>
              </a:spcAf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mec Technologies Corpor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0 Second St S.E., Cedar Rapids, I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on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9) 369-359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x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19) 369-329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nneypw@norand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t 15.2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op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S 300 3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pa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R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357800" y="6475320"/>
            <a:ext cx="503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4 GHz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non-desired emissions from ho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e bandwidths allow simple high speed modulation/demodulation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 componentry from PCS and WLAN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quency H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ld wide regulatory as spread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, low current drain, spread spectrum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 immunity from narrow band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a simplified strategy of coexistence in a congested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transmit power: &lt;1 m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imentary to an effective coexistence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ubmission under FCC 15.249 (no hop sequence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device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consumer concerns about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b/s aggregate data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effective coexistence strategy due to reduced transmit d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verage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response times yield reduced host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ocol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Functional Requirements in CFP (except only 10 st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Power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Auto Config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Temporarily Split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itializ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ation is “coordinat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“joi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broadcasts i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s unicast att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accepts or dec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ll expected stations attach, coordinator starts norma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Oper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periodically broadcast synchronization information (beac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beacons, stations transmit to powered down stations by requesting other stations to leave receiver on, and after a short interval sending to that s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s transmit to powered up station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tion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or broadcast (after beacons) termination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repeated several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523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applications such as the mobile worker and Physiological Monitoring involve short messages and short distances between devices. Key attributes for these devices include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s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current d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Access Control (MA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-persistent with reservations (the reservation is similar to that in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cast frames all have an immediate response from recip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uences: Ini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595440" y="1890720"/>
            <a:ext cx="2985840" cy="457200"/>
            <a:chOff x="595440" y="1890720"/>
            <a:chExt cx="2985840" cy="457200"/>
          </a:xfrm>
        </p:grpSpPr>
        <p:sp>
          <p:nvSpPr>
            <p:cNvPr id="180" name=""/>
            <p:cNvSpPr txBox="1"/>
            <p:nvPr/>
          </p:nvSpPr>
          <p:spPr>
            <a:xfrm>
              <a:off x="595440" y="1890720"/>
              <a:ext cx="190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743200" y="21337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743200" y="2347920"/>
            <a:ext cx="2691000" cy="457200"/>
            <a:chOff x="2743200" y="2347920"/>
            <a:chExt cx="2691000" cy="457200"/>
          </a:xfrm>
        </p:grpSpPr>
        <p:sp>
          <p:nvSpPr>
            <p:cNvPr id="183" name=""/>
            <p:cNvSpPr txBox="1"/>
            <p:nvPr/>
          </p:nvSpPr>
          <p:spPr>
            <a:xfrm>
              <a:off x="3870360" y="2347920"/>
              <a:ext cx="15638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ttach Re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3200" y="2590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 txBox="1"/>
          <p:nvPr/>
        </p:nvSpPr>
        <p:spPr>
          <a:xfrm>
            <a:off x="671400" y="2805120"/>
            <a:ext cx="1547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ach R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30481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23040" y="2209680"/>
            <a:ext cx="1131840" cy="1524240"/>
            <a:chOff x="7223040" y="2209680"/>
            <a:chExt cx="1131840" cy="1524240"/>
          </a:xfrm>
        </p:grpSpPr>
        <p:sp>
          <p:nvSpPr>
            <p:cNvPr id="188" name=""/>
            <p:cNvSpPr/>
            <p:nvPr/>
          </p:nvSpPr>
          <p:spPr>
            <a:xfrm>
              <a:off x="7772400" y="2209680"/>
              <a:ext cx="0" cy="1524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7223040" y="250020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71400" y="3870360"/>
            <a:ext cx="2986200" cy="457200"/>
            <a:chOff x="671400" y="3870360"/>
            <a:chExt cx="2986200" cy="457200"/>
          </a:xfrm>
        </p:grpSpPr>
        <p:sp>
          <p:nvSpPr>
            <p:cNvPr id="191" name=""/>
            <p:cNvSpPr txBox="1"/>
            <p:nvPr/>
          </p:nvSpPr>
          <p:spPr>
            <a:xfrm>
              <a:off x="671400" y="3870360"/>
              <a:ext cx="1901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19520" y="41148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747720" y="5318280"/>
            <a:ext cx="2986200" cy="457200"/>
            <a:chOff x="747720" y="5318280"/>
            <a:chExt cx="2986200" cy="457200"/>
          </a:xfrm>
        </p:grpSpPr>
        <p:sp>
          <p:nvSpPr>
            <p:cNvPr id="194" name=""/>
            <p:cNvSpPr txBox="1"/>
            <p:nvPr/>
          </p:nvSpPr>
          <p:spPr>
            <a:xfrm>
              <a:off x="747720" y="5318280"/>
              <a:ext cx="20541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tart Broadca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556272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223040" y="4114800"/>
            <a:ext cx="1131840" cy="1523880"/>
            <a:chOff x="7223040" y="4114800"/>
            <a:chExt cx="1131840" cy="1523880"/>
          </a:xfrm>
        </p:grpSpPr>
        <p:sp>
          <p:nvSpPr>
            <p:cNvPr id="197" name=""/>
            <p:cNvSpPr/>
            <p:nvPr/>
          </p:nvSpPr>
          <p:spPr>
            <a:xfrm>
              <a:off x="7772400" y="4114800"/>
              <a:ext cx="0" cy="1523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7223040" y="4403880"/>
              <a:ext cx="113184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terv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47720" y="5851440"/>
            <a:ext cx="2986200" cy="457200"/>
            <a:chOff x="747720" y="5851440"/>
            <a:chExt cx="2986200" cy="457200"/>
          </a:xfrm>
        </p:grpSpPr>
        <p:sp>
          <p:nvSpPr>
            <p:cNvPr id="200" name=""/>
            <p:cNvSpPr txBox="1"/>
            <p:nvPr/>
          </p:nvSpPr>
          <p:spPr>
            <a:xfrm>
              <a:off x="747720" y="585144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5480" y="6095880"/>
              <a:ext cx="838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’s:Normal 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to Powered Down 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71400" y="1814400"/>
            <a:ext cx="2986200" cy="457200"/>
            <a:chOff x="671400" y="1814400"/>
            <a:chExt cx="2986200" cy="457200"/>
          </a:xfrm>
        </p:grpSpPr>
        <p:sp>
          <p:nvSpPr>
            <p:cNvPr id="208" name=""/>
            <p:cNvSpPr txBox="1"/>
            <p:nvPr/>
          </p:nvSpPr>
          <p:spPr>
            <a:xfrm>
              <a:off x="671400" y="181440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819520" y="2057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6400800" y="2286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699160" y="234792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994440" y="1981080"/>
            <a:ext cx="928800" cy="1981440"/>
            <a:chOff x="6994440" y="1981080"/>
            <a:chExt cx="928800" cy="1981440"/>
          </a:xfrm>
        </p:grpSpPr>
        <p:sp>
          <p:nvSpPr>
            <p:cNvPr id="213" name=""/>
            <p:cNvSpPr/>
            <p:nvPr/>
          </p:nvSpPr>
          <p:spPr>
            <a:xfrm>
              <a:off x="7467480" y="1981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6994440" y="280512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71400" y="2119320"/>
            <a:ext cx="2986200" cy="457200"/>
            <a:chOff x="671400" y="2119320"/>
            <a:chExt cx="2986200" cy="457200"/>
          </a:xfrm>
        </p:grpSpPr>
        <p:sp>
          <p:nvSpPr>
            <p:cNvPr id="216" name=""/>
            <p:cNvSpPr txBox="1"/>
            <p:nvPr/>
          </p:nvSpPr>
          <p:spPr>
            <a:xfrm>
              <a:off x="671400" y="211932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19520" y="23623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994440" y="3962520"/>
            <a:ext cx="928800" cy="1981080"/>
            <a:chOff x="6994440" y="3962520"/>
            <a:chExt cx="928800" cy="1981080"/>
          </a:xfrm>
        </p:grpSpPr>
        <p:sp>
          <p:nvSpPr>
            <p:cNvPr id="219" name=""/>
            <p:cNvSpPr/>
            <p:nvPr/>
          </p:nvSpPr>
          <p:spPr>
            <a:xfrm>
              <a:off x="7467480" y="39625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6994440" y="4784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2743200" y="2347920"/>
            <a:ext cx="1803240" cy="457200"/>
            <a:chOff x="2743200" y="2347920"/>
            <a:chExt cx="1803240" cy="457200"/>
          </a:xfrm>
        </p:grpSpPr>
        <p:sp>
          <p:nvSpPr>
            <p:cNvPr id="222" name=""/>
            <p:cNvSpPr txBox="1"/>
            <p:nvPr/>
          </p:nvSpPr>
          <p:spPr>
            <a:xfrm>
              <a:off x="3871800" y="234792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43200" y="2590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71400" y="3110040"/>
            <a:ext cx="2986200" cy="457200"/>
            <a:chOff x="671400" y="3110040"/>
            <a:chExt cx="2986200" cy="457200"/>
          </a:xfrm>
        </p:grpSpPr>
        <p:sp>
          <p:nvSpPr>
            <p:cNvPr id="225" name=""/>
            <p:cNvSpPr txBox="1"/>
            <p:nvPr/>
          </p:nvSpPr>
          <p:spPr>
            <a:xfrm>
              <a:off x="671400" y="311004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19520" y="33526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743200" y="3336840"/>
            <a:ext cx="1803240" cy="457200"/>
            <a:chOff x="2743200" y="3336840"/>
            <a:chExt cx="1803240" cy="457200"/>
          </a:xfrm>
        </p:grpSpPr>
        <p:sp>
          <p:nvSpPr>
            <p:cNvPr id="228" name=""/>
            <p:cNvSpPr txBox="1"/>
            <p:nvPr/>
          </p:nvSpPr>
          <p:spPr>
            <a:xfrm>
              <a:off x="3871800" y="333684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43200" y="35812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71400" y="3565440"/>
            <a:ext cx="2986200" cy="457200"/>
            <a:chOff x="671400" y="3565440"/>
            <a:chExt cx="2986200" cy="457200"/>
          </a:xfrm>
        </p:grpSpPr>
        <p:sp>
          <p:nvSpPr>
            <p:cNvPr id="231" name=""/>
            <p:cNvSpPr txBox="1"/>
            <p:nvPr/>
          </p:nvSpPr>
          <p:spPr>
            <a:xfrm>
              <a:off x="671400" y="3565440"/>
              <a:ext cx="75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819520" y="38098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43200" y="3794040"/>
            <a:ext cx="1701720" cy="457200"/>
            <a:chOff x="2743200" y="3794040"/>
            <a:chExt cx="1701720" cy="457200"/>
          </a:xfrm>
        </p:grpSpPr>
        <p:sp>
          <p:nvSpPr>
            <p:cNvPr id="234" name=""/>
            <p:cNvSpPr txBox="1"/>
            <p:nvPr/>
          </p:nvSpPr>
          <p:spPr>
            <a:xfrm>
              <a:off x="3871800" y="379404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3200" y="403848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8290080" y="1981080"/>
            <a:ext cx="387360" cy="3962520"/>
            <a:chOff x="8290080" y="1981080"/>
            <a:chExt cx="387360" cy="3962520"/>
          </a:xfrm>
        </p:grpSpPr>
        <p:sp>
          <p:nvSpPr>
            <p:cNvPr id="237" name=""/>
            <p:cNvSpPr/>
            <p:nvPr/>
          </p:nvSpPr>
          <p:spPr>
            <a:xfrm>
              <a:off x="8305920" y="19810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8290080" y="2117880"/>
              <a:ext cx="387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609480" y="396720"/>
            <a:ext cx="82872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467320" y="6475320"/>
            <a:ext cx="314316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6858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 Seq’s:Normal Op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d to Powered Up 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671400" y="1814400"/>
            <a:ext cx="2986200" cy="457200"/>
            <a:chOff x="671400" y="1814400"/>
            <a:chExt cx="2986200" cy="457200"/>
          </a:xfrm>
        </p:grpSpPr>
        <p:sp>
          <p:nvSpPr>
            <p:cNvPr id="245" name=""/>
            <p:cNvSpPr txBox="1"/>
            <p:nvPr/>
          </p:nvSpPr>
          <p:spPr>
            <a:xfrm>
              <a:off x="671400" y="1814400"/>
              <a:ext cx="10987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eac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19520" y="205740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6400800" y="1981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699160" y="2347920"/>
            <a:ext cx="1327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FP 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6994440" y="1981080"/>
            <a:ext cx="928800" cy="1981440"/>
            <a:chOff x="6994440" y="1981080"/>
            <a:chExt cx="928800" cy="1981440"/>
          </a:xfrm>
        </p:grpSpPr>
        <p:sp>
          <p:nvSpPr>
            <p:cNvPr id="250" name=""/>
            <p:cNvSpPr/>
            <p:nvPr/>
          </p:nvSpPr>
          <p:spPr>
            <a:xfrm>
              <a:off x="7467480" y="1981080"/>
              <a:ext cx="0" cy="198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6994440" y="280512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994440" y="3962520"/>
            <a:ext cx="928800" cy="1981080"/>
            <a:chOff x="6994440" y="3962520"/>
            <a:chExt cx="928800" cy="1981080"/>
          </a:xfrm>
        </p:grpSpPr>
        <p:sp>
          <p:nvSpPr>
            <p:cNvPr id="253" name=""/>
            <p:cNvSpPr/>
            <p:nvPr/>
          </p:nvSpPr>
          <p:spPr>
            <a:xfrm>
              <a:off x="7467480" y="3962520"/>
              <a:ext cx="0" cy="19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6994440" y="4784760"/>
              <a:ext cx="928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we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671400" y="3489480"/>
            <a:ext cx="2986200" cy="457200"/>
            <a:chOff x="671400" y="3489480"/>
            <a:chExt cx="2986200" cy="457200"/>
          </a:xfrm>
        </p:grpSpPr>
        <p:sp>
          <p:nvSpPr>
            <p:cNvPr id="256" name=""/>
            <p:cNvSpPr txBox="1"/>
            <p:nvPr/>
          </p:nvSpPr>
          <p:spPr>
            <a:xfrm>
              <a:off x="671400" y="3489480"/>
              <a:ext cx="7272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F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819520" y="37339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743200" y="3718080"/>
            <a:ext cx="1803240" cy="457200"/>
            <a:chOff x="2743200" y="3718080"/>
            <a:chExt cx="1803240" cy="457200"/>
          </a:xfrm>
        </p:grpSpPr>
        <p:sp>
          <p:nvSpPr>
            <p:cNvPr id="259" name=""/>
            <p:cNvSpPr txBox="1"/>
            <p:nvPr/>
          </p:nvSpPr>
          <p:spPr>
            <a:xfrm>
              <a:off x="3871800" y="3718080"/>
              <a:ext cx="6746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l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3200" y="39625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671400" y="3946680"/>
            <a:ext cx="2986200" cy="457200"/>
            <a:chOff x="671400" y="3946680"/>
            <a:chExt cx="2986200" cy="457200"/>
          </a:xfrm>
        </p:grpSpPr>
        <p:sp>
          <p:nvSpPr>
            <p:cNvPr id="262" name=""/>
            <p:cNvSpPr txBox="1"/>
            <p:nvPr/>
          </p:nvSpPr>
          <p:spPr>
            <a:xfrm>
              <a:off x="671400" y="3946680"/>
              <a:ext cx="75888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41911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2743200" y="4175280"/>
            <a:ext cx="1701720" cy="457200"/>
            <a:chOff x="2743200" y="4175280"/>
            <a:chExt cx="1701720" cy="457200"/>
          </a:xfrm>
        </p:grpSpPr>
        <p:sp>
          <p:nvSpPr>
            <p:cNvPr id="265" name=""/>
            <p:cNvSpPr txBox="1"/>
            <p:nvPr/>
          </p:nvSpPr>
          <p:spPr>
            <a:xfrm>
              <a:off x="3871800" y="4175280"/>
              <a:ext cx="57312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743200" y="441972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8290080" y="1981080"/>
            <a:ext cx="387360" cy="3962520"/>
            <a:chOff x="8290080" y="1981080"/>
            <a:chExt cx="387360" cy="3962520"/>
          </a:xfrm>
        </p:grpSpPr>
        <p:sp>
          <p:nvSpPr>
            <p:cNvPr id="268" name=""/>
            <p:cNvSpPr/>
            <p:nvPr/>
          </p:nvSpPr>
          <p:spPr>
            <a:xfrm>
              <a:off x="8305920" y="1981080"/>
              <a:ext cx="0" cy="396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8290080" y="2117880"/>
              <a:ext cx="387360" cy="3743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ces from CF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vs 16 nodes per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number is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ly at 1.5 cubic in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pe factor dictated by host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357800" y="6475320"/>
            <a:ext cx="50328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: self initiating, self contained net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: minimal cost, low relative to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: less than 20 mW for connection 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: both WLAN networks and PAN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: greater than 10 meters in cubicle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5335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addressing:  allows the network to be intiated and maintained with minimal operator interv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orary network:  allows a device to temporarily split from its PAN, attach to a non-PAN device, detach from that device and resume participation in the original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onfig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70240" y="3295800"/>
            <a:ext cx="539640" cy="2412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380880" y="1828800"/>
            <a:ext cx="7805880" cy="3556080"/>
            <a:chOff x="380880" y="1828800"/>
            <a:chExt cx="7805880" cy="3556080"/>
          </a:xfrm>
        </p:grpSpPr>
        <p:sp>
          <p:nvSpPr>
            <p:cNvPr id="67" name=""/>
            <p:cNvSpPr/>
            <p:nvPr/>
          </p:nvSpPr>
          <p:spPr>
            <a:xfrm>
              <a:off x="380880" y="1828800"/>
              <a:ext cx="678168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065480" y="313704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065480" y="4235400"/>
              <a:ext cx="2355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65480" y="3191040"/>
              <a:ext cx="2355840" cy="9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065480" y="3246480"/>
              <a:ext cx="1212840" cy="153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278320" y="3246480"/>
              <a:ext cx="1143000" cy="1538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65480" y="4289400"/>
              <a:ext cx="114480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91480" y="3673440"/>
              <a:ext cx="42840" cy="6699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4065480" y="3191040"/>
              <a:ext cx="2355840" cy="934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5343480" y="4289400"/>
              <a:ext cx="1077840" cy="495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1508040" y="3108240"/>
              <a:ext cx="1319040" cy="1187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rs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e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3276720" y="4038480"/>
              <a:ext cx="6094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6488280" y="4253040"/>
              <a:ext cx="1023840" cy="33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 txBox="1"/>
            <p:nvPr/>
          </p:nvSpPr>
          <p:spPr>
            <a:xfrm>
              <a:off x="3182760" y="4659480"/>
              <a:ext cx="10080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C Based Work St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6230880" y="4583160"/>
              <a:ext cx="1725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arcode and Receipt Printer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2954160" y="3516480"/>
              <a:ext cx="8143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AN Rad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5621400" y="5116680"/>
              <a:ext cx="62064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cann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7145280" y="3135240"/>
              <a:ext cx="104148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n-based HH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6504120" y="2608200"/>
              <a:ext cx="66528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3340080" y="2754360"/>
              <a:ext cx="393840" cy="69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6"/>
            <a:stretch/>
          </p:blipFill>
          <p:spPr>
            <a:xfrm>
              <a:off x="5078520" y="4835520"/>
              <a:ext cx="412920" cy="549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f the major drivers behind WPAN is the lowest possible cost.  Cost is typically driven by complexity and high performance requirements.  The design philosophy behind this proposal is a system design with relaxed requirements on hardware cost drivers and which leverages existing technology and componentry where possible for the lowest recurring co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4572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447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greatly simplifies requirements on RF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FS/DIFS/PIFS are greatly relaxe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C S/W overhead (estimate 25% of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MAC/PHY gate count (estimate 10% 802.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onversion 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 launch V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Con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7621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MAC complexity a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SIC current d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microprocessor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transceiver performance requirements all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d active compon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ve results in less than 6 mA current drain @ 3.3V for connection mainta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exis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essential that these devices operate satisfactorily in congested spectral environments.  The proposal is for CSMA/CA protocol, Frequency Hopping, with a high speed aggregate data rate to aid in Coexistence with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 other co-located PAN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LAN FH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09480" y="396720"/>
            <a:ext cx="74628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395960" y="6475320"/>
            <a:ext cx="426960" cy="3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486400" y="6475320"/>
            <a:ext cx="31240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 Kinney, Intermec Technolo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ity of requirements for PANs are met with a maximum range of 10 meters.  Intermec Technolgies’ implementation of this proposal has a demonstrated range of greater than 10 meters as verified in a cubicle environment and in shipping and receiving ar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Norand Corporation</cp:lastModifiedBy>
  <cp:revision>0</cp:revision>
  <dc:subject/>
  <dc:title>No Slide Title</dc:title>
</cp:coreProperties>
</file>