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7120"/>
            <a:ext cx="9907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2895480"/>
            <a:ext cx="68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5.2 GHz OFDM proposa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ellation 1,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7080" y="528480"/>
            <a:ext cx="76248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ellation 2,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7080" y="528480"/>
            <a:ext cx="76248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ellation 2,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7080" y="528480"/>
            <a:ext cx="76248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Throughput without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Mbit/s of 30 Mbit/s (7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5 Mbit/s of 20Mbit/s (7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: 1.72 at 2Mbit/s (86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at 5% Packet loss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67, for offered traffic 0.7,  at 30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5 for offered traffic 0.8 at 20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 for offered traffic 0.9 at 2Mbit/s D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han 3.2 ms at 30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han 5.0 ms at 20Mbit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44.1 ms at 2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MAC maintains efficiency due to PHY pre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% to 5% of 1500 byte packet (3% at 2Mbit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&amp; MAC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1500 byte packet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 30 Mbit/s (according to Lucent/NTT propos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sson packet arriv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downlink traffic, 25% uplin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ndoffs / ro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SA/CA according to IEEE 802.11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Parameters according to Lucent/NTT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 = 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 = 13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 = 2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overhead = 2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(2.4 or 1.6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 capacity of 10 packets (15K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power 200mWatt (23dB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dB-gain omni directional anten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loss model: 5.2 model as developed for Magic 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-normal fading of 8d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Noise Figure: 5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mal Noise: (-103dBm) (2Mbit/s DSSS: -114 dB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ed BER curves used a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i.i.d. bit errors with probability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i-th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 BER for i-th bit and calc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{packet error} = 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 - AP separation: 20 m: RSS  = -58dB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ccess Point, 10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Access Points 60m apart, 10 Stations, 20m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approximately 50 m (see 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ed 10 minutes of re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loss versus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57160" y="1343160"/>
            <a:ext cx="72961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ella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43400" y="35812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286000"/>
            <a:ext cx="3124080" cy="31240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19520" y="31240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43400" y="213372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91320" y="31240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352680" y="47242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4120" y="47242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14680" y="3459240"/>
            <a:ext cx="692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3809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52680" y="236232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4120" y="236232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19520" y="396252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91320" y="396252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43400" y="51814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09680" y="35812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286000"/>
            <a:ext cx="3124080" cy="31240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297180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09680" y="213372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81280" y="297180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19320" y="47242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00400" y="47242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48520" y="35812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2286000"/>
            <a:ext cx="3124080" cy="31240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76920" y="297180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48520" y="213372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0120" y="297180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257800" y="47242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238880" y="4724280"/>
            <a:ext cx="60948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38098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28680" y="3840120"/>
            <a:ext cx="692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3809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00480" y="3840120"/>
            <a:ext cx="692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73280" y="685800"/>
            <a:ext cx="7597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ella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tical max throughput per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98800" y="1325520"/>
            <a:ext cx="244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length [byt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ellation 1,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7080" y="528480"/>
            <a:ext cx="77058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