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CDA60A3-B7A4-46D9-A1DC-876B758425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228600"/>
            <a:ext cx="8915400" cy="63244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685800" y="228600"/>
            <a:ext cx="792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627960"/>
            <a:ext cx="31240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May 98</a:t>
            </a:r>
            <a:endParaRPr b="0" lang="en-US" sz="1200" spc="-1" strike="noStrike">
              <a:solidFill>
                <a:srgbClr val="000000"/>
              </a:solidFill>
              <a:latin typeface="Arial"/>
            </a:endParaRPr>
          </a:p>
        </p:txBody>
      </p:sp>
      <p:sp>
        <p:nvSpPr>
          <p:cNvPr id="4" name=""/>
          <p:cNvSpPr txBox="1"/>
          <p:nvPr/>
        </p:nvSpPr>
        <p:spPr>
          <a:xfrm>
            <a:off x="4629240" y="1584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53-r1</a:t>
            </a:r>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6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3"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4-8, 199</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Utrecht, the Netherlands</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y 4,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8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 2</a:t>
            </a:r>
            <a:endParaRPr b="0" lang="en-US" sz="4400" spc="-1" strike="noStrike">
              <a:solidFill>
                <a:srgbClr val="000000"/>
              </a:solidFill>
              <a:latin typeface="Arial"/>
            </a:endParaRPr>
          </a:p>
        </p:txBody>
      </p:sp>
      <p:sp>
        <p:nvSpPr>
          <p:cNvPr id="8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 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 Report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 Report 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3 Report from TGc</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4 Report from TGa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5 Report from TGb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8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9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 2</a:t>
            </a:r>
            <a:endParaRPr b="0" lang="en-US" sz="4400" spc="-1" strike="noStrike">
              <a:solidFill>
                <a:srgbClr val="000000"/>
              </a:solidFill>
              <a:latin typeface="Arial"/>
            </a:endParaRPr>
          </a:p>
        </p:txBody>
      </p:sp>
      <p:sp>
        <p:nvSpPr>
          <p:cNvPr id="9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9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8-9 - Boston Marriott, Cambridge, MA,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 Interim + SG</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19-21 - TBD,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 14-18 - Waltham, MA, tentative, Interim</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96"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9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9"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10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10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10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10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8"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10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8"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election of technology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in the SG WPA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Sponsor Ballot result, if any</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Changes in this version: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folded TGa agenda in,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hanged Monday evening from TGb to 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hanged Tueday evening from TGa to social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G meeting date from 20-21 of May to 19-21</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pare meeting time for Sponsor material on Thursda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stablish teller committee” on Mon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1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1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4"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1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1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Dissemination of information will be electronic with very limited copies made available to the grou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2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2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15 copies) and on diskette/flash car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2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 </a:t>
            </a:r>
            <a:r>
              <a:rPr b="0" i="1" lang="en-US" sz="2800" spc="-1" strike="noStrike">
                <a:solidFill>
                  <a:srgbClr val="000000"/>
                </a:solidFill>
                <a:latin typeface="Times New Roman"/>
                <a:ea typeface="Times New Roman"/>
              </a:rPr>
              <a:t>To be confirm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 for just a few)</a:t>
            </a:r>
            <a:endParaRPr b="0" lang="en-US" sz="4400" spc="-1" strike="noStrike">
              <a:solidFill>
                <a:srgbClr val="000000"/>
              </a:solidFill>
              <a:latin typeface="Arial"/>
            </a:endParaRPr>
          </a:p>
        </p:txBody>
      </p:sp>
      <p:sp>
        <p:nvSpPr>
          <p:cNvPr id="12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Esta</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8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SG !   |   !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TGb!WPAN!TGc|TGb!SG  !TG |TGb! SG !T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   !    !   |   !WPAN!rev|   !WPAN!rev|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PAN</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c?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Full 802.11 |TGa! SG !TG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WPAN |TGa! SG !TG |............|   !WPAN!rev|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WPAN!rev|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    TGa     |   !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Social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6"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8"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121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sponsor ballo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1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 Maintena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a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TGb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TGc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1 Establish teller committee for this sess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1</a:t>
            </a:r>
            <a:endParaRPr b="0" lang="en-US" sz="4400" spc="-1" strike="noStrike">
              <a:solidFill>
                <a:srgbClr val="000000"/>
              </a:solidFill>
              <a:latin typeface="Arial"/>
            </a:endParaRPr>
          </a:p>
        </p:txBody>
      </p:sp>
      <p:sp>
        <p:nvSpPr>
          <p:cNvPr id="74" name=""/>
          <p:cNvSpPr txBox="1"/>
          <p:nvPr/>
        </p:nvSpPr>
        <p:spPr>
          <a:xfrm>
            <a:off x="685800" y="1219320"/>
            <a:ext cx="7772400" cy="524340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Arial"/>
                <a:ea typeface="Arial"/>
              </a:rPr>
              <a:t>Mo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3:30-14:3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genda, docs, presentation and approval of selection proc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4:30-15:4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non-proposers material considered critical for select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45-16: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reak</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6:00-16:4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6:45-17:3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7:30-18:1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3</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8:15-19: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Discussion, resolution of matrix issues</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2</a:t>
            </a:r>
            <a:endParaRPr b="0" lang="en-US" sz="4400" spc="-1" strike="noStrike">
              <a:solidFill>
                <a:srgbClr val="000000"/>
              </a:solidFill>
              <a:latin typeface="Arial"/>
            </a:endParaRPr>
          </a:p>
        </p:txBody>
      </p:sp>
      <p:sp>
        <p:nvSpPr>
          <p:cNvPr id="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Arial"/>
                <a:ea typeface="Arial"/>
              </a:rPr>
              <a:t>Tue</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3:00-15: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Comparison Matrix, Q&amp;A to a panel.</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00-15:1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reak</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15-17: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5 minute summary of each proposal, discussion, vote and count, result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7: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cial ev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3</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W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plenary -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proval of the select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00 - Discussions, text modifica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hu</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me</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rida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proval of finalized text, preparations for Ballot</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Of course if we do not end up with a 75% supported modulation type, the agenda will be modified as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