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66-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0480" y="609480"/>
            <a:ext cx="776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477120"/>
            <a:ext cx="784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222800" y="6523200"/>
            <a:ext cx="69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A32333C5-9B6F-4E4A-87BA-01429D85A3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Evaluation of Proposed OF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van Nee, Hitoshi Takanashi and Masahiro Morik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+ 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against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6582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ble B.O. with Single Car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2280" y="1833480"/>
            <a:ext cx="82612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1914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agation Model for Inter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734240" cy="302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019920" y="228600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=A+20 log(d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43000" y="5334120"/>
            <a:ext cx="708660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S. Rappaport, “Wireless Communications”, Prentice Hall 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Nobles, et. Al., “Indoor Radiowave Propagation Measurements at Frequencies up to 20 GHz”, IEEE VTC ‘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apacity 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5000" y="1833480"/>
            <a:ext cx="82645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apacity 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81914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407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642960"/>
            <a:ext cx="7238880" cy="58593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1066680" y="1219320"/>
            <a:ext cx="609480" cy="519120"/>
            <a:chOff x="1066680" y="1219320"/>
            <a:chExt cx="609480" cy="519120"/>
          </a:xfrm>
        </p:grpSpPr>
        <p:sp>
          <p:nvSpPr>
            <p:cNvPr id="80" name=""/>
            <p:cNvSpPr txBox="1"/>
            <p:nvPr/>
          </p:nvSpPr>
          <p:spPr>
            <a:xfrm>
              <a:off x="1295280" y="1219320"/>
              <a:ext cx="38088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1066680" y="137160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330120"/>
            <a:ext cx="75312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1371600" y="990720"/>
            <a:ext cx="609480" cy="519120"/>
            <a:chOff x="1371600" y="990720"/>
            <a:chExt cx="609480" cy="519120"/>
          </a:xfrm>
        </p:grpSpPr>
        <p:sp>
          <p:nvSpPr>
            <p:cNvPr id="84" name=""/>
            <p:cNvSpPr txBox="1"/>
            <p:nvPr/>
          </p:nvSpPr>
          <p:spPr>
            <a:xfrm>
              <a:off x="1600200" y="990720"/>
              <a:ext cx="38088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1371600" y="114300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36560" y="635040"/>
            <a:ext cx="764532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important iss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/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nd (indoo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/ favorable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eho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/ favorable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1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 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1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Ro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5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id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- 15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pping 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15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620640"/>
            <a:ext cx="769608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960" y="668160"/>
            <a:ext cx="7658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668160"/>
            <a:ext cx="7658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3200" y="650880"/>
            <a:ext cx="763272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60240" y="660240"/>
            <a:ext cx="764532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620640"/>
            <a:ext cx="769608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7640" y="668160"/>
            <a:ext cx="7658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640" y="668160"/>
            <a:ext cx="7658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73200" y="633240"/>
            <a:ext cx="75564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8720" y="674640"/>
            <a:ext cx="782316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important issues?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/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nd (indoor/OUTDOO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band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/ favor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/ favor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bustness against Delay Spread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684360"/>
            <a:ext cx="769608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96880" y="668160"/>
            <a:ext cx="778500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58720" y="641520"/>
            <a:ext cx="78994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5360" y="622440"/>
            <a:ext cx="77342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6120" y="663480"/>
            <a:ext cx="77598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4280" y="655560"/>
            <a:ext cx="779796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8720" y="685800"/>
            <a:ext cx="782316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7800" y="682560"/>
            <a:ext cx="77994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1680" y="698400"/>
            <a:ext cx="7810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46080" y="679320"/>
            <a:ext cx="744228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sumption of STA’s H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6640" y="1335240"/>
            <a:ext cx="777564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679320"/>
            <a:ext cx="74674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27000" y="674640"/>
            <a:ext cx="714996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00280" y="622440"/>
            <a:ext cx="760716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1360" y="723960"/>
            <a:ext cx="80773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ion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linear : OBO=5dB in ALL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 path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 quan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apacity 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1601640"/>
            <a:ext cx="82789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apacity 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5000" y="1833480"/>
            <a:ext cx="81486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848720" cy="449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38960" cy="4997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to 5 Mbit/s, 5 carriers in 100 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77040" cy="489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Consumption (0.35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492200"/>
            <a:ext cx="6199200" cy="517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191440" cy="425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against Delay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