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6474C-836B-4702-86B5-9FC19055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he roposals re: data rate - no appreciabl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note what was not tha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not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 the General Purpose Wireless LAN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09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Abramow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uccess to date has been primarily in vertical marke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2.4 GHz High Speed could be the enabling technology for the general purpos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must be considered in choosing the H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arket research projects conducted with decision makers in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LAN access for workers with portable computers in office environment identified as key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rket research results and customer preferences present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Key Barriers to Broader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pric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d to wired L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Etherne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is more of concern tha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my users compl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ith inter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Perspectives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2.4 GHz HS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compatibility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essage resonates with network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alternative” customers with significant capacity requirements will migrate to 5 GHz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for 2.4 GHz  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backward compatibility as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election must prioritize ke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