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c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52388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 on Tuesday 05/05/98 and Thursday 05/07/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ure deadline on Tuesday 05/05/98 received 4 new com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 17 comments: 15 editorial, 1 technical, 1 technical NO v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comments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mments not applic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mments decl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mments not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status and additional comment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