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495680" y="396720"/>
            <a:ext cx="3962520" cy="2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88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2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685800" y="6475320"/>
            <a:ext cx="7113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121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 Delay-Spread Tole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hn H. Cafar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ILOR, In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343400" y="1905120"/>
            <a:ext cx="4137120" cy="26128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343400" y="4245120"/>
            <a:ext cx="4137120" cy="2612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imation of P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E|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80880" y="1981080"/>
            <a:ext cx="40384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of 16 Members of a Coset Likely to Cause Errors in “Bad” Multipath (D97/1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Coset has 1/8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E|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original assum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f Four Cosets (in code channel) has 1/8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E|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3963960" y="3506760"/>
            <a:ext cx="531720" cy="227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35360" y="5411880"/>
            <a:ext cx="760320" cy="150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P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E|M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l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Full-Packet 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 Bytes Random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Multipath Randomization per Fr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Thermal No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 Packet Error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umulate Symbol Error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imate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E|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 Error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182880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96 Multipath Profiles per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10% @ 275 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1 of 4 Cosets Hurt by Specific Multipath Pro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4120" y="2209680"/>
            <a:ext cx="2467080" cy="1243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752480" y="4267080"/>
            <a:ext cx="1897200" cy="6951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191120" y="3581280"/>
            <a:ext cx="469908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600200" y="0"/>
            <a:ext cx="5965920" cy="34225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371600" y="3397320"/>
            <a:ext cx="597528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5994360" cy="34416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523880" y="3349800"/>
            <a:ext cx="6032520" cy="35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6858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line of Symbol-Based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33520" y="198108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ability of Symbol Error Conditioned 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Pattern of Symb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Pattern of Neighboring Symb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e Channel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 Impuls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ise Samples for Symbols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imulation to Generate Test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Error Probabilities Analy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33520" y="198108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mens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symbols: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5 bit/symb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Significant Paths: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00 levels ea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 Code Chann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 Noise Samples: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2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00 levels ea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Not Handle Noise By 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mensionality Still Large (~Avogadro’s #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a Test Statis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e Sample Multipath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h delay spacing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inimum of  2 per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h delay span 10 times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nential distribution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de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yleigh amplitude, uniform phase per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olve with Rx Chip-Pulse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Largest Path for Demod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a Test Statistic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imate to One Sample per C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e Sig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code cha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e 4 or 8 symbols of 5-bit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olve Signal and Chan. Impulse Res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16 Samples for Symbol 3 or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 16 Correlator-Output Magnitu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stical Avera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e Sample Correlator Stat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s. SN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erage Results for 4K or 8K Randomizations (typic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781680" y="2362320"/>
            <a:ext cx="1755720" cy="33368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4952880" y="5181480"/>
            <a:ext cx="2031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ll Resolution Multip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952880" y="4724280"/>
            <a:ext cx="1557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tered/Decim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952880" y="4267080"/>
            <a:ext cx="18730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nel Matched 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952880" y="3809880"/>
            <a:ext cx="1576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Channel Symb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952880" y="3581280"/>
            <a:ext cx="1508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Signal Samp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952880" y="3200400"/>
            <a:ext cx="1744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Correlator Outpu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952880" y="2438280"/>
            <a:ext cx="175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al Data and Code Chan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ability of Symbol Err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on B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 of binary-orthogonal error prob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ect output vs. 15 incorrect outp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ary Probability of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e correlator magnitu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ability that one Rice variate exceeds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 given in (D98/118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4879800" cy="3556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 R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33520" y="1905120"/>
            <a:ext cx="36576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5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~150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andomizations per Cu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reducible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n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~ a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380880" y="609480"/>
            <a:ext cx="838188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imation of Packet Failure Probabilit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Symbol Error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198108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NR,Data,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M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+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ata,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M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asymptotic symbol error prob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mal errors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mal Symbol Errors Uncorrel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reducible Errors Correlated within Pac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probability of “bad” multipath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E|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conditional probability of symbol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E|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. Hayes</dc:creator>
  <dc:description/>
  <dc:language>en-US</dc:language>
  <cp:lastModifiedBy>V. Hayes</cp:lastModifiedBy>
  <cp:revision>0</cp:revision>
  <dc:subject/>
  <dc:title>No Slide Title</dc:title>
</cp:coreProperties>
</file>