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Regulations and Back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hiro, Hitoshi and Ric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T+Lu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 Power in FCC Reg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752480"/>
            <a:ext cx="807732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401  Sc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ubpart sets out the regulations for unlicensed Na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structure (U-N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 operating in the 5.15 - 5.35 GHz and 5.725 - 5.825 GHz b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40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.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 U-NII devices [Unlicensed].  Intentional radiators operating in the frequency bands 5.15 -5.35 GHz and 5.725 - 5.825 GHz that provide a wide array of wideband, high data rate, digital, mobile and fixed communications for individuals, businesses, and instit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ak transmit pow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The peak power output as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measured over an interval of time equal to the frame rate or transmission bur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device under all conditions of modulation.  Usually this parameter is measured as a conducted emission by direct connection of a calibrated test instrument to the equipment under test.  If the device cannot be connected directly, alternative techniques acceptable to the Commission may b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off : 5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2039760"/>
            <a:ext cx="5021280" cy="395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8680" y="2035080"/>
            <a:ext cx="5030640" cy="396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2041560"/>
            <a:ext cx="1440" cy="394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68560" y="2041560"/>
            <a:ext cx="1800" cy="394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3760" y="2041560"/>
            <a:ext cx="1440" cy="394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9760" y="2041560"/>
            <a:ext cx="1440" cy="394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84960" y="2041560"/>
            <a:ext cx="1440" cy="394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19800" y="2041560"/>
            <a:ext cx="1800" cy="394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55000" y="2041560"/>
            <a:ext cx="1440" cy="394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991120"/>
            <a:ext cx="50198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5160" y="5549760"/>
            <a:ext cx="50198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35160" y="5110200"/>
            <a:ext cx="50198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35160" y="4670280"/>
            <a:ext cx="50198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5160" y="4229280"/>
            <a:ext cx="50198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5160" y="3800520"/>
            <a:ext cx="50198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5160" y="3360600"/>
            <a:ext cx="50198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5160" y="2919240"/>
            <a:ext cx="50198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5160" y="2479680"/>
            <a:ext cx="50198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5160" y="2039760"/>
            <a:ext cx="50198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35160" y="5991120"/>
            <a:ext cx="50198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35160" y="2039760"/>
            <a:ext cx="50198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2041560"/>
            <a:ext cx="1440" cy="394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55000" y="2041560"/>
            <a:ext cx="1440" cy="394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35160" y="5991120"/>
            <a:ext cx="50198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2041560"/>
            <a:ext cx="1440" cy="394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5946840"/>
            <a:ext cx="1440" cy="4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2041560"/>
            <a:ext cx="1440" cy="4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017800" y="6072120"/>
            <a:ext cx="27468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68560" y="5946840"/>
            <a:ext cx="1800" cy="4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68560" y="2041560"/>
            <a:ext cx="1800" cy="4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852640" y="6072120"/>
            <a:ext cx="27468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3760" y="5946840"/>
            <a:ext cx="1440" cy="4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3760" y="2041560"/>
            <a:ext cx="1440" cy="4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687840" y="6072120"/>
            <a:ext cx="27468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9760" y="5946840"/>
            <a:ext cx="1440" cy="4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9760" y="2041560"/>
            <a:ext cx="1440" cy="4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26000" y="6072120"/>
            <a:ext cx="9216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84960" y="5946840"/>
            <a:ext cx="1440" cy="4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4960" y="2041560"/>
            <a:ext cx="1440" cy="4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415120" y="6072120"/>
            <a:ext cx="18252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19800" y="5946840"/>
            <a:ext cx="1800" cy="4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19800" y="2041560"/>
            <a:ext cx="1800" cy="4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49960" y="6072120"/>
            <a:ext cx="18252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55000" y="5946840"/>
            <a:ext cx="1440" cy="4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55000" y="2041560"/>
            <a:ext cx="1440" cy="4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085160" y="6072120"/>
            <a:ext cx="18252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35160" y="5991120"/>
            <a:ext cx="446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110360" y="5991120"/>
            <a:ext cx="446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890720" y="5932440"/>
            <a:ext cx="27468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-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5160" y="5549760"/>
            <a:ext cx="446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110360" y="5549760"/>
            <a:ext cx="446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90720" y="5492880"/>
            <a:ext cx="27468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-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5160" y="5110200"/>
            <a:ext cx="446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110360" y="5110200"/>
            <a:ext cx="446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890720" y="5052960"/>
            <a:ext cx="27468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35160" y="4670280"/>
            <a:ext cx="446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110360" y="4670280"/>
            <a:ext cx="446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90720" y="4611600"/>
            <a:ext cx="27468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-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35160" y="4229280"/>
            <a:ext cx="446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110360" y="4229280"/>
            <a:ext cx="446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90720" y="4172040"/>
            <a:ext cx="27468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-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5160" y="3800520"/>
            <a:ext cx="446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110360" y="3800520"/>
            <a:ext cx="446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890720" y="3743280"/>
            <a:ext cx="27468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35160" y="3360600"/>
            <a:ext cx="446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7110360" y="3360600"/>
            <a:ext cx="446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890720" y="3301920"/>
            <a:ext cx="27468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5160" y="2919240"/>
            <a:ext cx="446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110360" y="2919240"/>
            <a:ext cx="446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890720" y="2862360"/>
            <a:ext cx="27468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5160" y="2479680"/>
            <a:ext cx="446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110360" y="2479680"/>
            <a:ext cx="446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017800" y="2421000"/>
            <a:ext cx="9216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5160" y="2039760"/>
            <a:ext cx="446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110360" y="2039760"/>
            <a:ext cx="446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36800" y="1981080"/>
            <a:ext cx="18252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35160" y="5991120"/>
            <a:ext cx="50198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35160" y="2039760"/>
            <a:ext cx="501984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2041560"/>
            <a:ext cx="1440" cy="394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55000" y="2041560"/>
            <a:ext cx="1440" cy="394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44880" y="2630520"/>
            <a:ext cx="5010480" cy="2770560"/>
          </a:xfrm>
          <a:custGeom>
            <a:avLst/>
            <a:gdLst/>
            <a:ahLst/>
            <a:rect l="0" t="0" r="r" b="b"/>
            <a:pathLst>
              <a:path fill="none" w="13918" h="7696">
                <a:moveTo>
                  <a:pt x="0" y="7405"/>
                </a:moveTo>
                <a:lnTo>
                  <a:pt x="35" y="7696"/>
                </a:lnTo>
                <a:lnTo>
                  <a:pt x="35" y="7339"/>
                </a:lnTo>
                <a:lnTo>
                  <a:pt x="66" y="7661"/>
                </a:lnTo>
                <a:lnTo>
                  <a:pt x="97" y="7375"/>
                </a:lnTo>
                <a:lnTo>
                  <a:pt x="132" y="7696"/>
                </a:lnTo>
                <a:lnTo>
                  <a:pt x="163" y="7339"/>
                </a:lnTo>
                <a:lnTo>
                  <a:pt x="194" y="7661"/>
                </a:lnTo>
                <a:lnTo>
                  <a:pt x="194" y="7339"/>
                </a:lnTo>
                <a:lnTo>
                  <a:pt x="224" y="7564"/>
                </a:lnTo>
                <a:lnTo>
                  <a:pt x="260" y="7308"/>
                </a:lnTo>
                <a:lnTo>
                  <a:pt x="291" y="7599"/>
                </a:lnTo>
                <a:lnTo>
                  <a:pt x="321" y="7242"/>
                </a:lnTo>
                <a:lnTo>
                  <a:pt x="357" y="7599"/>
                </a:lnTo>
                <a:lnTo>
                  <a:pt x="388" y="7278"/>
                </a:lnTo>
                <a:lnTo>
                  <a:pt x="388" y="7599"/>
                </a:lnTo>
                <a:lnTo>
                  <a:pt x="418" y="7278"/>
                </a:lnTo>
                <a:lnTo>
                  <a:pt x="454" y="7533"/>
                </a:lnTo>
                <a:lnTo>
                  <a:pt x="485" y="7181"/>
                </a:lnTo>
                <a:lnTo>
                  <a:pt x="515" y="7564"/>
                </a:lnTo>
                <a:lnTo>
                  <a:pt x="546" y="7211"/>
                </a:lnTo>
                <a:lnTo>
                  <a:pt x="546" y="7533"/>
                </a:lnTo>
                <a:lnTo>
                  <a:pt x="582" y="7211"/>
                </a:lnTo>
                <a:lnTo>
                  <a:pt x="612" y="7564"/>
                </a:lnTo>
                <a:lnTo>
                  <a:pt x="643" y="7242"/>
                </a:lnTo>
                <a:lnTo>
                  <a:pt x="679" y="7564"/>
                </a:lnTo>
                <a:lnTo>
                  <a:pt x="709" y="7211"/>
                </a:lnTo>
                <a:lnTo>
                  <a:pt x="740" y="7467"/>
                </a:lnTo>
                <a:lnTo>
                  <a:pt x="740" y="7181"/>
                </a:lnTo>
                <a:lnTo>
                  <a:pt x="776" y="7467"/>
                </a:lnTo>
                <a:lnTo>
                  <a:pt x="806" y="7242"/>
                </a:lnTo>
                <a:lnTo>
                  <a:pt x="837" y="7339"/>
                </a:lnTo>
                <a:lnTo>
                  <a:pt x="873" y="7053"/>
                </a:lnTo>
                <a:lnTo>
                  <a:pt x="903" y="7308"/>
                </a:lnTo>
                <a:lnTo>
                  <a:pt x="903" y="6986"/>
                </a:lnTo>
                <a:lnTo>
                  <a:pt x="934" y="7308"/>
                </a:lnTo>
                <a:lnTo>
                  <a:pt x="965" y="7053"/>
                </a:lnTo>
                <a:lnTo>
                  <a:pt x="1001" y="7278"/>
                </a:lnTo>
                <a:lnTo>
                  <a:pt x="1031" y="6986"/>
                </a:lnTo>
                <a:lnTo>
                  <a:pt x="1062" y="7308"/>
                </a:lnTo>
                <a:lnTo>
                  <a:pt x="1098" y="7017"/>
                </a:lnTo>
                <a:lnTo>
                  <a:pt x="1098" y="7145"/>
                </a:lnTo>
                <a:lnTo>
                  <a:pt x="1128" y="6889"/>
                </a:lnTo>
                <a:lnTo>
                  <a:pt x="1159" y="7242"/>
                </a:lnTo>
                <a:lnTo>
                  <a:pt x="1195" y="6920"/>
                </a:lnTo>
                <a:lnTo>
                  <a:pt x="1225" y="7181"/>
                </a:lnTo>
                <a:lnTo>
                  <a:pt x="1256" y="6889"/>
                </a:lnTo>
                <a:lnTo>
                  <a:pt x="1256" y="7181"/>
                </a:lnTo>
                <a:lnTo>
                  <a:pt x="1287" y="6920"/>
                </a:lnTo>
                <a:lnTo>
                  <a:pt x="1322" y="7084"/>
                </a:lnTo>
                <a:lnTo>
                  <a:pt x="1353" y="6823"/>
                </a:lnTo>
                <a:lnTo>
                  <a:pt x="1384" y="7145"/>
                </a:lnTo>
                <a:lnTo>
                  <a:pt x="1419" y="6792"/>
                </a:lnTo>
                <a:lnTo>
                  <a:pt x="1450" y="7053"/>
                </a:lnTo>
                <a:lnTo>
                  <a:pt x="1450" y="6792"/>
                </a:lnTo>
                <a:lnTo>
                  <a:pt x="1481" y="7114"/>
                </a:lnTo>
                <a:lnTo>
                  <a:pt x="1516" y="6823"/>
                </a:lnTo>
                <a:lnTo>
                  <a:pt x="1547" y="6956"/>
                </a:lnTo>
                <a:lnTo>
                  <a:pt x="1578" y="6731"/>
                </a:lnTo>
                <a:lnTo>
                  <a:pt x="1613" y="7017"/>
                </a:lnTo>
                <a:lnTo>
                  <a:pt x="1613" y="6731"/>
                </a:lnTo>
                <a:lnTo>
                  <a:pt x="1644" y="6986"/>
                </a:lnTo>
                <a:lnTo>
                  <a:pt x="1675" y="6823"/>
                </a:lnTo>
                <a:lnTo>
                  <a:pt x="1706" y="7053"/>
                </a:lnTo>
                <a:lnTo>
                  <a:pt x="1741" y="6695"/>
                </a:lnTo>
                <a:lnTo>
                  <a:pt x="1772" y="6859"/>
                </a:lnTo>
                <a:lnTo>
                  <a:pt x="1803" y="6634"/>
                </a:lnTo>
                <a:lnTo>
                  <a:pt x="1803" y="6859"/>
                </a:lnTo>
                <a:lnTo>
                  <a:pt x="1838" y="6598"/>
                </a:lnTo>
                <a:lnTo>
                  <a:pt x="1869" y="6859"/>
                </a:lnTo>
                <a:lnTo>
                  <a:pt x="1900" y="6695"/>
                </a:lnTo>
                <a:lnTo>
                  <a:pt x="1935" y="6859"/>
                </a:lnTo>
                <a:lnTo>
                  <a:pt x="1966" y="6537"/>
                </a:lnTo>
                <a:lnTo>
                  <a:pt x="1966" y="6762"/>
                </a:lnTo>
                <a:lnTo>
                  <a:pt x="1997" y="6537"/>
                </a:lnTo>
                <a:lnTo>
                  <a:pt x="2028" y="6695"/>
                </a:lnTo>
                <a:lnTo>
                  <a:pt x="2063" y="6409"/>
                </a:lnTo>
                <a:lnTo>
                  <a:pt x="2094" y="6731"/>
                </a:lnTo>
                <a:lnTo>
                  <a:pt x="2125" y="6501"/>
                </a:lnTo>
                <a:lnTo>
                  <a:pt x="2160" y="6695"/>
                </a:lnTo>
                <a:lnTo>
                  <a:pt x="2160" y="6568"/>
                </a:lnTo>
                <a:lnTo>
                  <a:pt x="2191" y="6665"/>
                </a:lnTo>
                <a:lnTo>
                  <a:pt x="2222" y="6409"/>
                </a:lnTo>
                <a:lnTo>
                  <a:pt x="2257" y="6634"/>
                </a:lnTo>
                <a:lnTo>
                  <a:pt x="2288" y="6374"/>
                </a:lnTo>
                <a:lnTo>
                  <a:pt x="2319" y="6634"/>
                </a:lnTo>
                <a:lnTo>
                  <a:pt x="2319" y="6440"/>
                </a:lnTo>
                <a:lnTo>
                  <a:pt x="2354" y="6731"/>
                </a:lnTo>
                <a:lnTo>
                  <a:pt x="2385" y="6374"/>
                </a:lnTo>
                <a:lnTo>
                  <a:pt x="2416" y="6537"/>
                </a:lnTo>
                <a:lnTo>
                  <a:pt x="2447" y="6409"/>
                </a:lnTo>
                <a:lnTo>
                  <a:pt x="2482" y="6634"/>
                </a:lnTo>
                <a:lnTo>
                  <a:pt x="2513" y="6246"/>
                </a:lnTo>
                <a:lnTo>
                  <a:pt x="2513" y="6471"/>
                </a:lnTo>
                <a:lnTo>
                  <a:pt x="2544" y="6246"/>
                </a:lnTo>
                <a:lnTo>
                  <a:pt x="2579" y="6537"/>
                </a:lnTo>
                <a:lnTo>
                  <a:pt x="2610" y="6343"/>
                </a:lnTo>
                <a:lnTo>
                  <a:pt x="2641" y="6568"/>
                </a:lnTo>
                <a:lnTo>
                  <a:pt x="2676" y="6277"/>
                </a:lnTo>
                <a:lnTo>
                  <a:pt x="2676" y="6440"/>
                </a:lnTo>
                <a:lnTo>
                  <a:pt x="2707" y="6149"/>
                </a:lnTo>
                <a:lnTo>
                  <a:pt x="2738" y="6471"/>
                </a:lnTo>
                <a:lnTo>
                  <a:pt x="2769" y="6246"/>
                </a:lnTo>
                <a:lnTo>
                  <a:pt x="2804" y="6440"/>
                </a:lnTo>
                <a:lnTo>
                  <a:pt x="2835" y="6149"/>
                </a:lnTo>
                <a:lnTo>
                  <a:pt x="2866" y="6440"/>
                </a:lnTo>
                <a:lnTo>
                  <a:pt x="2866" y="6118"/>
                </a:lnTo>
                <a:lnTo>
                  <a:pt x="2901" y="6471"/>
                </a:lnTo>
                <a:lnTo>
                  <a:pt x="2932" y="6180"/>
                </a:lnTo>
                <a:lnTo>
                  <a:pt x="2963" y="6277"/>
                </a:lnTo>
                <a:lnTo>
                  <a:pt x="2998" y="5955"/>
                </a:lnTo>
                <a:lnTo>
                  <a:pt x="3029" y="6087"/>
                </a:lnTo>
                <a:lnTo>
                  <a:pt x="3029" y="5729"/>
                </a:lnTo>
                <a:lnTo>
                  <a:pt x="3060" y="5827"/>
                </a:lnTo>
                <a:lnTo>
                  <a:pt x="3095" y="5504"/>
                </a:lnTo>
                <a:lnTo>
                  <a:pt x="3126" y="5535"/>
                </a:lnTo>
                <a:lnTo>
                  <a:pt x="3157" y="5213"/>
                </a:lnTo>
                <a:lnTo>
                  <a:pt x="3188" y="5345"/>
                </a:lnTo>
                <a:lnTo>
                  <a:pt x="3223" y="4957"/>
                </a:lnTo>
                <a:lnTo>
                  <a:pt x="3223" y="5182"/>
                </a:lnTo>
                <a:lnTo>
                  <a:pt x="3254" y="4763"/>
                </a:lnTo>
                <a:lnTo>
                  <a:pt x="3285" y="5023"/>
                </a:lnTo>
                <a:lnTo>
                  <a:pt x="3320" y="4701"/>
                </a:lnTo>
                <a:lnTo>
                  <a:pt x="3351" y="4957"/>
                </a:lnTo>
                <a:lnTo>
                  <a:pt x="3382" y="4604"/>
                </a:lnTo>
                <a:lnTo>
                  <a:pt x="3382" y="4732"/>
                </a:lnTo>
                <a:lnTo>
                  <a:pt x="3417" y="4476"/>
                </a:lnTo>
                <a:lnTo>
                  <a:pt x="3448" y="4666"/>
                </a:lnTo>
                <a:lnTo>
                  <a:pt x="3479" y="4313"/>
                </a:lnTo>
                <a:lnTo>
                  <a:pt x="3510" y="4604"/>
                </a:lnTo>
                <a:lnTo>
                  <a:pt x="3545" y="4344"/>
                </a:lnTo>
                <a:lnTo>
                  <a:pt x="3576" y="4569"/>
                </a:lnTo>
                <a:lnTo>
                  <a:pt x="3576" y="4216"/>
                </a:lnTo>
                <a:lnTo>
                  <a:pt x="3607" y="4441"/>
                </a:lnTo>
                <a:lnTo>
                  <a:pt x="3642" y="4119"/>
                </a:lnTo>
                <a:lnTo>
                  <a:pt x="3673" y="4379"/>
                </a:lnTo>
                <a:lnTo>
                  <a:pt x="3704" y="4088"/>
                </a:lnTo>
                <a:lnTo>
                  <a:pt x="3739" y="4247"/>
                </a:lnTo>
                <a:lnTo>
                  <a:pt x="3739" y="4022"/>
                </a:lnTo>
                <a:lnTo>
                  <a:pt x="3770" y="4282"/>
                </a:lnTo>
                <a:lnTo>
                  <a:pt x="3801" y="3960"/>
                </a:lnTo>
                <a:lnTo>
                  <a:pt x="3836" y="4154"/>
                </a:lnTo>
                <a:lnTo>
                  <a:pt x="3867" y="3863"/>
                </a:lnTo>
                <a:lnTo>
                  <a:pt x="3898" y="4088"/>
                </a:lnTo>
                <a:lnTo>
                  <a:pt x="3929" y="3797"/>
                </a:lnTo>
                <a:lnTo>
                  <a:pt x="3929" y="4119"/>
                </a:lnTo>
                <a:lnTo>
                  <a:pt x="3964" y="3797"/>
                </a:lnTo>
                <a:lnTo>
                  <a:pt x="3995" y="4022"/>
                </a:lnTo>
                <a:lnTo>
                  <a:pt x="4026" y="3700"/>
                </a:lnTo>
                <a:lnTo>
                  <a:pt x="4061" y="4022"/>
                </a:lnTo>
                <a:lnTo>
                  <a:pt x="4092" y="3766"/>
                </a:lnTo>
                <a:lnTo>
                  <a:pt x="4092" y="3925"/>
                </a:lnTo>
                <a:lnTo>
                  <a:pt x="4123" y="3603"/>
                </a:lnTo>
                <a:lnTo>
                  <a:pt x="4158" y="3894"/>
                </a:lnTo>
                <a:lnTo>
                  <a:pt x="4189" y="3542"/>
                </a:lnTo>
                <a:lnTo>
                  <a:pt x="4220" y="3833"/>
                </a:lnTo>
                <a:lnTo>
                  <a:pt x="4250" y="3542"/>
                </a:lnTo>
                <a:lnTo>
                  <a:pt x="4250" y="3766"/>
                </a:lnTo>
                <a:lnTo>
                  <a:pt x="4286" y="3511"/>
                </a:lnTo>
                <a:lnTo>
                  <a:pt x="4317" y="3766"/>
                </a:lnTo>
                <a:lnTo>
                  <a:pt x="4347" y="3444"/>
                </a:lnTo>
                <a:lnTo>
                  <a:pt x="4383" y="3736"/>
                </a:lnTo>
                <a:lnTo>
                  <a:pt x="4414" y="3444"/>
                </a:lnTo>
                <a:lnTo>
                  <a:pt x="4444" y="3700"/>
                </a:lnTo>
                <a:lnTo>
                  <a:pt x="4444" y="3347"/>
                </a:lnTo>
                <a:lnTo>
                  <a:pt x="4480" y="3639"/>
                </a:lnTo>
                <a:lnTo>
                  <a:pt x="4511" y="3317"/>
                </a:lnTo>
                <a:lnTo>
                  <a:pt x="4542" y="3572"/>
                </a:lnTo>
                <a:lnTo>
                  <a:pt x="4577" y="3250"/>
                </a:lnTo>
                <a:lnTo>
                  <a:pt x="4608" y="3572"/>
                </a:lnTo>
                <a:lnTo>
                  <a:pt x="4608" y="3317"/>
                </a:lnTo>
                <a:lnTo>
                  <a:pt x="4639" y="3542"/>
                </a:lnTo>
                <a:lnTo>
                  <a:pt x="4669" y="3220"/>
                </a:lnTo>
                <a:lnTo>
                  <a:pt x="4705" y="3444"/>
                </a:lnTo>
                <a:lnTo>
                  <a:pt x="4736" y="3189"/>
                </a:lnTo>
                <a:lnTo>
                  <a:pt x="4766" y="3475"/>
                </a:lnTo>
                <a:lnTo>
                  <a:pt x="4802" y="3250"/>
                </a:lnTo>
                <a:lnTo>
                  <a:pt x="4802" y="3475"/>
                </a:lnTo>
                <a:lnTo>
                  <a:pt x="4833" y="3189"/>
                </a:lnTo>
                <a:lnTo>
                  <a:pt x="4863" y="3414"/>
                </a:lnTo>
                <a:lnTo>
                  <a:pt x="4899" y="3220"/>
                </a:lnTo>
                <a:lnTo>
                  <a:pt x="4930" y="3414"/>
                </a:lnTo>
                <a:lnTo>
                  <a:pt x="4960" y="3123"/>
                </a:lnTo>
                <a:lnTo>
                  <a:pt x="4960" y="3378"/>
                </a:lnTo>
                <a:lnTo>
                  <a:pt x="4991" y="3026"/>
                </a:lnTo>
                <a:lnTo>
                  <a:pt x="5027" y="3281"/>
                </a:lnTo>
                <a:lnTo>
                  <a:pt x="5057" y="2995"/>
                </a:lnTo>
                <a:lnTo>
                  <a:pt x="5088" y="3281"/>
                </a:lnTo>
                <a:lnTo>
                  <a:pt x="5124" y="3026"/>
                </a:lnTo>
                <a:lnTo>
                  <a:pt x="5154" y="3281"/>
                </a:lnTo>
                <a:lnTo>
                  <a:pt x="5154" y="3056"/>
                </a:lnTo>
                <a:lnTo>
                  <a:pt x="5185" y="3153"/>
                </a:lnTo>
                <a:lnTo>
                  <a:pt x="5221" y="2995"/>
                </a:lnTo>
                <a:lnTo>
                  <a:pt x="5251" y="3189"/>
                </a:lnTo>
                <a:lnTo>
                  <a:pt x="5282" y="2929"/>
                </a:lnTo>
                <a:lnTo>
                  <a:pt x="5318" y="3189"/>
                </a:lnTo>
                <a:lnTo>
                  <a:pt x="5318" y="2867"/>
                </a:lnTo>
                <a:lnTo>
                  <a:pt x="5348" y="3056"/>
                </a:lnTo>
                <a:lnTo>
                  <a:pt x="5379" y="2867"/>
                </a:lnTo>
                <a:lnTo>
                  <a:pt x="5410" y="3056"/>
                </a:lnTo>
                <a:lnTo>
                  <a:pt x="5446" y="2735"/>
                </a:lnTo>
                <a:lnTo>
                  <a:pt x="5476" y="2929"/>
                </a:lnTo>
                <a:lnTo>
                  <a:pt x="5507" y="2929"/>
                </a:lnTo>
                <a:lnTo>
                  <a:pt x="5507" y="2867"/>
                </a:lnTo>
                <a:lnTo>
                  <a:pt x="5543" y="2510"/>
                </a:lnTo>
                <a:lnTo>
                  <a:pt x="5573" y="2867"/>
                </a:lnTo>
                <a:lnTo>
                  <a:pt x="5604" y="2576"/>
                </a:lnTo>
                <a:lnTo>
                  <a:pt x="5640" y="643"/>
                </a:lnTo>
                <a:lnTo>
                  <a:pt x="5670" y="61"/>
                </a:lnTo>
                <a:lnTo>
                  <a:pt x="5670" y="352"/>
                </a:lnTo>
                <a:lnTo>
                  <a:pt x="5701" y="61"/>
                </a:lnTo>
                <a:lnTo>
                  <a:pt x="5732" y="321"/>
                </a:lnTo>
                <a:lnTo>
                  <a:pt x="5767" y="30"/>
                </a:lnTo>
                <a:lnTo>
                  <a:pt x="5798" y="321"/>
                </a:lnTo>
                <a:lnTo>
                  <a:pt x="5829" y="127"/>
                </a:lnTo>
                <a:lnTo>
                  <a:pt x="5864" y="383"/>
                </a:lnTo>
                <a:lnTo>
                  <a:pt x="5864" y="30"/>
                </a:lnTo>
                <a:lnTo>
                  <a:pt x="5895" y="291"/>
                </a:lnTo>
                <a:lnTo>
                  <a:pt x="5926" y="61"/>
                </a:lnTo>
                <a:lnTo>
                  <a:pt x="5961" y="352"/>
                </a:lnTo>
                <a:lnTo>
                  <a:pt x="5992" y="97"/>
                </a:lnTo>
                <a:lnTo>
                  <a:pt x="6023" y="291"/>
                </a:lnTo>
                <a:lnTo>
                  <a:pt x="6023" y="30"/>
                </a:lnTo>
                <a:lnTo>
                  <a:pt x="6058" y="291"/>
                </a:lnTo>
                <a:lnTo>
                  <a:pt x="6089" y="97"/>
                </a:lnTo>
                <a:lnTo>
                  <a:pt x="6120" y="352"/>
                </a:lnTo>
                <a:lnTo>
                  <a:pt x="6151" y="127"/>
                </a:lnTo>
                <a:lnTo>
                  <a:pt x="6186" y="418"/>
                </a:lnTo>
                <a:lnTo>
                  <a:pt x="6217" y="97"/>
                </a:lnTo>
                <a:lnTo>
                  <a:pt x="6217" y="383"/>
                </a:lnTo>
                <a:lnTo>
                  <a:pt x="6248" y="127"/>
                </a:lnTo>
                <a:lnTo>
                  <a:pt x="6283" y="418"/>
                </a:lnTo>
                <a:lnTo>
                  <a:pt x="6314" y="97"/>
                </a:lnTo>
                <a:lnTo>
                  <a:pt x="6345" y="291"/>
                </a:lnTo>
                <a:lnTo>
                  <a:pt x="6380" y="61"/>
                </a:lnTo>
                <a:lnTo>
                  <a:pt x="6380" y="255"/>
                </a:lnTo>
                <a:lnTo>
                  <a:pt x="6411" y="61"/>
                </a:lnTo>
                <a:lnTo>
                  <a:pt x="6442" y="352"/>
                </a:lnTo>
                <a:lnTo>
                  <a:pt x="6473" y="97"/>
                </a:lnTo>
                <a:lnTo>
                  <a:pt x="6508" y="418"/>
                </a:lnTo>
                <a:lnTo>
                  <a:pt x="6539" y="30"/>
                </a:lnTo>
                <a:lnTo>
                  <a:pt x="6570" y="321"/>
                </a:lnTo>
                <a:lnTo>
                  <a:pt x="6570" y="61"/>
                </a:lnTo>
                <a:lnTo>
                  <a:pt x="6605" y="321"/>
                </a:lnTo>
                <a:lnTo>
                  <a:pt x="6636" y="30"/>
                </a:lnTo>
                <a:lnTo>
                  <a:pt x="6667" y="291"/>
                </a:lnTo>
                <a:lnTo>
                  <a:pt x="6702" y="30"/>
                </a:lnTo>
                <a:lnTo>
                  <a:pt x="6733" y="352"/>
                </a:lnTo>
                <a:lnTo>
                  <a:pt x="6733" y="61"/>
                </a:lnTo>
                <a:lnTo>
                  <a:pt x="6764" y="383"/>
                </a:lnTo>
                <a:lnTo>
                  <a:pt x="6799" y="97"/>
                </a:lnTo>
                <a:lnTo>
                  <a:pt x="6830" y="352"/>
                </a:lnTo>
                <a:lnTo>
                  <a:pt x="6861" y="61"/>
                </a:lnTo>
                <a:lnTo>
                  <a:pt x="6892" y="321"/>
                </a:lnTo>
                <a:lnTo>
                  <a:pt x="6927" y="61"/>
                </a:lnTo>
                <a:lnTo>
                  <a:pt x="6927" y="674"/>
                </a:lnTo>
                <a:lnTo>
                  <a:pt x="6958" y="2285"/>
                </a:lnTo>
                <a:lnTo>
                  <a:pt x="6990" y="674"/>
                </a:lnTo>
                <a:lnTo>
                  <a:pt x="7025" y="61"/>
                </a:lnTo>
                <a:lnTo>
                  <a:pt x="7056" y="352"/>
                </a:lnTo>
                <a:lnTo>
                  <a:pt x="7087" y="127"/>
                </a:lnTo>
                <a:lnTo>
                  <a:pt x="7087" y="321"/>
                </a:lnTo>
                <a:lnTo>
                  <a:pt x="7122" y="61"/>
                </a:lnTo>
                <a:lnTo>
                  <a:pt x="7153" y="383"/>
                </a:lnTo>
                <a:lnTo>
                  <a:pt x="7184" y="97"/>
                </a:lnTo>
                <a:lnTo>
                  <a:pt x="7215" y="321"/>
                </a:lnTo>
                <a:lnTo>
                  <a:pt x="7250" y="61"/>
                </a:lnTo>
                <a:lnTo>
                  <a:pt x="7281" y="352"/>
                </a:lnTo>
                <a:lnTo>
                  <a:pt x="7281" y="61"/>
                </a:lnTo>
                <a:lnTo>
                  <a:pt x="7312" y="352"/>
                </a:lnTo>
                <a:lnTo>
                  <a:pt x="7347" y="30"/>
                </a:lnTo>
                <a:lnTo>
                  <a:pt x="7378" y="255"/>
                </a:lnTo>
                <a:lnTo>
                  <a:pt x="7409" y="61"/>
                </a:lnTo>
                <a:lnTo>
                  <a:pt x="7444" y="255"/>
                </a:lnTo>
                <a:lnTo>
                  <a:pt x="7444" y="30"/>
                </a:lnTo>
                <a:lnTo>
                  <a:pt x="7475" y="321"/>
                </a:lnTo>
                <a:lnTo>
                  <a:pt x="7506" y="61"/>
                </a:lnTo>
                <a:lnTo>
                  <a:pt x="7541" y="291"/>
                </a:lnTo>
                <a:lnTo>
                  <a:pt x="7572" y="61"/>
                </a:lnTo>
                <a:lnTo>
                  <a:pt x="7603" y="291"/>
                </a:lnTo>
                <a:lnTo>
                  <a:pt x="7634" y="61"/>
                </a:lnTo>
                <a:lnTo>
                  <a:pt x="7634" y="321"/>
                </a:lnTo>
                <a:lnTo>
                  <a:pt x="7669" y="61"/>
                </a:lnTo>
                <a:lnTo>
                  <a:pt x="7700" y="383"/>
                </a:lnTo>
                <a:lnTo>
                  <a:pt x="7731" y="61"/>
                </a:lnTo>
                <a:lnTo>
                  <a:pt x="7766" y="291"/>
                </a:lnTo>
                <a:lnTo>
                  <a:pt x="7797" y="0"/>
                </a:lnTo>
                <a:lnTo>
                  <a:pt x="7797" y="352"/>
                </a:lnTo>
                <a:lnTo>
                  <a:pt x="7828" y="61"/>
                </a:lnTo>
                <a:lnTo>
                  <a:pt x="7863" y="352"/>
                </a:lnTo>
                <a:lnTo>
                  <a:pt x="7894" y="61"/>
                </a:lnTo>
                <a:lnTo>
                  <a:pt x="7925" y="352"/>
                </a:lnTo>
                <a:lnTo>
                  <a:pt x="7956" y="97"/>
                </a:lnTo>
                <a:lnTo>
                  <a:pt x="7991" y="383"/>
                </a:lnTo>
                <a:lnTo>
                  <a:pt x="7991" y="127"/>
                </a:lnTo>
                <a:lnTo>
                  <a:pt x="8022" y="418"/>
                </a:lnTo>
                <a:lnTo>
                  <a:pt x="8053" y="0"/>
                </a:lnTo>
                <a:lnTo>
                  <a:pt x="8088" y="321"/>
                </a:lnTo>
                <a:lnTo>
                  <a:pt x="8119" y="30"/>
                </a:lnTo>
                <a:lnTo>
                  <a:pt x="8150" y="321"/>
                </a:lnTo>
                <a:lnTo>
                  <a:pt x="8150" y="61"/>
                </a:lnTo>
                <a:lnTo>
                  <a:pt x="8185" y="383"/>
                </a:lnTo>
                <a:lnTo>
                  <a:pt x="8216" y="61"/>
                </a:lnTo>
                <a:lnTo>
                  <a:pt x="8247" y="321"/>
                </a:lnTo>
                <a:lnTo>
                  <a:pt x="8282" y="30"/>
                </a:lnTo>
                <a:lnTo>
                  <a:pt x="8313" y="321"/>
                </a:lnTo>
                <a:lnTo>
                  <a:pt x="8344" y="61"/>
                </a:lnTo>
                <a:lnTo>
                  <a:pt x="8344" y="674"/>
                </a:lnTo>
                <a:lnTo>
                  <a:pt x="8375" y="2638"/>
                </a:lnTo>
                <a:lnTo>
                  <a:pt x="8410" y="2704"/>
                </a:lnTo>
                <a:lnTo>
                  <a:pt x="8441" y="2673"/>
                </a:lnTo>
                <a:lnTo>
                  <a:pt x="8472" y="2832"/>
                </a:lnTo>
                <a:lnTo>
                  <a:pt x="8507" y="2801"/>
                </a:lnTo>
                <a:lnTo>
                  <a:pt x="8507" y="2898"/>
                </a:lnTo>
                <a:lnTo>
                  <a:pt x="8538" y="2735"/>
                </a:lnTo>
                <a:lnTo>
                  <a:pt x="8569" y="3026"/>
                </a:lnTo>
                <a:lnTo>
                  <a:pt x="8604" y="2801"/>
                </a:lnTo>
                <a:lnTo>
                  <a:pt x="8635" y="3153"/>
                </a:lnTo>
                <a:lnTo>
                  <a:pt x="8666" y="2832"/>
                </a:lnTo>
                <a:lnTo>
                  <a:pt x="8696" y="3153"/>
                </a:lnTo>
                <a:lnTo>
                  <a:pt x="8696" y="2801"/>
                </a:lnTo>
                <a:lnTo>
                  <a:pt x="8732" y="3189"/>
                </a:lnTo>
                <a:lnTo>
                  <a:pt x="8763" y="3026"/>
                </a:lnTo>
                <a:lnTo>
                  <a:pt x="8793" y="3250"/>
                </a:lnTo>
                <a:lnTo>
                  <a:pt x="8829" y="2898"/>
                </a:lnTo>
                <a:lnTo>
                  <a:pt x="8860" y="3281"/>
                </a:lnTo>
                <a:lnTo>
                  <a:pt x="8860" y="3092"/>
                </a:lnTo>
                <a:lnTo>
                  <a:pt x="8890" y="3378"/>
                </a:lnTo>
                <a:lnTo>
                  <a:pt x="8926" y="3056"/>
                </a:lnTo>
                <a:lnTo>
                  <a:pt x="8957" y="3317"/>
                </a:lnTo>
                <a:lnTo>
                  <a:pt x="8988" y="3153"/>
                </a:lnTo>
                <a:lnTo>
                  <a:pt x="9023" y="3414"/>
                </a:lnTo>
                <a:lnTo>
                  <a:pt x="9023" y="3189"/>
                </a:lnTo>
                <a:lnTo>
                  <a:pt x="9054" y="3378"/>
                </a:lnTo>
                <a:lnTo>
                  <a:pt x="9085" y="3123"/>
                </a:lnTo>
                <a:lnTo>
                  <a:pt x="9115" y="3511"/>
                </a:lnTo>
                <a:lnTo>
                  <a:pt x="9151" y="3189"/>
                </a:lnTo>
                <a:lnTo>
                  <a:pt x="9182" y="3378"/>
                </a:lnTo>
                <a:lnTo>
                  <a:pt x="9212" y="3153"/>
                </a:lnTo>
                <a:lnTo>
                  <a:pt x="9212" y="3378"/>
                </a:lnTo>
                <a:lnTo>
                  <a:pt x="9248" y="3153"/>
                </a:lnTo>
                <a:lnTo>
                  <a:pt x="9279" y="3475"/>
                </a:lnTo>
                <a:lnTo>
                  <a:pt x="9309" y="3250"/>
                </a:lnTo>
                <a:lnTo>
                  <a:pt x="9345" y="3542"/>
                </a:lnTo>
                <a:lnTo>
                  <a:pt x="9376" y="3414"/>
                </a:lnTo>
                <a:lnTo>
                  <a:pt x="9376" y="3542"/>
                </a:lnTo>
                <a:lnTo>
                  <a:pt x="9406" y="3250"/>
                </a:lnTo>
                <a:lnTo>
                  <a:pt x="9437" y="3511"/>
                </a:lnTo>
                <a:lnTo>
                  <a:pt x="9473" y="3347"/>
                </a:lnTo>
                <a:lnTo>
                  <a:pt x="9503" y="3572"/>
                </a:lnTo>
                <a:lnTo>
                  <a:pt x="9534" y="3317"/>
                </a:lnTo>
                <a:lnTo>
                  <a:pt x="9570" y="3603"/>
                </a:lnTo>
                <a:lnTo>
                  <a:pt x="9570" y="3347"/>
                </a:lnTo>
                <a:lnTo>
                  <a:pt x="9600" y="3669"/>
                </a:lnTo>
                <a:lnTo>
                  <a:pt x="9631" y="3475"/>
                </a:lnTo>
                <a:lnTo>
                  <a:pt x="9667" y="3736"/>
                </a:lnTo>
                <a:lnTo>
                  <a:pt x="9697" y="3444"/>
                </a:lnTo>
                <a:lnTo>
                  <a:pt x="9728" y="3669"/>
                </a:lnTo>
                <a:lnTo>
                  <a:pt x="9728" y="3475"/>
                </a:lnTo>
                <a:lnTo>
                  <a:pt x="9764" y="3766"/>
                </a:lnTo>
                <a:lnTo>
                  <a:pt x="9794" y="3639"/>
                </a:lnTo>
                <a:lnTo>
                  <a:pt x="9825" y="3797"/>
                </a:lnTo>
                <a:lnTo>
                  <a:pt x="9856" y="3572"/>
                </a:lnTo>
                <a:lnTo>
                  <a:pt x="9892" y="3960"/>
                </a:lnTo>
                <a:lnTo>
                  <a:pt x="9922" y="3669"/>
                </a:lnTo>
                <a:lnTo>
                  <a:pt x="9922" y="4022"/>
                </a:lnTo>
                <a:lnTo>
                  <a:pt x="9953" y="3700"/>
                </a:lnTo>
                <a:lnTo>
                  <a:pt x="9989" y="3991"/>
                </a:lnTo>
                <a:lnTo>
                  <a:pt x="10019" y="3797"/>
                </a:lnTo>
                <a:lnTo>
                  <a:pt x="10050" y="4057"/>
                </a:lnTo>
                <a:lnTo>
                  <a:pt x="10086" y="3766"/>
                </a:lnTo>
                <a:lnTo>
                  <a:pt x="10086" y="4022"/>
                </a:lnTo>
                <a:lnTo>
                  <a:pt x="10116" y="3833"/>
                </a:lnTo>
                <a:lnTo>
                  <a:pt x="10147" y="4185"/>
                </a:lnTo>
                <a:lnTo>
                  <a:pt x="10178" y="4057"/>
                </a:lnTo>
                <a:lnTo>
                  <a:pt x="10213" y="4247"/>
                </a:lnTo>
                <a:lnTo>
                  <a:pt x="10244" y="3925"/>
                </a:lnTo>
                <a:lnTo>
                  <a:pt x="10275" y="4282"/>
                </a:lnTo>
                <a:lnTo>
                  <a:pt x="10275" y="4119"/>
                </a:lnTo>
                <a:lnTo>
                  <a:pt x="10310" y="4410"/>
                </a:lnTo>
                <a:lnTo>
                  <a:pt x="10341" y="4119"/>
                </a:lnTo>
                <a:lnTo>
                  <a:pt x="10372" y="4441"/>
                </a:lnTo>
                <a:lnTo>
                  <a:pt x="10407" y="4119"/>
                </a:lnTo>
                <a:lnTo>
                  <a:pt x="10438" y="4538"/>
                </a:lnTo>
                <a:lnTo>
                  <a:pt x="10438" y="4154"/>
                </a:lnTo>
                <a:lnTo>
                  <a:pt x="10469" y="4569"/>
                </a:lnTo>
                <a:lnTo>
                  <a:pt x="10504" y="4344"/>
                </a:lnTo>
                <a:lnTo>
                  <a:pt x="10535" y="4635"/>
                </a:lnTo>
                <a:lnTo>
                  <a:pt x="10566" y="4441"/>
                </a:lnTo>
                <a:lnTo>
                  <a:pt x="10597" y="4763"/>
                </a:lnTo>
                <a:lnTo>
                  <a:pt x="10632" y="4538"/>
                </a:lnTo>
                <a:lnTo>
                  <a:pt x="10632" y="4860"/>
                </a:lnTo>
                <a:lnTo>
                  <a:pt x="10663" y="4604"/>
                </a:lnTo>
                <a:lnTo>
                  <a:pt x="10694" y="5054"/>
                </a:lnTo>
                <a:lnTo>
                  <a:pt x="10729" y="4860"/>
                </a:lnTo>
                <a:lnTo>
                  <a:pt x="10760" y="5248"/>
                </a:lnTo>
                <a:lnTo>
                  <a:pt x="10791" y="4988"/>
                </a:lnTo>
                <a:lnTo>
                  <a:pt x="10791" y="5345"/>
                </a:lnTo>
                <a:lnTo>
                  <a:pt x="10826" y="5120"/>
                </a:lnTo>
                <a:lnTo>
                  <a:pt x="10857" y="5535"/>
                </a:lnTo>
                <a:lnTo>
                  <a:pt x="10888" y="5310"/>
                </a:lnTo>
                <a:lnTo>
                  <a:pt x="10919" y="5764"/>
                </a:lnTo>
                <a:lnTo>
                  <a:pt x="10954" y="5601"/>
                </a:lnTo>
                <a:lnTo>
                  <a:pt x="10985" y="5924"/>
                </a:lnTo>
                <a:lnTo>
                  <a:pt x="10985" y="5893"/>
                </a:lnTo>
                <a:lnTo>
                  <a:pt x="11016" y="6277"/>
                </a:lnTo>
                <a:lnTo>
                  <a:pt x="11051" y="6180"/>
                </a:lnTo>
                <a:lnTo>
                  <a:pt x="11082" y="6409"/>
                </a:lnTo>
                <a:lnTo>
                  <a:pt x="11113" y="6215"/>
                </a:lnTo>
                <a:lnTo>
                  <a:pt x="11148" y="6409"/>
                </a:lnTo>
                <a:lnTo>
                  <a:pt x="11148" y="6180"/>
                </a:lnTo>
                <a:lnTo>
                  <a:pt x="11179" y="6501"/>
                </a:lnTo>
                <a:lnTo>
                  <a:pt x="11210" y="6343"/>
                </a:lnTo>
                <a:lnTo>
                  <a:pt x="11245" y="6501"/>
                </a:lnTo>
                <a:lnTo>
                  <a:pt x="11276" y="6180"/>
                </a:lnTo>
                <a:lnTo>
                  <a:pt x="11307" y="6471"/>
                </a:lnTo>
                <a:lnTo>
                  <a:pt x="11338" y="6215"/>
                </a:lnTo>
                <a:lnTo>
                  <a:pt x="11338" y="6501"/>
                </a:lnTo>
                <a:lnTo>
                  <a:pt x="11373" y="6343"/>
                </a:lnTo>
                <a:lnTo>
                  <a:pt x="11404" y="6440"/>
                </a:lnTo>
                <a:lnTo>
                  <a:pt x="11435" y="6246"/>
                </a:lnTo>
                <a:lnTo>
                  <a:pt x="11470" y="6501"/>
                </a:lnTo>
                <a:lnTo>
                  <a:pt x="11501" y="6277"/>
                </a:lnTo>
                <a:lnTo>
                  <a:pt x="11501" y="6568"/>
                </a:lnTo>
                <a:lnTo>
                  <a:pt x="11532" y="6374"/>
                </a:lnTo>
                <a:lnTo>
                  <a:pt x="11567" y="6598"/>
                </a:lnTo>
                <a:lnTo>
                  <a:pt x="11598" y="6440"/>
                </a:lnTo>
                <a:lnTo>
                  <a:pt x="11629" y="6634"/>
                </a:lnTo>
                <a:lnTo>
                  <a:pt x="11660" y="6409"/>
                </a:lnTo>
                <a:lnTo>
                  <a:pt x="11695" y="6665"/>
                </a:lnTo>
                <a:lnTo>
                  <a:pt x="11695" y="6374"/>
                </a:lnTo>
                <a:lnTo>
                  <a:pt x="11726" y="6634"/>
                </a:lnTo>
                <a:lnTo>
                  <a:pt x="11757" y="6471"/>
                </a:lnTo>
                <a:lnTo>
                  <a:pt x="11792" y="6695"/>
                </a:lnTo>
                <a:lnTo>
                  <a:pt x="11823" y="6409"/>
                </a:lnTo>
                <a:lnTo>
                  <a:pt x="11854" y="6695"/>
                </a:lnTo>
                <a:lnTo>
                  <a:pt x="11854" y="6471"/>
                </a:lnTo>
                <a:lnTo>
                  <a:pt x="11889" y="6731"/>
                </a:lnTo>
                <a:lnTo>
                  <a:pt x="11920" y="6501"/>
                </a:lnTo>
                <a:lnTo>
                  <a:pt x="11951" y="6792"/>
                </a:lnTo>
                <a:lnTo>
                  <a:pt x="11986" y="6440"/>
                </a:lnTo>
                <a:lnTo>
                  <a:pt x="12017" y="6762"/>
                </a:lnTo>
                <a:lnTo>
                  <a:pt x="12048" y="6537"/>
                </a:lnTo>
                <a:lnTo>
                  <a:pt x="12048" y="6792"/>
                </a:lnTo>
                <a:lnTo>
                  <a:pt x="12079" y="6568"/>
                </a:lnTo>
                <a:lnTo>
                  <a:pt x="12114" y="6859"/>
                </a:lnTo>
                <a:lnTo>
                  <a:pt x="12145" y="6665"/>
                </a:lnTo>
                <a:lnTo>
                  <a:pt x="12176" y="6956"/>
                </a:lnTo>
                <a:lnTo>
                  <a:pt x="12211" y="6792"/>
                </a:lnTo>
                <a:lnTo>
                  <a:pt x="12211" y="7017"/>
                </a:lnTo>
                <a:lnTo>
                  <a:pt x="12242" y="6598"/>
                </a:lnTo>
                <a:lnTo>
                  <a:pt x="12273" y="6889"/>
                </a:lnTo>
                <a:lnTo>
                  <a:pt x="12308" y="6695"/>
                </a:lnTo>
                <a:lnTo>
                  <a:pt x="12339" y="6920"/>
                </a:lnTo>
                <a:lnTo>
                  <a:pt x="12370" y="6695"/>
                </a:lnTo>
                <a:lnTo>
                  <a:pt x="12401" y="6920"/>
                </a:lnTo>
                <a:lnTo>
                  <a:pt x="12401" y="6695"/>
                </a:lnTo>
                <a:lnTo>
                  <a:pt x="12436" y="6956"/>
                </a:lnTo>
                <a:lnTo>
                  <a:pt x="12467" y="6762"/>
                </a:lnTo>
                <a:lnTo>
                  <a:pt x="12498" y="7017"/>
                </a:lnTo>
                <a:lnTo>
                  <a:pt x="12533" y="6823"/>
                </a:lnTo>
                <a:lnTo>
                  <a:pt x="12564" y="7114"/>
                </a:lnTo>
                <a:lnTo>
                  <a:pt x="12564" y="6956"/>
                </a:lnTo>
                <a:lnTo>
                  <a:pt x="12595" y="7181"/>
                </a:lnTo>
                <a:lnTo>
                  <a:pt x="12630" y="6920"/>
                </a:lnTo>
                <a:lnTo>
                  <a:pt x="12661" y="7181"/>
                </a:lnTo>
                <a:lnTo>
                  <a:pt x="12692" y="6889"/>
                </a:lnTo>
                <a:lnTo>
                  <a:pt x="12727" y="7242"/>
                </a:lnTo>
                <a:lnTo>
                  <a:pt x="12758" y="6859"/>
                </a:lnTo>
                <a:lnTo>
                  <a:pt x="12758" y="7211"/>
                </a:lnTo>
                <a:lnTo>
                  <a:pt x="12789" y="6956"/>
                </a:lnTo>
                <a:lnTo>
                  <a:pt x="12820" y="7211"/>
                </a:lnTo>
                <a:lnTo>
                  <a:pt x="12855" y="6920"/>
                </a:lnTo>
                <a:lnTo>
                  <a:pt x="12886" y="7242"/>
                </a:lnTo>
                <a:lnTo>
                  <a:pt x="12917" y="6986"/>
                </a:lnTo>
                <a:lnTo>
                  <a:pt x="12917" y="7211"/>
                </a:lnTo>
                <a:lnTo>
                  <a:pt x="12952" y="6956"/>
                </a:lnTo>
                <a:lnTo>
                  <a:pt x="12983" y="7211"/>
                </a:lnTo>
                <a:lnTo>
                  <a:pt x="13014" y="6956"/>
                </a:lnTo>
                <a:lnTo>
                  <a:pt x="13049" y="7278"/>
                </a:lnTo>
                <a:lnTo>
                  <a:pt x="13080" y="7084"/>
                </a:lnTo>
                <a:lnTo>
                  <a:pt x="13111" y="7278"/>
                </a:lnTo>
                <a:lnTo>
                  <a:pt x="13111" y="6956"/>
                </a:lnTo>
                <a:lnTo>
                  <a:pt x="13141" y="7339"/>
                </a:lnTo>
                <a:lnTo>
                  <a:pt x="13177" y="6986"/>
                </a:lnTo>
                <a:lnTo>
                  <a:pt x="13208" y="7375"/>
                </a:lnTo>
                <a:lnTo>
                  <a:pt x="13238" y="7114"/>
                </a:lnTo>
                <a:lnTo>
                  <a:pt x="13274" y="7467"/>
                </a:lnTo>
                <a:lnTo>
                  <a:pt x="13274" y="7114"/>
                </a:lnTo>
                <a:lnTo>
                  <a:pt x="13305" y="7405"/>
                </a:lnTo>
                <a:lnTo>
                  <a:pt x="13336" y="7181"/>
                </a:lnTo>
                <a:lnTo>
                  <a:pt x="13371" y="7436"/>
                </a:lnTo>
                <a:lnTo>
                  <a:pt x="13402" y="7211"/>
                </a:lnTo>
                <a:lnTo>
                  <a:pt x="13433" y="7533"/>
                </a:lnTo>
                <a:lnTo>
                  <a:pt x="13433" y="7211"/>
                </a:lnTo>
                <a:lnTo>
                  <a:pt x="13468" y="7533"/>
                </a:lnTo>
                <a:lnTo>
                  <a:pt x="13499" y="7242"/>
                </a:lnTo>
                <a:lnTo>
                  <a:pt x="13530" y="7533"/>
                </a:lnTo>
                <a:lnTo>
                  <a:pt x="13560" y="7278"/>
                </a:lnTo>
                <a:lnTo>
                  <a:pt x="13596" y="7599"/>
                </a:lnTo>
                <a:lnTo>
                  <a:pt x="13627" y="7181"/>
                </a:lnTo>
                <a:lnTo>
                  <a:pt x="13627" y="7533"/>
                </a:lnTo>
                <a:lnTo>
                  <a:pt x="13657" y="7278"/>
                </a:lnTo>
                <a:lnTo>
                  <a:pt x="13693" y="7599"/>
                </a:lnTo>
                <a:lnTo>
                  <a:pt x="13724" y="7278"/>
                </a:lnTo>
                <a:lnTo>
                  <a:pt x="13754" y="7630"/>
                </a:lnTo>
                <a:lnTo>
                  <a:pt x="13790" y="7242"/>
                </a:lnTo>
                <a:lnTo>
                  <a:pt x="13790" y="7630"/>
                </a:lnTo>
                <a:lnTo>
                  <a:pt x="13821" y="7375"/>
                </a:lnTo>
                <a:lnTo>
                  <a:pt x="13851" y="7661"/>
                </a:lnTo>
                <a:lnTo>
                  <a:pt x="13882" y="7375"/>
                </a:lnTo>
                <a:lnTo>
                  <a:pt x="13918" y="7661"/>
                </a:lnTo>
              </a:path>
            </a:pathLst>
          </a:custGeom>
          <a:ln w="12600">
            <a:solidFill>
              <a:srgbClr val="0000f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092480" y="6269040"/>
            <a:ext cx="137160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frequency [MHz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00200" y="3673440"/>
            <a:ext cx="163440" cy="68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00200" y="3673440"/>
            <a:ext cx="163440" cy="684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7236000" y="2619360"/>
            <a:ext cx="3348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30m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22480" y="2687760"/>
            <a:ext cx="92520" cy="128880"/>
          </a:xfrm>
          <a:custGeom>
            <a:avLst/>
            <a:gdLst/>
            <a:ahLst/>
            <a:rect l="0" t="0" r="r" b="b"/>
            <a:pathLst>
              <a:path w="257" h="358">
                <a:moveTo>
                  <a:pt x="128" y="0"/>
                </a:moveTo>
                <a:lnTo>
                  <a:pt x="257" y="358"/>
                </a:lnTo>
                <a:lnTo>
                  <a:pt x="0" y="358"/>
                </a:lnTo>
                <a:lnTo>
                  <a:pt x="1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22480" y="4821120"/>
            <a:ext cx="92520" cy="127440"/>
          </a:xfrm>
          <a:custGeom>
            <a:avLst/>
            <a:gdLst/>
            <a:ahLst/>
            <a:rect l="0" t="0" r="r" b="b"/>
            <a:pathLst>
              <a:path w="257" h="354">
                <a:moveTo>
                  <a:pt x="128" y="354"/>
                </a:moveTo>
                <a:lnTo>
                  <a:pt x="0" y="0"/>
                </a:lnTo>
                <a:lnTo>
                  <a:pt x="257" y="0"/>
                </a:lnTo>
                <a:lnTo>
                  <a:pt x="128" y="3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68560" y="2712960"/>
            <a:ext cx="1800" cy="2200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8120" y="3429000"/>
            <a:ext cx="125748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51.7dB &gt; 50.3d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712960" y="6280200"/>
            <a:ext cx="587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5150MH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168640" y="2062080"/>
            <a:ext cx="587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OBO=5d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168640" y="2189160"/>
            <a:ext cx="5032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6 Q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959200" y="2687760"/>
            <a:ext cx="41828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off for Restricted 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88024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off with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1848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off for Restricted Regul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sat=250 m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1088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