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C4818-2E9F-46A6-9830-5F6B0985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86320" y="396720"/>
            <a:ext cx="3971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98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17720" y="2438280"/>
            <a:ext cx="3216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1147680" cy="47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6397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rger of known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9520" y="4489560"/>
            <a:ext cx="4508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92480" y="4502160"/>
            <a:ext cx="448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Position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440" y="1746360"/>
            <a:ext cx="3392640" cy="955800"/>
            <a:chOff x="298440" y="1746360"/>
            <a:chExt cx="3392640" cy="955800"/>
          </a:xfrm>
        </p:grpSpPr>
        <p:sp>
          <p:nvSpPr>
            <p:cNvPr id="58" name=""/>
            <p:cNvSpPr txBox="1"/>
            <p:nvPr/>
          </p:nvSpPr>
          <p:spPr>
            <a:xfrm>
              <a:off x="298440" y="1746360"/>
              <a:ext cx="33926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se position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762120" y="2184480"/>
              <a:ext cx="2154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dar Systems since WW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se Code tele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79920" y="1746360"/>
            <a:ext cx="3359520" cy="1269720"/>
            <a:chOff x="5479920" y="1746360"/>
            <a:chExt cx="3359520" cy="1269720"/>
          </a:xfrm>
        </p:grpSpPr>
        <p:sp>
          <p:nvSpPr>
            <p:cNvPr id="61" name=""/>
            <p:cNvSpPr txBox="1"/>
            <p:nvPr/>
          </p:nvSpPr>
          <p:spPr>
            <a:xfrm>
              <a:off x="5479920" y="1746360"/>
              <a:ext cx="31370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EEE 802.11 DS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791320" y="2286000"/>
              <a:ext cx="3048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 Sequence spread spectrum well know  technique. Already part of the IEEE 2Mbps standar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1295280" y="5334120"/>
            <a:ext cx="624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eld proven mixture of technologies th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13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6480" y="1676520"/>
            <a:ext cx="548280" cy="521640"/>
            <a:chOff x="-6480" y="1676520"/>
            <a:chExt cx="548280" cy="521640"/>
          </a:xfrm>
        </p:grpSpPr>
        <p:grpSp>
          <p:nvGrpSpPr>
            <p:cNvPr id="66" name=""/>
            <p:cNvGrpSpPr/>
            <p:nvPr/>
          </p:nvGrpSpPr>
          <p:grpSpPr>
            <a:xfrm>
              <a:off x="193680" y="1771560"/>
              <a:ext cx="190440" cy="262080"/>
              <a:chOff x="193680" y="1771560"/>
              <a:chExt cx="190440" cy="26208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93680" y="203364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2400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7000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7936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-648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" y="1676520"/>
              <a:ext cx="119520" cy="68760"/>
            </a:xfrm>
            <a:custGeom>
              <a:avLst/>
              <a:gdLst/>
              <a:ahLst/>
              <a:rect l="0" t="0" r="r" b="b"/>
              <a:pathLst>
                <a:path fill="none" w="332" h="191">
                  <a:moveTo>
                    <a:pt x="0" y="191"/>
                  </a:moveTo>
                  <a:lnTo>
                    <a:pt x="150" y="191"/>
                  </a:lnTo>
                  <a:lnTo>
                    <a:pt x="128" y="0"/>
                  </a:lnTo>
                  <a:lnTo>
                    <a:pt x="3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229600" y="1676520"/>
            <a:ext cx="512640" cy="521640"/>
            <a:chOff x="8229600" y="1676520"/>
            <a:chExt cx="512640" cy="521640"/>
          </a:xfrm>
        </p:grpSpPr>
        <p:grpSp>
          <p:nvGrpSpPr>
            <p:cNvPr id="74" name=""/>
            <p:cNvGrpSpPr/>
            <p:nvPr/>
          </p:nvGrpSpPr>
          <p:grpSpPr>
            <a:xfrm>
              <a:off x="8354880" y="1771560"/>
              <a:ext cx="190800" cy="262080"/>
              <a:chOff x="8354880" y="1771560"/>
              <a:chExt cx="190800" cy="262080"/>
            </a:xfrm>
          </p:grpSpPr>
          <p:sp>
            <p:nvSpPr>
              <p:cNvPr id="75" name=""/>
              <p:cNvSpPr/>
              <p:nvPr/>
            </p:nvSpPr>
            <p:spPr>
              <a:xfrm>
                <a:off x="8416800" y="2033640"/>
                <a:ext cx="12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41392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6604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8354880" y="1771560"/>
                <a:ext cx="10332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4856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29600" y="1676520"/>
              <a:ext cx="120960" cy="68760"/>
            </a:xfrm>
            <a:custGeom>
              <a:avLst/>
              <a:gdLst/>
              <a:ahLst/>
              <a:rect l="0" t="0" r="r" b="b"/>
              <a:pathLst>
                <a:path fill="none" w="336" h="191">
                  <a:moveTo>
                    <a:pt x="0" y="191"/>
                  </a:moveTo>
                  <a:lnTo>
                    <a:pt x="149" y="191"/>
                  </a:lnTo>
                  <a:lnTo>
                    <a:pt x="127" y="0"/>
                  </a:lnTo>
                  <a:lnTo>
                    <a:pt x="3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s Issues From the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8800"/>
            <a:ext cx="7772400" cy="60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coding techniques provides “excellent performance vs gate 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K gate, 40K gate, 60K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mA @ 3Volts PC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Design meeting 10Mpbs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Payback for F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approach without the need to ban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72200" y="1523880"/>
            <a:ext cx="1703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ose packets o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870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489420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0512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 down the right performance cur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18480" y="853920"/>
            <a:ext cx="28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7680" y="961920"/>
            <a:ext cx="1774800" cy="1171800"/>
            <a:chOff x="6097680" y="961920"/>
            <a:chExt cx="1774800" cy="1171800"/>
          </a:xfrm>
        </p:grpSpPr>
        <p:sp>
          <p:nvSpPr>
            <p:cNvPr id="95" name=""/>
            <p:cNvSpPr/>
            <p:nvPr/>
          </p:nvSpPr>
          <p:spPr>
            <a:xfrm>
              <a:off x="6097680" y="189864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0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0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82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8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67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6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4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4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02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121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19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9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7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7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5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64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50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6592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00236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711360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492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89616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7872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482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130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24204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4848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219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437600" y="963720"/>
              <a:ext cx="1076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331040" y="963720"/>
              <a:ext cx="10656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56748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5804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948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6892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1900080"/>
              <a:ext cx="1065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43904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05640" y="96192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75440" y="96192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6480" y="1666800"/>
              <a:ext cx="10800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548480" y="1666800"/>
              <a:ext cx="10656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35880" y="528480"/>
            <a:ext cx="143496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6332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migration from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hannel scheme of  IEEE 802.11 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operate with IEEE 802.11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le Collocated Access Poi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C for system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across ge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esign conforms to all inter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908440" cy="168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3137040" cy="237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1880" y="5715000"/>
            <a:ext cx="774720" cy="76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04920" y="5715000"/>
            <a:ext cx="766800" cy="77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5880" y="4952880"/>
            <a:ext cx="13971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at all levels support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IC’s (DSP and MAC) will be available on the market from Lucent Micr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parate Business Group within 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technology for own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your time-to-market with implementatio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echnology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4800600"/>
            <a:ext cx="1120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699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Base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362320" y="220968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1906560"/>
            <a:ext cx="0" cy="4492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43400" y="2209680"/>
            <a:ext cx="149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/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12840" y="2432160"/>
            <a:ext cx="733320" cy="2755800"/>
            <a:chOff x="1212840" y="2432160"/>
            <a:chExt cx="733320" cy="2755800"/>
          </a:xfrm>
        </p:grpSpPr>
        <p:sp>
          <p:nvSpPr>
            <p:cNvPr id="155" name=""/>
            <p:cNvSpPr/>
            <p:nvPr/>
          </p:nvSpPr>
          <p:spPr>
            <a:xfrm>
              <a:off x="1212840" y="2432160"/>
              <a:ext cx="703440" cy="2755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17680" y="31971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417680" y="3703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557360" y="4238640"/>
              <a:ext cx="36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487520" y="4699080"/>
              <a:ext cx="436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6600" y="2738520"/>
              <a:ext cx="70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s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92120" y="2438280"/>
            <a:ext cx="703440" cy="2743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6880" y="2496960"/>
            <a:ext cx="49356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0" y="2362320"/>
            <a:ext cx="1560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7120" y="3422520"/>
            <a:ext cx="581400" cy="457560"/>
          </a:xfrm>
          <a:custGeom>
            <a:avLst/>
            <a:gdLst/>
            <a:ahLst/>
            <a:rect l="0" t="0" r="r" b="b"/>
            <a:pathLst>
              <a:path w="1615" h="1271">
                <a:moveTo>
                  <a:pt x="0" y="1271"/>
                </a:moveTo>
                <a:lnTo>
                  <a:pt x="1615" y="1271"/>
                </a:lnTo>
                <a:lnTo>
                  <a:pt x="807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72120" y="3587760"/>
            <a:ext cx="154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609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0760" y="2813040"/>
            <a:ext cx="1125360" cy="2438280"/>
            <a:chOff x="2660760" y="2813040"/>
            <a:chExt cx="1125360" cy="2438280"/>
          </a:xfrm>
        </p:grpSpPr>
        <p:sp>
          <p:nvSpPr>
            <p:cNvPr id="168" name=""/>
            <p:cNvSpPr/>
            <p:nvPr/>
          </p:nvSpPr>
          <p:spPr>
            <a:xfrm>
              <a:off x="2660760" y="2813040"/>
              <a:ext cx="1125360" cy="243828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5520" y="2871720"/>
              <a:ext cx="915840" cy="232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3360" y="320040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32767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37339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6280" y="38131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820960" y="3811680"/>
              <a:ext cx="1382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67336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5416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304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35320" y="4343400"/>
              <a:ext cx="4222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3360" y="419112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2670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7242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098880" y="4800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23532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416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304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8880" y="297180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098880" y="44956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200400" y="393876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02160" y="3352680"/>
            <a:ext cx="2109960" cy="1600200"/>
            <a:chOff x="4502160" y="3352680"/>
            <a:chExt cx="2109960" cy="1600200"/>
          </a:xfrm>
        </p:grpSpPr>
        <p:grpSp>
          <p:nvGrpSpPr>
            <p:cNvPr id="196" name=""/>
            <p:cNvGrpSpPr/>
            <p:nvPr/>
          </p:nvGrpSpPr>
          <p:grpSpPr>
            <a:xfrm>
              <a:off x="4502160" y="3352680"/>
              <a:ext cx="847800" cy="1600200"/>
              <a:chOff x="4502160" y="3352680"/>
              <a:chExt cx="847800" cy="160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502160" y="3352680"/>
                <a:ext cx="773280" cy="1600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72000" y="441972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0" y="342900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82960" y="3889440"/>
                <a:ext cx="0" cy="53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97520" y="36576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97520" y="4648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64120" y="3660840"/>
                <a:ext cx="0" cy="45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064120" y="4268880"/>
                <a:ext cx="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065560" y="4192560"/>
                <a:ext cx="1382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3520" y="4191120"/>
                <a:ext cx="13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214960" y="4489560"/>
              <a:ext cx="1397160" cy="463320"/>
              <a:chOff x="5214960" y="4489560"/>
              <a:chExt cx="1397160" cy="463320"/>
            </a:xfrm>
          </p:grpSpPr>
          <p:sp>
            <p:nvSpPr>
              <p:cNvPr id="212" name=""/>
              <p:cNvSpPr/>
              <p:nvPr/>
            </p:nvSpPr>
            <p:spPr>
              <a:xfrm>
                <a:off x="5275440" y="4495680"/>
                <a:ext cx="1336680" cy="457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3440" y="4489560"/>
                <a:ext cx="470160" cy="457560"/>
              </a:xfrm>
              <a:custGeom>
                <a:avLst/>
                <a:gdLst/>
                <a:ahLst/>
                <a:rect l="0" t="0" r="r" b="b"/>
                <a:pathLst>
                  <a:path fill="none" w="1306" h="1271">
                    <a:moveTo>
                      <a:pt x="1306" y="1271"/>
                    </a:moveTo>
                    <a:lnTo>
                      <a:pt x="0" y="1271"/>
                    </a:lnTo>
                    <a:lnTo>
                      <a:pt x="652" y="0"/>
                    </a:lnTo>
                    <a:lnTo>
                      <a:pt x="1306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1760" y="47242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3880" y="472428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4618080"/>
                <a:ext cx="684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6095880" y="4572000"/>
                <a:ext cx="4730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M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410080" y="4624560"/>
                <a:ext cx="4888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5562720" y="533520"/>
            <a:ext cx="334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for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3429000"/>
            <a:ext cx="971640" cy="1798560"/>
            <a:chOff x="3809880" y="3429000"/>
            <a:chExt cx="971640" cy="1798560"/>
          </a:xfrm>
        </p:grpSpPr>
        <p:grpSp>
          <p:nvGrpSpPr>
            <p:cNvPr id="221" name=""/>
            <p:cNvGrpSpPr/>
            <p:nvPr/>
          </p:nvGrpSpPr>
          <p:grpSpPr>
            <a:xfrm>
              <a:off x="3938760" y="3429000"/>
              <a:ext cx="422280" cy="1447920"/>
              <a:chOff x="3938760" y="3429000"/>
              <a:chExt cx="422280" cy="1447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3938760" y="4419720"/>
                <a:ext cx="422280" cy="457200"/>
                <a:chOff x="3938760" y="4419720"/>
                <a:chExt cx="422280" cy="457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38760" y="441972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83120" y="457200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013280" y="457524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22800" y="457524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938760" y="3429000"/>
                <a:ext cx="422280" cy="457200"/>
                <a:chOff x="3938760" y="3429000"/>
                <a:chExt cx="422280" cy="45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38760" y="342900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83120" y="358128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4013280" y="358452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22800" y="358452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 txBox="1"/>
            <p:nvPr/>
          </p:nvSpPr>
          <p:spPr>
            <a:xfrm>
              <a:off x="3809880" y="495288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2 MHz 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" y="5403960"/>
            <a:ext cx="7931160" cy="1057320"/>
            <a:chOff x="228600" y="5403960"/>
            <a:chExt cx="7931160" cy="1057320"/>
          </a:xfrm>
        </p:grpSpPr>
        <p:sp>
          <p:nvSpPr>
            <p:cNvPr id="234" name=""/>
            <p:cNvSpPr txBox="1"/>
            <p:nvPr/>
          </p:nvSpPr>
          <p:spPr>
            <a:xfrm>
              <a:off x="5708520" y="540396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193920" y="5708520"/>
              <a:ext cx="1195560" cy="2286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962760" y="601992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P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489560" y="5708520"/>
              <a:ext cx="1143000" cy="228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polar Dis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974960" y="5556240"/>
              <a:ext cx="1195560" cy="228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BIC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05120" y="5861160"/>
              <a:ext cx="1370160" cy="463680"/>
              <a:chOff x="1905120" y="5861160"/>
              <a:chExt cx="1370160" cy="463680"/>
            </a:xfrm>
          </p:grpSpPr>
          <p:sp>
            <p:nvSpPr>
              <p:cNvPr id="240" name=""/>
              <p:cNvSpPr txBox="1"/>
              <p:nvPr/>
            </p:nvSpPr>
            <p:spPr>
              <a:xfrm>
                <a:off x="1974960" y="5861160"/>
                <a:ext cx="1195560" cy="22860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UBIC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6019920"/>
                <a:ext cx="1370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ilips Bipol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5632560"/>
              <a:ext cx="1749600" cy="539640"/>
              <a:chOff x="228600" y="5632560"/>
              <a:chExt cx="1749600" cy="539640"/>
            </a:xfrm>
          </p:grpSpPr>
          <p:sp>
            <p:nvSpPr>
              <p:cNvPr id="243" name=""/>
              <p:cNvSpPr txBox="1"/>
              <p:nvPr/>
            </p:nvSpPr>
            <p:spPr>
              <a:xfrm>
                <a:off x="527040" y="5632560"/>
                <a:ext cx="1195560" cy="228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M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28600" y="5867280"/>
                <a:ext cx="1749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ucent Technolog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3276720" y="5943600"/>
              <a:ext cx="136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 L545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648320" y="5943600"/>
              <a:ext cx="1522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FP 450 BFP 4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708520" y="5708520"/>
              <a:ext cx="11970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RA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6560" y="1984320"/>
            <a:ext cx="5297400" cy="3273480"/>
            <a:chOff x="1906560" y="1984320"/>
            <a:chExt cx="5297400" cy="3273480"/>
          </a:xfrm>
        </p:grpSpPr>
        <p:sp>
          <p:nvSpPr>
            <p:cNvPr id="249" name=""/>
            <p:cNvSpPr/>
            <p:nvPr/>
          </p:nvSpPr>
          <p:spPr>
            <a:xfrm>
              <a:off x="3660840" y="457200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5280" y="3962520"/>
              <a:ext cx="4222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9640" y="41148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1980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76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7280" y="365760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7280" y="472428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03404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66080" y="3354480"/>
              <a:ext cx="137880" cy="303120"/>
              <a:chOff x="7066080" y="3354480"/>
              <a:chExt cx="137880" cy="303120"/>
            </a:xfrm>
          </p:grpSpPr>
          <p:sp>
            <p:nvSpPr>
              <p:cNvPr id="258" name=""/>
              <p:cNvSpPr/>
              <p:nvPr/>
            </p:nvSpPr>
            <p:spPr>
              <a:xfrm>
                <a:off x="7066080" y="365760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203960" y="33544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066080" y="4724280"/>
              <a:ext cx="137880" cy="303480"/>
              <a:chOff x="7066080" y="4724280"/>
              <a:chExt cx="137880" cy="303480"/>
            </a:xfrm>
          </p:grpSpPr>
          <p:sp>
            <p:nvSpPr>
              <p:cNvPr id="261" name=""/>
              <p:cNvSpPr/>
              <p:nvPr/>
            </p:nvSpPr>
            <p:spPr>
              <a:xfrm>
                <a:off x="7066080" y="472428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203960" y="47260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699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87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3760" y="419112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440" y="419112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6160" y="4194000"/>
              <a:ext cx="13788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340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05440" y="36576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911240" y="34290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11240" y="38862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906560" y="4419720"/>
              <a:ext cx="76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06560" y="487692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32000" y="38098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06560" y="2590920"/>
              <a:ext cx="428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120760" y="2819520"/>
              <a:ext cx="41580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8960" y="457200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0160" y="2971800"/>
              <a:ext cx="13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040" y="2666880"/>
              <a:ext cx="1403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506840" y="2819520"/>
              <a:ext cx="422280" cy="3049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949560" y="2819520"/>
              <a:ext cx="41580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960" y="3581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0280" y="2593800"/>
              <a:ext cx="0" cy="758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35560" y="2975040"/>
              <a:ext cx="0" cy="12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873600" y="27446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6840" y="27432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044800" y="266868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35812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665520" y="4724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8960" y="4724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1320" y="380988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98320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19400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9072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4520" y="2593800"/>
              <a:ext cx="0" cy="91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6960" y="366084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4696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548400" y="419256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89880" y="4191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71920" y="454176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26686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76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274464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4840" y="297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236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91320" y="1906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447920"/>
            <a:ext cx="7772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, ETSI, MPT (No “specials” in 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for a small cube in an 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upon our IEEE 802.11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s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APC flexi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echnolog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380988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461880" cy="6746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5334120" y="1905120"/>
            <a:ext cx="565200" cy="674640"/>
            <a:chOff x="5334120" y="1905120"/>
            <a:chExt cx="565200" cy="67464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334120" y="1905120"/>
              <a:ext cx="4618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715000" y="21337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57800" y="1295280"/>
            <a:ext cx="3493800" cy="674640"/>
            <a:chOff x="5257800" y="1295280"/>
            <a:chExt cx="3493800" cy="674640"/>
          </a:xfrm>
        </p:grpSpPr>
        <p:sp>
          <p:nvSpPr>
            <p:cNvPr id="316" name=""/>
            <p:cNvSpPr txBox="1"/>
            <p:nvPr/>
          </p:nvSpPr>
          <p:spPr>
            <a:xfrm>
              <a:off x="5638680" y="1523880"/>
              <a:ext cx="31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d unit &lt;300mA @3.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257800" y="1295280"/>
              <a:ext cx="46188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5029200" y="579132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553080" y="2362320"/>
            <a:ext cx="9777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00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