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0F2E1A-563E-41F0-81DF-3055EFFE9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32448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7772400" cy="13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6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590920"/>
            <a:ext cx="7772400" cy="35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4-7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trecht, the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y 4, 10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.11 Full W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3600" y="1828800"/>
            <a:ext cx="9063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in the WPAN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7817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ing of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ory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val of minutes from Cambridg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option of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bjectives of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functional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requirements for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May 5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PAR process/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draft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ermine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eak into working groups for the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May 6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orts by PAR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SG report for afternoon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May 7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 work on draft of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pu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tion/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. Gifford</dc:creator>
  <dc:description>Ian Gifford, M/A-COM</dc:description>
  <dc:language>en-US</dc:language>
  <cp:lastModifiedBy>I. Gifford</cp:lastModifiedBy>
  <cp:revision>0</cp:revision>
  <dc:subject>Draft Agenda WPAN SG Utrecht, NL 5/4-8/98</dc:subject>
  <dc:title>doc.: IEEE 802.11-98/169</dc:title>
</cp:coreProperties>
</file>