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0480" y="609480"/>
            <a:ext cx="776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477120"/>
            <a:ext cx="784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99"/>
                </a:solidFill>
                <a:latin typeface="Arial Black"/>
                <a:ea typeface="Arial Black"/>
              </a:rPr>
              <a:t>PAN Feasibility: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 Black"/>
                <a:ea typeface="Arial Black"/>
              </a:rPr>
              <a:t>The BodyLAN</a:t>
            </a:r>
            <a:r>
              <a:rPr b="0" lang="en-US" sz="4000" spc="-1" strike="noStrike" baseline="30000">
                <a:solidFill>
                  <a:srgbClr val="000099"/>
                </a:solidFill>
                <a:latin typeface="Arial Black"/>
                <a:ea typeface="Arial Black"/>
              </a:rPr>
              <a:t>TM </a:t>
            </a:r>
            <a:r>
              <a:rPr b="0" lang="en-US" sz="4000" spc="-1" strike="noStrike">
                <a:solidFill>
                  <a:srgbClr val="000099"/>
                </a:solidFill>
                <a:latin typeface="Arial Black"/>
                <a:ea typeface="Arial Black"/>
              </a:rPr>
              <a:t>Experie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243240"/>
            <a:ext cx="640080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TE Internetworking - BBN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733 Concord Avenue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ambridge, MA 0213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ick LaRowe</a:t>
            </a:r>
            <a:br>
              <a:rPr sz="18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rlarowe@bbn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24440" y="4087800"/>
            <a:ext cx="2143080" cy="95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046840" y="5162400"/>
            <a:ext cx="19288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I N T E R N E T W O R K I N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700" spc="-1" strike="noStrike">
                <a:solidFill>
                  <a:srgbClr val="000066"/>
                </a:solidFill>
                <a:latin typeface="Arial"/>
                <a:ea typeface="Arial"/>
              </a:rPr>
              <a:t>POWERED BY BB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3560" y="5191200"/>
            <a:ext cx="2894040" cy="0"/>
          </a:xfrm>
          <a:prstGeom prst="line">
            <a:avLst/>
          </a:prstGeom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Area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iving requirement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low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small devices (includ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ipher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ns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integration into devices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nimal S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-network interference tol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low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mplifying characteristic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 requirement is relatively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 is short (2-10 me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LAN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implicity,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 topology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t the cen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runs the s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und the edge a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Electron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ie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538960" y="3343320"/>
            <a:ext cx="1371600" cy="685800"/>
            <a:chOff x="5538960" y="3343320"/>
            <a:chExt cx="1371600" cy="685800"/>
          </a:xfrm>
        </p:grpSpPr>
        <p:sp>
          <p:nvSpPr>
            <p:cNvPr id="53" name=""/>
            <p:cNvSpPr/>
            <p:nvPr/>
          </p:nvSpPr>
          <p:spPr>
            <a:xfrm>
              <a:off x="5538960" y="3343320"/>
              <a:ext cx="1371600" cy="685800"/>
            </a:xfrm>
            <a:prstGeom prst="roundRect">
              <a:avLst/>
            </a:prstGeom>
            <a:solidFill>
              <a:srgbClr val="0000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5751360" y="3479760"/>
              <a:ext cx="928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 Black"/>
                </a:rPr>
                <a:t>H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624560" y="4638600"/>
            <a:ext cx="990720" cy="685800"/>
            <a:chOff x="4624560" y="4638600"/>
            <a:chExt cx="990720" cy="685800"/>
          </a:xfrm>
        </p:grpSpPr>
        <p:sp>
          <p:nvSpPr>
            <p:cNvPr id="56" name=""/>
            <p:cNvSpPr/>
            <p:nvPr/>
          </p:nvSpPr>
          <p:spPr>
            <a:xfrm>
              <a:off x="4624560" y="4638600"/>
              <a:ext cx="990720" cy="685800"/>
            </a:xfrm>
            <a:prstGeom prst="round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4684680" y="4775040"/>
              <a:ext cx="861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 Black"/>
                </a:rPr>
                <a:t>P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224760" y="4791240"/>
            <a:ext cx="990720" cy="685800"/>
            <a:chOff x="6224760" y="4791240"/>
            <a:chExt cx="990720" cy="685800"/>
          </a:xfrm>
        </p:grpSpPr>
        <p:sp>
          <p:nvSpPr>
            <p:cNvPr id="59" name=""/>
            <p:cNvSpPr/>
            <p:nvPr/>
          </p:nvSpPr>
          <p:spPr>
            <a:xfrm>
              <a:off x="6224760" y="4791240"/>
              <a:ext cx="990720" cy="685800"/>
            </a:xfrm>
            <a:prstGeom prst="round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6284880" y="4927680"/>
              <a:ext cx="861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 Black"/>
                </a:rPr>
                <a:t>P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7520040" y="3876840"/>
            <a:ext cx="990720" cy="685800"/>
            <a:chOff x="7520040" y="3876840"/>
            <a:chExt cx="990720" cy="685800"/>
          </a:xfrm>
        </p:grpSpPr>
        <p:sp>
          <p:nvSpPr>
            <p:cNvPr id="62" name=""/>
            <p:cNvSpPr/>
            <p:nvPr/>
          </p:nvSpPr>
          <p:spPr>
            <a:xfrm>
              <a:off x="7520040" y="3876840"/>
              <a:ext cx="990720" cy="685800"/>
            </a:xfrm>
            <a:prstGeom prst="round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7580160" y="4013280"/>
              <a:ext cx="861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 Black"/>
                </a:rPr>
                <a:t>P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910560" y="2124000"/>
            <a:ext cx="990720" cy="685800"/>
            <a:chOff x="6910560" y="2124000"/>
            <a:chExt cx="990720" cy="685800"/>
          </a:xfrm>
        </p:grpSpPr>
        <p:sp>
          <p:nvSpPr>
            <p:cNvPr id="65" name=""/>
            <p:cNvSpPr/>
            <p:nvPr/>
          </p:nvSpPr>
          <p:spPr>
            <a:xfrm>
              <a:off x="6910560" y="2124000"/>
              <a:ext cx="990720" cy="685800"/>
            </a:xfrm>
            <a:prstGeom prst="round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6970680" y="2260440"/>
              <a:ext cx="861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 Black"/>
                </a:rPr>
                <a:t>P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700520" y="1819440"/>
            <a:ext cx="990720" cy="685800"/>
            <a:chOff x="4700520" y="1819440"/>
            <a:chExt cx="990720" cy="685800"/>
          </a:xfrm>
        </p:grpSpPr>
        <p:sp>
          <p:nvSpPr>
            <p:cNvPr id="68" name=""/>
            <p:cNvSpPr/>
            <p:nvPr/>
          </p:nvSpPr>
          <p:spPr>
            <a:xfrm>
              <a:off x="4700520" y="1819440"/>
              <a:ext cx="990720" cy="685800"/>
            </a:xfrm>
            <a:prstGeom prst="round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4761000" y="1955880"/>
              <a:ext cx="861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 Black"/>
                </a:rPr>
                <a:t>P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548320" y="2514600"/>
            <a:ext cx="447840" cy="828720"/>
          </a:xfrm>
          <a:prstGeom prst="line">
            <a:avLst/>
          </a:prstGeom>
          <a:ln w="25560">
            <a:solidFill>
              <a:srgbClr val="77777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462720" y="2743200"/>
            <a:ext cx="523800" cy="600120"/>
          </a:xfrm>
          <a:prstGeom prst="line">
            <a:avLst/>
          </a:prstGeom>
          <a:ln w="25560">
            <a:solidFill>
              <a:srgbClr val="77777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6915240" y="3728880"/>
            <a:ext cx="600120" cy="447840"/>
          </a:xfrm>
          <a:prstGeom prst="line">
            <a:avLst/>
          </a:prstGeom>
          <a:ln w="25560">
            <a:solidFill>
              <a:srgbClr val="77777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15000" y="4038480"/>
            <a:ext cx="66960" cy="752760"/>
          </a:xfrm>
          <a:prstGeom prst="line">
            <a:avLst/>
          </a:prstGeom>
          <a:ln w="25560">
            <a:solidFill>
              <a:srgbClr val="77777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167440" y="3962520"/>
            <a:ext cx="523800" cy="676080"/>
          </a:xfrm>
          <a:prstGeom prst="line">
            <a:avLst/>
          </a:prstGeom>
          <a:ln w="25560">
            <a:solidFill>
              <a:srgbClr val="77777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TDMA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-network interfer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MA-like burst spacing using Optical Orthogonal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ag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81080" y="2584440"/>
            <a:ext cx="5458320" cy="1908000"/>
            <a:chOff x="1981080" y="2584440"/>
            <a:chExt cx="5458320" cy="1908000"/>
          </a:xfrm>
        </p:grpSpPr>
        <p:sp>
          <p:nvSpPr>
            <p:cNvPr id="78" name=""/>
            <p:cNvSpPr/>
            <p:nvPr/>
          </p:nvSpPr>
          <p:spPr>
            <a:xfrm>
              <a:off x="1981080" y="3521160"/>
              <a:ext cx="5143680" cy="43200"/>
            </a:xfrm>
            <a:custGeom>
              <a:avLst/>
              <a:gdLst/>
              <a:ahLst/>
              <a:rect l="0" t="0" r="r" b="b"/>
              <a:pathLst>
                <a:path w="14288" h="120">
                  <a:moveTo>
                    <a:pt x="14288" y="120"/>
                  </a:moveTo>
                  <a:lnTo>
                    <a:pt x="14288" y="0"/>
                  </a:lnTo>
                  <a:lnTo>
                    <a:pt x="0" y="0"/>
                  </a:lnTo>
                  <a:lnTo>
                    <a:pt x="0" y="120"/>
                  </a:lnTo>
                  <a:lnTo>
                    <a:pt x="14288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64280" y="3417840"/>
              <a:ext cx="375120" cy="235440"/>
            </a:xfrm>
            <a:custGeom>
              <a:avLst/>
              <a:gdLst/>
              <a:ahLst/>
              <a:rect l="0" t="0" r="r" b="b"/>
              <a:pathLst>
                <a:path w="1042" h="654">
                  <a:moveTo>
                    <a:pt x="0" y="654"/>
                  </a:moveTo>
                  <a:lnTo>
                    <a:pt x="123" y="329"/>
                  </a:lnTo>
                  <a:lnTo>
                    <a:pt x="0" y="0"/>
                  </a:lnTo>
                  <a:lnTo>
                    <a:pt x="1042" y="347"/>
                  </a:lnTo>
                  <a:lnTo>
                    <a:pt x="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79640" y="2584440"/>
              <a:ext cx="723960" cy="19080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6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06800" y="2738520"/>
              <a:ext cx="395280" cy="36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3070080" y="277488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06800" y="3030480"/>
              <a:ext cx="40968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070080" y="3068640"/>
              <a:ext cx="331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06800" y="3322800"/>
              <a:ext cx="409680" cy="35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070080" y="3359160"/>
              <a:ext cx="331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06800" y="3606840"/>
              <a:ext cx="395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3070080" y="365112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06800" y="3898800"/>
              <a:ext cx="4096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3070080" y="3933720"/>
              <a:ext cx="331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22520" y="2584440"/>
              <a:ext cx="357120" cy="19080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31960" y="2665440"/>
              <a:ext cx="35712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2527200" y="2647800"/>
              <a:ext cx="322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1960" y="2935440"/>
              <a:ext cx="343080" cy="34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2527200" y="291924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31960" y="3198960"/>
              <a:ext cx="35712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2527200" y="3181320"/>
              <a:ext cx="322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31960" y="3470400"/>
              <a:ext cx="3571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2527200" y="3452760"/>
              <a:ext cx="322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31960" y="3730680"/>
              <a:ext cx="371520" cy="34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2527200" y="3713040"/>
              <a:ext cx="331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31960" y="4002120"/>
              <a:ext cx="371520" cy="34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2527200" y="3986280"/>
              <a:ext cx="331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25800" y="2584440"/>
              <a:ext cx="2292480" cy="1908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00600" y="2890800"/>
              <a:ext cx="906480" cy="41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4656240" y="3154320"/>
              <a:ext cx="865080" cy="44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3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PDU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99080" y="3227400"/>
              <a:ext cx="1117440" cy="41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4554360" y="3490920"/>
              <a:ext cx="1076400" cy="44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3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DAT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76880" y="3598920"/>
              <a:ext cx="1527120" cy="72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25800" y="2584440"/>
              <a:ext cx="363600" cy="1908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40280" y="2627280"/>
              <a:ext cx="372960" cy="34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3936960" y="2732040"/>
              <a:ext cx="331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40280" y="2890800"/>
              <a:ext cx="344520" cy="34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3936960" y="299556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40280" y="3162240"/>
              <a:ext cx="358920" cy="34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3936960" y="3267000"/>
              <a:ext cx="322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40280" y="3425760"/>
              <a:ext cx="3589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3936960" y="3532320"/>
              <a:ext cx="322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40280" y="3693960"/>
              <a:ext cx="344520" cy="34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3936960" y="379872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40280" y="3957480"/>
              <a:ext cx="358920" cy="34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3936960" y="4062240"/>
              <a:ext cx="322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75200" y="2584440"/>
              <a:ext cx="365040" cy="1908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54760" y="2913120"/>
              <a:ext cx="40320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5864400" y="3085920"/>
              <a:ext cx="322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54760" y="3198960"/>
              <a:ext cx="403200" cy="35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5864400" y="3371760"/>
              <a:ext cx="322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54760" y="3490920"/>
              <a:ext cx="403200" cy="35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5864400" y="3660840"/>
              <a:ext cx="322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18280" y="2584440"/>
              <a:ext cx="365040" cy="19080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6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27720" y="2986200"/>
              <a:ext cx="40968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6216480" y="3105000"/>
              <a:ext cx="322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27720" y="3271680"/>
              <a:ext cx="409680" cy="35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6216480" y="3390840"/>
              <a:ext cx="322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7720" y="3562200"/>
              <a:ext cx="42372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216480" y="3681360"/>
              <a:ext cx="331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5680" y="2584440"/>
              <a:ext cx="344520" cy="190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6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91080" y="2612880"/>
              <a:ext cx="2779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3586320" y="259380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91080" y="2833560"/>
              <a:ext cx="277920" cy="27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3586320" y="281628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06920" y="3052800"/>
              <a:ext cx="160200" cy="27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3586320" y="3035160"/>
              <a:ext cx="322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91080" y="3271680"/>
              <a:ext cx="277920" cy="27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3586320" y="325440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91080" y="3490920"/>
              <a:ext cx="277920" cy="262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3586320" y="3471840"/>
              <a:ext cx="322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91080" y="3701880"/>
              <a:ext cx="2779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3586320" y="368460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91080" y="3921120"/>
              <a:ext cx="2779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3586320" y="390384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91080" y="4141800"/>
              <a:ext cx="277920" cy="27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586320" y="412416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  <a:ea typeface="Arial Black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0200" y="2584440"/>
              <a:ext cx="4098960" cy="1908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Key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 requirements demand only small networks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bit MAC address is su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device attachment supported via a form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ted Aloha layered on top of the TDMA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Hoc networking easily supported: any device can function as a Hu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orized bandwidth allocation is easily achieved via Hub token allocation mechanism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tly demand-driven via Status Response messages from PEA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readily enables single-chip Data-Link and MAC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-of-Concept 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3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d with two real applications in early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PC (PPC) runs the device driver and protocol stack.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PC selected since needed to run Inertial Navigation code used by a demonstration sensor PE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board contains an Altera PLD with MAC layer implementation and debug log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transceiver a small discrete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968480" y="3048120"/>
            <a:ext cx="5264640" cy="844560"/>
            <a:chOff x="1968480" y="3048120"/>
            <a:chExt cx="5264640" cy="844560"/>
          </a:xfrm>
        </p:grpSpPr>
        <p:sp>
          <p:nvSpPr>
            <p:cNvPr id="160" name=""/>
            <p:cNvSpPr/>
            <p:nvPr/>
          </p:nvSpPr>
          <p:spPr>
            <a:xfrm>
              <a:off x="4734000" y="3105000"/>
              <a:ext cx="928800" cy="7142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4673520" y="304812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dyLA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816440" y="3271680"/>
              <a:ext cx="80316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git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4789440" y="349560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ro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02480" y="3105000"/>
              <a:ext cx="1042920" cy="7142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5800680" y="304812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dyLA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091200" y="327168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5754600" y="3495600"/>
              <a:ext cx="117324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ceiv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64080" y="3105000"/>
              <a:ext cx="932040" cy="7142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3676680" y="3048120"/>
              <a:ext cx="94932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C 40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3830760" y="327168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s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3639960" y="349560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00440" y="3446640"/>
              <a:ext cx="135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70720" y="3446640"/>
              <a:ext cx="134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45400" y="3176640"/>
              <a:ext cx="387720" cy="257400"/>
            </a:xfrm>
            <a:custGeom>
              <a:avLst/>
              <a:gdLst/>
              <a:ahLst/>
              <a:rect l="0" t="0" r="r" b="b"/>
              <a:pathLst>
                <a:path fill="none" w="1077" h="715">
                  <a:moveTo>
                    <a:pt x="0" y="715"/>
                  </a:moveTo>
                  <a:lnTo>
                    <a:pt x="758" y="715"/>
                  </a:lnTo>
                  <a:lnTo>
                    <a:pt x="758" y="319"/>
                  </a:lnTo>
                  <a:lnTo>
                    <a:pt x="1077" y="0"/>
                  </a:lnTo>
                  <a:lnTo>
                    <a:pt x="439" y="0"/>
                  </a:lnTo>
                  <a:lnTo>
                    <a:pt x="758" y="319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98800" y="3330720"/>
              <a:ext cx="671760" cy="160560"/>
            </a:xfrm>
            <a:custGeom>
              <a:avLst/>
              <a:gdLst/>
              <a:ahLst/>
              <a:rect l="0" t="0" r="r" b="b"/>
              <a:pathLst>
                <a:path fill="none" w="1866" h="446">
                  <a:moveTo>
                    <a:pt x="1866" y="321"/>
                  </a:moveTo>
                  <a:lnTo>
                    <a:pt x="1702" y="321"/>
                  </a:lnTo>
                  <a:lnTo>
                    <a:pt x="1702" y="281"/>
                  </a:lnTo>
                  <a:lnTo>
                    <a:pt x="1662" y="281"/>
                  </a:lnTo>
                  <a:lnTo>
                    <a:pt x="1583" y="204"/>
                  </a:lnTo>
                  <a:lnTo>
                    <a:pt x="1543" y="204"/>
                  </a:lnTo>
                  <a:lnTo>
                    <a:pt x="1543" y="160"/>
                  </a:lnTo>
                  <a:lnTo>
                    <a:pt x="1464" y="160"/>
                  </a:lnTo>
                  <a:lnTo>
                    <a:pt x="1464" y="120"/>
                  </a:lnTo>
                  <a:lnTo>
                    <a:pt x="1384" y="120"/>
                  </a:lnTo>
                  <a:lnTo>
                    <a:pt x="1344" y="84"/>
                  </a:lnTo>
                  <a:lnTo>
                    <a:pt x="1234" y="44"/>
                  </a:lnTo>
                  <a:lnTo>
                    <a:pt x="1145" y="44"/>
                  </a:lnTo>
                  <a:lnTo>
                    <a:pt x="1075" y="0"/>
                  </a:lnTo>
                  <a:lnTo>
                    <a:pt x="755" y="0"/>
                  </a:lnTo>
                  <a:lnTo>
                    <a:pt x="667" y="44"/>
                  </a:lnTo>
                  <a:lnTo>
                    <a:pt x="627" y="44"/>
                  </a:lnTo>
                  <a:lnTo>
                    <a:pt x="548" y="120"/>
                  </a:lnTo>
                  <a:lnTo>
                    <a:pt x="508" y="120"/>
                  </a:lnTo>
                  <a:lnTo>
                    <a:pt x="508" y="160"/>
                  </a:lnTo>
                  <a:lnTo>
                    <a:pt x="477" y="160"/>
                  </a:lnTo>
                  <a:lnTo>
                    <a:pt x="477" y="204"/>
                  </a:lnTo>
                  <a:lnTo>
                    <a:pt x="437" y="250"/>
                  </a:lnTo>
                  <a:lnTo>
                    <a:pt x="437" y="321"/>
                  </a:lnTo>
                  <a:lnTo>
                    <a:pt x="388" y="321"/>
                  </a:lnTo>
                  <a:lnTo>
                    <a:pt x="318" y="410"/>
                  </a:lnTo>
                  <a:lnTo>
                    <a:pt x="278" y="410"/>
                  </a:lnTo>
                  <a:lnTo>
                    <a:pt x="229" y="446"/>
                  </a:lnTo>
                  <a:lnTo>
                    <a:pt x="0" y="446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68480" y="3133800"/>
              <a:ext cx="1042920" cy="71424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1989000" y="3103560"/>
              <a:ext cx="102384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C, HPC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2297160" y="3300480"/>
              <a:ext cx="43488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2119320" y="3524400"/>
              <a:ext cx="79524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s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021120" y="312588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S-2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Processor &amp; Digital P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411200" y="2013120"/>
            <a:ext cx="636732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of POC 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y operational, with goo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attachment / detachmen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bandwidth allocation over TDM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mA with PowerPC @ 25MH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ceiver draws 10mA when running (xmit/recv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D draws about 15mA (ASIC est. @ 5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ts of debug and test support, no board-level optim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 adjusted to about 2m, have run up to about 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Ian Christopher Gifford</cp:lastModifiedBy>
  <cp:revision>0</cp:revision>
  <dc:subject/>
  <dc:title>No Slide Title</dc:title>
</cp:coreProperties>
</file>