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8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4B16E7-5465-4190-BF0F-836FFEC00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figure shows an example of  state transition for the 3tap PMA-MLSCE to estimate s(i) transmitted symbol at t=i. It is assumed that a transmitted symbol is binary, the length of a channel impulse response is 3 and the current time is 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is example, the PMA-MLSCE defines three state vectors S(t) for t=i, i-1 and i-2 which are consisted from symbol candidates s(i)’s and/or decision results D(i)s. Because D(i)s are deterministic, each state vector can take only 2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s where m is the number of symbol candidates in a vector.  Then transitions between the state vectors can be defined as shown in the figur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MA-MLSCE calculates metric, |r(i-k)-S(i-k)h| for all possible state vector values. The calculated metric are summed up along the transitions as a combined metric. The PMA-MLSCE selects a transition which presents the minimum combined metric and outputs the s(i) in the transition as a estimated resul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order to reduce complexity of implementation, it is possible for the PMA-MLSCE to implement the part  surrounded by the dotted line. In this case, the PMA-MLSCE uses two candidate symbols and one decision result to detect s(i). We denote the reduced PMA-MLSCE as n-m PMA-MLSCE, where n and m are tap number fed candidate symbols and decision results, respectively. Based on the notation, the part  surrounded by the dotted line can be expressed as 2-1 PMA-MLSCE. The implementation of 2-1 PMA-MLSCE for QPSK is demonstrated in the next slid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figure shows an example of AFC struc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long as a multipath fading channel is time invariant, received signals produced by the same two sequences are identical. Therefore, by comparing a phase difference between corresponding symbols, frequency offset can be estimated. In order to remove fluctuations caused by Gaussian noise, the phase difference need to be averaged over several symb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figure shows an example of PLL stru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MA-MLSCE calculates replica of received signals, Sh. Using a phase of an error signal between received signal r(i) and the replica, 2th order  PLL tracking phase variations in a pack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figure shows a proposed frame format. The PLCP Preamble consists of 124 symbols in a SYNC field and 8 symbols in a SFD (Start Frame Delimiter) field. The PLCP header includes both a 8-symbol header error check filed and a 6-symbol PSDU length word.  The rest 2 symbols in the PLCP header are used for PLCP control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NC filed is basically formed as a repetition of the 64-bit sequence, SEQ64. The SEQ64 can be represented based on the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Y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s follow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64=(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… 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1111 1111 1111 0000 1111 0011 0011 0000 1100 0000 0000 1111 0000 1100 1100 0000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figure also shows a structure of SYNC field. A receiver executes antenna selection, AGC (Automatic Gain Control) setup, AFC (Automatic Frequency Control) setup and channel impulse response estimation through the SYNC fi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figure shows an example of a channel impulse response estimator. By using a preamble sequence of which correlation function becomes impulse,  a channel impulse response can be obtained by calculating correlation between a received preamble and the preamble sequence itsel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propose to use the SEQ64 for a preamble. The correlation function of  the SEQ64 is presented at next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figure shows a correlation function of the SEQ64. It is shown that the correlation function becomes a impulse during 26 symb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will present a receiver performance with the PMA-MLSCE and the channel impulse response estim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a CCA detection mechanism, we propose to adopt envelope detection mechanism as shown in this figure. When an averaged envelope level of received signals gets over the threshold level (-78dbm), the CCA detector detects that the medium is bus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52280" y="7632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,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086600" y="95400"/>
            <a:ext cx="220968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: IEEE P802.11-98/74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87440" y="1689120"/>
            <a:ext cx="893124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2401"/>
              </a:spcAf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son DATA of QPSK modulation</a:t>
            </a:r>
            <a:br>
              <a:rPr sz="2800"/>
            </a:b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bruary, 1998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zuhiro OKANOUE, Yoshikazu KAKURA, Tomoki OHSAW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 Corporation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1-1, Miyazaki, Miyamae-ku, Kawasaki, 216-8555, JAP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: +81 44 856 225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x: +81 44 856 223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{okanoue,kakura,ohsawa}@ccm.CL.nec.co.j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719520" y="328680"/>
            <a:ext cx="246204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P802.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640" y="1428840"/>
            <a:ext cx="9875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62120" y="45720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in Fading with Gaussian Noise with FEC (64byte-packet) (Complex Implem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665496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533520"/>
            <a:ext cx="876312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in Fading with Gaussian Noise without FEC (1kbyte-packet) (Complex Implem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65496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62120" y="457200"/>
            <a:ext cx="842004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in Fading with Gaussian Noise with FEC (1kbyte-packet) (Complex Implem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703584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62120" y="457200"/>
            <a:ext cx="8420040" cy="9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versus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64byte-Packet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mplex Implem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9595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533520"/>
            <a:ext cx="8420040" cy="9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versus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kbyte-Packet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mplex Implem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703584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versus Frequency offset (AWG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680724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versus Frequency offset (Fading+G-Noi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88356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62120" y="685800"/>
            <a:ext cx="842004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-Rate Performance Summar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imple Implem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70040" y="1682640"/>
            <a:ext cx="8386920" cy="37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457200"/>
            <a:ext cx="842004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-Rate Performance Summ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omplex Implem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709920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ing and Overhead related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4687920" cy="48895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847080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66680" y="45720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r Structure (1) -Basic structure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712620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62120" y="609480"/>
            <a:ext cx="842004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r Structure (2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Example of Anti-Multipath scheme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33440" y="2666880"/>
            <a:ext cx="7772400" cy="21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-by-Symbol detection based on Maximum Likelihood Sequence Estimation during Channel Impulse Response d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alculation amount by using decision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84240" y="2279520"/>
            <a:ext cx="8470800" cy="245124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792440" y="1982880"/>
            <a:ext cx="6854760" cy="51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t Metric Addition MLSCE (PMA-MLS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90720" y="457200"/>
            <a:ext cx="80010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r Structure (3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tate Transition of PMA-MLSCE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87520" y="5972040"/>
            <a:ext cx="236844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(i): symbol candi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166920" y="5972040"/>
            <a:ext cx="29764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(i-k): Decision result at t=i-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400800" y="5943600"/>
            <a:ext cx="2506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(i): received signal at t=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57200" y="1219320"/>
            <a:ext cx="9001080" cy="453960"/>
            <a:chOff x="457200" y="1219320"/>
            <a:chExt cx="9001080" cy="453960"/>
          </a:xfrm>
        </p:grpSpPr>
        <p:sp>
          <p:nvSpPr>
            <p:cNvPr id="163" name=""/>
            <p:cNvSpPr txBox="1"/>
            <p:nvPr/>
          </p:nvSpPr>
          <p:spPr>
            <a:xfrm>
              <a:off x="457200" y="1219320"/>
              <a:ext cx="900108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ample for channel impulse response(h) of length 3 and binary symb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329080" y="1281240"/>
              <a:ext cx="200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143000" y="1746360"/>
            <a:ext cx="8396280" cy="4012920"/>
            <a:chOff x="1143000" y="1746360"/>
            <a:chExt cx="8396280" cy="4012920"/>
          </a:xfrm>
        </p:grpSpPr>
        <p:sp>
          <p:nvSpPr>
            <p:cNvPr id="166" name=""/>
            <p:cNvSpPr/>
            <p:nvPr/>
          </p:nvSpPr>
          <p:spPr>
            <a:xfrm>
              <a:off x="1862280" y="1746360"/>
              <a:ext cx="4035600" cy="3944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7008840" y="1770120"/>
              <a:ext cx="46512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=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4656240" y="1770120"/>
              <a:ext cx="67644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=i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2598840" y="1770120"/>
              <a:ext cx="67644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=i-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1927080" y="2011320"/>
              <a:ext cx="208584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s(i),D(i-1),D(i-2)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4040280" y="2013120"/>
              <a:ext cx="200016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s(i-1),s(i),D(i-1)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6319800" y="2013120"/>
              <a:ext cx="191628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s(i-2),s(i-1),s(i)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1992240" y="2602080"/>
              <a:ext cx="187308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0,D(i-1),D(i-2)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1978200" y="3170160"/>
              <a:ext cx="187308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1,D(i-1),D(i-2)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>
              <a:off x="4354560" y="2473200"/>
              <a:ext cx="136512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0,0,D(i-1)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4354560" y="2955960"/>
              <a:ext cx="136512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0,1,D(i-1)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4354560" y="3473280"/>
              <a:ext cx="136512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1,0,D(i-1)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4354560" y="4017960"/>
              <a:ext cx="136512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1,1,D(i-1)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6838920" y="2486160"/>
              <a:ext cx="85896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0,0,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6838920" y="2797200"/>
              <a:ext cx="85896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0,0,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6838920" y="3105000"/>
              <a:ext cx="85896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0,1,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6838920" y="3416400"/>
              <a:ext cx="85896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0,1,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6838920" y="3724200"/>
              <a:ext cx="85896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1,0,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6838920" y="4032360"/>
              <a:ext cx="85896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1,0,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6838920" y="4343400"/>
              <a:ext cx="85896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1,1,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6838920" y="4651200"/>
              <a:ext cx="85896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1,1,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666960" y="2639880"/>
              <a:ext cx="719280" cy="171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68760" y="2817720"/>
              <a:ext cx="718920" cy="83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679920" y="3121200"/>
              <a:ext cx="718920" cy="311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81360" y="3438360"/>
              <a:ext cx="704880" cy="755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491080" y="2674800"/>
              <a:ext cx="1376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91080" y="2692440"/>
              <a:ext cx="1401840" cy="119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538960" y="2971800"/>
              <a:ext cx="1325520" cy="208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541840" y="3186000"/>
              <a:ext cx="1376640" cy="1008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5538960" y="3287880"/>
              <a:ext cx="1376280" cy="37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554800" y="3665520"/>
              <a:ext cx="1338120" cy="846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5500800" y="3591000"/>
              <a:ext cx="1376280" cy="625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51000" y="2511360"/>
              <a:ext cx="6870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1143000" y="1797120"/>
              <a:ext cx="646200" cy="698400"/>
              <a:chOff x="1143000" y="1797120"/>
              <a:chExt cx="646200" cy="698400"/>
            </a:xfrm>
          </p:grpSpPr>
          <p:sp>
            <p:nvSpPr>
              <p:cNvPr id="200" name=""/>
              <p:cNvSpPr txBox="1"/>
              <p:nvPr/>
            </p:nvSpPr>
            <p:spPr>
              <a:xfrm>
                <a:off x="1143000" y="1797120"/>
                <a:ext cx="646200" cy="698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tat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(t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290600" y="2106720"/>
                <a:ext cx="17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3919680" y="2652840"/>
              <a:ext cx="140040" cy="646560"/>
            </a:xfrm>
            <a:custGeom>
              <a:avLst/>
              <a:gdLst/>
              <a:ahLst/>
              <a:rect l="0" t="0" r="r" b="b"/>
              <a:pathLst>
                <a:path fill="none" w="389" h="1796">
                  <a:moveTo>
                    <a:pt x="389" y="1796"/>
                  </a:moveTo>
                  <a:lnTo>
                    <a:pt x="389" y="1796"/>
                  </a:lnTo>
                  <a:lnTo>
                    <a:pt x="389" y="1796"/>
                  </a:lnTo>
                  <a:cubicBezTo>
                    <a:pt x="389" y="1481"/>
                    <a:pt x="371" y="1171"/>
                    <a:pt x="337" y="898"/>
                  </a:cubicBezTo>
                  <a:cubicBezTo>
                    <a:pt x="303" y="625"/>
                    <a:pt x="254" y="398"/>
                    <a:pt x="194" y="241"/>
                  </a:cubicBezTo>
                  <a:cubicBezTo>
                    <a:pt x="135" y="83"/>
                    <a:pt x="68" y="0"/>
                    <a:pt x="0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13200" y="3278160"/>
              <a:ext cx="140040" cy="646560"/>
            </a:xfrm>
            <a:custGeom>
              <a:avLst/>
              <a:gdLst/>
              <a:ahLst/>
              <a:rect l="0" t="0" r="r" b="b"/>
              <a:pathLst>
                <a:path fill="none" w="389" h="1796">
                  <a:moveTo>
                    <a:pt x="0" y="1796"/>
                  </a:moveTo>
                  <a:lnTo>
                    <a:pt x="0" y="1796"/>
                  </a:lnTo>
                  <a:cubicBezTo>
                    <a:pt x="68" y="1796"/>
                    <a:pt x="135" y="1713"/>
                    <a:pt x="195" y="1555"/>
                  </a:cubicBezTo>
                  <a:cubicBezTo>
                    <a:pt x="254" y="1398"/>
                    <a:pt x="303" y="1171"/>
                    <a:pt x="337" y="898"/>
                  </a:cubicBezTo>
                  <a:cubicBezTo>
                    <a:pt x="371" y="625"/>
                    <a:pt x="389" y="315"/>
                    <a:pt x="389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053040" y="3554280"/>
              <a:ext cx="152640" cy="1040040"/>
            </a:xfrm>
            <a:custGeom>
              <a:avLst/>
              <a:gdLst/>
              <a:ahLst/>
              <a:rect l="0" t="0" r="r" b="b"/>
              <a:pathLst>
                <a:path fill="none" w="424" h="2889">
                  <a:moveTo>
                    <a:pt x="0" y="2889"/>
                  </a:moveTo>
                  <a:lnTo>
                    <a:pt x="0" y="2889"/>
                  </a:lnTo>
                  <a:cubicBezTo>
                    <a:pt x="74" y="2889"/>
                    <a:pt x="148" y="2756"/>
                    <a:pt x="212" y="2502"/>
                  </a:cubicBezTo>
                  <a:cubicBezTo>
                    <a:pt x="276" y="2248"/>
                    <a:pt x="330" y="1884"/>
                    <a:pt x="367" y="1445"/>
                  </a:cubicBezTo>
                  <a:cubicBezTo>
                    <a:pt x="404" y="1005"/>
                    <a:pt x="424" y="507"/>
                    <a:pt x="424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059520" y="2563920"/>
              <a:ext cx="152640" cy="1038600"/>
            </a:xfrm>
            <a:custGeom>
              <a:avLst/>
              <a:gdLst/>
              <a:ahLst/>
              <a:rect l="0" t="0" r="r" b="b"/>
              <a:pathLst>
                <a:path fill="none" w="424" h="2885">
                  <a:moveTo>
                    <a:pt x="424" y="2885"/>
                  </a:moveTo>
                  <a:lnTo>
                    <a:pt x="424" y="2885"/>
                  </a:lnTo>
                  <a:lnTo>
                    <a:pt x="424" y="2885"/>
                  </a:lnTo>
                  <a:cubicBezTo>
                    <a:pt x="424" y="2379"/>
                    <a:pt x="404" y="1881"/>
                    <a:pt x="367" y="1442"/>
                  </a:cubicBezTo>
                  <a:cubicBezTo>
                    <a:pt x="330" y="1004"/>
                    <a:pt x="276" y="640"/>
                    <a:pt x="212" y="387"/>
                  </a:cubicBezTo>
                  <a:cubicBezTo>
                    <a:pt x="148" y="133"/>
                    <a:pt x="74" y="0"/>
                    <a:pt x="0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1998720" y="5189400"/>
              <a:ext cx="1622520" cy="395640"/>
              <a:chOff x="1998720" y="5189400"/>
              <a:chExt cx="1622520" cy="395640"/>
            </a:xfrm>
          </p:grpSpPr>
          <p:sp>
            <p:nvSpPr>
              <p:cNvPr id="207" name=""/>
              <p:cNvSpPr txBox="1"/>
              <p:nvPr/>
            </p:nvSpPr>
            <p:spPr>
              <a:xfrm>
                <a:off x="1998720" y="5191200"/>
                <a:ext cx="1622520" cy="39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|r(i-2)-S(i-2)h|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670120" y="5189400"/>
                <a:ext cx="17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144960" y="5195880"/>
                <a:ext cx="17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4275000" y="5189400"/>
              <a:ext cx="1622520" cy="395640"/>
              <a:chOff x="4275000" y="5189400"/>
              <a:chExt cx="1622520" cy="395640"/>
            </a:xfrm>
          </p:grpSpPr>
          <p:sp>
            <p:nvSpPr>
              <p:cNvPr id="211" name=""/>
              <p:cNvSpPr txBox="1"/>
              <p:nvPr/>
            </p:nvSpPr>
            <p:spPr>
              <a:xfrm>
                <a:off x="4275000" y="5191200"/>
                <a:ext cx="1622520" cy="39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|r(i-1)-S(i-1)h|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946760" y="5189400"/>
                <a:ext cx="176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424480" y="5195880"/>
                <a:ext cx="17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6759720" y="5189400"/>
              <a:ext cx="1200240" cy="395640"/>
              <a:chOff x="6759720" y="5189400"/>
              <a:chExt cx="1200240" cy="395640"/>
            </a:xfrm>
          </p:grpSpPr>
          <p:sp>
            <p:nvSpPr>
              <p:cNvPr id="215" name=""/>
              <p:cNvSpPr txBox="1"/>
              <p:nvPr/>
            </p:nvSpPr>
            <p:spPr>
              <a:xfrm>
                <a:off x="6759720" y="5191200"/>
                <a:ext cx="1200240" cy="39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|r(i)-S(i)h|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278840" y="5189400"/>
                <a:ext cx="17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551720" y="5195880"/>
                <a:ext cx="17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2765520" y="3691080"/>
              <a:ext cx="0" cy="1338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94280" y="4425840"/>
              <a:ext cx="0" cy="644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09000" y="4995720"/>
              <a:ext cx="0" cy="165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 txBox="1"/>
            <p:nvPr/>
          </p:nvSpPr>
          <p:spPr>
            <a:xfrm>
              <a:off x="3611520" y="5202360"/>
              <a:ext cx="32400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6141960" y="5202360"/>
              <a:ext cx="32400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8342280" y="5060880"/>
              <a:ext cx="1197000" cy="698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inimu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te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870680" y="5370480"/>
              <a:ext cx="454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3166920" y="4262400"/>
              <a:ext cx="1139760" cy="698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ssi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an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 txBox="1"/>
            <p:nvPr/>
          </p:nvSpPr>
          <p:spPr>
            <a:xfrm>
              <a:off x="5673600" y="4668840"/>
              <a:ext cx="1139760" cy="69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ssi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an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3633840" y="3944880"/>
              <a:ext cx="334800" cy="325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5935680" y="4600440"/>
              <a:ext cx="15876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16640" y="4222800"/>
              <a:ext cx="1376280" cy="604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 txBox="1"/>
          <p:nvPr/>
        </p:nvSpPr>
        <p:spPr>
          <a:xfrm>
            <a:off x="1371600" y="5562720"/>
            <a:ext cx="213372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1 PMA-MLS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r Structure(4) - 2-1 PMA-MLSCE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905120" y="1066680"/>
            <a:ext cx="642636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r Structure(5) - AFC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200240" y="1836720"/>
            <a:ext cx="3084480" cy="544680"/>
            <a:chOff x="1200240" y="1836720"/>
            <a:chExt cx="3084480" cy="544680"/>
          </a:xfrm>
        </p:grpSpPr>
        <p:sp>
          <p:nvSpPr>
            <p:cNvPr id="241" name=""/>
            <p:cNvSpPr/>
            <p:nvPr/>
          </p:nvSpPr>
          <p:spPr>
            <a:xfrm>
              <a:off x="1200240" y="1836720"/>
              <a:ext cx="2911320" cy="542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76440" y="1863720"/>
              <a:ext cx="0" cy="517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735360" y="1863720"/>
              <a:ext cx="0" cy="517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47960" y="1863720"/>
              <a:ext cx="0" cy="517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25720" y="2120760"/>
              <a:ext cx="54936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664000" y="1863720"/>
              <a:ext cx="0" cy="517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033720" y="1863720"/>
              <a:ext cx="0" cy="517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12920" y="2120760"/>
              <a:ext cx="54792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 txBox="1"/>
            <p:nvPr/>
          </p:nvSpPr>
          <p:spPr>
            <a:xfrm>
              <a:off x="1206360" y="1868400"/>
              <a:ext cx="21744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 txBox="1"/>
            <p:nvPr/>
          </p:nvSpPr>
          <p:spPr>
            <a:xfrm>
              <a:off x="1592280" y="1868400"/>
              <a:ext cx="31284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 txBox="1"/>
            <p:nvPr/>
          </p:nvSpPr>
          <p:spPr>
            <a:xfrm>
              <a:off x="2651040" y="1868400"/>
              <a:ext cx="33984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 txBox="1"/>
            <p:nvPr/>
          </p:nvSpPr>
          <p:spPr>
            <a:xfrm>
              <a:off x="3654360" y="1855800"/>
              <a:ext cx="63036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4103640" y="1836720"/>
            <a:ext cx="3084840" cy="544680"/>
            <a:chOff x="4103640" y="1836720"/>
            <a:chExt cx="3084840" cy="544680"/>
          </a:xfrm>
        </p:grpSpPr>
        <p:sp>
          <p:nvSpPr>
            <p:cNvPr id="254" name=""/>
            <p:cNvSpPr/>
            <p:nvPr/>
          </p:nvSpPr>
          <p:spPr>
            <a:xfrm>
              <a:off x="4103640" y="1836720"/>
              <a:ext cx="2911320" cy="542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79840" y="1863720"/>
              <a:ext cx="0" cy="517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638760" y="1863720"/>
              <a:ext cx="0" cy="517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1360" y="1863720"/>
              <a:ext cx="0" cy="517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29120" y="2120760"/>
              <a:ext cx="54936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567400" y="1863720"/>
              <a:ext cx="0" cy="517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37120" y="1863720"/>
              <a:ext cx="0" cy="517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016680" y="2120760"/>
              <a:ext cx="54756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4110120" y="1868400"/>
              <a:ext cx="21744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4495680" y="1868400"/>
              <a:ext cx="31284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5554800" y="1868400"/>
              <a:ext cx="33984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>
              <a:off x="6558120" y="1855800"/>
              <a:ext cx="63036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173240" y="2967120"/>
            <a:ext cx="407880" cy="378000"/>
            <a:chOff x="1173240" y="2967120"/>
            <a:chExt cx="407880" cy="378000"/>
          </a:xfrm>
        </p:grpSpPr>
        <p:sp>
          <p:nvSpPr>
            <p:cNvPr id="267" name=""/>
            <p:cNvSpPr/>
            <p:nvPr/>
          </p:nvSpPr>
          <p:spPr>
            <a:xfrm>
              <a:off x="1173240" y="2967120"/>
              <a:ext cx="407880" cy="378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271520" y="3162240"/>
              <a:ext cx="201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1384200" y="2384280"/>
            <a:ext cx="0" cy="5810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300560" y="2384280"/>
            <a:ext cx="0" cy="771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1587600" y="3149640"/>
            <a:ext cx="2705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571760" y="3360600"/>
            <a:ext cx="407880" cy="378000"/>
            <a:chOff x="1571760" y="3360600"/>
            <a:chExt cx="407880" cy="378000"/>
          </a:xfrm>
        </p:grpSpPr>
        <p:sp>
          <p:nvSpPr>
            <p:cNvPr id="273" name=""/>
            <p:cNvSpPr/>
            <p:nvPr/>
          </p:nvSpPr>
          <p:spPr>
            <a:xfrm>
              <a:off x="1571760" y="3360600"/>
              <a:ext cx="407880" cy="378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1670040" y="3556080"/>
              <a:ext cx="201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644920" y="4071960"/>
            <a:ext cx="407880" cy="378000"/>
            <a:chOff x="2644920" y="4071960"/>
            <a:chExt cx="407880" cy="378000"/>
          </a:xfrm>
        </p:grpSpPr>
        <p:sp>
          <p:nvSpPr>
            <p:cNvPr id="276" name=""/>
            <p:cNvSpPr/>
            <p:nvPr/>
          </p:nvSpPr>
          <p:spPr>
            <a:xfrm>
              <a:off x="2644920" y="4071960"/>
              <a:ext cx="407880" cy="378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2743200" y="4267080"/>
              <a:ext cx="201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1782720" y="2384280"/>
            <a:ext cx="0" cy="974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855880" y="2384280"/>
            <a:ext cx="0" cy="1698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699080" y="2384280"/>
            <a:ext cx="0" cy="117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1986120" y="3556080"/>
            <a:ext cx="2706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72240" y="2384280"/>
            <a:ext cx="0" cy="1889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3059280" y="4267080"/>
            <a:ext cx="2706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930320" y="2819520"/>
            <a:ext cx="79524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58840" y="5494320"/>
            <a:ext cx="2306520" cy="8096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384200" y="3349800"/>
            <a:ext cx="0" cy="2143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782720" y="3755880"/>
            <a:ext cx="0" cy="1749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55880" y="4454640"/>
            <a:ext cx="0" cy="1038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887480" y="4633920"/>
            <a:ext cx="79524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186080" y="5506920"/>
            <a:ext cx="1260360" cy="8096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192560" y="5640480"/>
            <a:ext cx="13446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/(K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84440" y="5880240"/>
            <a:ext cx="700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51480" y="5880240"/>
            <a:ext cx="1195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5411880" y="5030640"/>
            <a:ext cx="372744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D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F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phase difference per symb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070520" y="4572000"/>
            <a:ext cx="47545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D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...D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phase offset during K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886040" y="5045040"/>
            <a:ext cx="5508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D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728640" y="5016600"/>
            <a:ext cx="5508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D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997360" y="5059440"/>
            <a:ext cx="5875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D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5826240" y="5435640"/>
            <a:ext cx="7891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D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F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168640" y="5665680"/>
            <a:ext cx="3319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204920" y="1541520"/>
            <a:ext cx="2910240" cy="303480"/>
          </a:xfrm>
          <a:custGeom>
            <a:avLst/>
            <a:gdLst/>
            <a:ahLst/>
            <a:rect l="0" t="0" r="r" b="b"/>
            <a:pathLst>
              <a:path fill="none" w="8084" h="843">
                <a:moveTo>
                  <a:pt x="8084" y="843"/>
                </a:moveTo>
                <a:lnTo>
                  <a:pt x="8084" y="0"/>
                </a:lnTo>
                <a:lnTo>
                  <a:pt x="0" y="0"/>
                </a:lnTo>
                <a:lnTo>
                  <a:pt x="0" y="84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2116080" y="1341360"/>
            <a:ext cx="140184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11400" y="4746600"/>
            <a:ext cx="964080" cy="224280"/>
          </a:xfrm>
          <a:custGeom>
            <a:avLst/>
            <a:gdLst/>
            <a:ahLst/>
            <a:rect l="0" t="0" r="r" b="b"/>
            <a:pathLst>
              <a:path fill="none" w="2678" h="623">
                <a:moveTo>
                  <a:pt x="0" y="623"/>
                </a:moveTo>
                <a:lnTo>
                  <a:pt x="0" y="623"/>
                </a:lnTo>
                <a:cubicBezTo>
                  <a:pt x="470" y="623"/>
                  <a:pt x="932" y="594"/>
                  <a:pt x="1339" y="540"/>
                </a:cubicBezTo>
                <a:cubicBezTo>
                  <a:pt x="1746" y="485"/>
                  <a:pt x="2084" y="406"/>
                  <a:pt x="2319" y="311"/>
                </a:cubicBezTo>
                <a:cubicBezTo>
                  <a:pt x="2554" y="217"/>
                  <a:pt x="2678" y="109"/>
                  <a:pt x="267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128600" y="4740120"/>
            <a:ext cx="964080" cy="224280"/>
          </a:xfrm>
          <a:custGeom>
            <a:avLst/>
            <a:gdLst/>
            <a:ahLst/>
            <a:rect l="0" t="0" r="r" b="b"/>
            <a:pathLst>
              <a:path fill="none" w="2678" h="623">
                <a:moveTo>
                  <a:pt x="0" y="0"/>
                </a:moveTo>
                <a:lnTo>
                  <a:pt x="0" y="0"/>
                </a:lnTo>
                <a:cubicBezTo>
                  <a:pt x="0" y="109"/>
                  <a:pt x="124" y="217"/>
                  <a:pt x="359" y="312"/>
                </a:cubicBezTo>
                <a:cubicBezTo>
                  <a:pt x="594" y="406"/>
                  <a:pt x="932" y="485"/>
                  <a:pt x="1339" y="540"/>
                </a:cubicBezTo>
                <a:cubicBezTo>
                  <a:pt x="1746" y="594"/>
                  <a:pt x="2208" y="623"/>
                  <a:pt x="2678" y="62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3011400" y="4741920"/>
            <a:ext cx="1047960" cy="109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100400" y="1541520"/>
            <a:ext cx="2910240" cy="303480"/>
          </a:xfrm>
          <a:custGeom>
            <a:avLst/>
            <a:gdLst/>
            <a:ahLst/>
            <a:rect l="0" t="0" r="r" b="b"/>
            <a:pathLst>
              <a:path fill="none" w="8084" h="843">
                <a:moveTo>
                  <a:pt x="8084" y="843"/>
                </a:moveTo>
                <a:lnTo>
                  <a:pt x="8084" y="0"/>
                </a:lnTo>
                <a:lnTo>
                  <a:pt x="0" y="0"/>
                </a:lnTo>
                <a:lnTo>
                  <a:pt x="0" y="84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011560" y="1341360"/>
            <a:ext cx="140184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93960" y="1168560"/>
            <a:ext cx="2762640" cy="190800"/>
          </a:xfrm>
          <a:custGeom>
            <a:avLst/>
            <a:gdLst/>
            <a:ahLst/>
            <a:rect l="0" t="0" r="r" b="b"/>
            <a:pathLst>
              <a:path fill="none" w="7674" h="530">
                <a:moveTo>
                  <a:pt x="0" y="530"/>
                </a:moveTo>
                <a:lnTo>
                  <a:pt x="0" y="0"/>
                </a:lnTo>
                <a:lnTo>
                  <a:pt x="7674" y="0"/>
                </a:lnTo>
                <a:lnTo>
                  <a:pt x="7674" y="530"/>
                </a:ln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125880" y="960480"/>
            <a:ext cx="208764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ame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r Structure(6) - PLL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86080" y="1522440"/>
            <a:ext cx="2181240" cy="714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590840" y="1646280"/>
            <a:ext cx="19591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A-MLS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72000" y="1870200"/>
            <a:ext cx="11080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762440" y="1789200"/>
            <a:ext cx="142920" cy="142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762360" y="1246320"/>
            <a:ext cx="11970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504800" y="2843280"/>
            <a:ext cx="2181240" cy="714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647720" y="2967120"/>
            <a:ext cx="19321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det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2576520" y="2208240"/>
            <a:ext cx="0" cy="6541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4716360" y="2166840"/>
            <a:ext cx="1094040" cy="458640"/>
            <a:chOff x="4716360" y="2166840"/>
            <a:chExt cx="1094040" cy="458640"/>
          </a:xfrm>
        </p:grpSpPr>
        <p:sp>
          <p:nvSpPr>
            <p:cNvPr id="323" name=""/>
            <p:cNvSpPr txBox="1"/>
            <p:nvPr/>
          </p:nvSpPr>
          <p:spPr>
            <a:xfrm>
              <a:off x="4716360" y="2171520"/>
              <a:ext cx="106992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(i)-S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54560" y="2166840"/>
              <a:ext cx="231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78560" y="2166840"/>
              <a:ext cx="231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"/>
          <p:cNvSpPr txBox="1"/>
          <p:nvPr/>
        </p:nvSpPr>
        <p:spPr>
          <a:xfrm>
            <a:off x="1916280" y="3821040"/>
            <a:ext cx="51444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D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201840" y="2211480"/>
            <a:ext cx="15778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088040" y="3430440"/>
            <a:ext cx="7621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D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2576520" y="3521160"/>
            <a:ext cx="0" cy="8683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742080" y="3959280"/>
            <a:ext cx="1100160" cy="3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7880" bIns="-47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2603520" y="2421000"/>
            <a:ext cx="576360" cy="82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392880" y="1916280"/>
            <a:ext cx="7221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180120" y="2309760"/>
            <a:ext cx="517680" cy="352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770120" y="4303800"/>
            <a:ext cx="3729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2405160" y="4381560"/>
            <a:ext cx="341280" cy="341280"/>
            <a:chOff x="2405160" y="4381560"/>
            <a:chExt cx="341280" cy="341280"/>
          </a:xfrm>
        </p:grpSpPr>
        <p:grpSp>
          <p:nvGrpSpPr>
            <p:cNvPr id="336" name=""/>
            <p:cNvGrpSpPr/>
            <p:nvPr/>
          </p:nvGrpSpPr>
          <p:grpSpPr>
            <a:xfrm>
              <a:off x="2457360" y="4446720"/>
              <a:ext cx="239760" cy="214200"/>
              <a:chOff x="2457360" y="4446720"/>
              <a:chExt cx="239760" cy="214200"/>
            </a:xfrm>
          </p:grpSpPr>
          <p:sp>
            <p:nvSpPr>
              <p:cNvPr id="337" name=""/>
              <p:cNvSpPr/>
              <p:nvPr/>
            </p:nvSpPr>
            <p:spPr>
              <a:xfrm>
                <a:off x="2470320" y="4446720"/>
                <a:ext cx="214200" cy="21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2457360" y="4446720"/>
                <a:ext cx="239760" cy="21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2405160" y="4381560"/>
              <a:ext cx="341280" cy="341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2116080" y="4559400"/>
            <a:ext cx="273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024000" y="4827240"/>
            <a:ext cx="349560" cy="349560"/>
            <a:chOff x="3024000" y="4827240"/>
            <a:chExt cx="349560" cy="349560"/>
          </a:xfrm>
        </p:grpSpPr>
        <p:grpSp>
          <p:nvGrpSpPr>
            <p:cNvPr id="342" name=""/>
            <p:cNvGrpSpPr/>
            <p:nvPr/>
          </p:nvGrpSpPr>
          <p:grpSpPr>
            <a:xfrm>
              <a:off x="3043080" y="4843440"/>
              <a:ext cx="309600" cy="309600"/>
              <a:chOff x="3043080" y="4843440"/>
              <a:chExt cx="309600" cy="309600"/>
            </a:xfrm>
          </p:grpSpPr>
          <p:sp>
            <p:nvSpPr>
              <p:cNvPr id="343" name=""/>
              <p:cNvSpPr/>
              <p:nvPr/>
            </p:nvSpPr>
            <p:spPr>
              <a:xfrm>
                <a:off x="3043080" y="4997520"/>
                <a:ext cx="30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197160" y="4843440"/>
                <a:ext cx="0" cy="30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3024000" y="4827240"/>
              <a:ext cx="349560" cy="349560"/>
            </a:xfrm>
            <a:custGeom>
              <a:avLst/>
              <a:gdLst/>
              <a:ahLst/>
              <a:rect l="0" t="0" r="r" b="b"/>
              <a:pathLst>
                <a:path fill="none" w="971" h="971">
                  <a:moveTo>
                    <a:pt x="150" y="822"/>
                  </a:moveTo>
                  <a:lnTo>
                    <a:pt x="150" y="822"/>
                  </a:lnTo>
                  <a:cubicBezTo>
                    <a:pt x="154" y="825"/>
                    <a:pt x="157" y="829"/>
                    <a:pt x="161" y="833"/>
                  </a:cubicBezTo>
                  <a:cubicBezTo>
                    <a:pt x="220" y="891"/>
                    <a:pt x="293" y="934"/>
                    <a:pt x="374" y="955"/>
                  </a:cubicBezTo>
                  <a:cubicBezTo>
                    <a:pt x="454" y="977"/>
                    <a:pt x="539" y="977"/>
                    <a:pt x="620" y="955"/>
                  </a:cubicBezTo>
                  <a:cubicBezTo>
                    <a:pt x="700" y="934"/>
                    <a:pt x="774" y="891"/>
                    <a:pt x="833" y="833"/>
                  </a:cubicBezTo>
                  <a:cubicBezTo>
                    <a:pt x="891" y="774"/>
                    <a:pt x="934" y="700"/>
                    <a:pt x="955" y="620"/>
                  </a:cubicBezTo>
                  <a:cubicBezTo>
                    <a:pt x="977" y="539"/>
                    <a:pt x="977" y="454"/>
                    <a:pt x="955" y="374"/>
                  </a:cubicBezTo>
                  <a:cubicBezTo>
                    <a:pt x="934" y="293"/>
                    <a:pt x="891" y="220"/>
                    <a:pt x="833" y="161"/>
                  </a:cubicBezTo>
                  <a:cubicBezTo>
                    <a:pt x="829" y="157"/>
                    <a:pt x="825" y="154"/>
                    <a:pt x="822" y="150"/>
                  </a:cubicBezTo>
                  <a:lnTo>
                    <a:pt x="822" y="150"/>
                  </a:lnTo>
                  <a:cubicBezTo>
                    <a:pt x="818" y="147"/>
                    <a:pt x="815" y="143"/>
                    <a:pt x="811" y="139"/>
                  </a:cubicBezTo>
                  <a:cubicBezTo>
                    <a:pt x="752" y="81"/>
                    <a:pt x="679" y="38"/>
                    <a:pt x="598" y="17"/>
                  </a:cubicBezTo>
                  <a:cubicBezTo>
                    <a:pt x="518" y="-5"/>
                    <a:pt x="433" y="-5"/>
                    <a:pt x="352" y="17"/>
                  </a:cubicBezTo>
                  <a:cubicBezTo>
                    <a:pt x="272" y="38"/>
                    <a:pt x="198" y="81"/>
                    <a:pt x="139" y="139"/>
                  </a:cubicBezTo>
                  <a:cubicBezTo>
                    <a:pt x="81" y="198"/>
                    <a:pt x="38" y="272"/>
                    <a:pt x="17" y="352"/>
                  </a:cubicBezTo>
                  <a:cubicBezTo>
                    <a:pt x="-5" y="433"/>
                    <a:pt x="-5" y="518"/>
                    <a:pt x="17" y="598"/>
                  </a:cubicBezTo>
                  <a:cubicBezTo>
                    <a:pt x="38" y="679"/>
                    <a:pt x="81" y="752"/>
                    <a:pt x="139" y="811"/>
                  </a:cubicBezTo>
                  <a:cubicBezTo>
                    <a:pt x="143" y="815"/>
                    <a:pt x="147" y="818"/>
                    <a:pt x="150" y="822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583000" y="4718160"/>
            <a:ext cx="433800" cy="289440"/>
          </a:xfrm>
          <a:custGeom>
            <a:avLst/>
            <a:gdLst/>
            <a:ahLst/>
            <a:rect l="0" t="0" r="r" b="b"/>
            <a:pathLst>
              <a:path fill="none" w="1205" h="804">
                <a:moveTo>
                  <a:pt x="0" y="0"/>
                </a:moveTo>
                <a:lnTo>
                  <a:pt x="0" y="804"/>
                </a:lnTo>
                <a:lnTo>
                  <a:pt x="1205" y="804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3592440" y="5280120"/>
            <a:ext cx="384120" cy="453960"/>
            <a:chOff x="3592440" y="5280120"/>
            <a:chExt cx="384120" cy="453960"/>
          </a:xfrm>
        </p:grpSpPr>
        <p:sp>
          <p:nvSpPr>
            <p:cNvPr id="348" name=""/>
            <p:cNvSpPr/>
            <p:nvPr/>
          </p:nvSpPr>
          <p:spPr>
            <a:xfrm>
              <a:off x="3592440" y="5315040"/>
              <a:ext cx="384120" cy="384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 txBox="1"/>
            <p:nvPr/>
          </p:nvSpPr>
          <p:spPr>
            <a:xfrm>
              <a:off x="3602160" y="5280120"/>
              <a:ext cx="36684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3189240" y="5165640"/>
            <a:ext cx="405000" cy="346320"/>
          </a:xfrm>
          <a:custGeom>
            <a:avLst/>
            <a:gdLst/>
            <a:ahLst/>
            <a:rect l="0" t="0" r="r" b="b"/>
            <a:pathLst>
              <a:path fill="none" w="1125" h="962">
                <a:moveTo>
                  <a:pt x="1125" y="962"/>
                </a:moveTo>
                <a:lnTo>
                  <a:pt x="0" y="962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3355920" y="3774960"/>
            <a:ext cx="341280" cy="341280"/>
            <a:chOff x="3355920" y="3774960"/>
            <a:chExt cx="341280" cy="341280"/>
          </a:xfrm>
        </p:grpSpPr>
        <p:grpSp>
          <p:nvGrpSpPr>
            <p:cNvPr id="352" name=""/>
            <p:cNvGrpSpPr/>
            <p:nvPr/>
          </p:nvGrpSpPr>
          <p:grpSpPr>
            <a:xfrm>
              <a:off x="3408480" y="3840120"/>
              <a:ext cx="239760" cy="214200"/>
              <a:chOff x="3408480" y="3840120"/>
              <a:chExt cx="239760" cy="214200"/>
            </a:xfrm>
          </p:grpSpPr>
          <p:sp>
            <p:nvSpPr>
              <p:cNvPr id="353" name=""/>
              <p:cNvSpPr/>
              <p:nvPr/>
            </p:nvSpPr>
            <p:spPr>
              <a:xfrm>
                <a:off x="3421080" y="3840120"/>
                <a:ext cx="214200" cy="21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3408480" y="3840120"/>
                <a:ext cx="239760" cy="21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3355920" y="3774960"/>
              <a:ext cx="341280" cy="341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"/>
          <p:cNvSpPr txBox="1"/>
          <p:nvPr/>
        </p:nvSpPr>
        <p:spPr>
          <a:xfrm>
            <a:off x="3402000" y="4275000"/>
            <a:ext cx="3477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3554280" y="4092480"/>
            <a:ext cx="0" cy="297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676600" y="3965400"/>
            <a:ext cx="658800" cy="1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362400" y="4992840"/>
            <a:ext cx="1227600" cy="519480"/>
          </a:xfrm>
          <a:custGeom>
            <a:avLst/>
            <a:gdLst/>
            <a:ahLst/>
            <a:rect l="0" t="0" r="r" b="b"/>
            <a:pathLst>
              <a:path fill="none" w="3410" h="1443">
                <a:moveTo>
                  <a:pt x="0" y="0"/>
                </a:moveTo>
                <a:lnTo>
                  <a:pt x="3410" y="0"/>
                </a:lnTo>
                <a:lnTo>
                  <a:pt x="3410" y="1443"/>
                </a:lnTo>
                <a:lnTo>
                  <a:pt x="1685" y="1443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4410000" y="3789360"/>
            <a:ext cx="342000" cy="342000"/>
            <a:chOff x="4410000" y="3789360"/>
            <a:chExt cx="342000" cy="342000"/>
          </a:xfrm>
        </p:grpSpPr>
        <p:grpSp>
          <p:nvGrpSpPr>
            <p:cNvPr id="361" name=""/>
            <p:cNvGrpSpPr/>
            <p:nvPr/>
          </p:nvGrpSpPr>
          <p:grpSpPr>
            <a:xfrm>
              <a:off x="4429080" y="3805200"/>
              <a:ext cx="309600" cy="309600"/>
              <a:chOff x="4429080" y="3805200"/>
              <a:chExt cx="309600" cy="309600"/>
            </a:xfrm>
          </p:grpSpPr>
          <p:sp>
            <p:nvSpPr>
              <p:cNvPr id="362" name=""/>
              <p:cNvSpPr/>
              <p:nvPr/>
            </p:nvSpPr>
            <p:spPr>
              <a:xfrm>
                <a:off x="4429080" y="3959280"/>
                <a:ext cx="30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583160" y="3805200"/>
                <a:ext cx="0" cy="30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4410000" y="3789360"/>
              <a:ext cx="342000" cy="342000"/>
            </a:xfrm>
            <a:custGeom>
              <a:avLst/>
              <a:gdLst/>
              <a:ahLst/>
              <a:rect l="0" t="0" r="r" b="b"/>
              <a:pathLst>
                <a:path fill="none" w="950" h="950">
                  <a:moveTo>
                    <a:pt x="139" y="811"/>
                  </a:moveTo>
                  <a:lnTo>
                    <a:pt x="139" y="811"/>
                  </a:lnTo>
                  <a:cubicBezTo>
                    <a:pt x="198" y="870"/>
                    <a:pt x="272" y="912"/>
                    <a:pt x="352" y="934"/>
                  </a:cubicBezTo>
                  <a:cubicBezTo>
                    <a:pt x="433" y="955"/>
                    <a:pt x="517" y="955"/>
                    <a:pt x="598" y="934"/>
                  </a:cubicBezTo>
                  <a:cubicBezTo>
                    <a:pt x="678" y="912"/>
                    <a:pt x="752" y="870"/>
                    <a:pt x="811" y="811"/>
                  </a:cubicBezTo>
                  <a:cubicBezTo>
                    <a:pt x="870" y="752"/>
                    <a:pt x="912" y="678"/>
                    <a:pt x="934" y="598"/>
                  </a:cubicBezTo>
                  <a:cubicBezTo>
                    <a:pt x="955" y="517"/>
                    <a:pt x="955" y="433"/>
                    <a:pt x="934" y="352"/>
                  </a:cubicBezTo>
                  <a:cubicBezTo>
                    <a:pt x="912" y="272"/>
                    <a:pt x="870" y="198"/>
                    <a:pt x="811" y="139"/>
                  </a:cubicBezTo>
                  <a:lnTo>
                    <a:pt x="811" y="139"/>
                  </a:lnTo>
                  <a:lnTo>
                    <a:pt x="811" y="139"/>
                  </a:lnTo>
                  <a:cubicBezTo>
                    <a:pt x="752" y="80"/>
                    <a:pt x="678" y="38"/>
                    <a:pt x="598" y="16"/>
                  </a:cubicBezTo>
                  <a:cubicBezTo>
                    <a:pt x="517" y="-5"/>
                    <a:pt x="433" y="-5"/>
                    <a:pt x="352" y="16"/>
                  </a:cubicBezTo>
                  <a:cubicBezTo>
                    <a:pt x="272" y="38"/>
                    <a:pt x="198" y="80"/>
                    <a:pt x="139" y="139"/>
                  </a:cubicBezTo>
                  <a:cubicBezTo>
                    <a:pt x="80" y="198"/>
                    <a:pt x="38" y="272"/>
                    <a:pt x="16" y="352"/>
                  </a:cubicBezTo>
                  <a:cubicBezTo>
                    <a:pt x="-5" y="433"/>
                    <a:pt x="-5" y="517"/>
                    <a:pt x="16" y="598"/>
                  </a:cubicBezTo>
                  <a:cubicBezTo>
                    <a:pt x="38" y="678"/>
                    <a:pt x="80" y="752"/>
                    <a:pt x="139" y="811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3705120" y="3962520"/>
            <a:ext cx="708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4589640" y="4121280"/>
            <a:ext cx="0" cy="876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516560" y="4921200"/>
            <a:ext cx="142920" cy="142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509920" y="3881520"/>
            <a:ext cx="142920" cy="142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5145120" y="3789360"/>
            <a:ext cx="349560" cy="349560"/>
            <a:chOff x="5145120" y="3789360"/>
            <a:chExt cx="349560" cy="349560"/>
          </a:xfrm>
        </p:grpSpPr>
        <p:grpSp>
          <p:nvGrpSpPr>
            <p:cNvPr id="370" name=""/>
            <p:cNvGrpSpPr/>
            <p:nvPr/>
          </p:nvGrpSpPr>
          <p:grpSpPr>
            <a:xfrm>
              <a:off x="5164200" y="3805200"/>
              <a:ext cx="309600" cy="309600"/>
              <a:chOff x="5164200" y="3805200"/>
              <a:chExt cx="309600" cy="309600"/>
            </a:xfrm>
          </p:grpSpPr>
          <p:sp>
            <p:nvSpPr>
              <p:cNvPr id="371" name=""/>
              <p:cNvSpPr/>
              <p:nvPr/>
            </p:nvSpPr>
            <p:spPr>
              <a:xfrm>
                <a:off x="5164200" y="3959280"/>
                <a:ext cx="30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318280" y="3805200"/>
                <a:ext cx="0" cy="30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5145120" y="3789360"/>
              <a:ext cx="349560" cy="349560"/>
            </a:xfrm>
            <a:custGeom>
              <a:avLst/>
              <a:gdLst/>
              <a:ahLst/>
              <a:rect l="0" t="0" r="r" b="b"/>
              <a:pathLst>
                <a:path fill="none" w="971" h="971">
                  <a:moveTo>
                    <a:pt x="150" y="822"/>
                  </a:moveTo>
                  <a:lnTo>
                    <a:pt x="150" y="822"/>
                  </a:lnTo>
                  <a:cubicBezTo>
                    <a:pt x="154" y="825"/>
                    <a:pt x="157" y="829"/>
                    <a:pt x="161" y="833"/>
                  </a:cubicBezTo>
                  <a:cubicBezTo>
                    <a:pt x="220" y="891"/>
                    <a:pt x="293" y="934"/>
                    <a:pt x="374" y="955"/>
                  </a:cubicBezTo>
                  <a:cubicBezTo>
                    <a:pt x="454" y="977"/>
                    <a:pt x="539" y="977"/>
                    <a:pt x="620" y="955"/>
                  </a:cubicBezTo>
                  <a:cubicBezTo>
                    <a:pt x="700" y="934"/>
                    <a:pt x="774" y="891"/>
                    <a:pt x="833" y="833"/>
                  </a:cubicBezTo>
                  <a:cubicBezTo>
                    <a:pt x="891" y="774"/>
                    <a:pt x="934" y="700"/>
                    <a:pt x="955" y="620"/>
                  </a:cubicBezTo>
                  <a:cubicBezTo>
                    <a:pt x="977" y="539"/>
                    <a:pt x="977" y="454"/>
                    <a:pt x="955" y="374"/>
                  </a:cubicBezTo>
                  <a:cubicBezTo>
                    <a:pt x="934" y="293"/>
                    <a:pt x="891" y="220"/>
                    <a:pt x="833" y="161"/>
                  </a:cubicBezTo>
                  <a:cubicBezTo>
                    <a:pt x="829" y="157"/>
                    <a:pt x="825" y="154"/>
                    <a:pt x="822" y="150"/>
                  </a:cubicBezTo>
                  <a:lnTo>
                    <a:pt x="822" y="150"/>
                  </a:lnTo>
                  <a:cubicBezTo>
                    <a:pt x="818" y="147"/>
                    <a:pt x="815" y="143"/>
                    <a:pt x="811" y="139"/>
                  </a:cubicBezTo>
                  <a:cubicBezTo>
                    <a:pt x="752" y="81"/>
                    <a:pt x="679" y="38"/>
                    <a:pt x="598" y="17"/>
                  </a:cubicBezTo>
                  <a:cubicBezTo>
                    <a:pt x="518" y="-5"/>
                    <a:pt x="433" y="-5"/>
                    <a:pt x="352" y="17"/>
                  </a:cubicBezTo>
                  <a:cubicBezTo>
                    <a:pt x="272" y="38"/>
                    <a:pt x="198" y="81"/>
                    <a:pt x="139" y="139"/>
                  </a:cubicBezTo>
                  <a:cubicBezTo>
                    <a:pt x="81" y="198"/>
                    <a:pt x="38" y="272"/>
                    <a:pt x="17" y="352"/>
                  </a:cubicBezTo>
                  <a:cubicBezTo>
                    <a:pt x="-5" y="433"/>
                    <a:pt x="-5" y="518"/>
                    <a:pt x="17" y="598"/>
                  </a:cubicBezTo>
                  <a:cubicBezTo>
                    <a:pt x="38" y="679"/>
                    <a:pt x="81" y="752"/>
                    <a:pt x="139" y="811"/>
                  </a:cubicBezTo>
                  <a:cubicBezTo>
                    <a:pt x="143" y="815"/>
                    <a:pt x="147" y="818"/>
                    <a:pt x="150" y="822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5713560" y="4241880"/>
            <a:ext cx="384120" cy="453960"/>
            <a:chOff x="5713560" y="4241880"/>
            <a:chExt cx="384120" cy="453960"/>
          </a:xfrm>
        </p:grpSpPr>
        <p:sp>
          <p:nvSpPr>
            <p:cNvPr id="375" name=""/>
            <p:cNvSpPr/>
            <p:nvPr/>
          </p:nvSpPr>
          <p:spPr>
            <a:xfrm>
              <a:off x="5713560" y="4276800"/>
              <a:ext cx="384120" cy="384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 txBox="1"/>
            <p:nvPr/>
          </p:nvSpPr>
          <p:spPr>
            <a:xfrm>
              <a:off x="5722920" y="4241880"/>
              <a:ext cx="36684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5310360" y="4127400"/>
            <a:ext cx="405000" cy="346320"/>
          </a:xfrm>
          <a:custGeom>
            <a:avLst/>
            <a:gdLst/>
            <a:ahLst/>
            <a:rect l="0" t="0" r="r" b="b"/>
            <a:pathLst>
              <a:path fill="none" w="1125" h="962">
                <a:moveTo>
                  <a:pt x="1125" y="962"/>
                </a:moveTo>
                <a:lnTo>
                  <a:pt x="0" y="962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483160" y="3954600"/>
            <a:ext cx="1227600" cy="519480"/>
          </a:xfrm>
          <a:custGeom>
            <a:avLst/>
            <a:gdLst/>
            <a:ahLst/>
            <a:rect l="0" t="0" r="r" b="b"/>
            <a:pathLst>
              <a:path fill="none" w="3410" h="1443">
                <a:moveTo>
                  <a:pt x="0" y="0"/>
                </a:moveTo>
                <a:lnTo>
                  <a:pt x="3410" y="0"/>
                </a:lnTo>
                <a:lnTo>
                  <a:pt x="3410" y="1443"/>
                </a:lnTo>
                <a:lnTo>
                  <a:pt x="1685" y="1443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637320" y="3882960"/>
            <a:ext cx="142920" cy="142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34000" y="3962520"/>
            <a:ext cx="4222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93760" y="2664000"/>
            <a:ext cx="5925960" cy="3314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7500960" y="4749840"/>
            <a:ext cx="186228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PLL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NCO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7862760" y="3786120"/>
            <a:ext cx="342000" cy="342000"/>
            <a:chOff x="7862760" y="3786120"/>
            <a:chExt cx="342000" cy="342000"/>
          </a:xfrm>
        </p:grpSpPr>
        <p:grpSp>
          <p:nvGrpSpPr>
            <p:cNvPr id="384" name=""/>
            <p:cNvGrpSpPr/>
            <p:nvPr/>
          </p:nvGrpSpPr>
          <p:grpSpPr>
            <a:xfrm>
              <a:off x="7881840" y="3801960"/>
              <a:ext cx="309600" cy="309600"/>
              <a:chOff x="7881840" y="3801960"/>
              <a:chExt cx="309600" cy="309600"/>
            </a:xfrm>
          </p:grpSpPr>
          <p:sp>
            <p:nvSpPr>
              <p:cNvPr id="385" name=""/>
              <p:cNvSpPr/>
              <p:nvPr/>
            </p:nvSpPr>
            <p:spPr>
              <a:xfrm>
                <a:off x="7881840" y="3956040"/>
                <a:ext cx="30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035920" y="3801960"/>
                <a:ext cx="0" cy="30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7862760" y="3786120"/>
              <a:ext cx="342000" cy="342000"/>
            </a:xfrm>
            <a:custGeom>
              <a:avLst/>
              <a:gdLst/>
              <a:ahLst/>
              <a:rect l="0" t="0" r="r" b="b"/>
              <a:pathLst>
                <a:path fill="none" w="950" h="950">
                  <a:moveTo>
                    <a:pt x="139" y="811"/>
                  </a:moveTo>
                  <a:lnTo>
                    <a:pt x="139" y="811"/>
                  </a:lnTo>
                  <a:cubicBezTo>
                    <a:pt x="198" y="870"/>
                    <a:pt x="272" y="912"/>
                    <a:pt x="352" y="934"/>
                  </a:cubicBezTo>
                  <a:cubicBezTo>
                    <a:pt x="433" y="955"/>
                    <a:pt x="517" y="955"/>
                    <a:pt x="598" y="934"/>
                  </a:cubicBezTo>
                  <a:cubicBezTo>
                    <a:pt x="678" y="912"/>
                    <a:pt x="752" y="870"/>
                    <a:pt x="811" y="811"/>
                  </a:cubicBezTo>
                  <a:cubicBezTo>
                    <a:pt x="870" y="752"/>
                    <a:pt x="912" y="678"/>
                    <a:pt x="934" y="598"/>
                  </a:cubicBezTo>
                  <a:cubicBezTo>
                    <a:pt x="955" y="517"/>
                    <a:pt x="955" y="433"/>
                    <a:pt x="934" y="352"/>
                  </a:cubicBezTo>
                  <a:cubicBezTo>
                    <a:pt x="912" y="272"/>
                    <a:pt x="870" y="198"/>
                    <a:pt x="811" y="139"/>
                  </a:cubicBezTo>
                  <a:lnTo>
                    <a:pt x="811" y="139"/>
                  </a:lnTo>
                  <a:lnTo>
                    <a:pt x="811" y="139"/>
                  </a:lnTo>
                  <a:cubicBezTo>
                    <a:pt x="752" y="80"/>
                    <a:pt x="678" y="38"/>
                    <a:pt x="598" y="16"/>
                  </a:cubicBezTo>
                  <a:cubicBezTo>
                    <a:pt x="517" y="-5"/>
                    <a:pt x="433" y="-5"/>
                    <a:pt x="352" y="16"/>
                  </a:cubicBezTo>
                  <a:cubicBezTo>
                    <a:pt x="272" y="38"/>
                    <a:pt x="198" y="80"/>
                    <a:pt x="139" y="139"/>
                  </a:cubicBezTo>
                  <a:cubicBezTo>
                    <a:pt x="80" y="198"/>
                    <a:pt x="38" y="272"/>
                    <a:pt x="16" y="352"/>
                  </a:cubicBezTo>
                  <a:cubicBezTo>
                    <a:pt x="-5" y="433"/>
                    <a:pt x="-5" y="517"/>
                    <a:pt x="16" y="598"/>
                  </a:cubicBezTo>
                  <a:cubicBezTo>
                    <a:pt x="38" y="678"/>
                    <a:pt x="80" y="752"/>
                    <a:pt x="139" y="811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8220240" y="3962520"/>
            <a:ext cx="11080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039160" y="2282760"/>
            <a:ext cx="0" cy="15080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977240" y="2144880"/>
            <a:ext cx="142920" cy="142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7240680" y="2287440"/>
            <a:ext cx="7891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D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F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8307360" y="3430440"/>
            <a:ext cx="4683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D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amble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990720" y="1371600"/>
            <a:ext cx="8224560" cy="3429000"/>
            <a:chOff x="990720" y="1371600"/>
            <a:chExt cx="8224560" cy="3429000"/>
          </a:xfrm>
        </p:grpSpPr>
        <p:pic>
          <p:nvPicPr>
            <p:cNvPr id="398" name="" descr=""/>
            <p:cNvPicPr/>
            <p:nvPr/>
          </p:nvPicPr>
          <p:blipFill>
            <a:blip r:embed="rId1"/>
            <a:stretch/>
          </p:blipFill>
          <p:spPr>
            <a:xfrm>
              <a:off x="990720" y="2954160"/>
              <a:ext cx="705492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" descr=""/>
            <p:cNvPicPr/>
            <p:nvPr/>
          </p:nvPicPr>
          <p:blipFill>
            <a:blip r:embed="rId2"/>
            <a:stretch/>
          </p:blipFill>
          <p:spPr>
            <a:xfrm>
              <a:off x="1004760" y="1371600"/>
              <a:ext cx="8210520" cy="117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 flipV="1">
              <a:off x="1052640" y="2217600"/>
              <a:ext cx="0" cy="824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4780080" y="2462040"/>
              <a:ext cx="4343400" cy="54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"/>
          <p:cNvSpPr txBox="1"/>
          <p:nvPr/>
        </p:nvSpPr>
        <p:spPr>
          <a:xfrm>
            <a:off x="2058840" y="5183280"/>
            <a:ext cx="596268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64=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0xFF 0xF0 0xF3 0x30 0xC0 0x0F 0x0C 0xC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Impulse response Est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729400" y="3121200"/>
            <a:ext cx="0" cy="183492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789360" y="3139920"/>
            <a:ext cx="0" cy="129240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997600" y="3130560"/>
            <a:ext cx="0" cy="129204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943280" y="2509920"/>
            <a:ext cx="1851120" cy="633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784680" y="2509920"/>
            <a:ext cx="2217600" cy="633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427640" y="2668680"/>
            <a:ext cx="914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787920" y="4414680"/>
            <a:ext cx="2219400" cy="399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344840" y="4421160"/>
            <a:ext cx="11523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64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92600" y="3633840"/>
            <a:ext cx="343080" cy="2858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56160" y="3460680"/>
            <a:ext cx="5144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~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947960" y="3727440"/>
            <a:ext cx="2225520" cy="399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300480" y="3551400"/>
            <a:ext cx="0" cy="166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130560" y="3271680"/>
            <a:ext cx="341280" cy="2890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2982960" y="3108240"/>
            <a:ext cx="5144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~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308400" y="3147840"/>
            <a:ext cx="0" cy="122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992920" y="2509920"/>
            <a:ext cx="1944720" cy="633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6060960" y="2503440"/>
            <a:ext cx="167148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 n-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SEQ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724360" y="4935600"/>
            <a:ext cx="2216160" cy="398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6821640" y="4776840"/>
            <a:ext cx="0" cy="168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935840" y="3139920"/>
            <a:ext cx="0" cy="178596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4859280" y="3902040"/>
            <a:ext cx="0" cy="531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859280" y="3144960"/>
            <a:ext cx="0" cy="480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952640" y="31719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639880" y="5837400"/>
            <a:ext cx="5046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869000" y="5257800"/>
            <a:ext cx="0" cy="5857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432480" y="5789520"/>
            <a:ext cx="103320" cy="95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4280" bIns="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28840" y="5789520"/>
            <a:ext cx="101520" cy="95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4280" bIns="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508200" y="5789520"/>
            <a:ext cx="101520" cy="95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4280" bIns="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154560" y="5789520"/>
            <a:ext cx="101520" cy="95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4280" bIns="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48240" y="5789520"/>
            <a:ext cx="100080" cy="95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4280" bIns="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105520" y="5789520"/>
            <a:ext cx="100080" cy="95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4280" bIns="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713120" y="5845320"/>
            <a:ext cx="3301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5000760" y="5845320"/>
            <a:ext cx="3319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308640" y="5856120"/>
            <a:ext cx="2412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2924280" y="5856120"/>
            <a:ext cx="5716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743360" y="4861080"/>
            <a:ext cx="3031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121200" y="5443560"/>
            <a:ext cx="3286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378240" y="5443560"/>
            <a:ext cx="3301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427640" y="5433840"/>
            <a:ext cx="3319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975200" y="5440320"/>
            <a:ext cx="3333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026040" y="5430960"/>
            <a:ext cx="3333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6303960" y="5430960"/>
            <a:ext cx="3319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662880" y="4643280"/>
            <a:ext cx="1469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139240" y="4653000"/>
            <a:ext cx="0" cy="735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4541760" y="378612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552920" y="3795840"/>
            <a:ext cx="0" cy="473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3435480" y="4267080"/>
            <a:ext cx="1116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449520" y="4276800"/>
            <a:ext cx="0" cy="1057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459240" y="5334120"/>
            <a:ext cx="1359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1738440" y="3417840"/>
            <a:ext cx="1390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782720" y="3438360"/>
            <a:ext cx="0" cy="1509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808680" y="3149640"/>
            <a:ext cx="0" cy="1336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7710480" y="5594400"/>
            <a:ext cx="3142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5459400" y="5318280"/>
            <a:ext cx="4096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808440" y="5318280"/>
            <a:ext cx="4096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771560" y="4943520"/>
            <a:ext cx="1478160" cy="900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6626160" y="5369040"/>
            <a:ext cx="1519200" cy="398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175280" y="3182760"/>
            <a:ext cx="0" cy="55908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5416560" y="3276720"/>
            <a:ext cx="153972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5006880" y="3666960"/>
            <a:ext cx="579600" cy="100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168960" y="3666960"/>
            <a:ext cx="560520" cy="898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3467160" y="3392640"/>
            <a:ext cx="1954080" cy="117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648480" y="4498920"/>
            <a:ext cx="34308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6518160" y="4344840"/>
            <a:ext cx="5126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~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6326280" y="4954680"/>
            <a:ext cx="11523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64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2446200" y="3735360"/>
            <a:ext cx="11523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64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2098800" y="2503440"/>
            <a:ext cx="167148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t m-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SEQ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1982880" y="1220760"/>
            <a:ext cx="596268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64=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0xFF 0xF0 0xF3 0x30 0xC0 0x0F 0x0C 0xC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004080" y="2039760"/>
            <a:ext cx="0" cy="466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3794040" y="2039760"/>
            <a:ext cx="0" cy="466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840120" y="2273400"/>
            <a:ext cx="213048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162320" y="2046240"/>
            <a:ext cx="134460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371840" y="5856120"/>
            <a:ext cx="4539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lation function of SEQ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42788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tTime and SIFS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6642000" cy="336564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 txBox="1"/>
          <p:nvPr/>
        </p:nvSpPr>
        <p:spPr>
          <a:xfrm>
            <a:off x="249120" y="1143000"/>
            <a:ext cx="938844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tTime=CCATime+RxTxTurnaroundTime+AirPropagationTime+MACProcessing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249120" y="1676520"/>
            <a:ext cx="912168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FSTime=RxRFDelay+RxPLCPDelay+MACProcessingDelay+RxTxTurnaround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1584360" y="5629320"/>
            <a:ext cx="278136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tTime=8.9us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5105520" y="5638680"/>
            <a:ext cx="29192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FSTime=7.4us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-Rate Feature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9880" y="1447920"/>
            <a:ext cx="832788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A mech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728640" y="2098800"/>
            <a:ext cx="81723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A Detection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03584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Allocation in 5.15-5.25GHz b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809316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Allocation in 5.25-5.35GHz b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72496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Allocation in 5.725-5.825GHz b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918216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ndix: PER versus Phase no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7023240" cy="460044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 txBox="1"/>
          <p:nvPr/>
        </p:nvSpPr>
        <p:spPr>
          <a:xfrm>
            <a:off x="228600" y="62485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495680" y="61722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59436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ndix: PER v.s. Narrow-band No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95952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3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ndix: PER v.s. CW-j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711216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ndix: PER v.s. Alternate Cha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711216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ndix: PER v.s. Adjacent Cha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57864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in AWGN cha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688356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ndix: PER v.s. Co-Cha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695952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33520" y="533520"/>
            <a:ext cx="876312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in Fading with Gaussian Noise (64byte-packet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imple Implem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718812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33520" y="533520"/>
            <a:ext cx="89154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in Fading with Gaussian Noise (1kbyte-packet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imple Implem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26444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62120" y="762120"/>
            <a:ext cx="8420040" cy="9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versus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64byte-Packet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imple Implem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65496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533520"/>
            <a:ext cx="8420040" cy="9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versus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kbyte-Packet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imple Implem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726444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62120" y="60948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in Fading with Gaussian Noise without FEC (64byte-packet) (Complex Implem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642636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azuhiro Okanoue</dc:creator>
  <dc:description/>
  <dc:language>en-US</dc:language>
  <cp:lastModifiedBy>Kazuhiro Okanoue</cp:lastModifiedBy>
  <cp:revision>0</cp:revision>
  <dc:subject/>
  <dc:title>Proposal of QPSK Modulation  for 5GHz-band Wireless LAN  January, 1998  Kazuhiro OKANOUE, Yoshikazu KAKURA, Tomoki OHSAWA  NEC Corporation 4-1-1, Miyazaki, Miyamae-ku, Kawasaki, 216 Japan Tel: +81 44 856 2255 Fax: +81 44 856 2230 E-mail: {okanoue,kakura,o</dc:title>
</cp:coreProperties>
</file>