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8.wmf" ContentType="image/x-wmf"/>
  <Override PartName="/ppt/media/image27.wmf" ContentType="image/x-wmf"/>
  <Override PartName="/ppt/media/image11.wmf" ContentType="image/x-wmf"/>
  <Override PartName="/ppt/media/image3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17.wmf" ContentType="image/x-wmf"/>
  <Override PartName="/ppt/media/image9.png" ContentType="image/png"/>
  <Override PartName="/ppt/media/image13.wmf" ContentType="image/x-wmf"/>
  <Override PartName="/ppt/media/image5.png" ContentType="image/png"/>
  <Override PartName="/ppt/media/image30.wmf" ContentType="image/x-wmf"/>
  <Override PartName="/ppt/media/image31.wmf" ContentType="image/x-wmf"/>
  <Override PartName="/ppt/media/image32.wmf" ContentType="image/x-wmf"/>
  <Override PartName="/ppt/media/image33.wmf" ContentType="image/x-wmf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media/image25.wmf" ContentType="image/x-wmf"/>
  <Override PartName="/ppt/media/image2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1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2389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vantages of Code Channe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image" Target="../media/image1.png"/><Relationship Id="rId19" Type="http://schemas.openxmlformats.org/officeDocument/2006/relationships/image" Target="../media/image2.png"/><Relationship Id="rId20" Type="http://schemas.openxmlformats.org/officeDocument/2006/relationships/image" Target="../media/image3.png"/><Relationship Id="rId21" Type="http://schemas.openxmlformats.org/officeDocument/2006/relationships/image" Target="../media/image4.png"/><Relationship Id="rId22" Type="http://schemas.openxmlformats.org/officeDocument/2006/relationships/image" Target="../media/image5.png"/><Relationship Id="rId23" Type="http://schemas.openxmlformats.org/officeDocument/2006/relationships/image" Target="../media/image6.png"/><Relationship Id="rId24" Type="http://schemas.openxmlformats.org/officeDocument/2006/relationships/image" Target="../media/image7.png"/><Relationship Id="rId25" Type="http://schemas.openxmlformats.org/officeDocument/2006/relationships/image" Target="../media/image8.png"/><Relationship Id="rId26" Type="http://schemas.openxmlformats.org/officeDocument/2006/relationships/image" Target="../media/image9.png"/><Relationship Id="rId2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228600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dvantages of Code Channe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371600" y="3886200"/>
            <a:ext cx="64008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aharu(Mas) M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rion Co., L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yo, Ja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-mail : masmori@ms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685800"/>
            <a:ext cx="7772400" cy="8380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ditions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 The channel access model is based on 802.11 (P802.11D6.1 pp 86-pp 98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) DATA type is INF_DATA and ACK on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) The INF_DATA packets are generated by Poisson distrib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4) The radio propagation characteristic is ideal, namely Frame Error is caused by collisions on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) No hidden node is conside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6) INF packets consist of same information with fixed leng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) Header length not conside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8) The positions of STAs are fix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) Data flow direction : AP to STAs (config. 1 and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s to AP (config.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onditions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791676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685800"/>
            <a:ext cx="7772400" cy="6094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6858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stem Configuration -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1828800"/>
            <a:ext cx="5562720" cy="2819520"/>
          </a:xfrm>
          <a:prstGeom prst="ellipse">
            <a:avLst/>
          </a:prstGeom>
          <a:noFill/>
          <a:ln w="25560">
            <a:solidFill>
              <a:srgbClr val="000000"/>
            </a:solidFill>
            <a:custDash>
              <a:ds d="198592" sp="198592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828800"/>
            <a:ext cx="5562720" cy="2819520"/>
          </a:xfrm>
          <a:prstGeom prst="ellipse">
            <a:avLst/>
          </a:prstGeom>
          <a:noFill/>
          <a:ln w="25560">
            <a:solidFill>
              <a:srgbClr val="000000"/>
            </a:solidFill>
            <a:custDash>
              <a:ds d="198592" sp="198592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279440" y="3032280"/>
            <a:ext cx="7102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470560" y="1584360"/>
            <a:ext cx="1030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A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879640" y="1584360"/>
            <a:ext cx="1030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A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355760" y="5005440"/>
            <a:ext cx="6669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n AP belongs to BSA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An AP belongs to BSA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tations belongs to BSA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❍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Stations belongs to BSA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279440" y="2765520"/>
            <a:ext cx="678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1    STA1-1  STA2-4    STA1-2   STA2-3   STA1-3   STA2-2  STA1-4   STA2-1     A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279440" y="3306600"/>
            <a:ext cx="6808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m   2m      4m       6m      8m     10m   12m   14m    16m    18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roughput under config. -1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(INF Length = 4000 bi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0" y="2133720"/>
            <a:ext cx="5867640" cy="2743560"/>
          </a:xfrm>
          <a:custGeom>
            <a:avLst/>
            <a:gdLst/>
            <a:ahLst/>
            <a:rect l="0" t="0" r="r" b="b"/>
            <a:pathLst>
              <a:path fill="none" w="16299" h="7621">
                <a:moveTo>
                  <a:pt x="0" y="7621"/>
                </a:moveTo>
                <a:lnTo>
                  <a:pt x="4233" y="0"/>
                </a:lnTo>
                <a:lnTo>
                  <a:pt x="16299" y="0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942840" y="1890720"/>
            <a:ext cx="7402680" cy="41338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4708440" y="2270160"/>
            <a:ext cx="3368520" cy="91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/U is a parameter of the radio, just the same as -Mj(dB) which is jamming marg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52680" y="2286000"/>
            <a:ext cx="1295640" cy="15228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97480" y="4437000"/>
            <a:ext cx="3289320" cy="968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d fine line :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freq. and code 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d thick li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ifferent freq. chann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shed li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ame freq. Ch. and Different code chann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841320" y="480960"/>
            <a:ext cx="7453440" cy="45147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1355760" y="4799160"/>
            <a:ext cx="6421320" cy="106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band Modul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16 bit Bi-Orthogonal keying * 16 chips PN seq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rier Modulatio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P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ision Threshol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ER&lt;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e of Jamm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C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32280" y="1812960"/>
            <a:ext cx="2803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Mj ~ -2.5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346480" y="669960"/>
            <a:ext cx="4772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mming margin (Mj) of JX-4000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roughput under config. -1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(INF Length = 12000 bi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09680" y="2133720"/>
            <a:ext cx="5867640" cy="2895840"/>
          </a:xfrm>
          <a:custGeom>
            <a:avLst/>
            <a:gdLst/>
            <a:ahLst/>
            <a:rect l="0" t="0" r="r" b="b"/>
            <a:pathLst>
              <a:path fill="none" w="16299" h="8044">
                <a:moveTo>
                  <a:pt x="0" y="8044"/>
                </a:moveTo>
                <a:lnTo>
                  <a:pt x="5926" y="0"/>
                </a:lnTo>
                <a:lnTo>
                  <a:pt x="16299" y="0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28720" y="1860480"/>
            <a:ext cx="7478640" cy="41958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1663560" y="2379600"/>
            <a:ext cx="3594240" cy="109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d fine line 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freq. and code 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d thick lin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ifferent freq. chan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shed lin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ame freq. Ch. and Different code chan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622840" y="2544840"/>
            <a:ext cx="2519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MA-CA sat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86400" y="2133720"/>
            <a:ext cx="228600" cy="45720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of Packet Success under config. -1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Z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-5d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035000" y="1905120"/>
            <a:ext cx="798048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100160" y="1841400"/>
            <a:ext cx="7545240" cy="42321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of Packet Success under config. -1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Z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0d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535720" y="2743200"/>
            <a:ext cx="3227400" cy="7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d li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ame freq. and code chann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shed lin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ame freq. Ch. and Different code chann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of Packet Success under config. -1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Z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5d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176480" y="2070000"/>
            <a:ext cx="754524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685800"/>
            <a:ext cx="7772400" cy="6094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6858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stem Configuration -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1828800"/>
            <a:ext cx="3505320" cy="2819520"/>
          </a:xfrm>
          <a:prstGeom prst="ellipse">
            <a:avLst/>
          </a:prstGeom>
          <a:noFill/>
          <a:ln w="25560">
            <a:solidFill>
              <a:srgbClr val="000000"/>
            </a:solidFill>
            <a:custDash>
              <a:ds d="198592" sp="198592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648320" y="1828800"/>
            <a:ext cx="3429000" cy="2819520"/>
          </a:xfrm>
          <a:prstGeom prst="ellipse">
            <a:avLst/>
          </a:prstGeom>
          <a:noFill/>
          <a:ln w="25560">
            <a:solidFill>
              <a:srgbClr val="000000"/>
            </a:solidFill>
            <a:custDash>
              <a:ds d="198592" sp="198592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279440" y="3032280"/>
            <a:ext cx="7102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470560" y="1584360"/>
            <a:ext cx="1030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A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879640" y="1584360"/>
            <a:ext cx="1030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A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355760" y="5005440"/>
            <a:ext cx="6669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n AP belongs to BSA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An AP belongs to BSA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➡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tations belongs to BSA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❍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Stations belongs to BSA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279440" y="2765520"/>
            <a:ext cx="6788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1    STA1-1  STA1-2    STA1-3   STA1-4   STA2-4   STA2-3  STA2-2   STA2-1     A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279440" y="3306600"/>
            <a:ext cx="6808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m   2m      4m       6m      8m     10m   12m   14m    16m    18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685800"/>
            <a:ext cx="7772400" cy="8380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bjectives of the Docu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676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ntional id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de Channelization of the direct sequence system is not useful because of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ar-Far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enough sep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lexity of the CDMA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document is an introduction to overcome conventional ideas of the channelization and to prove usefulness of Code Channeliz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roughput under config. -2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(INF Length = 4000 bi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133720" y="2057400"/>
            <a:ext cx="5410440" cy="2819880"/>
          </a:xfrm>
          <a:custGeom>
            <a:avLst/>
            <a:gdLst/>
            <a:ahLst/>
            <a:rect l="0" t="0" r="r" b="b"/>
            <a:pathLst>
              <a:path fill="none" w="15029" h="7833">
                <a:moveTo>
                  <a:pt x="0" y="7833"/>
                </a:moveTo>
                <a:lnTo>
                  <a:pt x="4656" y="0"/>
                </a:lnTo>
                <a:lnTo>
                  <a:pt x="15029" y="0"/>
                </a:lnTo>
              </a:path>
            </a:pathLst>
          </a:custGeom>
          <a:ln w="38160">
            <a:solidFill>
              <a:srgbClr val="000000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90560" y="1828800"/>
            <a:ext cx="755496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66880" y="2019240"/>
            <a:ext cx="7554960" cy="41832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of Packet Success under config. -2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INF Length = 4000 bit,    Z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-1d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649520" y="4419720"/>
            <a:ext cx="3760920" cy="851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d lin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ame freq. and code chan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shed lin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ame freq. Ch. and Different code chan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30080" y="1752480"/>
            <a:ext cx="7978680" cy="42591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of Packet Success under config. -2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INF Length = 4000 bit,    Z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0d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649520" y="4495680"/>
            <a:ext cx="3760920" cy="851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d lin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ame freq. and code chan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shed lin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ame freq. Ch. and Different code chan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06400" y="1828800"/>
            <a:ext cx="8131320" cy="4259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of Packet Success under config. -2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INF Length = 4000 bit,    Z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1d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649520" y="4495680"/>
            <a:ext cx="3760920" cy="851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d lin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ame freq. and code chan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shed lin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ame freq. Ch. and Different code chan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of Packet Success under config. -2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INF Length = 4000 bit,    Z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2d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920880" y="1828800"/>
            <a:ext cx="8055000" cy="42591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1801800" y="4572000"/>
            <a:ext cx="3760920" cy="851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d lin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ame freq. and code chan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shed lin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ame freq. Ch. and Different code chan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bability of Packet Success under config. -2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INF Length = 4000 bit,    Z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= 5d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15960" y="1828800"/>
            <a:ext cx="8055000" cy="42591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 txBox="1"/>
          <p:nvPr/>
        </p:nvSpPr>
        <p:spPr>
          <a:xfrm>
            <a:off x="1573200" y="4648320"/>
            <a:ext cx="3760920" cy="851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d lin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ame freq. and code chan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shed lin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ame freq. Ch. and Different code chann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Prominent applications of code channel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143000" y="4572000"/>
            <a:ext cx="3429360" cy="914760"/>
            <a:chOff x="1143000" y="4572000"/>
            <a:chExt cx="3429360" cy="914760"/>
          </a:xfrm>
        </p:grpSpPr>
        <p:sp>
          <p:nvSpPr>
            <p:cNvPr id="219" name=""/>
            <p:cNvSpPr/>
            <p:nvPr/>
          </p:nvSpPr>
          <p:spPr>
            <a:xfrm>
              <a:off x="1752480" y="457200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3" y="0"/>
                  </a:lnTo>
                  <a:lnTo>
                    <a:pt x="0" y="848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447920" y="487692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2" y="0"/>
                  </a:lnTo>
                  <a:lnTo>
                    <a:pt x="0" y="848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143000" y="518148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2" y="0"/>
                  </a:lnTo>
                  <a:lnTo>
                    <a:pt x="0" y="848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90920" y="457200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3" y="0"/>
                  </a:lnTo>
                  <a:lnTo>
                    <a:pt x="0" y="848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86000" y="487692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2" y="0"/>
                  </a:lnTo>
                  <a:lnTo>
                    <a:pt x="0" y="848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81080" y="518148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2" y="0"/>
                  </a:lnTo>
                  <a:lnTo>
                    <a:pt x="0" y="848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29000" y="457200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2" y="0"/>
                  </a:lnTo>
                  <a:lnTo>
                    <a:pt x="0" y="848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24080" y="487692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2" y="0"/>
                  </a:lnTo>
                  <a:lnTo>
                    <a:pt x="0" y="848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819520" y="518148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3" y="0"/>
                  </a:lnTo>
                  <a:lnTo>
                    <a:pt x="0" y="848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143000" y="3809880"/>
            <a:ext cx="3429360" cy="915120"/>
            <a:chOff x="1143000" y="3809880"/>
            <a:chExt cx="3429360" cy="915120"/>
          </a:xfrm>
        </p:grpSpPr>
        <p:sp>
          <p:nvSpPr>
            <p:cNvPr id="229" name=""/>
            <p:cNvSpPr/>
            <p:nvPr/>
          </p:nvSpPr>
          <p:spPr>
            <a:xfrm>
              <a:off x="1752480" y="380988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3" y="0"/>
                  </a:lnTo>
                  <a:lnTo>
                    <a:pt x="0" y="848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47920" y="411480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2" y="0"/>
                  </a:lnTo>
                  <a:lnTo>
                    <a:pt x="0" y="848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43000" y="441972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2" y="0"/>
                  </a:lnTo>
                  <a:lnTo>
                    <a:pt x="0" y="848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590920" y="380988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3" y="0"/>
                  </a:lnTo>
                  <a:lnTo>
                    <a:pt x="0" y="848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286000" y="411480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2" y="0"/>
                  </a:lnTo>
                  <a:lnTo>
                    <a:pt x="0" y="848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981080" y="441972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2" y="0"/>
                  </a:lnTo>
                  <a:lnTo>
                    <a:pt x="0" y="848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429000" y="380988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2" y="0"/>
                  </a:lnTo>
                  <a:lnTo>
                    <a:pt x="0" y="848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24080" y="411480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2" y="0"/>
                  </a:lnTo>
                  <a:lnTo>
                    <a:pt x="0" y="848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19520" y="441972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3" y="0"/>
                  </a:lnTo>
                  <a:lnTo>
                    <a:pt x="0" y="848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1143000" y="3048120"/>
            <a:ext cx="3429360" cy="914760"/>
            <a:chOff x="1143000" y="3048120"/>
            <a:chExt cx="3429360" cy="914760"/>
          </a:xfrm>
        </p:grpSpPr>
        <p:sp>
          <p:nvSpPr>
            <p:cNvPr id="239" name=""/>
            <p:cNvSpPr/>
            <p:nvPr/>
          </p:nvSpPr>
          <p:spPr>
            <a:xfrm>
              <a:off x="1752480" y="304812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3" y="0"/>
                  </a:lnTo>
                  <a:lnTo>
                    <a:pt x="0" y="848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447920" y="335268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2" y="0"/>
                  </a:lnTo>
                  <a:lnTo>
                    <a:pt x="0" y="848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43000" y="365760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2" y="0"/>
                  </a:lnTo>
                  <a:lnTo>
                    <a:pt x="0" y="848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90920" y="304812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3" y="0"/>
                  </a:lnTo>
                  <a:lnTo>
                    <a:pt x="0" y="848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86000" y="335268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2" y="0"/>
                  </a:lnTo>
                  <a:lnTo>
                    <a:pt x="0" y="848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81080" y="365760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2" y="0"/>
                  </a:lnTo>
                  <a:lnTo>
                    <a:pt x="0" y="848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29000" y="304812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2" y="0"/>
                  </a:lnTo>
                  <a:lnTo>
                    <a:pt x="0" y="848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24080" y="335268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2" y="0"/>
                  </a:lnTo>
                  <a:lnTo>
                    <a:pt x="0" y="848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19520" y="365760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3" y="0"/>
                  </a:lnTo>
                  <a:lnTo>
                    <a:pt x="0" y="848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 txBox="1"/>
          <p:nvPr/>
        </p:nvSpPr>
        <p:spPr>
          <a:xfrm>
            <a:off x="822240" y="3184560"/>
            <a:ext cx="5223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822240" y="4022640"/>
            <a:ext cx="5223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22240" y="4784760"/>
            <a:ext cx="5223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219320" y="2362320"/>
            <a:ext cx="3429360" cy="914760"/>
            <a:chOff x="1219320" y="2362320"/>
            <a:chExt cx="3429360" cy="914760"/>
          </a:xfrm>
        </p:grpSpPr>
        <p:sp>
          <p:nvSpPr>
            <p:cNvPr id="252" name=""/>
            <p:cNvSpPr/>
            <p:nvPr/>
          </p:nvSpPr>
          <p:spPr>
            <a:xfrm>
              <a:off x="1828800" y="236232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2" y="0"/>
                  </a:lnTo>
                  <a:lnTo>
                    <a:pt x="0" y="848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23880" y="266688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3" y="0"/>
                  </a:lnTo>
                  <a:lnTo>
                    <a:pt x="0" y="848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19320" y="297180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2" y="0"/>
                  </a:lnTo>
                  <a:lnTo>
                    <a:pt x="0" y="848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66880" y="236232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2" y="0"/>
                  </a:lnTo>
                  <a:lnTo>
                    <a:pt x="0" y="848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62320" y="266688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2" y="0"/>
                  </a:lnTo>
                  <a:lnTo>
                    <a:pt x="0" y="848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057400" y="297180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2" y="0"/>
                  </a:lnTo>
                  <a:lnTo>
                    <a:pt x="0" y="848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05320" y="236232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3" y="0"/>
                  </a:lnTo>
                  <a:lnTo>
                    <a:pt x="0" y="848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200400" y="266688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2" y="0"/>
                  </a:lnTo>
                  <a:lnTo>
                    <a:pt x="0" y="848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95480" y="297180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2" y="0"/>
                  </a:lnTo>
                  <a:lnTo>
                    <a:pt x="0" y="848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"/>
          <p:cNvSpPr txBox="1"/>
          <p:nvPr/>
        </p:nvSpPr>
        <p:spPr>
          <a:xfrm>
            <a:off x="822240" y="2422440"/>
            <a:ext cx="522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56160" y="2498760"/>
            <a:ext cx="1243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 #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56160" y="3260880"/>
            <a:ext cx="1243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 #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56160" y="4022640"/>
            <a:ext cx="1243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 #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56160" y="4784760"/>
            <a:ext cx="1243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927760" y="2133720"/>
            <a:ext cx="2606760" cy="37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 Channelization is useful especially in order to obtai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loor-to-floor isolati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om-to-room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olati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ffectiveness has been proved through many applications of Clarion’s SS products in Jap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85800" y="685800"/>
            <a:ext cx="7772400" cy="60948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85800" y="6858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stem Configuration - 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143000" y="1828800"/>
            <a:ext cx="3505320" cy="2819520"/>
          </a:xfrm>
          <a:prstGeom prst="ellipse">
            <a:avLst/>
          </a:prstGeom>
          <a:noFill/>
          <a:ln w="25560">
            <a:solidFill>
              <a:srgbClr val="000000"/>
            </a:solidFill>
            <a:custDash>
              <a:ds d="198592" sp="198592"/>
            </a:custDash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279440" y="3032280"/>
            <a:ext cx="3368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879640" y="1584360"/>
            <a:ext cx="1581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279440" y="2765520"/>
            <a:ext cx="3227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      STA1      STA2       STA3     STA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267080" y="2209680"/>
            <a:ext cx="152424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95680" y="33526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191120" y="3962520"/>
            <a:ext cx="1676160" cy="45720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45240" y="1576440"/>
            <a:ext cx="2653200" cy="3281760"/>
          </a:xfrm>
          <a:custGeom>
            <a:avLst/>
            <a:gdLst/>
            <a:ahLst/>
            <a:rect l="0" t="0" r="r" b="b"/>
            <a:pathLst>
              <a:path fill="none" w="7370" h="9116">
                <a:moveTo>
                  <a:pt x="339" y="912"/>
                </a:moveTo>
                <a:lnTo>
                  <a:pt x="238" y="1177"/>
                </a:lnTo>
                <a:lnTo>
                  <a:pt x="189" y="1318"/>
                </a:lnTo>
                <a:lnTo>
                  <a:pt x="97" y="1415"/>
                </a:lnTo>
                <a:lnTo>
                  <a:pt x="0" y="1508"/>
                </a:lnTo>
                <a:lnTo>
                  <a:pt x="0" y="1605"/>
                </a:lnTo>
                <a:lnTo>
                  <a:pt x="0" y="1746"/>
                </a:lnTo>
                <a:lnTo>
                  <a:pt x="0" y="1887"/>
                </a:lnTo>
                <a:lnTo>
                  <a:pt x="0" y="2125"/>
                </a:lnTo>
                <a:lnTo>
                  <a:pt x="48" y="2266"/>
                </a:lnTo>
                <a:lnTo>
                  <a:pt x="189" y="2408"/>
                </a:lnTo>
                <a:lnTo>
                  <a:pt x="238" y="2549"/>
                </a:lnTo>
                <a:lnTo>
                  <a:pt x="330" y="2690"/>
                </a:lnTo>
                <a:lnTo>
                  <a:pt x="427" y="2832"/>
                </a:lnTo>
                <a:lnTo>
                  <a:pt x="520" y="2929"/>
                </a:lnTo>
                <a:lnTo>
                  <a:pt x="612" y="3114"/>
                </a:lnTo>
                <a:lnTo>
                  <a:pt x="661" y="3211"/>
                </a:lnTo>
                <a:lnTo>
                  <a:pt x="661" y="3352"/>
                </a:lnTo>
                <a:lnTo>
                  <a:pt x="612" y="3493"/>
                </a:lnTo>
                <a:lnTo>
                  <a:pt x="612" y="3590"/>
                </a:lnTo>
                <a:lnTo>
                  <a:pt x="612" y="3731"/>
                </a:lnTo>
                <a:lnTo>
                  <a:pt x="520" y="3921"/>
                </a:lnTo>
                <a:lnTo>
                  <a:pt x="427" y="4062"/>
                </a:lnTo>
                <a:lnTo>
                  <a:pt x="379" y="4203"/>
                </a:lnTo>
                <a:lnTo>
                  <a:pt x="379" y="4344"/>
                </a:lnTo>
                <a:lnTo>
                  <a:pt x="379" y="4485"/>
                </a:lnTo>
                <a:lnTo>
                  <a:pt x="427" y="4626"/>
                </a:lnTo>
                <a:lnTo>
                  <a:pt x="520" y="4723"/>
                </a:lnTo>
                <a:lnTo>
                  <a:pt x="568" y="4909"/>
                </a:lnTo>
                <a:lnTo>
                  <a:pt x="568" y="5006"/>
                </a:lnTo>
                <a:lnTo>
                  <a:pt x="471" y="5147"/>
                </a:lnTo>
                <a:lnTo>
                  <a:pt x="427" y="5288"/>
                </a:lnTo>
                <a:lnTo>
                  <a:pt x="427" y="5385"/>
                </a:lnTo>
                <a:lnTo>
                  <a:pt x="379" y="5570"/>
                </a:lnTo>
                <a:lnTo>
                  <a:pt x="379" y="5667"/>
                </a:lnTo>
                <a:lnTo>
                  <a:pt x="427" y="5808"/>
                </a:lnTo>
                <a:lnTo>
                  <a:pt x="427" y="5998"/>
                </a:lnTo>
                <a:lnTo>
                  <a:pt x="471" y="6139"/>
                </a:lnTo>
                <a:lnTo>
                  <a:pt x="471" y="6280"/>
                </a:lnTo>
                <a:lnTo>
                  <a:pt x="471" y="6421"/>
                </a:lnTo>
                <a:lnTo>
                  <a:pt x="427" y="6611"/>
                </a:lnTo>
                <a:lnTo>
                  <a:pt x="427" y="7181"/>
                </a:lnTo>
                <a:lnTo>
                  <a:pt x="427" y="7745"/>
                </a:lnTo>
                <a:lnTo>
                  <a:pt x="427" y="7842"/>
                </a:lnTo>
                <a:lnTo>
                  <a:pt x="520" y="8027"/>
                </a:lnTo>
                <a:lnTo>
                  <a:pt x="568" y="8168"/>
                </a:lnTo>
                <a:lnTo>
                  <a:pt x="709" y="8314"/>
                </a:lnTo>
                <a:lnTo>
                  <a:pt x="802" y="8455"/>
                </a:lnTo>
                <a:lnTo>
                  <a:pt x="899" y="8596"/>
                </a:lnTo>
                <a:lnTo>
                  <a:pt x="992" y="8737"/>
                </a:lnTo>
                <a:lnTo>
                  <a:pt x="1089" y="8786"/>
                </a:lnTo>
                <a:lnTo>
                  <a:pt x="1274" y="8786"/>
                </a:lnTo>
                <a:lnTo>
                  <a:pt x="1371" y="8786"/>
                </a:lnTo>
                <a:lnTo>
                  <a:pt x="1512" y="8786"/>
                </a:lnTo>
                <a:lnTo>
                  <a:pt x="1653" y="8786"/>
                </a:lnTo>
                <a:lnTo>
                  <a:pt x="2126" y="8786"/>
                </a:lnTo>
                <a:lnTo>
                  <a:pt x="2316" y="8786"/>
                </a:lnTo>
                <a:lnTo>
                  <a:pt x="2413" y="8786"/>
                </a:lnTo>
                <a:lnTo>
                  <a:pt x="2554" y="8786"/>
                </a:lnTo>
                <a:lnTo>
                  <a:pt x="2695" y="8786"/>
                </a:lnTo>
                <a:lnTo>
                  <a:pt x="2836" y="8786"/>
                </a:lnTo>
                <a:lnTo>
                  <a:pt x="2977" y="8927"/>
                </a:lnTo>
                <a:lnTo>
                  <a:pt x="3449" y="8975"/>
                </a:lnTo>
                <a:lnTo>
                  <a:pt x="3639" y="9019"/>
                </a:lnTo>
                <a:lnTo>
                  <a:pt x="3736" y="9019"/>
                </a:lnTo>
                <a:lnTo>
                  <a:pt x="4207" y="9019"/>
                </a:lnTo>
                <a:lnTo>
                  <a:pt x="4961" y="9019"/>
                </a:lnTo>
                <a:lnTo>
                  <a:pt x="5814" y="9019"/>
                </a:lnTo>
                <a:lnTo>
                  <a:pt x="5906" y="9116"/>
                </a:lnTo>
                <a:lnTo>
                  <a:pt x="6003" y="9116"/>
                </a:lnTo>
                <a:lnTo>
                  <a:pt x="6237" y="9019"/>
                </a:lnTo>
                <a:lnTo>
                  <a:pt x="6806" y="8878"/>
                </a:lnTo>
                <a:lnTo>
                  <a:pt x="7278" y="8786"/>
                </a:lnTo>
                <a:lnTo>
                  <a:pt x="7326" y="8596"/>
                </a:lnTo>
                <a:lnTo>
                  <a:pt x="7370" y="8406"/>
                </a:lnTo>
                <a:lnTo>
                  <a:pt x="7370" y="7842"/>
                </a:lnTo>
                <a:lnTo>
                  <a:pt x="7278" y="7084"/>
                </a:lnTo>
                <a:lnTo>
                  <a:pt x="7229" y="6611"/>
                </a:lnTo>
                <a:lnTo>
                  <a:pt x="7185" y="6139"/>
                </a:lnTo>
                <a:lnTo>
                  <a:pt x="6709" y="5570"/>
                </a:lnTo>
                <a:lnTo>
                  <a:pt x="6237" y="5098"/>
                </a:lnTo>
                <a:lnTo>
                  <a:pt x="6144" y="4957"/>
                </a:lnTo>
                <a:lnTo>
                  <a:pt x="6096" y="4296"/>
                </a:lnTo>
                <a:lnTo>
                  <a:pt x="6096" y="3824"/>
                </a:lnTo>
                <a:lnTo>
                  <a:pt x="6144" y="3683"/>
                </a:lnTo>
                <a:lnTo>
                  <a:pt x="6193" y="3114"/>
                </a:lnTo>
                <a:lnTo>
                  <a:pt x="6144" y="2452"/>
                </a:lnTo>
                <a:lnTo>
                  <a:pt x="6144" y="1794"/>
                </a:lnTo>
                <a:lnTo>
                  <a:pt x="6096" y="1318"/>
                </a:lnTo>
                <a:lnTo>
                  <a:pt x="6003" y="1177"/>
                </a:lnTo>
                <a:lnTo>
                  <a:pt x="5906" y="1036"/>
                </a:lnTo>
                <a:lnTo>
                  <a:pt x="5765" y="895"/>
                </a:lnTo>
                <a:lnTo>
                  <a:pt x="5717" y="754"/>
                </a:lnTo>
                <a:lnTo>
                  <a:pt x="5624" y="564"/>
                </a:lnTo>
                <a:lnTo>
                  <a:pt x="5433" y="564"/>
                </a:lnTo>
                <a:lnTo>
                  <a:pt x="5200" y="564"/>
                </a:lnTo>
                <a:lnTo>
                  <a:pt x="5010" y="515"/>
                </a:lnTo>
                <a:lnTo>
                  <a:pt x="4772" y="515"/>
                </a:lnTo>
                <a:lnTo>
                  <a:pt x="4110" y="515"/>
                </a:lnTo>
                <a:lnTo>
                  <a:pt x="3356" y="515"/>
                </a:lnTo>
                <a:lnTo>
                  <a:pt x="3215" y="515"/>
                </a:lnTo>
                <a:lnTo>
                  <a:pt x="3026" y="330"/>
                </a:lnTo>
                <a:lnTo>
                  <a:pt x="2929" y="282"/>
                </a:lnTo>
                <a:lnTo>
                  <a:pt x="2787" y="233"/>
                </a:lnTo>
                <a:lnTo>
                  <a:pt x="2646" y="233"/>
                </a:lnTo>
                <a:lnTo>
                  <a:pt x="2413" y="92"/>
                </a:lnTo>
                <a:lnTo>
                  <a:pt x="2316" y="92"/>
                </a:lnTo>
                <a:lnTo>
                  <a:pt x="2174" y="92"/>
                </a:lnTo>
                <a:lnTo>
                  <a:pt x="2033" y="44"/>
                </a:lnTo>
                <a:lnTo>
                  <a:pt x="1936" y="0"/>
                </a:lnTo>
                <a:lnTo>
                  <a:pt x="1794" y="0"/>
                </a:lnTo>
                <a:lnTo>
                  <a:pt x="1653" y="44"/>
                </a:lnTo>
                <a:lnTo>
                  <a:pt x="1512" y="92"/>
                </a:lnTo>
                <a:lnTo>
                  <a:pt x="1322" y="233"/>
                </a:lnTo>
                <a:lnTo>
                  <a:pt x="1133" y="330"/>
                </a:lnTo>
                <a:lnTo>
                  <a:pt x="899" y="471"/>
                </a:lnTo>
                <a:lnTo>
                  <a:pt x="802" y="515"/>
                </a:lnTo>
                <a:lnTo>
                  <a:pt x="661" y="612"/>
                </a:lnTo>
                <a:lnTo>
                  <a:pt x="520" y="705"/>
                </a:lnTo>
                <a:lnTo>
                  <a:pt x="339" y="91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004080" y="2117880"/>
            <a:ext cx="1996920" cy="24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ighbor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Length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2 bi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 generation period = T_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69960" y="4937040"/>
            <a:ext cx="78645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system and neighbors’ systems are being operated by the same frequency channel without code channelization. Signals from neighbors’ systems can be sensed by probability of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D/U ratio is always enough large to ignore errors by colli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427640" y="3146400"/>
            <a:ext cx="1622520" cy="39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ximum throughput under config. -3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INF Length = 512b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19280" y="1765440"/>
            <a:ext cx="7545240" cy="42321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 txBox="1"/>
          <p:nvPr/>
        </p:nvSpPr>
        <p:spPr>
          <a:xfrm>
            <a:off x="7223040" y="3459240"/>
            <a:ext cx="874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s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71560" y="1841400"/>
            <a:ext cx="7545240" cy="42321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ximum throughput under config. -3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INF Length = 12000b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689880" y="3710160"/>
            <a:ext cx="1587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_other (ms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Requirement of more frequency channels caus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robustness against multipath because of narrower spreading bandwid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sensitivity because of more bits/symb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times amplitude component of the signal, because of more bits/symbol, to consume more power than flat envel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ad vs. Throughput under config. -3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 Length = 512 bit,  T_other = 0.01msec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ggregate Load of interference = 5.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95240" y="1917720"/>
            <a:ext cx="754524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ad vs. Throughput under config. -3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 Length = 512 bit,  T_other = 0.1msec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ggregate Load of interferences = 0.5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871560" y="2070000"/>
            <a:ext cx="754524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ad vs. Throughput under config. -3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 Length = 12000 bit,  T_other = 0.1msec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ggregate Load of interferences = 0.5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795240" y="1994040"/>
            <a:ext cx="754524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ad vs. Throughput under config. -3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 Length = 512 bit,  T_other = 1msec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ggregate Load of interferences = 0.05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795240" y="1841400"/>
            <a:ext cx="754524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ad vs. Throughput under config. -3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 Length = 12000 bit,  T_other = 1msec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ggregate Load of interferences = 0.05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795240" y="1841400"/>
            <a:ext cx="7545240" cy="42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n Delay under config. -3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 Length = 512,   T_other = 0.1msec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ggregate Load of interferences = 0.5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700200" y="1841400"/>
            <a:ext cx="78883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n Delay under config. -3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 Length = 12000,   T_other = 0.1msec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ggregate Load of interferences = 0.5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839880" y="1835280"/>
            <a:ext cx="760716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n Delay under config. -3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 Length = 512,   T_other = 1msec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ggregate Load of interferences = 0.05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758880" y="1805040"/>
            <a:ext cx="777096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an Delay under config. -3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F Length = 12000,   T_other = 1msec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ggregate Load of interferences = 0.051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620640" y="1832040"/>
            <a:ext cx="789300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 channelization provides better throughput if BSAs are not overlapp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obtain floor-to-floor and room-to-room iso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unmanaged BSAs (SOHO marke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antial overlapping of BSAs causes degradation because of th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ar-Far proble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xt simulation must show system capacity and include interference and leakage (shared capacity) eff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spect of the B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3276720"/>
            <a:ext cx="873000" cy="8715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2209680"/>
            <a:ext cx="3200400" cy="3048120"/>
          </a:xfrm>
          <a:prstGeom prst="ellipse">
            <a:avLst/>
          </a:prstGeom>
          <a:noFill/>
          <a:ln w="38160">
            <a:solidFill>
              <a:srgbClr val="00cc99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743200" y="2362320"/>
            <a:ext cx="1752480" cy="121896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32480" y="2041560"/>
            <a:ext cx="382572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able BSA area in which acceptable throughput can be guaranteed always and everyw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4038480"/>
            <a:ext cx="685800" cy="763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32480" y="3946680"/>
            <a:ext cx="397836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reliable BSA area in which the throughput becomes unacceptable depending on time and pl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17680" y="5546880"/>
            <a:ext cx="822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 Black"/>
              </a:rPr>
              <a:t>MIS tries to build WLAN using reliable BSA ar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ree freq. channels are enoug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762120" y="1981080"/>
            <a:ext cx="3428640" cy="3353040"/>
            <a:chOff x="762120" y="1981080"/>
            <a:chExt cx="3428640" cy="3353040"/>
          </a:xfrm>
        </p:grpSpPr>
        <p:sp>
          <p:nvSpPr>
            <p:cNvPr id="64" name=""/>
            <p:cNvSpPr/>
            <p:nvPr/>
          </p:nvSpPr>
          <p:spPr>
            <a:xfrm>
              <a:off x="1633680" y="3341520"/>
              <a:ext cx="665280" cy="6746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2120" y="2514600"/>
              <a:ext cx="2438280" cy="236232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066680" y="2057400"/>
              <a:ext cx="2438280" cy="2362320"/>
              <a:chOff x="1066680" y="2057400"/>
              <a:chExt cx="2438280" cy="2362320"/>
            </a:xfrm>
          </p:grpSpPr>
          <p:sp>
            <p:nvSpPr>
              <p:cNvPr id="67" name=""/>
              <p:cNvSpPr/>
              <p:nvPr/>
            </p:nvSpPr>
            <p:spPr>
              <a:xfrm>
                <a:off x="1938240" y="2884320"/>
                <a:ext cx="665280" cy="674640"/>
              </a:xfrm>
              <a:prstGeom prst="ellipse">
                <a:avLst/>
              </a:prstGeom>
              <a:solidFill>
                <a:srgbClr val="cc3300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066680" y="2057400"/>
                <a:ext cx="2438280" cy="2362320"/>
              </a:xfrm>
              <a:prstGeom prst="ellipse">
                <a:avLst/>
              </a:prstGeom>
              <a:noFill/>
              <a:ln w="38160">
                <a:solidFill>
                  <a:srgbClr val="cc3300"/>
                </a:solidFill>
                <a:round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1295280" y="2514600"/>
              <a:ext cx="2438280" cy="2362320"/>
              <a:chOff x="1295280" y="2514600"/>
              <a:chExt cx="2438280" cy="2362320"/>
            </a:xfrm>
          </p:grpSpPr>
          <p:sp>
            <p:nvSpPr>
              <p:cNvPr id="70" name=""/>
              <p:cNvSpPr/>
              <p:nvPr/>
            </p:nvSpPr>
            <p:spPr>
              <a:xfrm>
                <a:off x="2166840" y="3341520"/>
                <a:ext cx="665280" cy="674640"/>
              </a:xfrm>
              <a:prstGeom prst="ellipse">
                <a:avLst/>
              </a:prstGeom>
              <a:solidFill>
                <a:srgbClr val="3333cc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295280" y="2514600"/>
                <a:ext cx="2438280" cy="2362320"/>
              </a:xfrm>
              <a:prstGeom prst="ellipse">
                <a:avLst/>
              </a:prstGeom>
              <a:noFill/>
              <a:ln w="38160">
                <a:solidFill>
                  <a:srgbClr val="3333cc"/>
                </a:solidFill>
                <a:round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1066680" y="2971800"/>
              <a:ext cx="2438280" cy="2362320"/>
              <a:chOff x="1066680" y="2971800"/>
              <a:chExt cx="2438280" cy="2362320"/>
            </a:xfrm>
          </p:grpSpPr>
          <p:sp>
            <p:nvSpPr>
              <p:cNvPr id="73" name=""/>
              <p:cNvSpPr/>
              <p:nvPr/>
            </p:nvSpPr>
            <p:spPr>
              <a:xfrm>
                <a:off x="1938240" y="3798720"/>
                <a:ext cx="665280" cy="674640"/>
              </a:xfrm>
              <a:prstGeom prst="ellipse">
                <a:avLst/>
              </a:prstGeom>
              <a:solidFill>
                <a:srgbClr val="cc3300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1066680" y="2971800"/>
                <a:ext cx="2438280" cy="2362320"/>
              </a:xfrm>
              <a:prstGeom prst="ellipse">
                <a:avLst/>
              </a:prstGeom>
              <a:noFill/>
              <a:ln w="38160">
                <a:solidFill>
                  <a:srgbClr val="cc3300"/>
                </a:solidFill>
                <a:round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1600200" y="1981080"/>
              <a:ext cx="2438280" cy="236232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471760" y="2884320"/>
              <a:ext cx="665280" cy="6746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71760" y="3798720"/>
              <a:ext cx="665280" cy="674640"/>
            </a:xfrm>
            <a:prstGeom prst="ellipse">
              <a:avLst/>
            </a:prstGeom>
            <a:solidFill>
              <a:srgbClr val="00cc99">
                <a:alpha val="50000"/>
              </a:srgbClr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00200" y="2971800"/>
              <a:ext cx="2438280" cy="236232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752480" y="2514600"/>
              <a:ext cx="2438280" cy="2362320"/>
              <a:chOff x="1752480" y="2514600"/>
              <a:chExt cx="2438280" cy="2362320"/>
            </a:xfrm>
          </p:grpSpPr>
          <p:sp>
            <p:nvSpPr>
              <p:cNvPr id="80" name=""/>
              <p:cNvSpPr/>
              <p:nvPr/>
            </p:nvSpPr>
            <p:spPr>
              <a:xfrm>
                <a:off x="2624040" y="3341520"/>
                <a:ext cx="665280" cy="674640"/>
              </a:xfrm>
              <a:prstGeom prst="ellipse">
                <a:avLst/>
              </a:prstGeom>
              <a:solidFill>
                <a:srgbClr val="cc3300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752480" y="2514600"/>
                <a:ext cx="2438280" cy="2362320"/>
              </a:xfrm>
              <a:prstGeom prst="ellipse">
                <a:avLst/>
              </a:prstGeom>
              <a:noFill/>
              <a:ln w="38160">
                <a:solidFill>
                  <a:srgbClr val="cc3300"/>
                </a:solidFill>
                <a:round/>
              </a:ln>
            </p:spPr>
            <p:txBody>
              <a:bodyPr lIns="109080" rIns="109080" tIns="64080" bIns="64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" name=""/>
          <p:cNvSpPr txBox="1"/>
          <p:nvPr/>
        </p:nvSpPr>
        <p:spPr>
          <a:xfrm>
            <a:off x="4479840" y="2041560"/>
            <a:ext cx="397836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figure shows conceptual BSA arrangement using three frequency chann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iable BSA areas are well separated by frequency channels but unreliable BSA areas overlap reliable BSA areas to cause degradation of perform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ndesirable neighb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143000" y="4191120"/>
            <a:ext cx="3429360" cy="914760"/>
            <a:chOff x="1143000" y="4191120"/>
            <a:chExt cx="3429360" cy="914760"/>
          </a:xfrm>
        </p:grpSpPr>
        <p:sp>
          <p:nvSpPr>
            <p:cNvPr id="86" name=""/>
            <p:cNvSpPr/>
            <p:nvPr/>
          </p:nvSpPr>
          <p:spPr>
            <a:xfrm>
              <a:off x="1752480" y="419112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3" y="0"/>
                  </a:lnTo>
                  <a:lnTo>
                    <a:pt x="0" y="848"/>
                  </a:lnTo>
                  <a:close/>
                </a:path>
              </a:pathLst>
            </a:custGeom>
            <a:blipFill rotWithShape="0">
              <a:blip r:embed="rId1"/>
              <a:tile tx="0" ty="0" sx="133018" sy="133018" algn="ctr"/>
            </a:blip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447920" y="449568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2" y="0"/>
                  </a:lnTo>
                  <a:lnTo>
                    <a:pt x="0" y="848"/>
                  </a:lnTo>
                  <a:close/>
                </a:path>
              </a:pathLst>
            </a:custGeom>
            <a:blipFill rotWithShape="0">
              <a:blip r:embed="rId2"/>
              <a:tile tx="0" ty="0" sx="133018" sy="133018" algn="ctr"/>
            </a:blip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3000" y="480060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2" y="0"/>
                  </a:lnTo>
                  <a:lnTo>
                    <a:pt x="0" y="848"/>
                  </a:lnTo>
                  <a:close/>
                </a:path>
              </a:pathLst>
            </a:custGeom>
            <a:blipFill rotWithShape="0">
              <a:blip r:embed="rId3"/>
              <a:tile tx="0" ty="0" sx="133018" sy="133018" algn="ctr"/>
            </a:blip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590920" y="419112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3" y="0"/>
                  </a:lnTo>
                  <a:lnTo>
                    <a:pt x="0" y="848"/>
                  </a:lnTo>
                  <a:close/>
                </a:path>
              </a:pathLst>
            </a:custGeom>
            <a:blipFill rotWithShape="0">
              <a:blip r:embed="rId4"/>
              <a:tile tx="0" ty="0" sx="133018" sy="133018" algn="ctr"/>
            </a:blip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286000" y="449568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2" y="0"/>
                  </a:lnTo>
                  <a:lnTo>
                    <a:pt x="0" y="848"/>
                  </a:lnTo>
                  <a:close/>
                </a:path>
              </a:pathLst>
            </a:custGeom>
            <a:blipFill rotWithShape="0">
              <a:blip r:embed="rId5"/>
              <a:tile tx="0" ty="0" sx="133018" sy="133018" algn="ctr"/>
            </a:blip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81080" y="480060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2" y="0"/>
                  </a:lnTo>
                  <a:lnTo>
                    <a:pt x="0" y="848"/>
                  </a:lnTo>
                  <a:close/>
                </a:path>
              </a:pathLst>
            </a:custGeom>
            <a:blipFill rotWithShape="0">
              <a:blip r:embed="rId6"/>
              <a:tile tx="0" ty="0" sx="133018" sy="133018" algn="ctr"/>
            </a:blip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29000" y="419112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2" y="0"/>
                  </a:lnTo>
                  <a:lnTo>
                    <a:pt x="0" y="848"/>
                  </a:lnTo>
                  <a:close/>
                </a:path>
              </a:pathLst>
            </a:custGeom>
            <a:blipFill rotWithShape="0">
              <a:blip r:embed="rId7"/>
              <a:tile tx="0" ty="0" sx="133018" sy="133018" algn="ctr"/>
            </a:blip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449568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2" y="0"/>
                  </a:lnTo>
                  <a:lnTo>
                    <a:pt x="0" y="848"/>
                  </a:lnTo>
                  <a:close/>
                </a:path>
              </a:pathLst>
            </a:custGeom>
            <a:blipFill rotWithShape="0">
              <a:blip r:embed="rId8"/>
              <a:tile tx="0" ty="0" sx="133018" sy="133018" algn="ctr"/>
            </a:blip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819520" y="480060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3" y="0"/>
                  </a:lnTo>
                  <a:lnTo>
                    <a:pt x="0" y="848"/>
                  </a:lnTo>
                  <a:close/>
                </a:path>
              </a:pathLst>
            </a:custGeom>
            <a:blipFill rotWithShape="0">
              <a:blip r:embed="rId9"/>
              <a:tile tx="0" ty="0" sx="133018" sy="133018" algn="ctr"/>
            </a:blip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143000" y="3429000"/>
            <a:ext cx="3429360" cy="914760"/>
            <a:chOff x="1143000" y="3429000"/>
            <a:chExt cx="3429360" cy="914760"/>
          </a:xfrm>
        </p:grpSpPr>
        <p:sp>
          <p:nvSpPr>
            <p:cNvPr id="96" name=""/>
            <p:cNvSpPr/>
            <p:nvPr/>
          </p:nvSpPr>
          <p:spPr>
            <a:xfrm>
              <a:off x="1752480" y="342900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3" y="0"/>
                  </a:lnTo>
                  <a:lnTo>
                    <a:pt x="0" y="848"/>
                  </a:lnTo>
                  <a:close/>
                </a:path>
              </a:pathLst>
            </a:custGeom>
            <a:blipFill rotWithShape="0">
              <a:blip r:embed="rId10"/>
              <a:tile tx="0" ty="0" sx="133018" sy="133018" algn="ctr"/>
            </a:blip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47920" y="373392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2" y="0"/>
                  </a:lnTo>
                  <a:lnTo>
                    <a:pt x="0" y="848"/>
                  </a:lnTo>
                  <a:close/>
                </a:path>
              </a:pathLst>
            </a:custGeom>
            <a:blipFill rotWithShape="0">
              <a:blip r:embed="rId11"/>
              <a:tile tx="0" ty="0" sx="133018" sy="133018" algn="ctr"/>
            </a:blip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43000" y="403848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2" y="0"/>
                  </a:lnTo>
                  <a:lnTo>
                    <a:pt x="0" y="848"/>
                  </a:lnTo>
                  <a:close/>
                </a:path>
              </a:pathLst>
            </a:custGeom>
            <a:blipFill rotWithShape="0">
              <a:blip r:embed="rId12"/>
              <a:tile tx="0" ty="0" sx="133018" sy="133018" algn="ctr"/>
            </a:blip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590920" y="342900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3" y="0"/>
                  </a:lnTo>
                  <a:lnTo>
                    <a:pt x="0" y="848"/>
                  </a:lnTo>
                  <a:close/>
                </a:path>
              </a:pathLst>
            </a:custGeom>
            <a:blipFill rotWithShape="0">
              <a:blip r:embed="rId13"/>
              <a:tile tx="0" ty="0" sx="133018" sy="133018" algn="ctr"/>
            </a:blip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286000" y="373392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2" y="0"/>
                  </a:lnTo>
                  <a:lnTo>
                    <a:pt x="0" y="848"/>
                  </a:lnTo>
                  <a:close/>
                </a:path>
              </a:pathLst>
            </a:custGeom>
            <a:solidFill>
              <a:srgbClr val="00cc99"/>
            </a:solid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81080" y="403848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2" y="0"/>
                  </a:lnTo>
                  <a:lnTo>
                    <a:pt x="0" y="848"/>
                  </a:lnTo>
                  <a:close/>
                </a:path>
              </a:pathLst>
            </a:custGeom>
            <a:blipFill rotWithShape="0">
              <a:blip r:embed="rId14"/>
              <a:tile tx="0" ty="0" sx="133018" sy="133018" algn="ctr"/>
            </a:blip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29000" y="342900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2" y="0"/>
                  </a:lnTo>
                  <a:lnTo>
                    <a:pt x="0" y="848"/>
                  </a:lnTo>
                  <a:close/>
                </a:path>
              </a:pathLst>
            </a:custGeom>
            <a:blipFill rotWithShape="0">
              <a:blip r:embed="rId15"/>
              <a:tile tx="0" ty="0" sx="133018" sy="133018" algn="ctr"/>
            </a:blip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124080" y="373392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2" y="0"/>
                  </a:lnTo>
                  <a:lnTo>
                    <a:pt x="0" y="848"/>
                  </a:lnTo>
                  <a:close/>
                </a:path>
              </a:pathLst>
            </a:custGeom>
            <a:blipFill rotWithShape="0">
              <a:blip r:embed="rId16"/>
              <a:tile tx="0" ty="0" sx="133018" sy="133018" algn="ctr"/>
            </a:blip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19520" y="403848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3" y="0"/>
                  </a:lnTo>
                  <a:lnTo>
                    <a:pt x="0" y="848"/>
                  </a:lnTo>
                  <a:close/>
                </a:path>
              </a:pathLst>
            </a:custGeom>
            <a:blipFill rotWithShape="0">
              <a:blip r:embed="rId17"/>
              <a:tile tx="0" ty="0" sx="133018" sy="133018" algn="ctr"/>
            </a:blip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1143000" y="2666880"/>
            <a:ext cx="3429360" cy="915120"/>
            <a:chOff x="1143000" y="2666880"/>
            <a:chExt cx="3429360" cy="915120"/>
          </a:xfrm>
        </p:grpSpPr>
        <p:sp>
          <p:nvSpPr>
            <p:cNvPr id="106" name=""/>
            <p:cNvSpPr/>
            <p:nvPr/>
          </p:nvSpPr>
          <p:spPr>
            <a:xfrm>
              <a:off x="1752480" y="266688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3" y="0"/>
                  </a:lnTo>
                  <a:lnTo>
                    <a:pt x="0" y="848"/>
                  </a:lnTo>
                  <a:close/>
                </a:path>
              </a:pathLst>
            </a:custGeom>
            <a:blipFill rotWithShape="0">
              <a:blip r:embed="rId18"/>
              <a:tile tx="0" ty="0" sx="133018" sy="133018" algn="ctr"/>
            </a:blip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47920" y="297180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2" y="0"/>
                  </a:lnTo>
                  <a:lnTo>
                    <a:pt x="0" y="848"/>
                  </a:lnTo>
                  <a:close/>
                </a:path>
              </a:pathLst>
            </a:custGeom>
            <a:blipFill rotWithShape="0">
              <a:blip r:embed="rId19"/>
              <a:tile tx="0" ty="0" sx="133018" sy="133018" algn="ctr"/>
            </a:blip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43000" y="327672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2" y="0"/>
                  </a:lnTo>
                  <a:lnTo>
                    <a:pt x="0" y="848"/>
                  </a:lnTo>
                  <a:close/>
                </a:path>
              </a:pathLst>
            </a:custGeom>
            <a:blipFill rotWithShape="0">
              <a:blip r:embed="rId20"/>
              <a:tile tx="0" ty="0" sx="133018" sy="133018" algn="ctr"/>
            </a:blip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90920" y="266688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3" y="0"/>
                  </a:lnTo>
                  <a:lnTo>
                    <a:pt x="0" y="848"/>
                  </a:lnTo>
                  <a:close/>
                </a:path>
              </a:pathLst>
            </a:custGeom>
            <a:blipFill rotWithShape="0">
              <a:blip r:embed="rId21"/>
              <a:tile tx="0" ty="0" sx="133018" sy="133018" algn="ctr"/>
            </a:blip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86000" y="297180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2" y="0"/>
                  </a:lnTo>
                  <a:lnTo>
                    <a:pt x="0" y="848"/>
                  </a:lnTo>
                  <a:close/>
                </a:path>
              </a:pathLst>
            </a:custGeom>
            <a:blipFill rotWithShape="0">
              <a:blip r:embed="rId22"/>
              <a:tile tx="0" ty="0" sx="133018" sy="133018" algn="ctr"/>
            </a:blip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981080" y="327672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2" y="0"/>
                  </a:lnTo>
                  <a:lnTo>
                    <a:pt x="0" y="848"/>
                  </a:lnTo>
                  <a:close/>
                </a:path>
              </a:pathLst>
            </a:custGeom>
            <a:blipFill rotWithShape="0">
              <a:blip r:embed="rId23"/>
              <a:tile tx="0" ty="0" sx="133018" sy="133018" algn="ctr"/>
            </a:blip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429000" y="266688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2" y="0"/>
                  </a:lnTo>
                  <a:lnTo>
                    <a:pt x="0" y="848"/>
                  </a:lnTo>
                  <a:close/>
                </a:path>
              </a:pathLst>
            </a:custGeom>
            <a:blipFill rotWithShape="0">
              <a:blip r:embed="rId24"/>
              <a:tile tx="0" ty="0" sx="133018" sy="133018" algn="ctr"/>
            </a:blip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124080" y="297180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2" y="0"/>
                  </a:lnTo>
                  <a:lnTo>
                    <a:pt x="0" y="848"/>
                  </a:lnTo>
                  <a:close/>
                </a:path>
              </a:pathLst>
            </a:custGeom>
            <a:blipFill rotWithShape="0">
              <a:blip r:embed="rId25"/>
              <a:tile tx="0" ty="0" sx="133018" sy="133018" algn="ctr"/>
            </a:blip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19520" y="3276720"/>
              <a:ext cx="1143360" cy="305280"/>
            </a:xfrm>
            <a:custGeom>
              <a:avLst/>
              <a:gdLst/>
              <a:ahLst/>
              <a:rect l="0" t="0" r="r" b="b"/>
              <a:pathLst>
                <a:path w="3176" h="848">
                  <a:moveTo>
                    <a:pt x="0" y="848"/>
                  </a:moveTo>
                  <a:lnTo>
                    <a:pt x="2223" y="848"/>
                  </a:lnTo>
                  <a:lnTo>
                    <a:pt x="3176" y="0"/>
                  </a:lnTo>
                  <a:lnTo>
                    <a:pt x="953" y="0"/>
                  </a:lnTo>
                  <a:lnTo>
                    <a:pt x="0" y="848"/>
                  </a:lnTo>
                  <a:close/>
                </a:path>
              </a:pathLst>
            </a:custGeom>
            <a:blipFill rotWithShape="0">
              <a:blip r:embed="rId26"/>
              <a:tile tx="0" ty="0" sx="133018" sy="133018" algn="ctr"/>
            </a:blipFill>
            <a:ln w="38160">
              <a:solidFill>
                <a:srgbClr val="000000"/>
              </a:solidFill>
              <a:round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 txBox="1"/>
          <p:nvPr/>
        </p:nvSpPr>
        <p:spPr>
          <a:xfrm>
            <a:off x="974880" y="2803680"/>
            <a:ext cx="522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974880" y="3641760"/>
            <a:ext cx="522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74880" y="4403880"/>
            <a:ext cx="522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3809880"/>
            <a:ext cx="457200" cy="167652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879640" y="5470560"/>
            <a:ext cx="140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y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708440" y="2117880"/>
            <a:ext cx="390204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HO is a very attractive market for W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requires many channels in order to avoid interference from neighbors’ WLA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is not available against neighb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Micrilor’s channelization propo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frequency channels are available within 2400 - 2483.5 MHz ISM b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ght search-code channels are also available independently to frequency chann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xteen total chann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available by combination of frequency channels and code chann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ty-eight data-code channels are also avail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n example of BSA arrangement by using 16 chann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974880" y="1965240"/>
            <a:ext cx="5321160" cy="337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1,C1)  (f2.C1)  (f1,C2)  (f2,C2)  (f1,C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2,C3)  (f1,C3)  (f2,C4)  (f1,C4)  (f2,C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1,C5)  (f2,C5)  (f1,C6)  (f2,C6)  (f1.C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2,C7)  (f1,C7)  (f2,C8)  (f1,C8)  (f2,C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1,C1)  (f2.C1)  (f1,C2)  (f2,C2)  (f1,C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388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5410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77120" y="22096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77120" y="510552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3880" y="579132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467480" y="2209680"/>
            <a:ext cx="0" cy="2895840"/>
          </a:xfrm>
          <a:prstGeom prst="line">
            <a:avLst/>
          </a:prstGeom>
          <a:ln w="1260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660680" y="5318280"/>
            <a:ext cx="3722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r reliable-BSA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705640" y="3519360"/>
            <a:ext cx="2838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ur reliable-BSA di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solidFill>
            <a:srgbClr val="729fcf"/>
          </a:solidFill>
          <a:ln w="0">
            <a:solidFill>
              <a:srgbClr val="3465a4"/>
            </a:solidFill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put for two adjacent BSAs wi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ame frequency channel and different code chann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e frequency channel and code chan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oughput and delay time under interferences from neighbors’ sys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NeS DESIGNER ver.3.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ALTA GROUP of Cedence Design systems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V. Hayes</cp:lastModifiedBy>
  <cp:revision>0</cp:revision>
  <dc:subject/>
  <dc:title>No Slide Title</dc:title>
</cp:coreProperties>
</file>