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1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c Summary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 Tuesday March 10,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 editorial comments against 802.11c/D2 all accep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ing Document 802.11c/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1c liaison meeting with 802.1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w of 802.11c/D2 - no problems found, no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2.1 will forward 802.11c/D3 to ISO for inclusion in 802.1D (ISO 8802-1) as US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ion 802.11c/D3 to 802.1 working group to review during this plenary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comments are editorial would like to make a motion to send 802.11c/D3 direct to sponsor bal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. Hayes</dc:creator>
  <dc:description/>
  <dc:language>en-US</dc:language>
  <cp:lastModifiedBy>V. Hayes</cp:lastModifiedBy>
  <cp:revision>0</cp:revision>
  <dc:subject/>
  <dc:title>No Slide Title</dc:title>
</cp:coreProperties>
</file>