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6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7"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8"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65ADE1D-E071-4297-B8C0-7519A76ADE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371600" y="768240"/>
            <a:ext cx="5029200" cy="3767400"/>
          </a:xfrm>
          <a:prstGeom prst="rect">
            <a:avLst/>
          </a:prstGeom>
          <a:ln w="0">
            <a:noFill/>
          </a:ln>
        </p:spPr>
      </p:sp>
      <p:sp>
        <p:nvSpPr>
          <p:cNvPr id="11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gn="ctr">
              <a:lnSpc>
                <a:spcPct val="100000"/>
              </a:lnSpc>
              <a:spcBef>
                <a:spcPts val="720"/>
              </a:spcBef>
              <a:buNone/>
            </a:pPr>
            <a:r>
              <a:rPr b="1" lang="en-US" sz="1200" spc="-1" strike="noStrike">
                <a:solidFill>
                  <a:srgbClr val="000000"/>
                </a:solidFill>
                <a:latin typeface="Times New Roman"/>
                <a:ea typeface="Times New Roman"/>
              </a:rPr>
              <a:t>Abstract</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document complements comparison data described in Doc 98/74r1.</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371600" y="768240"/>
            <a:ext cx="5029200" cy="3767400"/>
          </a:xfrm>
          <a:prstGeom prst="rect">
            <a:avLst/>
          </a:prstGeom>
          <a:ln w="0">
            <a:noFill/>
          </a:ln>
        </p:spPr>
      </p:sp>
      <p:sp>
        <p:nvSpPr>
          <p:cNvPr id="1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0</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oc 98/74r1 includes a performance graphs for the proposed value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371600" y="768240"/>
            <a:ext cx="5029200" cy="3767400"/>
          </a:xfrm>
          <a:prstGeom prst="rect">
            <a:avLst/>
          </a:prstGeom>
          <a:ln w="0">
            <a:noFill/>
          </a:ln>
        </p:spPr>
      </p:sp>
      <p:sp>
        <p:nvSpPr>
          <p:cNvPr id="1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1</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Doc 98/74r1 includes a performance graphs for the proposed valu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371600" y="768240"/>
            <a:ext cx="5029200" cy="3767400"/>
          </a:xfrm>
          <a:prstGeom prst="rect">
            <a:avLst/>
          </a:prstGeom>
          <a:ln w="0">
            <a:noFill/>
          </a:ln>
        </p:spPr>
      </p:sp>
      <p:sp>
        <p:nvSpPr>
          <p:cNvPr id="1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Key parameters to decide system throughput are SIFSTime and SlotTime. We calculate them based on the equations in the following slide. The equations have been defined in section 9.2.10 of P802.11D7.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an aAirPropagationTime, we assumed transmission length of 150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371600" y="768240"/>
            <a:ext cx="5029200" cy="3767400"/>
          </a:xfrm>
          <a:prstGeom prst="rect">
            <a:avLst/>
          </a:prstGeom>
          <a:ln w="0">
            <a:noFill/>
          </a:ln>
        </p:spPr>
      </p:sp>
      <p:sp>
        <p:nvSpPr>
          <p:cNvPr id="1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1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lotTime and SIFSTime have been evaluated based on the above tabl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768240"/>
            <a:ext cx="5029200" cy="3767400"/>
          </a:xfrm>
          <a:prstGeom prst="rect">
            <a:avLst/>
          </a:prstGeom>
          <a:ln w="0">
            <a:noFill/>
          </a:ln>
        </p:spPr>
      </p:sp>
      <p:sp>
        <p:nvSpPr>
          <p:cNvPr id="12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2</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for wireless LAN in 5GHz band to success, we consider that there exist three points, scalability, performance and cos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for scalability issue, the wireless LAN system can support a large number of wireless terminals simultaneously. From the point of a system design’s view, it is one solution for the issue to reuse channels in separate places. In order to do this, the wireless LAN system needs to provide as many channels as possible in a limited band bandwidth.</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e of important factor to decide wireless LAN system performances is a robustness against multipath fading. In January meeting, many people in 802.11 agreed that the wireless LAN system should work in multipath fading environments with delay spread of 100-150nsec.</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t is important for successful wireless LANs to be provided at a competitive cost with wired LAN equipment. Moreover, it is also important to support several kinds of customers. Some customers requires high-end wireless LANs which can work in multipath environments of several hundreds nsec and may be expensive. Some customers use low-end wireless LANs which are low cost but work only in an office. In this way, it is important for standard to be able to provide several kinds of products, which each vender decid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371600" y="768240"/>
            <a:ext cx="5029200" cy="3767400"/>
          </a:xfrm>
          <a:prstGeom prst="rect">
            <a:avLst/>
          </a:prstGeom>
          <a:ln w="0">
            <a:noFill/>
          </a:ln>
        </p:spPr>
      </p:sp>
      <p:sp>
        <p:nvSpPr>
          <p:cNvPr id="12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graph shows a concept of power consumption in transmitter and receiver. Because small backoff of PA is available for single carrier systems, analogue part in transmitter power consumption can be reduced.  In digital part, both OFDM and single carrier need transmission power shaping. However, IFFT in OFDM may be impact on power consumption on digital par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receiver, both OFDM and single carriers needs coherent detection. Hence, their power consumption can be considered to be almost same. As for the digital part, OFDM and single carrier  uses FFT and equalizer, respectively. It is considered to be almost same power consumption.</a:t>
            </a:r>
            <a:endParaRPr b="0" lang="en-US" sz="12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3</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371600" y="768240"/>
            <a:ext cx="5029200" cy="3767400"/>
          </a:xfrm>
          <a:prstGeom prst="rect">
            <a:avLst/>
          </a:prstGeom>
          <a:ln w="0">
            <a:noFill/>
          </a:ln>
        </p:spPr>
      </p:sp>
      <p:sp>
        <p:nvSpPr>
          <p:cNvPr id="12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4</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satisfy the requirements in the previous page, we have submitted doc 98/74r1 as a comparison data of our proposa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371600" y="768240"/>
            <a:ext cx="5029200" cy="3767400"/>
          </a:xfrm>
          <a:prstGeom prst="rect">
            <a:avLst/>
          </a:prstGeom>
          <a:ln w="0">
            <a:noFill/>
          </a:ln>
        </p:spPr>
      </p:sp>
      <p:sp>
        <p:nvSpPr>
          <p:cNvPr id="12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5</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ur proposal, equalization method is one of important key points. This graph shows a conceptual comparisons of several equalization methods. MLSE has an excellent capability for delay spread. However, implementation is very complex. DDFSE reduces the MLSE’s implementation complexity by effectively using decision results.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n the other hand, DFE can be realized with lower implementation complexity. However, it requires a feed forward filter with many taps to overcome distortions cased by pre-cursor components,  which include complex multipliers. Hence, in multipath environments with longer delay spread, the feed forward will dominate its implementation complex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order to realize wireless LANs, an equalizer plotted in a right-down area in the figure is important. We consider that the MLSCE, which we have used to show comparison data is one example of such an equalize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way, several kinds of equalization methods can be applied to QPSK modulation. We consider this feature can provide venders flexibility of their implementation.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371600" y="768240"/>
            <a:ext cx="5029200" cy="3767400"/>
          </a:xfrm>
          <a:prstGeom prst="rect">
            <a:avLst/>
          </a:prstGeom>
          <a:ln w="0">
            <a:noFill/>
          </a:ln>
        </p:spPr>
      </p:sp>
      <p:sp>
        <p:nvSpPr>
          <p:cNvPr id="1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6</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graph shows rough estimation of throughput versus the number of channels in a cell based on our proposed configuration of 25Mbps. Hidden terminals degrade the throughput in a cell larger than 60m.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5 channel configuration can achieve about 11Mbps throughput. We would like to explain mode detail in the next meeting for capacit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371600" y="768240"/>
            <a:ext cx="5029200" cy="3767400"/>
          </a:xfrm>
          <a:prstGeom prst="rect">
            <a:avLst/>
          </a:prstGeom>
          <a:ln w="0">
            <a:noFill/>
          </a:ln>
        </p:spPr>
      </p:sp>
      <p:sp>
        <p:nvSpPr>
          <p:cNvPr id="1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7</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ur proposal supports 25Mbps and 20.3125Mbps. In 20.3125Mbps, we use an expanded BCH codes of (32,26,3).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hannel separation of 18.75MHz realizes no adjacent channel interference with an ideal transmitter and receive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hannel allocations of lower, middle and upper bands are described in doc 98/74r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e calculated maximum power based on the spectrum mask in the following slide by using 2.5mW/MHz, 12.5mW/MHz and 50mW/MHz for lower, middle and upper band, respective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formance graphs are described in doc 98/74.</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371600" y="768240"/>
            <a:ext cx="5029200" cy="3767400"/>
          </a:xfrm>
          <a:prstGeom prst="rect">
            <a:avLst/>
          </a:prstGeom>
          <a:ln w="0">
            <a:noFill/>
          </a:ln>
        </p:spPr>
      </p:sp>
      <p:sp>
        <p:nvSpPr>
          <p:cNvPr id="1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8</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figure shows a spectrum mask we used to evaluate maximum transmission pow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371600" y="768240"/>
            <a:ext cx="5029200" cy="3767400"/>
          </a:xfrm>
          <a:prstGeom prst="rect">
            <a:avLst/>
          </a:prstGeom>
          <a:ln w="0">
            <a:noFill/>
          </a:ln>
        </p:spPr>
      </p:sp>
      <p:sp>
        <p:nvSpPr>
          <p:cNvPr id="1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000" spc="-1" strike="noStrike">
                <a:solidFill>
                  <a:srgbClr val="000000"/>
                </a:solidFill>
                <a:latin typeface="Times New Roman"/>
                <a:ea typeface="Times New Roman"/>
              </a:rPr>
              <a:t>Month 1998</a:t>
            </a:r>
            <a:endParaRPr b="0" lang="en-US" sz="1000" spc="-1" strike="noStrike">
              <a:solidFill>
                <a:srgbClr val="000000"/>
              </a:solidFill>
              <a:latin typeface="Arial"/>
            </a:endParaRPr>
          </a:p>
          <a:p>
            <a:pPr indent="0" algn="r">
              <a:lnSpc>
                <a:spcPct val="100000"/>
              </a:lnSpc>
              <a:buNone/>
            </a:pPr>
            <a:r>
              <a:rPr b="0" lang="en-US" sz="1000" spc="-1" strike="noStrike">
                <a:solidFill>
                  <a:srgbClr val="000000"/>
                </a:solidFill>
                <a:latin typeface="Times New Roman"/>
                <a:ea typeface="Times New Roman"/>
              </a:rPr>
              <a:t>Page 9</a:t>
            </a:r>
            <a:endParaRPr b="0" lang="en-US" sz="1000" spc="-1" strike="noStrike">
              <a:solidFill>
                <a:srgbClr val="000000"/>
              </a:solidFill>
              <a:latin typeface="Arial"/>
            </a:endParaRPr>
          </a:p>
          <a:p>
            <a:pPr indent="0">
              <a:lnSpc>
                <a:spcPct val="100000"/>
              </a:lnSpc>
              <a:buNone/>
            </a:pPr>
            <a:r>
              <a:rPr b="0" lang="en-US" sz="1000" spc="-1" strike="noStrike">
                <a:solidFill>
                  <a:srgbClr val="000000"/>
                </a:solidFill>
                <a:latin typeface="Times New Roman"/>
                <a:ea typeface="Times New Roman"/>
              </a:rPr>
              <a:t>Submission</a:t>
            </a:r>
            <a:endParaRPr b="0" lang="en-US" sz="10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a sensitivity, we assumed the following valu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noise floor: -174 db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ise figure +10db</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 implementation loss 5db</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erformances of CCI, ACI and Alternate channel interference are described in doc 98/74r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95000" y="160452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950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50928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523200" y="160452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950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50928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523200" y="3682080"/>
            <a:ext cx="287028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95000" y="1604520"/>
            <a:ext cx="89150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95000" y="1604520"/>
            <a:ext cx="89150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000" y="273600"/>
            <a:ext cx="89150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506304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9500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95000" y="1604520"/>
            <a:ext cx="4350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5063040" y="368208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9500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5063040" y="1604520"/>
            <a:ext cx="4350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95000" y="3682080"/>
            <a:ext cx="89150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90612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858000" y="228600"/>
            <a:ext cx="2819520" cy="457200"/>
          </a:xfrm>
          <a:prstGeom prst="rect">
            <a:avLst/>
          </a:prstGeom>
          <a:noFill/>
          <a:ln w="0">
            <a:noFill/>
          </a:ln>
        </p:spPr>
        <p:txBody>
          <a:bodyPr lIns="0" rIns="0" tIns="0" bIns="0" anchor="t">
            <a:noAutofit/>
          </a:bodyPr>
          <a:p>
            <a:pPr marL="762120">
              <a:lnSpc>
                <a:spcPct val="100000"/>
              </a:lnSpc>
            </a:pPr>
            <a:r>
              <a:rPr b="1" lang="en-US" sz="1400" spc="-1" strike="noStrike">
                <a:solidFill>
                  <a:srgbClr val="000000"/>
                </a:solidFill>
                <a:latin typeface="Times New Roman"/>
                <a:ea typeface="Times New Roman"/>
              </a:rPr>
              <a:t>doc.: IEEE 802.11-98/113</a:t>
            </a:r>
            <a:endParaRPr b="0" lang="en-US" sz="1400" spc="-1" strike="noStrike">
              <a:solidFill>
                <a:srgbClr val="000000"/>
              </a:solidFill>
              <a:latin typeface="Arial"/>
            </a:endParaRPr>
          </a:p>
        </p:txBody>
      </p:sp>
      <p:sp>
        <p:nvSpPr>
          <p:cNvPr id="2" name=""/>
          <p:cNvSpPr/>
          <p:nvPr/>
        </p:nvSpPr>
        <p:spPr>
          <a:xfrm>
            <a:off x="1440" y="609480"/>
            <a:ext cx="990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 name=""/>
          <p:cNvSpPr txBox="1"/>
          <p:nvPr/>
        </p:nvSpPr>
        <p:spPr>
          <a:xfrm>
            <a:off x="644400" y="6448320"/>
            <a:ext cx="892080" cy="2714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4" name=""/>
          <p:cNvSpPr/>
          <p:nvPr/>
        </p:nvSpPr>
        <p:spPr>
          <a:xfrm>
            <a:off x="760320" y="6477120"/>
            <a:ext cx="8472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 name=""/>
          <p:cNvSpPr txBox="1"/>
          <p:nvPr/>
        </p:nvSpPr>
        <p:spPr>
          <a:xfrm>
            <a:off x="5943600" y="6394320"/>
            <a:ext cx="3384720" cy="457200"/>
          </a:xfrm>
          <a:prstGeom prst="rect">
            <a:avLst/>
          </a:prstGeom>
          <a:noFill/>
          <a:ln w="0">
            <a:noFill/>
          </a:ln>
        </p:spPr>
        <p:txBody>
          <a:bodyPr lIns="0" rIns="0" tIns="0" bIns="0" anchor="t">
            <a:noAutofit/>
          </a:bodyPr>
          <a:p>
            <a:pPr algn="r">
              <a:lnSpc>
                <a:spcPct val="100000"/>
              </a:lnSpc>
            </a:pPr>
            <a:r>
              <a:rPr b="0" lang="en-US" sz="1400" spc="-1" strike="noStrike">
                <a:solidFill>
                  <a:srgbClr val="000000"/>
                </a:solidFill>
                <a:latin typeface="Times New Roman"/>
                <a:ea typeface="Times New Roman"/>
              </a:rPr>
              <a:t>Okanoue,Kakura,Ohsawa, NEC Corp.</a:t>
            </a:r>
            <a:endParaRPr b="0" lang="en-US" sz="1400" spc="-1" strike="noStrike">
              <a:solidFill>
                <a:srgbClr val="000000"/>
              </a:solidFill>
              <a:latin typeface="Arial"/>
            </a:endParaRPr>
          </a:p>
        </p:txBody>
      </p:sp>
      <p:sp>
        <p:nvSpPr>
          <p:cNvPr id="6" name=""/>
          <p:cNvSpPr txBox="1"/>
          <p:nvPr/>
        </p:nvSpPr>
        <p:spPr>
          <a:xfrm>
            <a:off x="228600" y="304920"/>
            <a:ext cx="10969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March 1998</a:t>
            </a:r>
            <a:endParaRPr b="0" lang="en-US" sz="1400" spc="-1" strike="noStrike">
              <a:solidFill>
                <a:srgbClr val="000000"/>
              </a:solidFill>
              <a:latin typeface="Arial"/>
            </a:endParaRPr>
          </a:p>
        </p:txBody>
      </p:sp>
      <p:sp>
        <p:nvSpPr>
          <p:cNvPr id="7" name="PlaceHolder 1"/>
          <p:cNvSpPr>
            <a:spLocks noGrp="1"/>
          </p:cNvSpPr>
          <p:nvPr>
            <p:ph type="title"/>
          </p:nvPr>
        </p:nvSpPr>
        <p:spPr>
          <a:xfrm>
            <a:off x="495000" y="273600"/>
            <a:ext cx="89150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95000" y="1604520"/>
            <a:ext cx="89150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a:t>
            </a:r>
            <a:endParaRPr b="0" lang="en-US" sz="1400" spc="-1" strike="noStrike">
              <a:solidFill>
                <a:srgbClr val="000000"/>
              </a:solidFill>
              <a:latin typeface="Arial"/>
            </a:endParaRPr>
          </a:p>
        </p:txBody>
      </p:sp>
      <p:sp>
        <p:nvSpPr>
          <p:cNvPr id="52" name=""/>
          <p:cNvSpPr txBox="1"/>
          <p:nvPr/>
        </p:nvSpPr>
        <p:spPr>
          <a:xfrm>
            <a:off x="457200" y="2133720"/>
            <a:ext cx="9144000" cy="3581280"/>
          </a:xfrm>
          <a:prstGeom prst="rect">
            <a:avLst/>
          </a:prstGeom>
          <a:noFill/>
          <a:ln w="0">
            <a:noFill/>
          </a:ln>
        </p:spPr>
        <p:txBody>
          <a:bodyPr lIns="0" rIns="0" tIns="0" bIns="0" anchor="t">
            <a:noAutofit/>
          </a:bodyPr>
          <a:p>
            <a:pPr algn="ctr">
              <a:lnSpc>
                <a:spcPct val="100000"/>
              </a:lnSpc>
              <a:spcAft>
                <a:spcPts val="2401"/>
              </a:spcAft>
            </a:pPr>
            <a:r>
              <a:rPr b="1" lang="en-US" sz="2800" spc="-1" strike="noStrike">
                <a:solidFill>
                  <a:srgbClr val="000000"/>
                </a:solidFill>
                <a:latin typeface="Times New Roman"/>
                <a:ea typeface="Times New Roman"/>
              </a:rPr>
              <a:t>Complement to Comparison DATA of QPSK modulation</a:t>
            </a:r>
            <a:br>
              <a:rPr sz="2800"/>
            </a:br>
            <a:br>
              <a:rPr sz="1800"/>
            </a:br>
            <a:r>
              <a:rPr b="0" lang="en-US" sz="2400" spc="-1" strike="noStrike">
                <a:solidFill>
                  <a:srgbClr val="000000"/>
                </a:solidFill>
                <a:latin typeface="Times New Roman"/>
                <a:ea typeface="Times New Roman"/>
              </a:rPr>
              <a:t>March, 1998</a:t>
            </a:r>
            <a:br>
              <a:rPr sz="2400"/>
            </a:br>
            <a:r>
              <a:rPr b="0" lang="en-US" sz="2400" spc="-1" strike="noStrike">
                <a:solidFill>
                  <a:srgbClr val="000000"/>
                </a:solidFill>
                <a:latin typeface="Times New Roman"/>
                <a:ea typeface="Times New Roman"/>
              </a:rPr>
              <a:t>Kazuhiro OKANOUE, Yoshikazu KAKURA, Tomoki OHSAWA </a:t>
            </a:r>
            <a:br>
              <a:rPr sz="2400"/>
            </a:br>
            <a:r>
              <a:rPr b="0" lang="en-US" sz="2400" spc="-1" strike="noStrike">
                <a:solidFill>
                  <a:srgbClr val="000000"/>
                </a:solidFill>
                <a:latin typeface="Times New Roman"/>
                <a:ea typeface="Times New Roman"/>
              </a:rPr>
              <a:t>NEC Corporation</a:t>
            </a:r>
            <a:br>
              <a:rPr sz="2400"/>
            </a:br>
            <a:br>
              <a:rPr sz="2400"/>
            </a:br>
            <a:r>
              <a:rPr b="0" lang="en-US" sz="2400" spc="-1" strike="noStrike">
                <a:solidFill>
                  <a:srgbClr val="000000"/>
                </a:solidFill>
                <a:latin typeface="Times New Roman"/>
                <a:ea typeface="Times New Roman"/>
              </a:rPr>
              <a:t>4-1-1, Miyazaki, Miyamae-ku, Kawasaki, 216-8555, JAPAN</a:t>
            </a:r>
            <a:br>
              <a:rPr sz="2400"/>
            </a:br>
            <a:r>
              <a:rPr b="0" lang="en-US" sz="2400" spc="-1" strike="noStrike">
                <a:solidFill>
                  <a:srgbClr val="000000"/>
                </a:solidFill>
                <a:latin typeface="Times New Roman"/>
                <a:ea typeface="Times New Roman"/>
              </a:rPr>
              <a:t>Tel: +81 44 856 2255</a:t>
            </a:r>
            <a:br>
              <a:rPr sz="2400"/>
            </a:br>
            <a:r>
              <a:rPr b="0" lang="en-US" sz="2400" spc="-1" strike="noStrike">
                <a:solidFill>
                  <a:srgbClr val="000000"/>
                </a:solidFill>
                <a:latin typeface="Times New Roman"/>
                <a:ea typeface="Times New Roman"/>
              </a:rPr>
              <a:t>Fax: +81 44 856 2230</a:t>
            </a:r>
            <a:br>
              <a:rPr sz="2400"/>
            </a:br>
            <a:r>
              <a:rPr b="0" lang="en-US" sz="2400" spc="-1" strike="noStrike">
                <a:solidFill>
                  <a:srgbClr val="000000"/>
                </a:solidFill>
                <a:latin typeface="Times New Roman"/>
                <a:ea typeface="Times New Roman"/>
              </a:rPr>
              <a:t>E-mail:{okanoue,kakura,ohsawa}@ccm.CL.nec.co.jp</a:t>
            </a:r>
            <a:endParaRPr b="0" lang="en-US" sz="2400" spc="-1" strike="noStrike">
              <a:solidFill>
                <a:srgbClr val="000000"/>
              </a:solidFill>
              <a:latin typeface="Arial"/>
            </a:endParaRPr>
          </a:p>
        </p:txBody>
      </p:sp>
      <p:sp>
        <p:nvSpPr>
          <p:cNvPr id="53" name=""/>
          <p:cNvSpPr txBox="1"/>
          <p:nvPr/>
        </p:nvSpPr>
        <p:spPr>
          <a:xfrm>
            <a:off x="3738600" y="749160"/>
            <a:ext cx="2462040" cy="942840"/>
          </a:xfrm>
          <a:prstGeom prst="rect">
            <a:avLst/>
          </a:prstGeom>
          <a:no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IEEE P802.11</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Times New Roman"/>
                <a:ea typeface="Times New Roman"/>
              </a:rPr>
              <a:t>Wireless LANs</a:t>
            </a:r>
            <a:endParaRPr b="0" lang="en-US" sz="2800" spc="-1" strike="noStrike">
              <a:solidFill>
                <a:srgbClr val="000000"/>
              </a:solidFill>
              <a:latin typeface="Arial"/>
            </a:endParaRPr>
          </a:p>
        </p:txBody>
      </p:sp>
      <p:sp>
        <p:nvSpPr>
          <p:cNvPr id="54" name=""/>
          <p:cNvSpPr/>
          <p:nvPr/>
        </p:nvSpPr>
        <p:spPr>
          <a:xfrm>
            <a:off x="33480" y="1676520"/>
            <a:ext cx="9847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0</a:t>
            </a:r>
            <a:endParaRPr b="0" lang="en-US" sz="1400" spc="-1" strike="noStrike">
              <a:solidFill>
                <a:srgbClr val="000000"/>
              </a:solidFill>
              <a:latin typeface="Arial"/>
            </a:endParaRPr>
          </a:p>
        </p:txBody>
      </p:sp>
      <p:sp>
        <p:nvSpPr>
          <p:cNvPr id="102" name=""/>
          <p:cNvSpPr txBox="1"/>
          <p:nvPr/>
        </p:nvSpPr>
        <p:spPr>
          <a:xfrm>
            <a:off x="743040" y="838080"/>
            <a:ext cx="8420040" cy="9032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Rate Performance Summary </a:t>
            </a:r>
            <a:br>
              <a:rPr sz="3200"/>
            </a:br>
            <a:r>
              <a:rPr b="0" lang="en-US" sz="3200" spc="-1" strike="noStrike">
                <a:solidFill>
                  <a:srgbClr val="000000"/>
                </a:solidFill>
                <a:latin typeface="Times New Roman"/>
                <a:ea typeface="Times New Roman"/>
              </a:rPr>
              <a:t>(Simple Implementation)</a:t>
            </a:r>
            <a:endParaRPr b="0" lang="en-US" sz="3200" spc="-1" strike="noStrike">
              <a:solidFill>
                <a:srgbClr val="000000"/>
              </a:solidFill>
              <a:latin typeface="Arial"/>
            </a:endParaRPr>
          </a:p>
        </p:txBody>
      </p:sp>
      <p:pic>
        <p:nvPicPr>
          <p:cNvPr id="103" name="" descr=""/>
          <p:cNvPicPr/>
          <p:nvPr/>
        </p:nvPicPr>
        <p:blipFill>
          <a:blip r:embed="rId1"/>
          <a:stretch/>
        </p:blipFill>
        <p:spPr>
          <a:xfrm>
            <a:off x="838080" y="1962000"/>
            <a:ext cx="8412120" cy="382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1</a:t>
            </a:r>
            <a:endParaRPr b="0" lang="en-US" sz="1400" spc="-1" strike="noStrike">
              <a:solidFill>
                <a:srgbClr val="000000"/>
              </a:solidFill>
              <a:latin typeface="Arial"/>
            </a:endParaRPr>
          </a:p>
        </p:txBody>
      </p:sp>
      <p:sp>
        <p:nvSpPr>
          <p:cNvPr id="105" name=""/>
          <p:cNvSpPr txBox="1"/>
          <p:nvPr/>
        </p:nvSpPr>
        <p:spPr>
          <a:xfrm>
            <a:off x="743040" y="838080"/>
            <a:ext cx="8420040" cy="90324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Rate Performance Summary</a:t>
            </a:r>
            <a:br>
              <a:rPr sz="3200"/>
            </a:br>
            <a:r>
              <a:rPr b="0" lang="en-US" sz="3200" spc="-1" strike="noStrike">
                <a:solidFill>
                  <a:srgbClr val="000000"/>
                </a:solidFill>
                <a:latin typeface="Times New Roman"/>
                <a:ea typeface="Times New Roman"/>
              </a:rPr>
              <a:t> (Complex Implementation)</a:t>
            </a:r>
            <a:endParaRPr b="0" lang="en-US" sz="3200" spc="-1" strike="noStrike">
              <a:solidFill>
                <a:srgbClr val="000000"/>
              </a:solidFill>
              <a:latin typeface="Arial"/>
            </a:endParaRPr>
          </a:p>
        </p:txBody>
      </p:sp>
      <p:pic>
        <p:nvPicPr>
          <p:cNvPr id="106" name="" descr=""/>
          <p:cNvPicPr/>
          <p:nvPr/>
        </p:nvPicPr>
        <p:blipFill>
          <a:blip r:embed="rId1"/>
          <a:stretch/>
        </p:blipFill>
        <p:spPr>
          <a:xfrm>
            <a:off x="1014480" y="1886040"/>
            <a:ext cx="8242200" cy="3825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2</a:t>
            </a:r>
            <a:endParaRPr b="0" lang="en-US" sz="1400" spc="-1" strike="noStrike">
              <a:solidFill>
                <a:srgbClr val="000000"/>
              </a:solidFill>
              <a:latin typeface="Arial"/>
            </a:endParaRPr>
          </a:p>
        </p:txBody>
      </p:sp>
      <p:sp>
        <p:nvSpPr>
          <p:cNvPr id="108" name=""/>
          <p:cNvSpPr txBox="1"/>
          <p:nvPr/>
        </p:nvSpPr>
        <p:spPr>
          <a:xfrm>
            <a:off x="743040" y="76212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iming and Overhead related Summary</a:t>
            </a:r>
            <a:endParaRPr b="0" lang="en-US" sz="3200" spc="-1" strike="noStrike">
              <a:solidFill>
                <a:srgbClr val="000000"/>
              </a:solidFill>
              <a:latin typeface="Arial"/>
            </a:endParaRPr>
          </a:p>
        </p:txBody>
      </p:sp>
      <p:pic>
        <p:nvPicPr>
          <p:cNvPr id="109" name="" descr=""/>
          <p:cNvPicPr/>
          <p:nvPr/>
        </p:nvPicPr>
        <p:blipFill>
          <a:blip r:embed="rId1"/>
          <a:stretch/>
        </p:blipFill>
        <p:spPr>
          <a:xfrm>
            <a:off x="2666880" y="1371600"/>
            <a:ext cx="4592520" cy="4826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13</a:t>
            </a:r>
            <a:endParaRPr b="0" lang="en-US" sz="1400" spc="-1" strike="noStrike">
              <a:solidFill>
                <a:srgbClr val="000000"/>
              </a:solidFill>
              <a:latin typeface="Arial"/>
            </a:endParaRPr>
          </a:p>
        </p:txBody>
      </p:sp>
      <p:sp>
        <p:nvSpPr>
          <p:cNvPr id="111"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lotTime and SIFSTime</a:t>
            </a:r>
            <a:endParaRPr b="0" lang="en-US" sz="3200" spc="-1" strike="noStrike">
              <a:solidFill>
                <a:srgbClr val="000000"/>
              </a:solidFill>
              <a:latin typeface="Arial"/>
            </a:endParaRPr>
          </a:p>
        </p:txBody>
      </p:sp>
      <p:pic>
        <p:nvPicPr>
          <p:cNvPr id="112" name="" descr=""/>
          <p:cNvPicPr/>
          <p:nvPr/>
        </p:nvPicPr>
        <p:blipFill>
          <a:blip r:embed="rId1"/>
          <a:stretch/>
        </p:blipFill>
        <p:spPr>
          <a:xfrm>
            <a:off x="2362320" y="2666880"/>
            <a:ext cx="5270400" cy="2806560"/>
          </a:xfrm>
          <a:prstGeom prst="rect">
            <a:avLst/>
          </a:prstGeom>
          <a:ln w="0">
            <a:noFill/>
          </a:ln>
        </p:spPr>
      </p:pic>
      <p:sp>
        <p:nvSpPr>
          <p:cNvPr id="113" name=""/>
          <p:cNvSpPr txBox="1"/>
          <p:nvPr/>
        </p:nvSpPr>
        <p:spPr>
          <a:xfrm>
            <a:off x="249120" y="1523880"/>
            <a:ext cx="9388440" cy="3938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lotTime=CCATime+RxTxTurnaroundTime+AirPropagationTime+MACProcessingTime</a:t>
            </a:r>
            <a:endParaRPr b="0" lang="en-US" sz="2000" spc="-1" strike="noStrike">
              <a:solidFill>
                <a:srgbClr val="000000"/>
              </a:solidFill>
              <a:latin typeface="Arial"/>
            </a:endParaRPr>
          </a:p>
        </p:txBody>
      </p:sp>
      <p:sp>
        <p:nvSpPr>
          <p:cNvPr id="114" name=""/>
          <p:cNvSpPr txBox="1"/>
          <p:nvPr/>
        </p:nvSpPr>
        <p:spPr>
          <a:xfrm>
            <a:off x="249120" y="2057400"/>
            <a:ext cx="9121680" cy="393840"/>
          </a:xfrm>
          <a:prstGeom prst="rect">
            <a:avLst/>
          </a:prstGeom>
          <a:noFill/>
          <a:ln w="0">
            <a:noFill/>
          </a:ln>
        </p:spPr>
        <p:txBody>
          <a:bodyPr lIns="0" rIns="0" tIns="0" bIns="0" anchor="t">
            <a:noAutofit/>
          </a:bodyPr>
          <a:p>
            <a:pPr>
              <a:lnSpc>
                <a:spcPct val="100000"/>
              </a:lnSpc>
            </a:pPr>
            <a:r>
              <a:rPr b="0" lang="en-US" sz="2000" spc="-1" strike="noStrike">
                <a:solidFill>
                  <a:srgbClr val="000000"/>
                </a:solidFill>
                <a:latin typeface="Times New Roman"/>
                <a:ea typeface="Times New Roman"/>
              </a:rPr>
              <a:t>SIFSTime=RxRFDelay+RxPLCPDelay+MACProcessingDelay+RxTxTurnaroundTime</a:t>
            </a:r>
            <a:endParaRPr b="0" lang="en-US" sz="2000" spc="-1" strike="noStrike">
              <a:solidFill>
                <a:srgbClr val="000000"/>
              </a:solidFill>
              <a:latin typeface="Arial"/>
            </a:endParaRPr>
          </a:p>
        </p:txBody>
      </p:sp>
      <p:sp>
        <p:nvSpPr>
          <p:cNvPr id="115" name=""/>
          <p:cNvSpPr txBox="1"/>
          <p:nvPr/>
        </p:nvSpPr>
        <p:spPr>
          <a:xfrm>
            <a:off x="1509840" y="5402160"/>
            <a:ext cx="2781360" cy="5158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SlotTime=8.9usec</a:t>
            </a:r>
            <a:endParaRPr b="0" lang="en-US" sz="2800" spc="-1" strike="noStrike">
              <a:solidFill>
                <a:srgbClr val="000000"/>
              </a:solidFill>
              <a:latin typeface="Arial"/>
            </a:endParaRPr>
          </a:p>
        </p:txBody>
      </p:sp>
      <p:sp>
        <p:nvSpPr>
          <p:cNvPr id="116" name=""/>
          <p:cNvSpPr txBox="1"/>
          <p:nvPr/>
        </p:nvSpPr>
        <p:spPr>
          <a:xfrm>
            <a:off x="5030640" y="5411880"/>
            <a:ext cx="2919240" cy="51588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SIFSTime=7.4use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2</a:t>
            </a:r>
            <a:endParaRPr b="0" lang="en-US" sz="1400" spc="-1" strike="noStrike">
              <a:solidFill>
                <a:srgbClr val="000000"/>
              </a:solidFill>
              <a:latin typeface="Arial"/>
            </a:endParaRPr>
          </a:p>
        </p:txBody>
      </p:sp>
      <p:sp>
        <p:nvSpPr>
          <p:cNvPr id="56"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Requirements for 5GHz Wireless LAN</a:t>
            </a:r>
            <a:endParaRPr b="0" lang="en-US" sz="3200" spc="-1" strike="noStrike">
              <a:solidFill>
                <a:srgbClr val="000000"/>
              </a:solidFill>
              <a:latin typeface="Arial"/>
            </a:endParaRPr>
          </a:p>
        </p:txBody>
      </p:sp>
      <p:sp>
        <p:nvSpPr>
          <p:cNvPr id="57" name=""/>
          <p:cNvSpPr txBox="1"/>
          <p:nvPr/>
        </p:nvSpPr>
        <p:spPr>
          <a:xfrm>
            <a:off x="2514600" y="3048120"/>
            <a:ext cx="5613480" cy="13716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Large system capacity</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Robustness against multipath fading</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Implementation (simple and flexible)</a:t>
            </a:r>
            <a:endParaRPr b="0" lang="en-US" sz="2400" spc="-1" strike="noStrike">
              <a:solidFill>
                <a:srgbClr val="000000"/>
              </a:solidFill>
              <a:latin typeface="Arial"/>
            </a:endParaRPr>
          </a:p>
        </p:txBody>
      </p:sp>
      <p:sp>
        <p:nvSpPr>
          <p:cNvPr id="58" name=""/>
          <p:cNvSpPr/>
          <p:nvPr/>
        </p:nvSpPr>
        <p:spPr>
          <a:xfrm>
            <a:off x="1768320" y="2813040"/>
            <a:ext cx="6369120" cy="19940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 name=""/>
          <p:cNvSpPr txBox="1"/>
          <p:nvPr/>
        </p:nvSpPr>
        <p:spPr>
          <a:xfrm>
            <a:off x="7585200" y="5232240"/>
            <a:ext cx="833400" cy="515880"/>
          </a:xfrm>
          <a:prstGeom prst="rect">
            <a:avLst/>
          </a:prstGeom>
          <a:noFill/>
          <a:ln w="0">
            <a:noFill/>
          </a:ln>
        </p:spPr>
        <p:txBody>
          <a:bodyPr lIns="0" rIns="0" tIns="0" bIns="0" anchor="t">
            <a:noAutofit/>
          </a:bodyPr>
          <a:p>
            <a:pPr>
              <a:lnSpc>
                <a:spcPct val="100000"/>
              </a:lnSpc>
            </a:pPr>
            <a:r>
              <a:rPr b="1" i="1" lang="en-US" sz="2800" spc="-1" strike="noStrike">
                <a:solidFill>
                  <a:srgbClr val="00cc00"/>
                </a:solidFill>
                <a:latin typeface="Times New Roman"/>
                <a:ea typeface="Times New Roman"/>
              </a:rPr>
              <a:t>Cost</a:t>
            </a:r>
            <a:endParaRPr b="0" lang="en-US" sz="2800" spc="-1" strike="noStrike">
              <a:solidFill>
                <a:srgbClr val="000000"/>
              </a:solidFill>
              <a:latin typeface="Arial"/>
            </a:endParaRPr>
          </a:p>
        </p:txBody>
      </p:sp>
      <p:sp>
        <p:nvSpPr>
          <p:cNvPr id="60" name=""/>
          <p:cNvSpPr txBox="1"/>
          <p:nvPr/>
        </p:nvSpPr>
        <p:spPr>
          <a:xfrm>
            <a:off x="738360" y="5273640"/>
            <a:ext cx="2097000" cy="515880"/>
          </a:xfrm>
          <a:prstGeom prst="rect">
            <a:avLst/>
          </a:prstGeom>
          <a:noFill/>
          <a:ln w="0">
            <a:noFill/>
          </a:ln>
        </p:spPr>
        <p:txBody>
          <a:bodyPr lIns="0" rIns="0" tIns="0" bIns="0" anchor="t">
            <a:noAutofit/>
          </a:bodyPr>
          <a:p>
            <a:pPr>
              <a:lnSpc>
                <a:spcPct val="100000"/>
              </a:lnSpc>
            </a:pPr>
            <a:r>
              <a:rPr b="1" i="1" lang="en-US" sz="2800" spc="-1" strike="noStrike">
                <a:solidFill>
                  <a:srgbClr val="00cc00"/>
                </a:solidFill>
                <a:latin typeface="Times New Roman"/>
                <a:ea typeface="Times New Roman"/>
              </a:rPr>
              <a:t>Performance</a:t>
            </a:r>
            <a:endParaRPr b="0" lang="en-US" sz="2800" spc="-1" strike="noStrike">
              <a:solidFill>
                <a:srgbClr val="000000"/>
              </a:solidFill>
              <a:latin typeface="Arial"/>
            </a:endParaRPr>
          </a:p>
        </p:txBody>
      </p:sp>
      <p:sp>
        <p:nvSpPr>
          <p:cNvPr id="61" name=""/>
          <p:cNvSpPr txBox="1"/>
          <p:nvPr/>
        </p:nvSpPr>
        <p:spPr>
          <a:xfrm>
            <a:off x="4103640" y="1512720"/>
            <a:ext cx="1722600" cy="515880"/>
          </a:xfrm>
          <a:prstGeom prst="rect">
            <a:avLst/>
          </a:prstGeom>
          <a:noFill/>
          <a:ln w="0">
            <a:noFill/>
          </a:ln>
        </p:spPr>
        <p:txBody>
          <a:bodyPr lIns="0" rIns="0" tIns="0" bIns="0" anchor="t">
            <a:noAutofit/>
          </a:bodyPr>
          <a:p>
            <a:pPr>
              <a:lnSpc>
                <a:spcPct val="100000"/>
              </a:lnSpc>
            </a:pPr>
            <a:r>
              <a:rPr b="1" i="1" lang="en-US" sz="2800" spc="-1" strike="noStrike">
                <a:solidFill>
                  <a:srgbClr val="00cc00"/>
                </a:solidFill>
                <a:latin typeface="Times New Roman"/>
                <a:ea typeface="Times New Roman"/>
              </a:rPr>
              <a:t>Scalability</a:t>
            </a:r>
            <a:endParaRPr b="0" lang="en-US" sz="2800" spc="-1" strike="noStrike">
              <a:solidFill>
                <a:srgbClr val="000000"/>
              </a:solidFill>
              <a:latin typeface="Arial"/>
            </a:endParaRPr>
          </a:p>
        </p:txBody>
      </p:sp>
      <p:sp>
        <p:nvSpPr>
          <p:cNvPr id="62" name=""/>
          <p:cNvSpPr/>
          <p:nvPr/>
        </p:nvSpPr>
        <p:spPr>
          <a:xfrm>
            <a:off x="1768320" y="2813040"/>
            <a:ext cx="6369120" cy="199404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3" name=""/>
          <p:cNvSpPr/>
          <p:nvPr/>
        </p:nvSpPr>
        <p:spPr>
          <a:xfrm>
            <a:off x="4616280" y="2050920"/>
            <a:ext cx="756000" cy="775080"/>
          </a:xfrm>
          <a:custGeom>
            <a:avLst/>
            <a:gdLst/>
            <a:ahLst/>
            <a:rect l="0" t="0" r="r" b="b"/>
            <a:pathLst>
              <a:path w="2100" h="2153">
                <a:moveTo>
                  <a:pt x="2100" y="717"/>
                </a:moveTo>
                <a:lnTo>
                  <a:pt x="2100" y="1434"/>
                </a:lnTo>
                <a:lnTo>
                  <a:pt x="629" y="1434"/>
                </a:lnTo>
                <a:lnTo>
                  <a:pt x="629" y="2153"/>
                </a:lnTo>
                <a:lnTo>
                  <a:pt x="0" y="1076"/>
                </a:lnTo>
                <a:lnTo>
                  <a:pt x="629" y="0"/>
                </a:lnTo>
                <a:lnTo>
                  <a:pt x="629" y="717"/>
                </a:lnTo>
                <a:lnTo>
                  <a:pt x="2100" y="717"/>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2168280" y="4588200"/>
            <a:ext cx="736560" cy="739800"/>
          </a:xfrm>
          <a:custGeom>
            <a:avLst/>
            <a:gdLst/>
            <a:ahLst/>
            <a:rect l="0" t="0" r="r" b="b"/>
            <a:pathLst>
              <a:path w="2046" h="2055">
                <a:moveTo>
                  <a:pt x="0" y="1596"/>
                </a:moveTo>
                <a:lnTo>
                  <a:pt x="528" y="2055"/>
                </a:lnTo>
                <a:lnTo>
                  <a:pt x="1516" y="917"/>
                </a:lnTo>
                <a:lnTo>
                  <a:pt x="2046" y="1378"/>
                </a:lnTo>
                <a:lnTo>
                  <a:pt x="1678" y="201"/>
                </a:lnTo>
                <a:lnTo>
                  <a:pt x="460" y="0"/>
                </a:lnTo>
                <a:lnTo>
                  <a:pt x="989" y="458"/>
                </a:lnTo>
                <a:lnTo>
                  <a:pt x="0" y="1596"/>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5" name=""/>
          <p:cNvSpPr/>
          <p:nvPr/>
        </p:nvSpPr>
        <p:spPr>
          <a:xfrm>
            <a:off x="7003800" y="4584960"/>
            <a:ext cx="738000" cy="740160"/>
          </a:xfrm>
          <a:custGeom>
            <a:avLst/>
            <a:gdLst/>
            <a:ahLst/>
            <a:rect l="0" t="0" r="r" b="b"/>
            <a:pathLst>
              <a:path w="2050" h="2056">
                <a:moveTo>
                  <a:pt x="2050" y="1589"/>
                </a:moveTo>
                <a:lnTo>
                  <a:pt x="1529" y="2056"/>
                </a:lnTo>
                <a:lnTo>
                  <a:pt x="521" y="936"/>
                </a:lnTo>
                <a:lnTo>
                  <a:pt x="0" y="1405"/>
                </a:lnTo>
                <a:lnTo>
                  <a:pt x="347" y="222"/>
                </a:lnTo>
                <a:lnTo>
                  <a:pt x="1561" y="0"/>
                </a:lnTo>
                <a:lnTo>
                  <a:pt x="1041" y="467"/>
                </a:lnTo>
                <a:lnTo>
                  <a:pt x="2050" y="1589"/>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X-RX Power Consumption Balance</a:t>
            </a:r>
            <a:endParaRPr b="0" lang="en-US" sz="3200" spc="-1" strike="noStrike">
              <a:solidFill>
                <a:srgbClr val="000000"/>
              </a:solidFill>
              <a:latin typeface="Arial"/>
            </a:endParaRPr>
          </a:p>
        </p:txBody>
      </p:sp>
      <p:pic>
        <p:nvPicPr>
          <p:cNvPr id="67" name="" descr=""/>
          <p:cNvPicPr/>
          <p:nvPr/>
        </p:nvPicPr>
        <p:blipFill>
          <a:blip r:embed="rId1"/>
          <a:stretch/>
        </p:blipFill>
        <p:spPr>
          <a:xfrm>
            <a:off x="1371600" y="1828800"/>
            <a:ext cx="7404120" cy="3898800"/>
          </a:xfrm>
          <a:prstGeom prst="rect">
            <a:avLst/>
          </a:prstGeom>
          <a:ln w="0">
            <a:noFill/>
          </a:ln>
        </p:spPr>
      </p:pic>
      <p:sp>
        <p:nvSpPr>
          <p:cNvPr id="68"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4</a:t>
            </a:r>
            <a:endParaRPr b="0" lang="en-US" sz="1400" spc="-1" strike="noStrike">
              <a:solidFill>
                <a:srgbClr val="000000"/>
              </a:solidFill>
              <a:latin typeface="Arial"/>
            </a:endParaRPr>
          </a:p>
        </p:txBody>
      </p:sp>
      <p:sp>
        <p:nvSpPr>
          <p:cNvPr id="70"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Feature of our proposal</a:t>
            </a:r>
            <a:endParaRPr b="0" lang="en-US" sz="3200" spc="-1" strike="noStrike">
              <a:solidFill>
                <a:srgbClr val="000000"/>
              </a:solidFill>
              <a:latin typeface="Arial"/>
            </a:endParaRPr>
          </a:p>
        </p:txBody>
      </p:sp>
      <p:sp>
        <p:nvSpPr>
          <p:cNvPr id="71" name=""/>
          <p:cNvSpPr txBox="1"/>
          <p:nvPr/>
        </p:nvSpPr>
        <p:spPr>
          <a:xfrm>
            <a:off x="1447920" y="1600200"/>
            <a:ext cx="7429680" cy="380988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Large system capacity</a:t>
            </a:r>
            <a:endParaRPr b="0" lang="en-US" sz="28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5 channels for U-NII lower and middle band</a:t>
            </a:r>
            <a:endParaRPr b="0" lang="en-US" sz="24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4 channels for U-NII upper band</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Robustness against multipath fading</a:t>
            </a:r>
            <a:endParaRPr b="0" lang="en-US" sz="28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00nsec delay spread (simple implementation)</a:t>
            </a:r>
            <a:endParaRPr b="0" lang="en-US" sz="24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160nsec delay spread (complex implementation)</a:t>
            </a:r>
            <a:endParaRPr b="0" lang="en-US" sz="24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mplementation (simple and flexible)</a:t>
            </a:r>
            <a:endParaRPr b="0" lang="en-US" sz="2800" spc="-1" strike="noStrike">
              <a:solidFill>
                <a:srgbClr val="000000"/>
              </a:solidFill>
              <a:latin typeface="Arial"/>
            </a:endParaRPr>
          </a:p>
          <a:p>
            <a:pPr lvl="1" marL="819000" indent="-285840">
              <a:lnSpc>
                <a:spcPct val="100000"/>
              </a:lnSpc>
              <a:spcBef>
                <a:spcPts val="479"/>
              </a:spcBef>
              <a:buClr>
                <a:srgbClr val="000000"/>
              </a:buClr>
              <a:buSzPct val="45000"/>
              <a:buFont typeface="CP1252"/>
              <a:buChar char=""/>
            </a:pPr>
            <a:r>
              <a:rPr b="0" lang="en-US" sz="2400" spc="-1" strike="noStrike">
                <a:solidFill>
                  <a:srgbClr val="000000"/>
                </a:solidFill>
                <a:latin typeface="Times New Roman"/>
                <a:ea typeface="Times New Roman"/>
              </a:rPr>
              <a:t>PMA-MLSCE (as an implementation 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5</a:t>
            </a:r>
            <a:endParaRPr b="0" lang="en-US" sz="1400" spc="-1" strike="noStrike">
              <a:solidFill>
                <a:srgbClr val="000000"/>
              </a:solidFill>
              <a:latin typeface="Arial"/>
            </a:endParaRPr>
          </a:p>
        </p:txBody>
      </p:sp>
      <p:sp>
        <p:nvSpPr>
          <p:cNvPr id="73"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Equalizer Implementation</a:t>
            </a:r>
            <a:endParaRPr b="0" lang="en-US" sz="3200" spc="-1" strike="noStrike">
              <a:solidFill>
                <a:srgbClr val="000000"/>
              </a:solidFill>
              <a:latin typeface="Arial"/>
            </a:endParaRPr>
          </a:p>
        </p:txBody>
      </p:sp>
      <p:sp>
        <p:nvSpPr>
          <p:cNvPr id="74" name=""/>
          <p:cNvSpPr/>
          <p:nvPr/>
        </p:nvSpPr>
        <p:spPr>
          <a:xfrm>
            <a:off x="1898640" y="2151000"/>
            <a:ext cx="0" cy="3780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1420920" y="5486400"/>
            <a:ext cx="6904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txBox="1"/>
          <p:nvPr/>
        </p:nvSpPr>
        <p:spPr>
          <a:xfrm>
            <a:off x="4116240" y="5627520"/>
            <a:ext cx="171288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delay spread</a:t>
            </a:r>
            <a:endParaRPr b="0" lang="en-US" sz="2400" spc="-1" strike="noStrike">
              <a:solidFill>
                <a:srgbClr val="000000"/>
              </a:solidFill>
              <a:latin typeface="Arial"/>
            </a:endParaRPr>
          </a:p>
        </p:txBody>
      </p:sp>
      <p:sp>
        <p:nvSpPr>
          <p:cNvPr id="77" name=""/>
          <p:cNvSpPr txBox="1"/>
          <p:nvPr/>
        </p:nvSpPr>
        <p:spPr>
          <a:xfrm>
            <a:off x="-617400" y="3357720"/>
            <a:ext cx="3557520" cy="45396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Implementation complexity</a:t>
            </a:r>
            <a:endParaRPr b="0" lang="en-US" sz="2400" spc="-1" strike="noStrike">
              <a:solidFill>
                <a:srgbClr val="000000"/>
              </a:solidFill>
              <a:latin typeface="Arial"/>
            </a:endParaRPr>
          </a:p>
        </p:txBody>
      </p:sp>
      <p:sp>
        <p:nvSpPr>
          <p:cNvPr id="78" name=""/>
          <p:cNvSpPr/>
          <p:nvPr/>
        </p:nvSpPr>
        <p:spPr>
          <a:xfrm>
            <a:off x="1982880" y="2095560"/>
            <a:ext cx="3947040" cy="3385080"/>
          </a:xfrm>
          <a:custGeom>
            <a:avLst/>
            <a:gdLst/>
            <a:ahLst/>
            <a:rect l="0" t="0" r="r" b="b"/>
            <a:pathLst>
              <a:path fill="none" w="10964" h="9403">
                <a:moveTo>
                  <a:pt x="0" y="9403"/>
                </a:moveTo>
                <a:lnTo>
                  <a:pt x="158" y="9355"/>
                </a:lnTo>
                <a:lnTo>
                  <a:pt x="370" y="9328"/>
                </a:lnTo>
                <a:lnTo>
                  <a:pt x="577" y="9280"/>
                </a:lnTo>
                <a:lnTo>
                  <a:pt x="842" y="9231"/>
                </a:lnTo>
                <a:lnTo>
                  <a:pt x="1397" y="9112"/>
                </a:lnTo>
                <a:lnTo>
                  <a:pt x="2028" y="8989"/>
                </a:lnTo>
                <a:lnTo>
                  <a:pt x="2716" y="8817"/>
                </a:lnTo>
                <a:lnTo>
                  <a:pt x="3400" y="8649"/>
                </a:lnTo>
                <a:lnTo>
                  <a:pt x="4057" y="8428"/>
                </a:lnTo>
                <a:lnTo>
                  <a:pt x="4692" y="8159"/>
                </a:lnTo>
                <a:lnTo>
                  <a:pt x="5297" y="7868"/>
                </a:lnTo>
                <a:lnTo>
                  <a:pt x="5932" y="7502"/>
                </a:lnTo>
                <a:lnTo>
                  <a:pt x="6589" y="7136"/>
                </a:lnTo>
                <a:lnTo>
                  <a:pt x="7219" y="6721"/>
                </a:lnTo>
                <a:lnTo>
                  <a:pt x="7854" y="6284"/>
                </a:lnTo>
                <a:lnTo>
                  <a:pt x="8433" y="5821"/>
                </a:lnTo>
                <a:lnTo>
                  <a:pt x="8936" y="5336"/>
                </a:lnTo>
                <a:lnTo>
                  <a:pt x="9381" y="4847"/>
                </a:lnTo>
                <a:lnTo>
                  <a:pt x="9566" y="4578"/>
                </a:lnTo>
                <a:lnTo>
                  <a:pt x="9725" y="4287"/>
                </a:lnTo>
                <a:lnTo>
                  <a:pt x="10016" y="3656"/>
                </a:lnTo>
                <a:lnTo>
                  <a:pt x="10254" y="2973"/>
                </a:lnTo>
                <a:lnTo>
                  <a:pt x="10435" y="2288"/>
                </a:lnTo>
                <a:lnTo>
                  <a:pt x="10594" y="1609"/>
                </a:lnTo>
                <a:lnTo>
                  <a:pt x="10726" y="996"/>
                </a:lnTo>
                <a:lnTo>
                  <a:pt x="10779" y="705"/>
                </a:lnTo>
                <a:lnTo>
                  <a:pt x="10832" y="436"/>
                </a:lnTo>
                <a:lnTo>
                  <a:pt x="10911" y="194"/>
                </a:lnTo>
                <a:lnTo>
                  <a:pt x="10964" y="0"/>
                </a:lnTo>
              </a:path>
            </a:pathLst>
          </a:custGeom>
          <a:ln w="25560">
            <a:solidFill>
              <a:srgbClr val="33cc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79" name=""/>
          <p:cNvSpPr/>
          <p:nvPr/>
        </p:nvSpPr>
        <p:spPr>
          <a:xfrm>
            <a:off x="1898640" y="1914480"/>
            <a:ext cx="2056320" cy="3551760"/>
          </a:xfrm>
          <a:custGeom>
            <a:avLst/>
            <a:gdLst/>
            <a:ahLst/>
            <a:rect l="0" t="0" r="r" b="b"/>
            <a:pathLst>
              <a:path fill="none" w="5712" h="9866">
                <a:moveTo>
                  <a:pt x="0" y="9866"/>
                </a:moveTo>
                <a:lnTo>
                  <a:pt x="70" y="9818"/>
                </a:lnTo>
                <a:lnTo>
                  <a:pt x="176" y="9769"/>
                </a:lnTo>
                <a:lnTo>
                  <a:pt x="401" y="9624"/>
                </a:lnTo>
                <a:lnTo>
                  <a:pt x="683" y="9478"/>
                </a:lnTo>
                <a:lnTo>
                  <a:pt x="983" y="9306"/>
                </a:lnTo>
                <a:lnTo>
                  <a:pt x="1300" y="9090"/>
                </a:lnTo>
                <a:lnTo>
                  <a:pt x="1614" y="8869"/>
                </a:lnTo>
                <a:lnTo>
                  <a:pt x="1914" y="8653"/>
                </a:lnTo>
                <a:lnTo>
                  <a:pt x="2161" y="8384"/>
                </a:lnTo>
                <a:lnTo>
                  <a:pt x="2373" y="8115"/>
                </a:lnTo>
                <a:lnTo>
                  <a:pt x="2585" y="7851"/>
                </a:lnTo>
                <a:lnTo>
                  <a:pt x="2757" y="7582"/>
                </a:lnTo>
                <a:lnTo>
                  <a:pt x="2933" y="7290"/>
                </a:lnTo>
                <a:lnTo>
                  <a:pt x="3109" y="6972"/>
                </a:lnTo>
                <a:lnTo>
                  <a:pt x="3286" y="6584"/>
                </a:lnTo>
                <a:lnTo>
                  <a:pt x="3480" y="6174"/>
                </a:lnTo>
                <a:lnTo>
                  <a:pt x="3691" y="5685"/>
                </a:lnTo>
                <a:lnTo>
                  <a:pt x="3815" y="5394"/>
                </a:lnTo>
                <a:lnTo>
                  <a:pt x="3934" y="5081"/>
                </a:lnTo>
                <a:lnTo>
                  <a:pt x="4057" y="4741"/>
                </a:lnTo>
                <a:lnTo>
                  <a:pt x="4199" y="4375"/>
                </a:lnTo>
                <a:lnTo>
                  <a:pt x="4482" y="3572"/>
                </a:lnTo>
                <a:lnTo>
                  <a:pt x="4764" y="2748"/>
                </a:lnTo>
                <a:lnTo>
                  <a:pt x="5046" y="1944"/>
                </a:lnTo>
                <a:lnTo>
                  <a:pt x="5306" y="1190"/>
                </a:lnTo>
                <a:lnTo>
                  <a:pt x="5412" y="829"/>
                </a:lnTo>
                <a:lnTo>
                  <a:pt x="5536" y="511"/>
                </a:lnTo>
                <a:lnTo>
                  <a:pt x="5624" y="246"/>
                </a:lnTo>
                <a:lnTo>
                  <a:pt x="5712" y="0"/>
                </a:lnTo>
              </a:path>
            </a:pathLst>
          </a:custGeom>
          <a:ln w="25560">
            <a:solidFill>
              <a:srgbClr val="3333cc"/>
            </a:solidFill>
            <a:round/>
          </a:ln>
        </p:spPr>
        <p:txBody>
          <a:bodyPr lIns="102600" rIns="102600" tIns="57600" bIns="57600" anchor="t">
            <a:noAutofit/>
          </a:bodyPr>
          <a:p>
            <a:endParaRPr b="0" lang="en-US" sz="1800" spc="-1" strike="noStrike">
              <a:solidFill>
                <a:srgbClr val="000000"/>
              </a:solidFill>
              <a:latin typeface="Arial"/>
            </a:endParaRPr>
          </a:p>
        </p:txBody>
      </p:sp>
      <p:sp>
        <p:nvSpPr>
          <p:cNvPr id="80" name=""/>
          <p:cNvSpPr/>
          <p:nvPr/>
        </p:nvSpPr>
        <p:spPr>
          <a:xfrm>
            <a:off x="1909800" y="1936800"/>
            <a:ext cx="2921400" cy="3519720"/>
          </a:xfrm>
          <a:custGeom>
            <a:avLst/>
            <a:gdLst/>
            <a:ahLst/>
            <a:rect l="0" t="0" r="r" b="b"/>
            <a:pathLst>
              <a:path fill="none" w="8115" h="9777">
                <a:moveTo>
                  <a:pt x="0" y="9777"/>
                </a:moveTo>
                <a:lnTo>
                  <a:pt x="211" y="9755"/>
                </a:lnTo>
                <a:lnTo>
                  <a:pt x="471" y="9755"/>
                </a:lnTo>
                <a:lnTo>
                  <a:pt x="793" y="9755"/>
                </a:lnTo>
                <a:lnTo>
                  <a:pt x="1137" y="9755"/>
                </a:lnTo>
                <a:lnTo>
                  <a:pt x="1521" y="9728"/>
                </a:lnTo>
                <a:lnTo>
                  <a:pt x="1931" y="9728"/>
                </a:lnTo>
                <a:lnTo>
                  <a:pt x="2809" y="9706"/>
                </a:lnTo>
                <a:lnTo>
                  <a:pt x="3691" y="9658"/>
                </a:lnTo>
                <a:lnTo>
                  <a:pt x="4119" y="9605"/>
                </a:lnTo>
                <a:lnTo>
                  <a:pt x="4529" y="9534"/>
                </a:lnTo>
                <a:lnTo>
                  <a:pt x="4917" y="9459"/>
                </a:lnTo>
                <a:lnTo>
                  <a:pt x="5279" y="9362"/>
                </a:lnTo>
                <a:lnTo>
                  <a:pt x="5601" y="9265"/>
                </a:lnTo>
                <a:lnTo>
                  <a:pt x="5861" y="9120"/>
                </a:lnTo>
                <a:lnTo>
                  <a:pt x="6096" y="8948"/>
                </a:lnTo>
                <a:lnTo>
                  <a:pt x="6290" y="8776"/>
                </a:lnTo>
                <a:lnTo>
                  <a:pt x="6462" y="8582"/>
                </a:lnTo>
                <a:lnTo>
                  <a:pt x="6634" y="8361"/>
                </a:lnTo>
                <a:lnTo>
                  <a:pt x="6889" y="7872"/>
                </a:lnTo>
                <a:lnTo>
                  <a:pt x="7106" y="7356"/>
                </a:lnTo>
                <a:lnTo>
                  <a:pt x="7278" y="6796"/>
                </a:lnTo>
                <a:lnTo>
                  <a:pt x="7405" y="6209"/>
                </a:lnTo>
                <a:lnTo>
                  <a:pt x="7688" y="5058"/>
                </a:lnTo>
                <a:lnTo>
                  <a:pt x="7816" y="4449"/>
                </a:lnTo>
                <a:lnTo>
                  <a:pt x="7899" y="3787"/>
                </a:lnTo>
                <a:lnTo>
                  <a:pt x="7965" y="3077"/>
                </a:lnTo>
                <a:lnTo>
                  <a:pt x="8010" y="2345"/>
                </a:lnTo>
                <a:lnTo>
                  <a:pt x="8049" y="1662"/>
                </a:lnTo>
                <a:lnTo>
                  <a:pt x="8071" y="1027"/>
                </a:lnTo>
                <a:lnTo>
                  <a:pt x="8071" y="732"/>
                </a:lnTo>
                <a:lnTo>
                  <a:pt x="8093" y="463"/>
                </a:lnTo>
                <a:lnTo>
                  <a:pt x="8093" y="220"/>
                </a:lnTo>
                <a:lnTo>
                  <a:pt x="8115" y="0"/>
                </a:lnTo>
              </a:path>
            </a:pathLst>
          </a:custGeom>
          <a:ln w="25560">
            <a:solidFill>
              <a:srgbClr val="00ff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1" name=""/>
          <p:cNvSpPr txBox="1"/>
          <p:nvPr/>
        </p:nvSpPr>
        <p:spPr>
          <a:xfrm>
            <a:off x="3043080" y="2274840"/>
            <a:ext cx="104472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3333cc"/>
                </a:solidFill>
                <a:latin typeface="Times New Roman"/>
                <a:ea typeface="Times New Roman"/>
              </a:rPr>
              <a:t>MLSE</a:t>
            </a:r>
            <a:endParaRPr b="0" lang="en-US" sz="2400" spc="-1" strike="noStrike">
              <a:solidFill>
                <a:srgbClr val="000000"/>
              </a:solidFill>
              <a:latin typeface="Arial"/>
            </a:endParaRPr>
          </a:p>
        </p:txBody>
      </p:sp>
      <p:sp>
        <p:nvSpPr>
          <p:cNvPr id="82" name=""/>
          <p:cNvSpPr txBox="1"/>
          <p:nvPr/>
        </p:nvSpPr>
        <p:spPr>
          <a:xfrm>
            <a:off x="4446720" y="2960640"/>
            <a:ext cx="79056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00cc00"/>
                </a:solidFill>
                <a:latin typeface="Times New Roman"/>
                <a:ea typeface="Times New Roman"/>
              </a:rPr>
              <a:t>DFE</a:t>
            </a:r>
            <a:endParaRPr b="0" lang="en-US" sz="2400" spc="-1" strike="noStrike">
              <a:solidFill>
                <a:srgbClr val="000000"/>
              </a:solidFill>
              <a:latin typeface="Arial"/>
            </a:endParaRPr>
          </a:p>
        </p:txBody>
      </p:sp>
      <p:sp>
        <p:nvSpPr>
          <p:cNvPr id="83" name=""/>
          <p:cNvSpPr txBox="1"/>
          <p:nvPr/>
        </p:nvSpPr>
        <p:spPr>
          <a:xfrm>
            <a:off x="5106960" y="2198520"/>
            <a:ext cx="1179360" cy="453960"/>
          </a:xfrm>
          <a:prstGeom prst="rect">
            <a:avLst/>
          </a:prstGeom>
          <a:solidFill>
            <a:srgbClr val="ffffff"/>
          </a:solidFill>
          <a:ln w="0">
            <a:noFill/>
          </a:ln>
        </p:spPr>
        <p:txBody>
          <a:bodyPr lIns="0" rIns="0" tIns="0" bIns="0" anchor="t">
            <a:noAutofit/>
          </a:bodyPr>
          <a:p>
            <a:pPr>
              <a:lnSpc>
                <a:spcPct val="100000"/>
              </a:lnSpc>
            </a:pPr>
            <a:r>
              <a:rPr b="1" lang="en-US" sz="2400" spc="-1" strike="noStrike">
                <a:solidFill>
                  <a:srgbClr val="00ffff"/>
                </a:solidFill>
                <a:latin typeface="Times New Roman"/>
                <a:ea typeface="Times New Roman"/>
              </a:rPr>
              <a:t>DDFSE</a:t>
            </a:r>
            <a:endParaRPr b="0" lang="en-US" sz="2400" spc="-1" strike="noStrike">
              <a:solidFill>
                <a:srgbClr val="000000"/>
              </a:solidFill>
              <a:latin typeface="Arial"/>
            </a:endParaRPr>
          </a:p>
        </p:txBody>
      </p:sp>
      <p:sp>
        <p:nvSpPr>
          <p:cNvPr id="84" name=""/>
          <p:cNvSpPr/>
          <p:nvPr/>
        </p:nvSpPr>
        <p:spPr>
          <a:xfrm>
            <a:off x="1906560" y="4140360"/>
            <a:ext cx="6788520" cy="1295640"/>
          </a:xfrm>
          <a:custGeom>
            <a:avLst/>
            <a:gdLst/>
            <a:ahLst/>
            <a:rect l="0" t="0" r="r" b="b"/>
            <a:pathLst>
              <a:path fill="none" w="18857" h="3599">
                <a:moveTo>
                  <a:pt x="0" y="3599"/>
                </a:moveTo>
                <a:lnTo>
                  <a:pt x="343" y="3577"/>
                </a:lnTo>
                <a:lnTo>
                  <a:pt x="771" y="3528"/>
                </a:lnTo>
                <a:lnTo>
                  <a:pt x="1274" y="3502"/>
                </a:lnTo>
                <a:lnTo>
                  <a:pt x="1852" y="3453"/>
                </a:lnTo>
                <a:lnTo>
                  <a:pt x="2469" y="3405"/>
                </a:lnTo>
                <a:lnTo>
                  <a:pt x="3126" y="3356"/>
                </a:lnTo>
                <a:lnTo>
                  <a:pt x="4519" y="3237"/>
                </a:lnTo>
                <a:lnTo>
                  <a:pt x="5989" y="3114"/>
                </a:lnTo>
                <a:lnTo>
                  <a:pt x="7378" y="2995"/>
                </a:lnTo>
                <a:lnTo>
                  <a:pt x="8035" y="2946"/>
                </a:lnTo>
                <a:lnTo>
                  <a:pt x="8657" y="2876"/>
                </a:lnTo>
                <a:lnTo>
                  <a:pt x="9195" y="2827"/>
                </a:lnTo>
                <a:lnTo>
                  <a:pt x="9697" y="2752"/>
                </a:lnTo>
                <a:lnTo>
                  <a:pt x="10588" y="2655"/>
                </a:lnTo>
                <a:lnTo>
                  <a:pt x="11320" y="2536"/>
                </a:lnTo>
                <a:lnTo>
                  <a:pt x="12017" y="2417"/>
                </a:lnTo>
                <a:lnTo>
                  <a:pt x="12634" y="2320"/>
                </a:lnTo>
                <a:lnTo>
                  <a:pt x="13216" y="2197"/>
                </a:lnTo>
                <a:lnTo>
                  <a:pt x="13794" y="2051"/>
                </a:lnTo>
                <a:lnTo>
                  <a:pt x="14875" y="1737"/>
                </a:lnTo>
                <a:lnTo>
                  <a:pt x="15458" y="1543"/>
                </a:lnTo>
                <a:lnTo>
                  <a:pt x="16035" y="1327"/>
                </a:lnTo>
                <a:lnTo>
                  <a:pt x="17155" y="842"/>
                </a:lnTo>
                <a:lnTo>
                  <a:pt x="17658" y="577"/>
                </a:lnTo>
                <a:lnTo>
                  <a:pt x="18121" y="361"/>
                </a:lnTo>
                <a:lnTo>
                  <a:pt x="18509" y="167"/>
                </a:lnTo>
                <a:lnTo>
                  <a:pt x="18857" y="0"/>
                </a:ln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85" name=""/>
          <p:cNvSpPr/>
          <p:nvPr/>
        </p:nvSpPr>
        <p:spPr>
          <a:xfrm>
            <a:off x="6026040" y="3505320"/>
            <a:ext cx="2394360" cy="2210040"/>
          </a:xfrm>
          <a:custGeom>
            <a:avLst/>
            <a:gdLst/>
            <a:ahLst/>
            <a:rect l="0" t="0" r="r" b="b"/>
            <a:pathLst>
              <a:path w="6651" h="6139">
                <a:moveTo>
                  <a:pt x="3325" y="1649"/>
                </a:moveTo>
                <a:lnTo>
                  <a:pt x="2571" y="652"/>
                </a:lnTo>
                <a:lnTo>
                  <a:pt x="2249" y="1794"/>
                </a:lnTo>
                <a:lnTo>
                  <a:pt x="114" y="652"/>
                </a:lnTo>
                <a:lnTo>
                  <a:pt x="1424" y="2165"/>
                </a:lnTo>
                <a:lnTo>
                  <a:pt x="0" y="2447"/>
                </a:lnTo>
                <a:lnTo>
                  <a:pt x="1146" y="3347"/>
                </a:lnTo>
                <a:lnTo>
                  <a:pt x="39" y="4146"/>
                </a:lnTo>
                <a:lnTo>
                  <a:pt x="1747" y="3960"/>
                </a:lnTo>
                <a:lnTo>
                  <a:pt x="1464" y="5006"/>
                </a:lnTo>
                <a:lnTo>
                  <a:pt x="2377" y="4441"/>
                </a:lnTo>
                <a:lnTo>
                  <a:pt x="2611" y="6139"/>
                </a:lnTo>
                <a:lnTo>
                  <a:pt x="3242" y="4243"/>
                </a:lnTo>
                <a:lnTo>
                  <a:pt x="4079" y="5610"/>
                </a:lnTo>
                <a:lnTo>
                  <a:pt x="4318" y="4110"/>
                </a:lnTo>
                <a:lnTo>
                  <a:pt x="5589" y="5142"/>
                </a:lnTo>
                <a:lnTo>
                  <a:pt x="5183" y="3678"/>
                </a:lnTo>
                <a:lnTo>
                  <a:pt x="6651" y="3775"/>
                </a:lnTo>
                <a:lnTo>
                  <a:pt x="5421" y="2976"/>
                </a:lnTo>
                <a:lnTo>
                  <a:pt x="6497" y="2310"/>
                </a:lnTo>
                <a:lnTo>
                  <a:pt x="5143" y="2076"/>
                </a:lnTo>
                <a:lnTo>
                  <a:pt x="5659" y="1265"/>
                </a:lnTo>
                <a:lnTo>
                  <a:pt x="4357" y="1512"/>
                </a:lnTo>
                <a:lnTo>
                  <a:pt x="4472" y="0"/>
                </a:lnTo>
                <a:lnTo>
                  <a:pt x="3325" y="164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6" name=""/>
          <p:cNvSpPr txBox="1"/>
          <p:nvPr/>
        </p:nvSpPr>
        <p:spPr>
          <a:xfrm>
            <a:off x="6510240" y="4408560"/>
            <a:ext cx="1214280" cy="453960"/>
          </a:xfrm>
          <a:prstGeom prst="rect">
            <a:avLst/>
          </a:prstGeom>
          <a:solidFill>
            <a:srgbClr val="ffffff"/>
          </a:solidFill>
          <a:ln w="0">
            <a:noFill/>
          </a:ln>
        </p:spPr>
        <p:txBody>
          <a:bodyPr lIns="0" rIns="0" tIns="0" bIns="0" anchor="t">
            <a:noAutofit/>
          </a:bodyPr>
          <a:p>
            <a:pPr>
              <a:lnSpc>
                <a:spcPct val="100000"/>
              </a:lnSpc>
            </a:pPr>
            <a:r>
              <a:rPr b="1" i="1" lang="en-US" sz="2400" spc="-1" strike="noStrike">
                <a:solidFill>
                  <a:srgbClr val="cc0000"/>
                </a:solidFill>
                <a:latin typeface="Times New Roman"/>
                <a:ea typeface="Times New Roman"/>
              </a:rPr>
              <a:t>MLS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6</a:t>
            </a:r>
            <a:endParaRPr b="0" lang="en-US" sz="1400" spc="-1" strike="noStrike">
              <a:solidFill>
                <a:srgbClr val="000000"/>
              </a:solidFill>
              <a:latin typeface="Arial"/>
            </a:endParaRPr>
          </a:p>
        </p:txBody>
      </p:sp>
      <p:sp>
        <p:nvSpPr>
          <p:cNvPr id="88"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ystem Capacity</a:t>
            </a:r>
            <a:endParaRPr b="0" lang="en-US" sz="3200" spc="-1" strike="noStrike">
              <a:solidFill>
                <a:srgbClr val="000000"/>
              </a:solidFill>
              <a:latin typeface="Arial"/>
            </a:endParaRPr>
          </a:p>
        </p:txBody>
      </p:sp>
      <p:pic>
        <p:nvPicPr>
          <p:cNvPr id="89" name="" descr=""/>
          <p:cNvPicPr/>
          <p:nvPr/>
        </p:nvPicPr>
        <p:blipFill>
          <a:blip r:embed="rId1"/>
          <a:stretch/>
        </p:blipFill>
        <p:spPr>
          <a:xfrm>
            <a:off x="1676520" y="1447920"/>
            <a:ext cx="6607080" cy="4600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7</a:t>
            </a:r>
            <a:endParaRPr b="0" lang="en-US" sz="1400" spc="-1" strike="noStrike">
              <a:solidFill>
                <a:srgbClr val="000000"/>
              </a:solidFill>
              <a:latin typeface="Arial"/>
            </a:endParaRPr>
          </a:p>
        </p:txBody>
      </p:sp>
      <p:sp>
        <p:nvSpPr>
          <p:cNvPr id="91"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General Description</a:t>
            </a:r>
            <a:endParaRPr b="0" lang="en-US" sz="3200" spc="-1" strike="noStrike">
              <a:solidFill>
                <a:srgbClr val="000000"/>
              </a:solidFill>
              <a:latin typeface="Arial"/>
            </a:endParaRPr>
          </a:p>
        </p:txBody>
      </p:sp>
      <p:pic>
        <p:nvPicPr>
          <p:cNvPr id="92" name="" descr=""/>
          <p:cNvPicPr/>
          <p:nvPr/>
        </p:nvPicPr>
        <p:blipFill>
          <a:blip r:embed="rId1"/>
          <a:stretch/>
        </p:blipFill>
        <p:spPr>
          <a:xfrm>
            <a:off x="1244520" y="1587600"/>
            <a:ext cx="7531200" cy="4329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8</a:t>
            </a:r>
            <a:endParaRPr b="0" lang="en-US" sz="1400" spc="-1" strike="noStrike">
              <a:solidFill>
                <a:srgbClr val="000000"/>
              </a:solidFill>
              <a:latin typeface="Arial"/>
            </a:endParaRPr>
          </a:p>
        </p:txBody>
      </p:sp>
      <p:sp>
        <p:nvSpPr>
          <p:cNvPr id="94" name=""/>
          <p:cNvSpPr txBox="1"/>
          <p:nvPr/>
        </p:nvSpPr>
        <p:spPr>
          <a:xfrm>
            <a:off x="743040" y="838080"/>
            <a:ext cx="870588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Spectrum Mask for calculation of maximum power</a:t>
            </a:r>
            <a:endParaRPr b="0" lang="en-US" sz="3200" spc="-1" strike="noStrike">
              <a:solidFill>
                <a:srgbClr val="000000"/>
              </a:solidFill>
              <a:latin typeface="Arial"/>
            </a:endParaRPr>
          </a:p>
        </p:txBody>
      </p:sp>
      <p:pic>
        <p:nvPicPr>
          <p:cNvPr id="95" name="" descr=""/>
          <p:cNvPicPr/>
          <p:nvPr/>
        </p:nvPicPr>
        <p:blipFill>
          <a:blip r:embed="rId1"/>
          <a:stretch/>
        </p:blipFill>
        <p:spPr>
          <a:xfrm>
            <a:off x="1066680" y="1676520"/>
            <a:ext cx="7581960" cy="456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962520" y="6399360"/>
            <a:ext cx="2063880" cy="45720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lide 9</a:t>
            </a:r>
            <a:endParaRPr b="0" lang="en-US" sz="1400" spc="-1" strike="noStrike">
              <a:solidFill>
                <a:srgbClr val="000000"/>
              </a:solidFill>
              <a:latin typeface="Arial"/>
            </a:endParaRPr>
          </a:p>
        </p:txBody>
      </p:sp>
      <p:sp>
        <p:nvSpPr>
          <p:cNvPr id="97" name=""/>
          <p:cNvSpPr txBox="1"/>
          <p:nvPr/>
        </p:nvSpPr>
        <p:spPr>
          <a:xfrm>
            <a:off x="743040" y="838080"/>
            <a:ext cx="8420040" cy="53352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Rate Feature Summary</a:t>
            </a:r>
            <a:endParaRPr b="0" lang="en-US" sz="3200" spc="-1" strike="noStrike">
              <a:solidFill>
                <a:srgbClr val="000000"/>
              </a:solidFill>
              <a:latin typeface="Arial"/>
            </a:endParaRPr>
          </a:p>
        </p:txBody>
      </p:sp>
      <p:pic>
        <p:nvPicPr>
          <p:cNvPr id="98" name="" descr=""/>
          <p:cNvPicPr/>
          <p:nvPr/>
        </p:nvPicPr>
        <p:blipFill>
          <a:blip r:embed="rId1"/>
          <a:stretch/>
        </p:blipFill>
        <p:spPr>
          <a:xfrm>
            <a:off x="743040" y="1523880"/>
            <a:ext cx="8210520" cy="3695760"/>
          </a:xfrm>
          <a:prstGeom prst="rect">
            <a:avLst/>
          </a:prstGeom>
          <a:ln w="0">
            <a:noFill/>
          </a:ln>
        </p:spPr>
      </p:pic>
      <p:sp>
        <p:nvSpPr>
          <p:cNvPr id="99" name=""/>
          <p:cNvSpPr txBox="1"/>
          <p:nvPr/>
        </p:nvSpPr>
        <p:spPr>
          <a:xfrm>
            <a:off x="1068480" y="5405400"/>
            <a:ext cx="6056280" cy="63828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ise floor of –174 dBm/Hz, +74dB for transmission bandwidth</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noise figure +10dB, an implementation margin of +5dB </a:t>
            </a:r>
            <a:endParaRPr b="0" lang="en-US" sz="1800" spc="-1" strike="noStrike">
              <a:solidFill>
                <a:srgbClr val="000000"/>
              </a:solidFill>
              <a:latin typeface="Arial"/>
            </a:endParaRPr>
          </a:p>
        </p:txBody>
      </p:sp>
      <p:sp>
        <p:nvSpPr>
          <p:cNvPr id="100" name=""/>
          <p:cNvSpPr txBox="1"/>
          <p:nvPr/>
        </p:nvSpPr>
        <p:spPr>
          <a:xfrm>
            <a:off x="738360" y="5100480"/>
            <a:ext cx="1685880" cy="36360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1) Assumpt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azuhiro Okanoue</dc:creator>
  <dc:description/>
  <dc:language>en-US</dc:language>
  <cp:lastModifiedBy>Kazuhiro Okanoue</cp:lastModifiedBy>
  <cp:revision>0</cp:revision>
  <dc:subject/>
  <dc:title>½×²ÄÞ À²ÄÙ‚È‚µ</dc:title>
</cp:coreProperties>
</file>