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BB95-5136-4F4F-8202-8942A88D1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D1FF-44F6-4165-A50A-D1C68752A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72C7-D919-49CD-AA20-E25760DE9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D2B1-D8A4-4CB8-8A8D-710EFD464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AACFD-288E-41C7-9790-34E8DCCDA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F38F4-9E6E-4571-BC72-5D54670A8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FE062-2BC6-494F-BB37-8D361E9A4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12878-70A5-45E4-A39D-2E98547F7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67D2B-B2C3-4DBE-B55C-46251F02B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779F9-2881-45DA-B56D-BA1E61454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2452C-07D1-411C-BD30-3F60ED75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3C9D-0C46-4726-AC9F-668C877F9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CB237-734E-4F5E-9C94-D516A7B0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BFBDA-574C-4818-B921-CDA58552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D08A4-960B-4655-917B-3D9BEDD94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E1D90-05EA-4E26-B9BB-8C5329EED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152B6-5C99-4BE7-BEA6-B28E517F0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E3E1-2FC5-4D07-BF1B-DE33D76A7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7B76-61BA-48CF-B143-CF215601A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6A8C-9645-4E68-8036-569EA58E9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6D8E-F520-48F7-9116-A3B48E4D0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B14F-A381-451F-A9AE-842666AB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0976-0DC9-406C-968A-C4722877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A2BA-5C28-4158-9FDF-1DE55207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832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44756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9E3B8D2-5095-4FDD-ACC1-721574ED15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8/8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2200" y="6446880"/>
            <a:ext cx="898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AC2small" descr=""/>
          <p:cNvPicPr/>
          <p:nvPr/>
        </p:nvPicPr>
        <p:blipFill>
          <a:blip r:embed="rId2"/>
          <a:stretch/>
        </p:blipFill>
        <p:spPr>
          <a:xfrm>
            <a:off x="8163000" y="6381720"/>
            <a:ext cx="371520" cy="399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2716ED2-FBAB-4C12-9BFC-72EADDD60E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8/8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2200" y="6446880"/>
            <a:ext cx="898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AC2" descr=""/>
          <p:cNvPicPr/>
          <p:nvPr/>
        </p:nvPicPr>
        <p:blipFill>
          <a:blip r:embed="rId1"/>
          <a:stretch/>
        </p:blipFill>
        <p:spPr>
          <a:xfrm>
            <a:off x="6429240" y="3419640"/>
            <a:ext cx="1876680" cy="19904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C</a:t>
            </a:r>
            <a:br>
              <a:rPr sz="4400"/>
            </a:br>
            <a:r>
              <a:rPr b="0" lang="en-US" sz="4400" spc="-1" strike="noStrike">
                <a:solidFill>
                  <a:srgbClr val="868686"/>
                </a:solidFill>
                <a:latin typeface="Times New Roman"/>
              </a:rPr>
              <a:t>(Forward Error Control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 Not Overhe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is Heegar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amp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thew B. Shoem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ff"/>
                </a:solidFill>
                <a:latin typeface="Times New Roman"/>
              </a:rPr>
              <a:t>Alantro Commun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ded Mod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each bit of data affect many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erage out the noise with the de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43200" y="2971800"/>
            <a:ext cx="5105520" cy="380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2743200"/>
            <a:ext cx="0" cy="838080"/>
          </a:xfrm>
          <a:prstGeom prst="line">
            <a:avLst/>
          </a:prstGeom>
          <a:ln w="28440">
            <a:solidFill>
              <a:srgbClr val="0099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2743200"/>
            <a:ext cx="0" cy="838080"/>
          </a:xfrm>
          <a:prstGeom prst="line">
            <a:avLst/>
          </a:prstGeom>
          <a:ln w="28440">
            <a:solidFill>
              <a:srgbClr val="0099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86200" y="2743200"/>
            <a:ext cx="0" cy="838080"/>
          </a:xfrm>
          <a:prstGeom prst="line">
            <a:avLst/>
          </a:prstGeom>
          <a:ln w="28440">
            <a:solidFill>
              <a:srgbClr val="0099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743200"/>
            <a:ext cx="0" cy="838080"/>
          </a:xfrm>
          <a:prstGeom prst="line">
            <a:avLst/>
          </a:prstGeom>
          <a:ln w="28440">
            <a:solidFill>
              <a:srgbClr val="0099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648320" y="2743200"/>
            <a:ext cx="0" cy="838080"/>
          </a:xfrm>
          <a:prstGeom prst="line">
            <a:avLst/>
          </a:prstGeom>
          <a:ln w="28440">
            <a:solidFill>
              <a:srgbClr val="0099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29200" y="2743200"/>
            <a:ext cx="0" cy="838080"/>
          </a:xfrm>
          <a:prstGeom prst="line">
            <a:avLst/>
          </a:prstGeom>
          <a:ln w="28440">
            <a:solidFill>
              <a:srgbClr val="0099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10080" y="2743200"/>
            <a:ext cx="0" cy="838080"/>
          </a:xfrm>
          <a:prstGeom prst="line">
            <a:avLst/>
          </a:prstGeom>
          <a:ln w="28440">
            <a:solidFill>
              <a:srgbClr val="0099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91320" y="2743200"/>
            <a:ext cx="0" cy="838080"/>
          </a:xfrm>
          <a:prstGeom prst="line">
            <a:avLst/>
          </a:prstGeom>
          <a:ln w="28440">
            <a:solidFill>
              <a:srgbClr val="0099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172200" y="2743200"/>
            <a:ext cx="0" cy="838080"/>
          </a:xfrm>
          <a:prstGeom prst="line">
            <a:avLst/>
          </a:prstGeom>
          <a:ln w="28440">
            <a:solidFill>
              <a:srgbClr val="0099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752840" y="28954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33526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00400" y="3962520"/>
            <a:ext cx="304920" cy="30456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733920" y="33526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581280" y="3962520"/>
            <a:ext cx="304920" cy="30456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14800" y="33526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62520" y="3962520"/>
            <a:ext cx="304560" cy="30456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95680" y="33526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3962520"/>
            <a:ext cx="304920" cy="30456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876920" y="33526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724280" y="3962520"/>
            <a:ext cx="304920" cy="30456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257800" y="33526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105520" y="3962520"/>
            <a:ext cx="304560" cy="30456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638680" y="33526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486400" y="3962520"/>
            <a:ext cx="304920" cy="30456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19920" y="33526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67280" y="3962520"/>
            <a:ext cx="304920" cy="30456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960" y="38862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352680" y="335268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52680" y="335268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14800" y="335268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495680" y="335268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876920" y="335268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335268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733920" y="3352680"/>
            <a:ext cx="38088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352320" y="3352680"/>
            <a:ext cx="38124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114800" y="3352680"/>
            <a:ext cx="38088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4495320" y="3352680"/>
            <a:ext cx="38124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4876920" y="3352680"/>
            <a:ext cx="38088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5257800" y="3352680"/>
            <a:ext cx="38088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5638320" y="3352680"/>
            <a:ext cx="38124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6019920" y="3352680"/>
            <a:ext cx="38088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 Heegard &amp; Matthew Shoemake, Alantro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B3CA-09A2-41A6-90BB-79241B92A67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1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king Signals Robu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imize energy that differentiates distinct sig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WGN (Additive White Gaussian Noi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2895480" y="4114800"/>
            <a:ext cx="2590560" cy="1752480"/>
            <a:chOff x="2895480" y="4114800"/>
            <a:chExt cx="2590560" cy="1752480"/>
          </a:xfrm>
        </p:grpSpPr>
        <p:sp>
          <p:nvSpPr>
            <p:cNvPr id="229" name=""/>
            <p:cNvSpPr/>
            <p:nvPr/>
          </p:nvSpPr>
          <p:spPr>
            <a:xfrm>
              <a:off x="2895480" y="4114800"/>
              <a:ext cx="2590560" cy="17524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240" y="96"/>
                  </a:moveTo>
                  <a:lnTo>
                    <a:pt x="480" y="0"/>
                  </a:lnTo>
                  <a:lnTo>
                    <a:pt x="768" y="144"/>
                  </a:lnTo>
                  <a:lnTo>
                    <a:pt x="864" y="528"/>
                  </a:lnTo>
                  <a:lnTo>
                    <a:pt x="768" y="624"/>
                  </a:lnTo>
                  <a:lnTo>
                    <a:pt x="288" y="864"/>
                  </a:lnTo>
                  <a:lnTo>
                    <a:pt x="96" y="672"/>
                  </a:lnTo>
                  <a:lnTo>
                    <a:pt x="0" y="240"/>
                  </a:lnTo>
                  <a:lnTo>
                    <a:pt x="240" y="96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352680" y="4724280"/>
              <a:ext cx="152280" cy="228600"/>
            </a:xfrm>
            <a:custGeom>
              <a:avLst/>
              <a:gdLst>
                <a:gd name="textAreaLeft" fmla="*/ 62640 w 152280"/>
                <a:gd name="textAreaRight" fmla="*/ 89640 w 15228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962160" y="4419720"/>
              <a:ext cx="152280" cy="228600"/>
            </a:xfrm>
            <a:custGeom>
              <a:avLst/>
              <a:gdLst>
                <a:gd name="textAreaLeft" fmla="*/ 62640 w 152280"/>
                <a:gd name="textAreaRight" fmla="*/ 89640 w 15228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71640" y="4419720"/>
              <a:ext cx="152640" cy="228600"/>
            </a:xfrm>
            <a:custGeom>
              <a:avLst/>
              <a:gdLst>
                <a:gd name="textAreaLeft" fmla="*/ 63000 w 152640"/>
                <a:gd name="textAreaRight" fmla="*/ 89640 w 15264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105160" y="4876920"/>
              <a:ext cx="152280" cy="228600"/>
            </a:xfrm>
            <a:custGeom>
              <a:avLst/>
              <a:gdLst>
                <a:gd name="textAreaLeft" fmla="*/ 62640 w 152280"/>
                <a:gd name="textAreaRight" fmla="*/ 89640 w 15228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343040" y="5334120"/>
              <a:ext cx="152640" cy="228600"/>
            </a:xfrm>
            <a:custGeom>
              <a:avLst/>
              <a:gdLst>
                <a:gd name="textAreaLeft" fmla="*/ 63000 w 152640"/>
                <a:gd name="textAreaRight" fmla="*/ 89640 w 15264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81280" y="5410080"/>
              <a:ext cx="152280" cy="228600"/>
            </a:xfrm>
            <a:custGeom>
              <a:avLst/>
              <a:gdLst>
                <a:gd name="textAreaLeft" fmla="*/ 62640 w 152280"/>
                <a:gd name="textAreaRight" fmla="*/ 89640 w 15228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962160" y="4952880"/>
              <a:ext cx="152280" cy="228600"/>
            </a:xfrm>
            <a:custGeom>
              <a:avLst/>
              <a:gdLst>
                <a:gd name="textAreaLeft" fmla="*/ 62640 w 152280"/>
                <a:gd name="textAreaRight" fmla="*/ 89640 w 15228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 Heegard &amp; Matthew Shoemake, Alantro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83C8-70FE-4F38-AF8B-51A3D21C83E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1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bust Sig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a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Times New Roman"/>
              </a:rPr>
              <a:t>It is intuitively correct that signals that have large energy separation at the input of a filter are better distinguishable at the output of the fil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219320" y="2971800"/>
            <a:ext cx="2971800" cy="2133720"/>
            <a:chOff x="1219320" y="2971800"/>
            <a:chExt cx="2971800" cy="2133720"/>
          </a:xfrm>
        </p:grpSpPr>
        <p:grpSp>
          <p:nvGrpSpPr>
            <p:cNvPr id="240" name=""/>
            <p:cNvGrpSpPr/>
            <p:nvPr/>
          </p:nvGrpSpPr>
          <p:grpSpPr>
            <a:xfrm>
              <a:off x="1371600" y="3124080"/>
              <a:ext cx="2590560" cy="1752480"/>
              <a:chOff x="1371600" y="3124080"/>
              <a:chExt cx="2590560" cy="1752480"/>
            </a:xfrm>
          </p:grpSpPr>
          <p:sp>
            <p:nvSpPr>
              <p:cNvPr id="241" name=""/>
              <p:cNvSpPr/>
              <p:nvPr/>
            </p:nvSpPr>
            <p:spPr>
              <a:xfrm>
                <a:off x="1371600" y="3124080"/>
                <a:ext cx="2590560" cy="1752480"/>
              </a:xfrm>
              <a:custGeom>
                <a:avLst/>
                <a:gdLst/>
                <a:ahLst/>
                <a:rect l="l" t="t" r="r" b="b"/>
                <a:pathLst>
                  <a:path w="864" h="864">
                    <a:moveTo>
                      <a:pt x="240" y="96"/>
                    </a:moveTo>
                    <a:lnTo>
                      <a:pt x="480" y="0"/>
                    </a:lnTo>
                    <a:lnTo>
                      <a:pt x="768" y="144"/>
                    </a:lnTo>
                    <a:lnTo>
                      <a:pt x="864" y="528"/>
                    </a:lnTo>
                    <a:lnTo>
                      <a:pt x="768" y="624"/>
                    </a:lnTo>
                    <a:lnTo>
                      <a:pt x="288" y="864"/>
                    </a:lnTo>
                    <a:lnTo>
                      <a:pt x="96" y="672"/>
                    </a:lnTo>
                    <a:lnTo>
                      <a:pt x="0" y="240"/>
                    </a:lnTo>
                    <a:lnTo>
                      <a:pt x="240" y="96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828800" y="3733560"/>
                <a:ext cx="152280" cy="228600"/>
              </a:xfrm>
              <a:custGeom>
                <a:avLst/>
                <a:gdLst>
                  <a:gd name="textAreaLeft" fmla="*/ 62640 w 152280"/>
                  <a:gd name="textAreaRight" fmla="*/ 89640 w 152280"/>
                  <a:gd name="textAreaTop" fmla="*/ 94320 h 228600"/>
                  <a:gd name="textAreaBottom" fmla="*/ 13428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cbcbcb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438280" y="3429000"/>
                <a:ext cx="152280" cy="228600"/>
              </a:xfrm>
              <a:custGeom>
                <a:avLst/>
                <a:gdLst>
                  <a:gd name="textAreaLeft" fmla="*/ 62640 w 152280"/>
                  <a:gd name="textAreaRight" fmla="*/ 89640 w 152280"/>
                  <a:gd name="textAreaTop" fmla="*/ 94320 h 228600"/>
                  <a:gd name="textAreaBottom" fmla="*/ 13428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cbcbcb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047760" y="3429000"/>
                <a:ext cx="152640" cy="228600"/>
              </a:xfrm>
              <a:custGeom>
                <a:avLst/>
                <a:gdLst>
                  <a:gd name="textAreaLeft" fmla="*/ 63000 w 152640"/>
                  <a:gd name="textAreaRight" fmla="*/ 89640 w 152640"/>
                  <a:gd name="textAreaTop" fmla="*/ 94320 h 228600"/>
                  <a:gd name="textAreaBottom" fmla="*/ 13428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cbcbcb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581280" y="3886200"/>
                <a:ext cx="152280" cy="228600"/>
              </a:xfrm>
              <a:custGeom>
                <a:avLst/>
                <a:gdLst>
                  <a:gd name="textAreaLeft" fmla="*/ 62640 w 152280"/>
                  <a:gd name="textAreaRight" fmla="*/ 89640 w 152280"/>
                  <a:gd name="textAreaTop" fmla="*/ 94320 h 228600"/>
                  <a:gd name="textAreaBottom" fmla="*/ 13428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cbcbcb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819160" y="4343400"/>
                <a:ext cx="152640" cy="228600"/>
              </a:xfrm>
              <a:custGeom>
                <a:avLst/>
                <a:gdLst>
                  <a:gd name="textAreaLeft" fmla="*/ 63000 w 152640"/>
                  <a:gd name="textAreaRight" fmla="*/ 89640 w 152640"/>
                  <a:gd name="textAreaTop" fmla="*/ 94320 h 228600"/>
                  <a:gd name="textAreaBottom" fmla="*/ 13428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cbcbcb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057400" y="4419360"/>
                <a:ext cx="152280" cy="228600"/>
              </a:xfrm>
              <a:custGeom>
                <a:avLst/>
                <a:gdLst>
                  <a:gd name="textAreaLeft" fmla="*/ 62640 w 152280"/>
                  <a:gd name="textAreaRight" fmla="*/ 89640 w 152280"/>
                  <a:gd name="textAreaTop" fmla="*/ 94320 h 228600"/>
                  <a:gd name="textAreaBottom" fmla="*/ 13428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cbcbcb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438280" y="3962160"/>
                <a:ext cx="152280" cy="228600"/>
              </a:xfrm>
              <a:custGeom>
                <a:avLst/>
                <a:gdLst>
                  <a:gd name="textAreaLeft" fmla="*/ 62640 w 152280"/>
                  <a:gd name="textAreaRight" fmla="*/ 89640 w 152280"/>
                  <a:gd name="textAreaTop" fmla="*/ 94320 h 228600"/>
                  <a:gd name="textAreaBottom" fmla="*/ 13428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cbcbcb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>
              <a:off x="2666880" y="2971800"/>
              <a:ext cx="0" cy="213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219320" y="388620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334120" y="3124080"/>
            <a:ext cx="2590560" cy="1752840"/>
          </a:xfrm>
          <a:custGeom>
            <a:avLst/>
            <a:gdLst/>
            <a:ahLst/>
            <a:rect l="l" t="t" r="r" b="b"/>
            <a:pathLst>
              <a:path w="864" h="864">
                <a:moveTo>
                  <a:pt x="240" y="96"/>
                </a:moveTo>
                <a:lnTo>
                  <a:pt x="480" y="0"/>
                </a:lnTo>
                <a:lnTo>
                  <a:pt x="768" y="144"/>
                </a:lnTo>
                <a:lnTo>
                  <a:pt x="864" y="528"/>
                </a:lnTo>
                <a:lnTo>
                  <a:pt x="768" y="624"/>
                </a:lnTo>
                <a:lnTo>
                  <a:pt x="288" y="864"/>
                </a:lnTo>
                <a:lnTo>
                  <a:pt x="96" y="672"/>
                </a:lnTo>
                <a:lnTo>
                  <a:pt x="0" y="240"/>
                </a:lnTo>
                <a:lnTo>
                  <a:pt x="240" y="96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791320" y="3809880"/>
            <a:ext cx="152280" cy="228600"/>
          </a:xfrm>
          <a:custGeom>
            <a:avLst/>
            <a:gdLst>
              <a:gd name="textAreaLeft" fmla="*/ 62640 w 152280"/>
              <a:gd name="textAreaRight" fmla="*/ 89640 w 15228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553080" y="3352680"/>
            <a:ext cx="152640" cy="228600"/>
          </a:xfrm>
          <a:custGeom>
            <a:avLst/>
            <a:gdLst>
              <a:gd name="textAreaLeft" fmla="*/ 63000 w 152640"/>
              <a:gd name="textAreaRight" fmla="*/ 89640 w 15264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010280" y="3429000"/>
            <a:ext cx="152640" cy="228600"/>
          </a:xfrm>
          <a:custGeom>
            <a:avLst/>
            <a:gdLst>
              <a:gd name="textAreaLeft" fmla="*/ 63000 w 152640"/>
              <a:gd name="textAreaRight" fmla="*/ 89640 w 15264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543800" y="3657600"/>
            <a:ext cx="152280" cy="228600"/>
          </a:xfrm>
          <a:custGeom>
            <a:avLst/>
            <a:gdLst>
              <a:gd name="textAreaLeft" fmla="*/ 62640 w 152280"/>
              <a:gd name="textAreaRight" fmla="*/ 89640 w 15228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629400" y="4419720"/>
            <a:ext cx="152280" cy="228600"/>
          </a:xfrm>
          <a:custGeom>
            <a:avLst/>
            <a:gdLst>
              <a:gd name="textAreaLeft" fmla="*/ 62640 w 152280"/>
              <a:gd name="textAreaRight" fmla="*/ 89640 w 15228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19920" y="4419720"/>
            <a:ext cx="152280" cy="228600"/>
          </a:xfrm>
          <a:custGeom>
            <a:avLst/>
            <a:gdLst>
              <a:gd name="textAreaLeft" fmla="*/ 62640 w 152280"/>
              <a:gd name="textAreaRight" fmla="*/ 89640 w 15228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400800" y="3962520"/>
            <a:ext cx="152280" cy="228600"/>
          </a:xfrm>
          <a:custGeom>
            <a:avLst/>
            <a:gdLst>
              <a:gd name="textAreaLeft" fmla="*/ 62640 w 152280"/>
              <a:gd name="textAreaRight" fmla="*/ 89640 w 15228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171840" y="2895480"/>
            <a:ext cx="1066680" cy="228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5181480" y="3581280"/>
            <a:ext cx="297180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267080" y="365760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190760" y="2971800"/>
            <a:ext cx="8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 Heegard &amp; Matthew Shoemake, Alantro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6C5D-5BAA-4328-9FA1-AF845A3A54D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1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hea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tracts from the primary goal of transmiss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iable conveyance of user information (messages from transmitter to receiv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57400" y="4876920"/>
            <a:ext cx="1447920" cy="30456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05320" y="4876920"/>
            <a:ext cx="380880" cy="3045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33920" y="43434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86200" y="4876920"/>
            <a:ext cx="1447920" cy="30456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4120" y="4876920"/>
            <a:ext cx="380880" cy="3045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15000" y="4876920"/>
            <a:ext cx="1447920" cy="30456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162920" y="4876920"/>
            <a:ext cx="380880" cy="3045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562720" y="43434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391520" y="43434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 Heegard &amp; Matthew Shoemake, Alantro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5D5E-E34F-465D-91A3-58660061ED9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1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 of Overhe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rame synchronization in a packet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acket pream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ilot 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functions help with higher level objectives or for estimation and tracking of channel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 Heegard &amp; Matthew Shoemake, Alantro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DB4B-ECA3-4A42-A1FB-52D27C5A7AE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1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unda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s to the primary goal of trans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iable conveyance of user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57400" y="4876920"/>
            <a:ext cx="1447920" cy="30456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4876920"/>
            <a:ext cx="380880" cy="304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733920" y="43434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86200" y="4876920"/>
            <a:ext cx="1447920" cy="30456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15000" y="4876920"/>
            <a:ext cx="1447920" cy="30456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4120" y="4876920"/>
            <a:ext cx="380880" cy="304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162920" y="4876920"/>
            <a:ext cx="380880" cy="304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743200" y="43434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43200" y="434340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43434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572000" y="43434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434340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391520" y="43434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400800" y="43434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400800" y="434340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 Heegard &amp; Matthew Shoemake, Alantro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A1BC-9ACA-4960-87DA-3EEFC758ADE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1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istinguishing Fea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head is independent of th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helps with auxiliary functions, yet subtracts from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9440" indent="-212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9440" indent="-212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9440" indent="-212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ndancy is a function of th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help with the primary function, it enhances the utilization of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 Heegard &amp; Matthew Shoemake, Alantro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239A-5E53-42B8-AC95-8D296F04A7A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1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C is considered as “overhead” when applied as a “Band-Aid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mmunications system is designed without coding, it is not robust enoug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CC (error control code) is used to “fix” th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ment of reli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s in rate (“overhead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approach is a mistake in the design of a fresh system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 Heegard &amp; Matthew Shoemake, Alantro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08AD-E662-4123-983D-621701EDF29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1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Correctly Design an FE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x a data rate (user rate)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a large signal set that generates more than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R*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ignals in T seco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diciously select a subset of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R*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ignals from the large 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noise imm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 distinct signal well separated (Energ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 Heegard &amp; Matthew Shoemake, Alantro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4F99-D712-4C10-913C-3B18783F381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1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“Overhead” of QPSK as a Coding of Q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57600" y="3733920"/>
            <a:ext cx="152280" cy="15228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14800" y="3733920"/>
            <a:ext cx="152280" cy="15228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3733920"/>
            <a:ext cx="152280" cy="15228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29200" y="3733920"/>
            <a:ext cx="152280" cy="15228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657600" y="4191120"/>
            <a:ext cx="152280" cy="15228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14800" y="4191120"/>
            <a:ext cx="152280" cy="15228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4191120"/>
            <a:ext cx="152280" cy="15228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4191120"/>
            <a:ext cx="152280" cy="15228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657600" y="4648320"/>
            <a:ext cx="152280" cy="15228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114800" y="4648320"/>
            <a:ext cx="152280" cy="15228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4648320"/>
            <a:ext cx="152280" cy="15228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29200" y="4648320"/>
            <a:ext cx="152280" cy="15228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57600" y="5105520"/>
            <a:ext cx="152280" cy="15228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14800" y="5105520"/>
            <a:ext cx="152280" cy="15228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0" y="5105520"/>
            <a:ext cx="152280" cy="15228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029200" y="5105520"/>
            <a:ext cx="152280" cy="15228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52680" y="449568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19720" y="33526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te = 2 bits/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head = 2 bits/symbol 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 Heegard &amp; Matthew Shoemake, Alantro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D077-BF4B-4E28-82C5-45F81B93CBB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1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coded Mod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ak data stream into small pie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p onto independent dimensions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e occasionally causes symbol err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=&gt; data 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57400" y="3657600"/>
            <a:ext cx="5105520" cy="380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438280" y="3429000"/>
            <a:ext cx="0" cy="838080"/>
          </a:xfrm>
          <a:prstGeom prst="line">
            <a:avLst/>
          </a:prstGeom>
          <a:ln w="28440">
            <a:solidFill>
              <a:srgbClr val="0099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19520" y="3429000"/>
            <a:ext cx="0" cy="838080"/>
          </a:xfrm>
          <a:prstGeom prst="line">
            <a:avLst/>
          </a:prstGeom>
          <a:ln w="28440">
            <a:solidFill>
              <a:srgbClr val="0099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00400" y="3429000"/>
            <a:ext cx="0" cy="838080"/>
          </a:xfrm>
          <a:prstGeom prst="line">
            <a:avLst/>
          </a:prstGeom>
          <a:ln w="28440">
            <a:solidFill>
              <a:srgbClr val="0099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581280" y="3429000"/>
            <a:ext cx="0" cy="838080"/>
          </a:xfrm>
          <a:prstGeom prst="line">
            <a:avLst/>
          </a:prstGeom>
          <a:ln w="28440">
            <a:solidFill>
              <a:srgbClr val="0099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62520" y="3429000"/>
            <a:ext cx="0" cy="838080"/>
          </a:xfrm>
          <a:prstGeom prst="line">
            <a:avLst/>
          </a:prstGeom>
          <a:ln w="28440">
            <a:solidFill>
              <a:srgbClr val="0099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343400" y="3429000"/>
            <a:ext cx="0" cy="838080"/>
          </a:xfrm>
          <a:prstGeom prst="line">
            <a:avLst/>
          </a:prstGeom>
          <a:ln w="28440">
            <a:solidFill>
              <a:srgbClr val="0099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429000"/>
            <a:ext cx="0" cy="838080"/>
          </a:xfrm>
          <a:prstGeom prst="line">
            <a:avLst/>
          </a:prstGeom>
          <a:ln w="28440">
            <a:solidFill>
              <a:srgbClr val="0099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05520" y="3429000"/>
            <a:ext cx="0" cy="838080"/>
          </a:xfrm>
          <a:prstGeom prst="line">
            <a:avLst/>
          </a:prstGeom>
          <a:ln w="28440">
            <a:solidFill>
              <a:srgbClr val="0099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486400" y="3429000"/>
            <a:ext cx="0" cy="838080"/>
          </a:xfrm>
          <a:prstGeom prst="line">
            <a:avLst/>
          </a:prstGeom>
          <a:ln w="28440">
            <a:solidFill>
              <a:srgbClr val="0099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7040" y="35812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666880" y="40384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14600" y="4648320"/>
            <a:ext cx="304920" cy="30456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8120" y="40384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5480" y="4648320"/>
            <a:ext cx="304920" cy="30456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0384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76720" y="4648320"/>
            <a:ext cx="304560" cy="30456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09880" y="40384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57600" y="4648320"/>
            <a:ext cx="304920" cy="30456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191120" y="40384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038480" y="4648320"/>
            <a:ext cx="304920" cy="30456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0" y="40384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19720" y="4648320"/>
            <a:ext cx="304560" cy="30456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952880" y="40384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4648320"/>
            <a:ext cx="304920" cy="30456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40384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81480" y="4648320"/>
            <a:ext cx="304920" cy="30456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6160" y="45720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 Heegard &amp; Matthew Shoemake, Alantro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458A-1432-4DBB-B27E-BB3C9EDF13C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1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Chris Heegard</dc:creator>
  <dc:description/>
  <dc:language>en-US</dc:language>
  <cp:lastModifiedBy>Bozo T. Clown</cp:lastModifiedBy>
  <cp:lastPrinted>1998-03-11T19:17:52Z</cp:lastPrinted>
  <dcterms:modified xsi:type="dcterms:W3CDTF">1998-03-11T19:19:08Z</dcterms:modified>
  <cp:revision>29</cp:revision>
  <dc:subject/>
  <dc:title>FEC is Not Overhead</dc:title>
</cp:coreProperties>
</file>