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89B-60F1-4984-AD49-CA846CAC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BBB-4EBE-4777-BCE4-B29EA389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48B-ED9F-4BF6-A417-D5520CA8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37D-AA75-4154-A34B-FAB3AB65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E6A2-8063-4598-9B7A-95912EFD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C500-8967-48A6-9E43-B17E4298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C3E3-808F-43E3-BACB-F4EF887E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D512-743F-494F-9E61-A82011B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8FF8-F932-432F-91DA-A78397E6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C11A-69A7-4782-8328-7D7E092E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74F5-0F68-4529-B7D4-694DEF93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D45-0AE2-4206-B036-93337C64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D1FA-E41B-4713-A53A-204EFE3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D685-F967-45DB-8721-6DC655B3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52FF-1265-4C7F-BAD1-1B3FBFDC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6C3-36FD-4CCF-AADF-2D65CDE1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A6AF-D352-4C6D-8633-BF7E6065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373-2133-465A-93EE-75656448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769-BBFA-4ECC-A53E-1F448B6B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CEC-EF80-45C6-B4FB-45165908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D45-CA4E-4EFF-8D63-A4F664D5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975-A5B3-4092-BBDE-5CBC45B7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459-CC18-42E6-ADCC-40C51EB2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1C7-39AD-4BFE-B80D-E3530FCB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832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71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1589E1-0403-40DA-926F-3A7211254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C2small" descr=""/>
          <p:cNvPicPr/>
          <p:nvPr/>
        </p:nvPicPr>
        <p:blipFill>
          <a:blip r:embed="rId2"/>
          <a:stretch/>
        </p:blipFill>
        <p:spPr>
          <a:xfrm>
            <a:off x="8163000" y="6381720"/>
            <a:ext cx="37152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53F485-6C5A-443D-A289-BEA77F2D6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roposal for High Data Rate 2.4 GHz PHY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ariable Rat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inary Convolutional Coding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n QPSK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hew B. Shoe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Alantro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C2" descr=""/>
          <p:cNvPicPr/>
          <p:nvPr/>
        </p:nvPicPr>
        <p:blipFill>
          <a:blip r:embed="rId1"/>
          <a:stretch/>
        </p:blipFill>
        <p:spPr>
          <a:xfrm>
            <a:off x="6429240" y="3419640"/>
            <a:ext cx="187668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, 64 Byte Packets, Primary (11Mbps) Rate, Multipath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ms = 25, 50, 100, 150, 200, 250, 350, 450, 55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32000" y="2590920"/>
          <a:ext cx="4678560" cy="37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2590920"/>
                    <a:ext cx="467856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85C-2DE1-4F10-9795-25DBA8EC32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, 1000 Byte Packets, Primary (11Mbps) Rate, Multipath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ms = 25, 50, 100, 150, 200, 250, 350, 450, 55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93920" y="2670120"/>
          <a:ext cx="4554720" cy="36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2670120"/>
                    <a:ext cx="45547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1D5-56C9-4AA8-8D4A-D37DCE461E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64 Byte Packets, Variable Rate, AWGN, Es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38280" y="2362320"/>
          <a:ext cx="431640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3164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A61-0546-48EB-98C8-03EC2B947F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64 Byte Packets, Variable Rate, AWGN, Eb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33720" y="2438280"/>
          <a:ext cx="453528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438280"/>
                    <a:ext cx="45352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504-A88E-456D-BC6F-81C93F554A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1000 Byte Packets, Variable Rate, AWGN, Es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2286000"/>
          <a:ext cx="459288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0"/>
                    <a:ext cx="45928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CFC-7661-46B8-A738-8F60FD52AF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1000 Byte Packets, Variable Rate, AWGN, Eb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65480" y="2122560"/>
          <a:ext cx="461160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2122560"/>
                    <a:ext cx="46116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81F-BE22-4447-986F-31A12B171A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ell Planning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66680" y="1752480"/>
            <a:ext cx="6934320" cy="4343400"/>
            <a:chOff x="1066680" y="1752480"/>
            <a:chExt cx="6934320" cy="4343400"/>
          </a:xfrm>
        </p:grpSpPr>
        <p:sp>
          <p:nvSpPr>
            <p:cNvPr id="170" name=""/>
            <p:cNvSpPr/>
            <p:nvPr/>
          </p:nvSpPr>
          <p:spPr>
            <a:xfrm>
              <a:off x="106668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1448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668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512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95400" y="5181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22096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668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9100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320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320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1920" y="5181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1280" y="22096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6716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1972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48440" y="5181480"/>
              <a:ext cx="1056960" cy="914400"/>
            </a:xfrm>
            <a:prstGeom prst="hexagon">
              <a:avLst>
                <a:gd name="adj" fmla="val 28898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2860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4368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588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588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432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24600" y="5181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22096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588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6BC-ADC9-4F68-8E81-9DE9CD2630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64 state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ing Gain for Robust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ble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sonable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daptive Equa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bust multipath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bines well with B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sonable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ackward Compa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istic upgrade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existing RF/Antenna,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ngoing HD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4D4-F697-4775-ADDB-D6EFE404E2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Transmitter &amp; Receiver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133720"/>
            <a:ext cx="4306680" cy="1541520"/>
            <a:chOff x="1371600" y="2133720"/>
            <a:chExt cx="4306680" cy="1541520"/>
          </a:xfrm>
        </p:grpSpPr>
        <p:sp>
          <p:nvSpPr>
            <p:cNvPr id="96" name=""/>
            <p:cNvSpPr/>
            <p:nvPr/>
          </p:nvSpPr>
          <p:spPr>
            <a:xfrm>
              <a:off x="3525840" y="2133720"/>
              <a:ext cx="105228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ariable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237672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52720" y="344520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87480" y="3218040"/>
              <a:ext cx="105264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P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3480" y="3148200"/>
              <a:ext cx="109548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F Upconverter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mplif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5080" y="34974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08440" y="3127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173680"/>
              <a:ext cx="5443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540400" y="3027600"/>
              <a:ext cx="13788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000" y="0"/>
                  </a:moveTo>
                  <a:lnTo>
                    <a:pt x="0" y="20000"/>
                  </a:lnTo>
                  <a:lnTo>
                    <a:pt x="20000" y="20000"/>
                  </a:lnTo>
                  <a:lnTo>
                    <a:pt x="100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47760" y="2136960"/>
              <a:ext cx="105084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97160" y="2375280"/>
              <a:ext cx="347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582800" y="2373480"/>
              <a:ext cx="176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5680" y="237528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479680" y="28926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8520" y="2892600"/>
              <a:ext cx="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68520" y="345636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900520" y="4204800"/>
            <a:ext cx="4262400" cy="1891080"/>
            <a:chOff x="2900520" y="4204800"/>
            <a:chExt cx="4262400" cy="1891080"/>
          </a:xfrm>
        </p:grpSpPr>
        <p:sp>
          <p:nvSpPr>
            <p:cNvPr id="113" name=""/>
            <p:cNvSpPr/>
            <p:nvPr/>
          </p:nvSpPr>
          <p:spPr>
            <a:xfrm>
              <a:off x="3295800" y="4451040"/>
              <a:ext cx="111600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F Pre-Amp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own 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2160" y="46764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08920" y="46796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31120" y="4452840"/>
              <a:ext cx="140976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PS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modulaor/Equali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48400" y="5533920"/>
              <a:ext cx="111600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72320" y="576720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2160" y="43160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96360" y="5567040"/>
              <a:ext cx="46656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2440" y="5536800"/>
              <a:ext cx="111600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18440" y="577044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900520" y="4204440"/>
              <a:ext cx="136800" cy="136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000" y="0"/>
                  </a:moveTo>
                  <a:lnTo>
                    <a:pt x="0" y="20000"/>
                  </a:lnTo>
                  <a:lnTo>
                    <a:pt x="20000" y="20000"/>
                  </a:lnTo>
                  <a:lnTo>
                    <a:pt x="100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143760" y="4668480"/>
              <a:ext cx="176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26640" y="467028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43480" y="5197320"/>
              <a:ext cx="277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2320" y="520668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2320" y="575928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0B7-9806-46B1-B5E3-56812D8060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Robust Coding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state BCC (binary convolutional code) with punctured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coded) 1, 2, (coded) 2.75, 5.5, 11, 14.3, 16.5, 17.6, 18.3 and 19.25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rate: 11 Mbps with +2dB Es/No over 2Mbps DS-PHY (+500%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 Mbps with -1.2dB Es/No over 2Mbps DS-PHY (+275%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ding gain can save power at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9CD-35D3-42A4-B390-3B9FFAF7E8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Backward Compatibility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PSK 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Msps Symbol (Chip)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MHz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RF, Antenna,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patible, less data/estimation 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erformance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EC8-2E16-4DED-BECC-C274D82E0C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omplexity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s of 76k-95k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st in terms of state-of-the art technolog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s based on preliminary HDL design (por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management will reduce average power usage (modules with have sleep mode, CM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feasibility demonstrated; at least one vendor has already agreed to deploy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low complexity solution that is not robust will hurt the possibility of exciting growth in the WLAN marke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-we all los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06760" y="1523880"/>
          <a:ext cx="5637240" cy="9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6760" y="1523880"/>
                    <a:ext cx="563724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CB8-2C73-424A-8202-B9A8ECE1BB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BCC’s in Wireless System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BCC’s in wireless communications is not a new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’s have been proven effective in wireless systems with multipath, and they have been implemented as commercial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-95 standard for digital CDMA cellular phones uses a 256-state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 standard uses a four state punctured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ellite systems, such as the small disk digital TV systems (e.g., DirectTV &amp; Primestar) always deploy such a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, BCC’s have been proposed for the 802.11A (5.0 GHz)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663-66D3-4AB8-A44B-1A858989D6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rocessing Gain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17560" y="1940040"/>
          <a:ext cx="570708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1940040"/>
                    <a:ext cx="57070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A57-CD3A-4C5E-B017-E5E908F16A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AWGN Performance</a:t>
            </a:r>
            <a:br>
              <a:rPr sz="3200"/>
            </a:b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Detection Complexity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46360" y="2274840"/>
          <a:ext cx="564984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274840"/>
                    <a:ext cx="564984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13D-8981-4DE7-BCB2-D44A0CC43A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versus Trms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666880" y="2028960"/>
          <a:ext cx="3810240" cy="28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28960"/>
                    <a:ext cx="381024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4FD-171B-4184-9DF5-592C689D1E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Bozo T. Clown</cp:lastModifiedBy>
  <cp:lastPrinted>1998-03-11T19:03:54Z</cp:lastPrinted>
  <dcterms:modified xsi:type="dcterms:W3CDTF">1998-03-11T19:10:14Z</dcterms:modified>
  <cp:revision>49</cp:revision>
  <dc:subject/>
  <dc:title>VR-BCC QPSK</dc:title>
</cp:coreProperties>
</file>