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of Wireless PAN Ad Hoc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March 10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of Wireless PAN Ad Hoc Group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SG Meeting Lead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man, B. H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/Minutes, I. Gi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the Ad-Hoc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the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the fiv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Milestone for WPAN 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of Wireless PAN Ad Hoc Group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ed motion and Officer recommendations for 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/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9-13/98 SG Request for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IEEE ref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8-9/98 SG Meeting - Cambridge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4-7/98 SG Meeting - Interim Meeting Utr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20-21/98 SG Meeting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22/98 PAR Submit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6-10/98 Plenary - La Jolla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able Computer Standards Archive and Reflector 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://ftp.flexipc.com/wearables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arablesgroup@flexip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720" y="4413240"/>
            <a:ext cx="8315280" cy="12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reless PAN Study Group plans on jo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EEE stds_802_pan@majordomo.iee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400800"/>
            <a:ext cx="6140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c/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Case, ViA, 507-663-1399, scase@flexip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PAN/WLA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Need fo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arranted draft a PAR for submi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 appropriate Sponsorship within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form a Wireless PAN Study Group under 802.11 with the charter of drafting a PAN PAR for presentation at the next Plenary of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: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 Chair: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/Tech Editor: Ian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