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2560" y="3801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5080" y="64771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2FE593-5DC2-4C57-86D2-7663FC77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295280"/>
            <a:ext cx="8001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to the TGA IEEE 802.11/BRAN Liaison Issues for a Common P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962520"/>
            <a:ext cx="6386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P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- Seattle, 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ison on a 5GHz Common P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8320" y="1677960"/>
            <a:ext cx="8071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amble design/multiple preambles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rate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spacing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ing (major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recovery pilot vs. decision aided (major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(preamble+duration vs. carrier sense) (min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4440" y="990720"/>
            <a:ext cx="788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Issues and Importance from 11/9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8325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Group Formed After July Meeting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B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7640" y="2209680"/>
            <a:ext cx="6783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shid Khun-J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Ericc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a Kassl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arl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Te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a A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Radio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Morik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li Chay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Breeze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720" y="2057400"/>
            <a:ext cx="8539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shid Khun-J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Ericcson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a Kassl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ha Heiska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a A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RadioLAN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Morik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TT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Pa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G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okia Ame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5520" y="838080"/>
            <a:ext cx="781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 Team and Experts Group Mee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11/10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990720"/>
            <a:ext cx="374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 of the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363760"/>
            <a:ext cx="7162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see if there are any possible actions for either 802.11 or BRAN in resolving the issues raised on 11/9/9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4400" y="1981080"/>
          <a:ext cx="7251840" cy="39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25184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23160" y="912960"/>
            <a:ext cx="691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ment of the Experts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59800" y="912960"/>
            <a:ext cx="506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m 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7696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with model – Richard van Nee and Hitochi co-simulate a 4 channel standard and make a recommendation for common channelization and sampling rate for submission at the January meeting and proceed with common PM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22:21:54Z</dcterms:created>
  <dc:creator>Applied Research &amp; Technology</dc:creator>
  <dc:description/>
  <dc:language>en-US</dc:language>
  <cp:lastModifiedBy>The Boeing Company</cp:lastModifiedBy>
  <cp:lastPrinted>1998-11-11T17:53:14Z</cp:lastPrinted>
  <dcterms:modified xsi:type="dcterms:W3CDTF">1998-11-13T06:38:10Z</dcterms:modified>
  <cp:revision>11</cp:revision>
  <dc:subject/>
  <dc:title>No Slide Title</dc:title>
</cp:coreProperties>
</file>