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5160" y="609480"/>
            <a:ext cx="775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4360" y="64483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5160" y="6477120"/>
            <a:ext cx="783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D70C42-8039-46C3-B822-F0D0F6748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ahiro Morikura, 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spectrum of 5GHz b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ETSI BRAN HPA model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 Wireless Systems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mhosun.wslab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487840" cy="57276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730600" y="4737240"/>
            <a:ext cx="171360" cy="190440"/>
            <a:chOff x="2730600" y="4737240"/>
            <a:chExt cx="171360" cy="190440"/>
          </a:xfrm>
        </p:grpSpPr>
        <p:sp>
          <p:nvSpPr>
            <p:cNvPr id="49" name=""/>
            <p:cNvSpPr/>
            <p:nvPr/>
          </p:nvSpPr>
          <p:spPr>
            <a:xfrm>
              <a:off x="273060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3204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8144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313320" y="5462640"/>
            <a:ext cx="171720" cy="190440"/>
            <a:chOff x="6313320" y="5462640"/>
            <a:chExt cx="171720" cy="190440"/>
          </a:xfrm>
        </p:grpSpPr>
        <p:sp>
          <p:nvSpPr>
            <p:cNvPr id="53" name=""/>
            <p:cNvSpPr/>
            <p:nvPr/>
          </p:nvSpPr>
          <p:spPr>
            <a:xfrm>
              <a:off x="6313320" y="546264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15120" y="56484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23040" y="54640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241720" y="4737240"/>
            <a:ext cx="171360" cy="190440"/>
            <a:chOff x="2241720" y="4737240"/>
            <a:chExt cx="171360" cy="190440"/>
          </a:xfrm>
        </p:grpSpPr>
        <p:sp>
          <p:nvSpPr>
            <p:cNvPr id="57" name=""/>
            <p:cNvSpPr/>
            <p:nvPr/>
          </p:nvSpPr>
          <p:spPr>
            <a:xfrm>
              <a:off x="224172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4316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9220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08680" y="5468760"/>
            <a:ext cx="171720" cy="190800"/>
            <a:chOff x="6808680" y="5468760"/>
            <a:chExt cx="171720" cy="190800"/>
          </a:xfrm>
        </p:grpSpPr>
        <p:sp>
          <p:nvSpPr>
            <p:cNvPr id="61" name=""/>
            <p:cNvSpPr/>
            <p:nvPr/>
          </p:nvSpPr>
          <p:spPr>
            <a:xfrm>
              <a:off x="6808680" y="5468760"/>
              <a:ext cx="171720" cy="1908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10480" y="565452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8400" y="54705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711360"/>
            <a:ext cx="5337000" cy="57020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311560" y="4788000"/>
            <a:ext cx="171360" cy="190440"/>
            <a:chOff x="2311560" y="4788000"/>
            <a:chExt cx="171360" cy="190440"/>
          </a:xfrm>
        </p:grpSpPr>
        <p:sp>
          <p:nvSpPr>
            <p:cNvPr id="66" name=""/>
            <p:cNvSpPr/>
            <p:nvPr/>
          </p:nvSpPr>
          <p:spPr>
            <a:xfrm>
              <a:off x="2311560" y="478800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13000" y="497376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62040" y="47912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806560" y="4800600"/>
            <a:ext cx="171720" cy="190440"/>
            <a:chOff x="2806560" y="4800600"/>
            <a:chExt cx="171720" cy="190440"/>
          </a:xfrm>
        </p:grpSpPr>
        <p:sp>
          <p:nvSpPr>
            <p:cNvPr id="70" name=""/>
            <p:cNvSpPr/>
            <p:nvPr/>
          </p:nvSpPr>
          <p:spPr>
            <a:xfrm>
              <a:off x="2806560" y="480060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08360" y="498636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57400" y="48038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275520" y="5450040"/>
            <a:ext cx="171360" cy="190440"/>
            <a:chOff x="6275520" y="5450040"/>
            <a:chExt cx="171360" cy="190440"/>
          </a:xfrm>
        </p:grpSpPr>
        <p:sp>
          <p:nvSpPr>
            <p:cNvPr id="74" name=""/>
            <p:cNvSpPr/>
            <p:nvPr/>
          </p:nvSpPr>
          <p:spPr>
            <a:xfrm>
              <a:off x="627552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7696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8488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751800" y="5450040"/>
            <a:ext cx="171360" cy="190440"/>
            <a:chOff x="6751800" y="5450040"/>
            <a:chExt cx="171360" cy="190440"/>
          </a:xfrm>
        </p:grpSpPr>
        <p:sp>
          <p:nvSpPr>
            <p:cNvPr id="78" name=""/>
            <p:cNvSpPr/>
            <p:nvPr/>
          </p:nvSpPr>
          <p:spPr>
            <a:xfrm>
              <a:off x="675180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5324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6116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448240" cy="57276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317680" y="4749840"/>
            <a:ext cx="171360" cy="190440"/>
            <a:chOff x="2317680" y="4749840"/>
            <a:chExt cx="171360" cy="190440"/>
          </a:xfrm>
        </p:grpSpPr>
        <p:sp>
          <p:nvSpPr>
            <p:cNvPr id="83" name=""/>
            <p:cNvSpPr/>
            <p:nvPr/>
          </p:nvSpPr>
          <p:spPr>
            <a:xfrm>
              <a:off x="2317680" y="47498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9480" y="493560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68520" y="47530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838600" y="4737240"/>
            <a:ext cx="171360" cy="190440"/>
            <a:chOff x="2838600" y="4737240"/>
            <a:chExt cx="171360" cy="190440"/>
          </a:xfrm>
        </p:grpSpPr>
        <p:sp>
          <p:nvSpPr>
            <p:cNvPr id="87" name=""/>
            <p:cNvSpPr/>
            <p:nvPr/>
          </p:nvSpPr>
          <p:spPr>
            <a:xfrm>
              <a:off x="283860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4004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8944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357960" y="5450040"/>
            <a:ext cx="171360" cy="190440"/>
            <a:chOff x="6357960" y="5450040"/>
            <a:chExt cx="171360" cy="190440"/>
          </a:xfrm>
        </p:grpSpPr>
        <p:sp>
          <p:nvSpPr>
            <p:cNvPr id="91" name=""/>
            <p:cNvSpPr/>
            <p:nvPr/>
          </p:nvSpPr>
          <p:spPr>
            <a:xfrm>
              <a:off x="635796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5940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6732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859440" y="5450040"/>
            <a:ext cx="171720" cy="190440"/>
            <a:chOff x="6859440" y="5450040"/>
            <a:chExt cx="171720" cy="190440"/>
          </a:xfrm>
        </p:grpSpPr>
        <p:sp>
          <p:nvSpPr>
            <p:cNvPr id="95" name=""/>
            <p:cNvSpPr/>
            <p:nvPr/>
          </p:nvSpPr>
          <p:spPr>
            <a:xfrm>
              <a:off x="6859440" y="545004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6124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6916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Boeing Company</cp:lastModifiedBy>
  <dcterms:modified xsi:type="dcterms:W3CDTF">1998-11-13T05:48:02Z</dcterms:modified>
  <cp:revision>3</cp:revision>
  <dc:subject/>
  <dc:title>No Slide Title</dc:title>
</cp:coreProperties>
</file>