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985000" y="396720"/>
            <a:ext cx="247320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77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9040" y="609480"/>
            <a:ext cx="776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1398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Rule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9040" y="6477120"/>
            <a:ext cx="784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16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Rule Change to Operating Rules of IEEE Project 802 LAN MAN Standards Committee (LMS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441972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Petrick, 802.11 Co-Vice-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art Kerry, 802.11 Vice-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Rule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82880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working group has moved to electronic distribution during session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working well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ves time and cost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 rule change to Section 5.1.4.2.2 Voting by Letter Ballots as described in doc.: IEEE 802.11-98/3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ed change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5238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electronic medium for all matters of voting and documentation distribution (NO fax other than excep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the letter ballot electronic response time from present 40 days to 30 days in-the-hands of the voter with one (1) day to obtain from the web site, after formal email notificat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 day duration for letter ballots on original draf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day duration for other ballots including            re-circulation ballot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2760" y="1982880"/>
            <a:ext cx="818532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2590920"/>
            <a:ext cx="7772400" cy="29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tion:</a:t>
            </a:r>
            <a:br>
              <a:rPr sz="3200"/>
            </a:br>
            <a:br>
              <a:rPr sz="1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dopt the text changes reflecting electronic letter balloting and distribution pertaining to  Section 5.1.4.2.2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oting by Letter Ballot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described in doc.: IEEE 802.11-98/377 and forward to IEEE 802 SEC for approva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 Petrick, Harris - Stuart Kerry, Ok-Brit</dc:creator>
  <dc:description/>
  <dc:language>en-US</dc:language>
  <cp:lastModifiedBy>Steven Knudsen</cp:lastModifiedBy>
  <cp:revision>0</cp:revision>
  <dc:subject/>
  <dc:title>No Slide Title</dc:title>
</cp:coreProperties>
</file>