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396720"/>
            <a:ext cx="1190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162920" y="6477120"/>
            <a:ext cx="1430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Paine -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44840" y="6475320"/>
            <a:ext cx="530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0D002031-F020-4BA8-ABF9-F64DE412F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4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762120"/>
            <a:ext cx="76010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nelization Agreement Between IEEE802.11 and BR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3656160"/>
            <a:ext cx="67374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or Issues Still to be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amble design/multiple preamb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le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rier recovery pilot  vs. decision ai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existence/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133720"/>
            <a:ext cx="7102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Issues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ing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ied Research &amp; Technology</dc:creator>
  <dc:description/>
  <dc:language>en-US</dc:language>
  <cp:lastModifiedBy>Applied Research &amp; Technology</cp:lastModifiedBy>
  <cp:revision>0</cp:revision>
  <dc:subject/>
  <dc:title>No Slide Title</dc:title>
</cp:coreProperties>
</file>