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6A35-E8C2-4DBE-B4E0-67BB20031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1265-F7EF-40D6-B96C-A1C8AAF2B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5663-29FF-4430-B688-CC17F3A3B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D103-46C8-4BB8-8697-A56B39C36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16E0-319E-4B56-AD39-74A9D6168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616C-DE2F-4492-A52C-78A0D150D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E81A-9D1B-4194-B554-AC3BFF672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DB50-FE08-4DDF-AB5E-7407B6B4A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5A67-CF00-47CD-944E-EB9612406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8199-02BA-490C-82AC-439B7C66C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B122-F60A-4D02-AB2E-62502D3D5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C941-9C57-44F3-AADE-434D851E3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18160" indent="-218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52960" indent="-2214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777960" indent="-111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999360" indent="-1083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217880" indent="-105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217880" indent="-105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217880" indent="-105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8269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09720" y="6476760"/>
            <a:ext cx="312444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4B20899-DB6B-43C9-AF2F-8A9934A000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8/3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93720" y="609480"/>
            <a:ext cx="776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93720" y="6477120"/>
            <a:ext cx="784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meRF</a:t>
            </a:r>
            <a:r>
              <a:rPr b="0" lang="en-US" sz="3200" spc="-1" strike="noStrike" baseline="72000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Working Gro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th Liaison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886200" y="1143000"/>
            <a:ext cx="1359000" cy="1084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m Blaney, Commcep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FDAC-9A4F-4BF4-8486-80DE4CE600D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omeRF</a:t>
            </a:r>
            <a:r>
              <a:rPr b="0" lang="en-US" sz="3200" spc="-1" strike="noStrike" baseline="72000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Lite’s Mission Stat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95280" y="2286000"/>
            <a:ext cx="693432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bring about the existence of a broad range of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roperable consumer devic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y establishing open industry specifications for unlicensed, untethere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ripheral, control and entertainment devic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quiring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west cost and lowest power consump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mmunications between compliant device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ywhere in and around the h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m Blaney, Commcep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CB1F-47F6-4AB9-A637-EE2618A927F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meRF</a:t>
            </a:r>
            <a:r>
              <a:rPr b="0" lang="en-US" sz="3200" spc="-1" strike="noStrike" baseline="72000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Lite MRD Time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213840" indent="-213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option of Mission Statement by Subcommittee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3840" indent="-213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tribution of Mission Statement for review by Steering Committee by 10/12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3840" indent="-213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 of Mission Statement by Steering Committee by 10/19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3840" indent="-213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Pass of MRD expected to be ready for distribution by 11/9 (Rev 0.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3840" indent="-213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AP-Lite Subcommittee meeting to review MRD at Comd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41800" indent="-217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eting is 11/19 at the Flamingo Hilton Hot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m Blaney, Commcep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B2B1-1C73-45D6-87F3-A2A051EDCE2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RD Timeline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0680" indent="-2206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Pass of MRD expected to be ready for distribution by 12/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58720" indent="-2239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.95 Technical meeting in early Dece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-2206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option of MRD by HomeRF-Lite subcommittee prior to Full WG meeting expected to occur in February 19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58720" indent="-2239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mission to HomeRF reflector 2 weeks prior to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-2206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ation to HomeRF WG for review in February 19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-2206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ion of Technical Specification beg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m Blaney, Commcep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B1C4-796C-48CF-BA96-B1B47FCA514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meRF</a:t>
            </a:r>
            <a:r>
              <a:rPr b="0" lang="en-US" sz="3200" spc="-1" strike="noStrike" baseline="72000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Mission Stat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nable the existence of a broad range of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teroperable consumer devic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by establishing a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pen industry specific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unlicensed RF digital communications for PCs and consumer device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ywhere, in and around the ho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m Blaney, Commcep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60AC-675C-48BA-AD35-5C85BA7E05F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mbership Ros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0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vanced Micro De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ironet Wireless Commun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ps Electric Co., Lt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roadcom Corp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terfly Commun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sio Computer Cor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isco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aq Computer Cor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ricsson Enterprise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ujitsu Lt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52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arris Semicondu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osiden Cor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B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l Cor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ll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ansai Electric Co., Lt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G Electronics, In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tsushita Electric Industrial Co. (Panasoni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croso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29720" y="1413000"/>
            <a:ext cx="4017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Updated November 11, 1998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m Blaney, Commcept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E5F4-CEAE-4C80-8558-54454903AE8E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mber Roster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tsubishi Electric Corp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toro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ational Semiconduct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C Corp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rt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ki Electric Industry Co., Lt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hilips Consumer Communications (PC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max Electronics, Lt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x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F Monolithics, In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2920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ockwell Semiconductor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amsung Electronics, In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hareWave, In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harp Corp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eme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licon Wave In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ymbion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ymbol Technolo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xas Instr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bG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m Blaney, Commcept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A250-3D49-493B-B333-ABCD7BE8CAFE}" type="slidenum">
              <a:t>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Memb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42670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0680" indent="-2206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cer America, In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-2206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alog De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-2206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rkeley Concept Research Cor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-2206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irrus Logic, In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-2206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amond Multime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-2206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pson Research &amp; Development, In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-2206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lobal Converging Technolo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-2206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oneywell, In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-2206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dustrial Technology &amp; Research Institute (ITR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-2206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val Research Cor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0680" indent="-2206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-O Data Device, In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-2206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Ready Cor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-2206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anda Tsushin Kogyo Co., Lt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-2206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evel One Commun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-2206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DC Commun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-2206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sitis Software, In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-2206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aytheon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-2206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F Microde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-2206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awtek, In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-2206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.Megga Telecommunications Lt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-2206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Zilog, In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00000" y="1413000"/>
            <a:ext cx="3691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1 NEW Members Added 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m Blaney, Commcept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8AC9-89D1-45F4-908A-79E505214445}" type="slidenum">
              <a:t>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meRF</a:t>
            </a:r>
            <a:r>
              <a:rPr b="0" lang="en-US" sz="3200" spc="-1" strike="noStrike" baseline="72000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ime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851040" y="3970440"/>
            <a:ext cx="7823160" cy="372960"/>
            <a:chOff x="851040" y="3970440"/>
            <a:chExt cx="7823160" cy="372960"/>
          </a:xfrm>
        </p:grpSpPr>
        <p:sp>
          <p:nvSpPr>
            <p:cNvPr id="63" name=""/>
            <p:cNvSpPr/>
            <p:nvPr/>
          </p:nvSpPr>
          <p:spPr>
            <a:xfrm>
              <a:off x="851040" y="3975120"/>
              <a:ext cx="7823160" cy="355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800600" y="3970440"/>
              <a:ext cx="0" cy="372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58000" y="3970440"/>
              <a:ext cx="0" cy="372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3970440"/>
              <a:ext cx="0" cy="372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2286000" y="4351320"/>
            <a:ext cx="0" cy="1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9880" y="4351320"/>
            <a:ext cx="0" cy="1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87720" y="4351320"/>
            <a:ext cx="0" cy="1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90920" y="4351320"/>
            <a:ext cx="0" cy="1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rot="3000000">
            <a:off x="2039400" y="4930200"/>
            <a:ext cx="1440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unch  3/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444240" y="1391760"/>
            <a:ext cx="8229960" cy="2036160"/>
            <a:chOff x="444240" y="1391760"/>
            <a:chExt cx="8229960" cy="2036160"/>
          </a:xfrm>
        </p:grpSpPr>
        <p:sp>
          <p:nvSpPr>
            <p:cNvPr id="73" name=""/>
            <p:cNvSpPr/>
            <p:nvPr/>
          </p:nvSpPr>
          <p:spPr>
            <a:xfrm>
              <a:off x="469800" y="3022560"/>
              <a:ext cx="8204400" cy="355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800600" y="3017880"/>
              <a:ext cx="1440" cy="372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858000" y="3017880"/>
              <a:ext cx="1440" cy="372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743200" y="3017880"/>
              <a:ext cx="1440" cy="372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155600" y="2973240"/>
              <a:ext cx="1117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99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270400" y="2973240"/>
              <a:ext cx="1117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99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213000" y="2973240"/>
              <a:ext cx="1117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99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75520" y="2973240"/>
              <a:ext cx="1117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19080000">
              <a:off x="1455480" y="2374560"/>
              <a:ext cx="70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R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447920" y="2865600"/>
              <a:ext cx="0" cy="14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09480" y="2865600"/>
              <a:ext cx="0" cy="14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648320" y="2865600"/>
              <a:ext cx="0" cy="14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334120" y="2865600"/>
              <a:ext cx="0" cy="14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514600" y="2865600"/>
              <a:ext cx="0" cy="14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200400" y="2865600"/>
              <a:ext cx="0" cy="14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38080" y="3017880"/>
              <a:ext cx="0" cy="372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9080000">
              <a:off x="380880" y="2133360"/>
              <a:ext cx="1438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st Meet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9080000">
              <a:off x="2309400" y="1976040"/>
              <a:ext cx="18702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WAP Select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9080000">
              <a:off x="3067920" y="2334960"/>
              <a:ext cx="9954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aun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rot="19080000">
              <a:off x="5073120" y="2004480"/>
              <a:ext cx="1972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69696"/>
                  </a:solidFill>
                  <a:latin typeface="Arial"/>
                </a:rPr>
                <a:t>1st Compon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rot="19080000">
              <a:off x="6365520" y="2165040"/>
              <a:ext cx="1565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69696"/>
                  </a:solidFill>
                  <a:latin typeface="Arial"/>
                </a:rPr>
                <a:t>1st Produc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rot="19080000">
              <a:off x="4576320" y="2111400"/>
              <a:ext cx="1413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WAP R1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553080" y="2865600"/>
              <a:ext cx="0" cy="14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 flipH="1">
            <a:off x="846000" y="3398760"/>
            <a:ext cx="1897200" cy="56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09960" y="3398760"/>
            <a:ext cx="3876840" cy="56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25320" y="3966840"/>
            <a:ext cx="588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403080" y="3966840"/>
            <a:ext cx="588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627160" y="3966840"/>
            <a:ext cx="588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532280" y="3966840"/>
            <a:ext cx="588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3000000">
            <a:off x="2382480" y="4830120"/>
            <a:ext cx="1234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0.1  3/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3000000">
            <a:off x="3446280" y="5236200"/>
            <a:ext cx="2351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. Seminars  6/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3000000">
            <a:off x="4312800" y="4794840"/>
            <a:ext cx="1170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0.5 6/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3000000">
            <a:off x="7153200" y="4837680"/>
            <a:ext cx="1361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0.9  10/2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324480" y="4344840"/>
            <a:ext cx="0" cy="144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553080" y="4351320"/>
            <a:ext cx="0" cy="1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95680" y="4351320"/>
            <a:ext cx="0" cy="1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567640" y="4351320"/>
            <a:ext cx="0" cy="1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467480" y="4363920"/>
            <a:ext cx="0" cy="144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3000000">
            <a:off x="6128640" y="4874400"/>
            <a:ext cx="1234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0.7  9/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3000000">
            <a:off x="6306840" y="5258520"/>
            <a:ext cx="2287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. Seminars 9/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3000000">
            <a:off x="8231400" y="4537080"/>
            <a:ext cx="8794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1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/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705720" y="4351320"/>
            <a:ext cx="0" cy="1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m Blaney, Commcep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01B2-7DBF-447F-9A95-B238A115FF4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meRF</a:t>
            </a:r>
            <a:r>
              <a:rPr b="0" lang="en-US" sz="3200" spc="-1" strike="noStrike" baseline="72000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Response to WP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200520" indent="-200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HomeRF WG recently granted to a select number of individuals of the IEEE 802.11 WPAN SG the ability to review in full technical detail revision 0.9 of the SWAP-CA spec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00520" indent="-200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ddition, there has been a request to inform the SG of the activities of the emerging HomeRF Lite subcommitt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08320" indent="-203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xt meeting is November 20, 1998 at the Flamingo Hilton Hotel in Las Ve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m Blaney, Commcep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4E54-6863-41BC-9316-4FFC0FD29DA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PAN’s Review Te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18160" indent="-218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ollowing WPAN SG members have volunteered to review the SWAP-CA rev. 0.9 specification for applicability to WP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52960" indent="-221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uce Kraemer - Harris Semicondu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52960" indent="-221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an Gifford - 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52960" indent="-221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ve Shellhammer - Symbol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52960" indent="-221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b O’Hara - Informed Techn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52960" indent="-221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 Blaney - Commcepts (liais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m Blaney, Commcep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580C-393C-42BF-AC79-C3DA014E841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meRF</a:t>
            </a:r>
            <a:r>
              <a:rPr b="0" lang="en-US" sz="3200" spc="-1" strike="noStrike" baseline="72000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205200" indent="-205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HomeRF WG is interested in continuing the open dialogue with the WPAN SG, in particular with the emerging HomeRF Lite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05200" indent="-205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WG is open to investigating the possibility of the WPAN SG “standardizing” a version of their SWAP-CA implementation, or the emerging HomeRF Lite 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05200" indent="-205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edback from the SG’s review of the specification will be presented to the WG at their next steering committee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m Blaney, Commcep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0FE9-894B-4FD4-9C82-F6E9913416C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1T01:32:44Z</dcterms:created>
  <dc:creator>Tim Blaney</dc:creator>
  <dc:description>Tim Blaney, Commcepts</dc:description>
  <cp:keywords>November 1998</cp:keywords>
  <dc:language>en-US</dc:language>
  <cp:lastModifiedBy>The Boeing Company</cp:lastModifiedBy>
  <cp:lastPrinted>1998-09-11T18:06:47Z</cp:lastPrinted>
  <dcterms:modified xsi:type="dcterms:W3CDTF">1998-11-13T07:23:54Z</dcterms:modified>
  <cp:revision>55</cp:revision>
  <dc:subject>Submission</dc:subject>
  <dc:title>doc.: IEEE 802.11-98/360</dc:title>
</cp:coreProperties>
</file>