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8A64FD-C278-400A-8D86-FBDCC6C6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850DE5-D5FC-4919-8851-389B6EAA2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9040" y="782640"/>
            <a:ext cx="4356360" cy="3267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9880" y="441288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289-452A-494C-8AFA-B831D720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E6F-3CC5-49BD-A247-1A827A1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3EE-2129-477F-8FAB-87648103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154-0814-4C4D-A479-2C737057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4DC-2144-463B-BA01-9C0D9E7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C30-D7A9-4B2C-8166-64038016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E3C-5A17-4B89-9DB9-71D248F4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1F2-0CC5-4855-BC30-E7DE2F1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F98-B5B5-44DF-B6EA-AED76A4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E1A-AC3D-4EE4-82A7-B55226B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90D-FAF8-4DA8-896A-2F80A02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F21-B105-4CD1-A69C-2676B80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83475D-3638-45A7-8923-00532115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RAN#11 PHY Decisions &amp; Issues to Resolved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6CB-64D2-4F2C-BC35-D5D33816E9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914040"/>
            <a:ext cx="7774200" cy="49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decision on the sampling rate which determines the bit rate supported in a radio chan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different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ate of 20 Msamples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ults in a reduced adjacent channel interference (A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ght be translated in an increased overall system capac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higher sampling rate (e.g. 22 Msamples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d instantaneous bit rate in one radio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ut als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creased ACI that might be translated in degradation of the overall system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me mixed frequency products making the RF implementation mor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e on all issues in the PHY interim meeting in Decemb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7D5-F6EC-4AEA-B874-848721C23F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Baseb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662-49A7-44B9-8E6D-9187D40545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FT si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4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umber of used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uard inter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-carrier mod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PSK, QPSK, 16QAM, possibly 8PSK and optionally 64 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dulation in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3DC-8BAA-4DA4-BDF0-19E12060C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andatory convolutional mother code with constraint length 7 and rate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d code rates ½, ¾ obtained by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 2/3 will possibly be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s 1/3 or ¼ might be needed to provide more protection for short control PD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de rates shall be selected in such a way that each PDU should be mapped into an integer multiple of OFDM symbols current assumption on data PDU size: 54 by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onal coding schemes might be added to the specification later (not in the first stag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93B-6186-4706-8C8D-E8D798CC8F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leav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decide yet, if the interleaving is to be done OFDM symbol wise or PDU wi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investigation are needed. To be discussed and maybe decided at the interim meeting of the PHY TS Rapporteur Group on December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cillator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/- 20 p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tral sha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approach as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time windowing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tellation accuracy test specifications in combination with spectral mas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DEB-F6B0-4EBA-8D3E-F8D3F97B00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4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ining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different preambles needed, due to the centralised DLC protocol applied to HIPERLAN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 frame could have the same structure as the first part of the training sequence proposed for IEEE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, the symbols for coarse frequency and timing estimation and the long symbol for fine frequency offset and channel esti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eed for the training part SIGNAL, because the signalling of PHY mode will be performed in other part of the protoc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could have the same structure as the long symbol T1 in IEEE 802.11 propo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 cl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offset estimation and timing are needed for downlink and uplink bur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 in uplink bursts needed if power control is used in uplin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E4A-B3D9-47A9-B486-396B9071CB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se trac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hase tracking scheme is needed due to coherent demod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need for pilot symbols to perform phase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essment based on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iti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sults of some members of the PHY TS Rapporteur Gro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re results needed to make a final decision (to be discussed at the PHY TS interim meeting in Dec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pilot symbol aided scheme versus a  decision directed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690-9075-47B3-8AB1-5C0FD413B0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0 MHz bandwidth currently available in Europe for HIPER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range 5.15 – 5.3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s than –33 dBm/100kHz emitted spurious power outside this band is allowed be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ming a transmit power of 200 mW, a 35 dB attenuation necessary at both edges of the HIPERLAN frequency ba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ulation results show that the spacing of the outmost channels from the band’s edges have to be in the order of 22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linear model for a class AB power amplifier with an out put backoff of 5.5 dB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C67-7B80-49D7-B639-89D36F2345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-2743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radio channels achieved by an 18 MHz channel spacing is equal to that achieved by a channel spacing of 20 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x radio channels could be obtained in current HIPERLA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ce of the outmost channel from each band edge is 25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xed requirements on the PA back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HIPERLAN/2 PA models, the outmost channels in UNII band need even more distance from the band edges if practical PA backoff value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20 MHz channel spacing, 8 radio channels for the 200 MHz band starting at 5.15 GHz (lower and middle U-NII bands) achiev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addition enough spacing for the outmost channels from the band edg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B8B-2853-4BCA-9094-63349DA073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17:48Z</cp:lastPrinted>
  <dcterms:modified xsi:type="dcterms:W3CDTF">1998-11-10T00:20:44Z</dcterms:modified>
  <cp:revision>4</cp:revision>
  <dc:subject/>
  <dc:title> Measured Spectra for OFDM Transmission Based on PA Models of BRAN</dc:title>
</cp:coreProperties>
</file>