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946840" y="396720"/>
            <a:ext cx="25113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78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1371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of Bluetooth and 802.11 Direct Sequence Interferenc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m Zy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zyren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 Interference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34920" y="1577880"/>
            <a:ext cx="7142040" cy="2127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01800" y="3846600"/>
            <a:ext cx="7201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ied Model:  BT Tx Burst = 366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 of 62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 d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90600" y="4560840"/>
            <a:ext cx="60930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 packet is 2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well periods = 2000 / 625 = 3.2 dw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 of overlapping 3 dwells =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 of overlapping 4 dwells = 7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g BT overlap = 3.8 dw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rame Sp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2680" y="2259000"/>
            <a:ext cx="835992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S on dropped packet = ACKTimeout + DIFS + 7 slot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ied Assump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S on dropped packet = ACKTimeout + DIFS + 15 slot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S PHY MIB specifies default value of CWmin = 31 slot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w / Modified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9360" y="5419800"/>
            <a:ext cx="6076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gradation Factor v. Fragment Size @ 5.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2000" y="1619280"/>
            <a:ext cx="7000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w / Modified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63760" y="5477040"/>
            <a:ext cx="6076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put (Mbps) v. Fragment Size @ 5.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00160" y="1604880"/>
            <a:ext cx="6924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w / Modified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49360" y="5419800"/>
            <a:ext cx="6006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gradation Factor v. Fragment Size @ 11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52640" y="1600200"/>
            <a:ext cx="7020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w / Modified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63760" y="5477040"/>
            <a:ext cx="6005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put (Mbps) v. Fragment Size @ 11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28880" y="1566720"/>
            <a:ext cx="70675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ominantly Upstream Traf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4713120"/>
            <a:ext cx="77119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stream Traffic (STA to AP) is affected much less beca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T Interference is Localized, and Downstream ACK’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y shor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network thruput w/BT interference is better than initially predi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r packets at 5.5 and 11 Mbps enable DS to avoid most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 interference effects are loc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 size of 750 bytes works well for 5.5 and 11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ower BT devices present a completely different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 piconet will be distributed over greate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power increases “bubble of interference”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topology mitigates “near/far” problem for DS-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/BT interference is still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n BT is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ance/interoperability is a desirable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76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00200" y="1625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ier paper presented analysis of influence of BT on co-located 802.11 DS 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Bluetooth on 802.11 Direct Sequ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P802.11-98/3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original model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tions to model are propo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probability of co-channel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short preamble and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d BT interfere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longer IFS on dropped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using modified assumptions are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 / DS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00240" y="2001960"/>
            <a:ext cx="5253120" cy="3722760"/>
            <a:chOff x="2100240" y="2001960"/>
            <a:chExt cx="5253120" cy="3722760"/>
          </a:xfrm>
        </p:grpSpPr>
        <p:sp>
          <p:nvSpPr>
            <p:cNvPr id="49" name=""/>
            <p:cNvSpPr/>
            <p:nvPr/>
          </p:nvSpPr>
          <p:spPr>
            <a:xfrm>
              <a:off x="3187800" y="4295880"/>
              <a:ext cx="2712960" cy="1428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995640" y="4857840"/>
              <a:ext cx="1055880" cy="303120"/>
              <a:chOff x="3995640" y="4857840"/>
              <a:chExt cx="1055880" cy="303120"/>
            </a:xfrm>
          </p:grpSpPr>
          <p:sp>
            <p:nvSpPr>
              <p:cNvPr id="51" name=""/>
              <p:cNvSpPr/>
              <p:nvPr/>
            </p:nvSpPr>
            <p:spPr>
              <a:xfrm>
                <a:off x="3995640" y="4857840"/>
                <a:ext cx="1054080" cy="30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4048200" y="4870440"/>
                <a:ext cx="10033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2.11 St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4052880" y="4397400"/>
              <a:ext cx="260280" cy="36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3320" y="5024520"/>
              <a:ext cx="260280" cy="36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4657680"/>
              <a:ext cx="260280" cy="360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100240" y="4800600"/>
              <a:ext cx="720720" cy="461880"/>
              <a:chOff x="2100240" y="4800600"/>
              <a:chExt cx="720720" cy="461880"/>
            </a:xfrm>
          </p:grpSpPr>
          <p:sp>
            <p:nvSpPr>
              <p:cNvPr id="57" name=""/>
              <p:cNvSpPr/>
              <p:nvPr/>
            </p:nvSpPr>
            <p:spPr>
              <a:xfrm>
                <a:off x="2104920" y="4800600"/>
                <a:ext cx="679320" cy="461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2100240" y="4842000"/>
                <a:ext cx="7207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uetoot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d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2884320" y="4627440"/>
              <a:ext cx="1038240" cy="30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8720" y="5075280"/>
              <a:ext cx="620640" cy="10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679920" y="2681280"/>
              <a:ext cx="1398600" cy="763560"/>
              <a:chOff x="3679920" y="2681280"/>
              <a:chExt cx="1398600" cy="763560"/>
            </a:xfrm>
          </p:grpSpPr>
          <p:sp>
            <p:nvSpPr>
              <p:cNvPr id="62" name=""/>
              <p:cNvSpPr/>
              <p:nvPr/>
            </p:nvSpPr>
            <p:spPr>
              <a:xfrm>
                <a:off x="3679920" y="2681280"/>
                <a:ext cx="1398600" cy="763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3720960" y="2793960"/>
                <a:ext cx="1306440" cy="5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  packets fro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ation immune 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uetooth collis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954760" y="3584520"/>
              <a:ext cx="1398600" cy="763560"/>
              <a:chOff x="5954760" y="3584520"/>
              <a:chExt cx="1398600" cy="763560"/>
            </a:xfrm>
          </p:grpSpPr>
          <p:sp>
            <p:nvSpPr>
              <p:cNvPr id="65" name=""/>
              <p:cNvSpPr/>
              <p:nvPr/>
            </p:nvSpPr>
            <p:spPr>
              <a:xfrm>
                <a:off x="5954760" y="3584520"/>
                <a:ext cx="1398600" cy="763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6026040" y="3695760"/>
                <a:ext cx="1271520" cy="5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  packets fro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 subject 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uetooth collis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348240" y="2001960"/>
              <a:ext cx="952560" cy="534960"/>
              <a:chOff x="6348240" y="2001960"/>
              <a:chExt cx="952560" cy="534960"/>
            </a:xfrm>
          </p:grpSpPr>
          <p:sp>
            <p:nvSpPr>
              <p:cNvPr id="68" name=""/>
              <p:cNvSpPr/>
              <p:nvPr/>
            </p:nvSpPr>
            <p:spPr>
              <a:xfrm>
                <a:off x="6348240" y="2001960"/>
                <a:ext cx="952560" cy="534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6372360" y="2058840"/>
                <a:ext cx="91764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2.11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ess Poi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4775040" y="2738520"/>
              <a:ext cx="1327320" cy="141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5043600" y="2774880"/>
              <a:ext cx="1326960" cy="141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76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71600"/>
            <a:ext cx="8305920" cy="44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collision in time and frequency between BT and DS results in droppe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# BT dwell periods (n) a DS packet overl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 probability any given BT hop falls in band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for BT piconet utilization factor (U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collision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in appropriate network overhead to determine Degradation Factor and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eatures of Original Model are retained for thi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od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channel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47880" y="1643040"/>
            <a:ext cx="5429160" cy="2943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66880" y="4656240"/>
            <a:ext cx="76057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Original model assumed probability that BT hop falls in DS passb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1/3.  This corresponds to 26 MHz DS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Measured data for CCK CW jammer suppression suggests assu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BW = 20 MHz is more accurate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channel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59120" y="1744560"/>
            <a:ext cx="5207040" cy="1608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092240" y="3606840"/>
            <a:ext cx="6902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W Jammer suppression due to combined effects of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lter and sin (x) / x post-correlation jammer P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380320" y="4649760"/>
            <a:ext cx="4530240" cy="1247760"/>
            <a:chOff x="2380320" y="4649760"/>
            <a:chExt cx="4530240" cy="1247760"/>
          </a:xfrm>
        </p:grpSpPr>
        <p:sp>
          <p:nvSpPr>
            <p:cNvPr id="82" name=""/>
            <p:cNvSpPr/>
            <p:nvPr/>
          </p:nvSpPr>
          <p:spPr>
            <a:xfrm>
              <a:off x="2444760" y="5510160"/>
              <a:ext cx="446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373640" y="4649760"/>
              <a:ext cx="296640" cy="863640"/>
              <a:chOff x="4373640" y="4649760"/>
              <a:chExt cx="296640" cy="863640"/>
            </a:xfrm>
          </p:grpSpPr>
          <p:sp>
            <p:nvSpPr>
              <p:cNvPr id="84" name=""/>
              <p:cNvSpPr/>
              <p:nvPr/>
            </p:nvSpPr>
            <p:spPr>
              <a:xfrm>
                <a:off x="4373640" y="4654440"/>
                <a:ext cx="0" cy="85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670280" y="4649760"/>
                <a:ext cx="0" cy="85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518000" y="551016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354560" y="5653080"/>
              <a:ext cx="282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100400" y="4649760"/>
              <a:ext cx="2476800" cy="244440"/>
              <a:chOff x="4100400" y="4649760"/>
              <a:chExt cx="2476800" cy="244440"/>
            </a:xfrm>
          </p:grpSpPr>
          <p:sp>
            <p:nvSpPr>
              <p:cNvPr id="89" name=""/>
              <p:cNvSpPr/>
              <p:nvPr/>
            </p:nvSpPr>
            <p:spPr>
              <a:xfrm flipH="1">
                <a:off x="4100400" y="4795920"/>
                <a:ext cx="20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78240" y="4754520"/>
                <a:ext cx="95760" cy="81360"/>
              </a:xfrm>
              <a:custGeom>
                <a:avLst/>
                <a:gdLst/>
                <a:ahLst/>
                <a:rect l="0" t="0" r="r" b="b"/>
                <a:pathLst>
                  <a:path w="266" h="226">
                    <a:moveTo>
                      <a:pt x="0" y="226"/>
                    </a:moveTo>
                    <a:lnTo>
                      <a:pt x="39" y="115"/>
                    </a:lnTo>
                    <a:lnTo>
                      <a:pt x="0" y="0"/>
                    </a:lnTo>
                    <a:lnTo>
                      <a:pt x="266" y="115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4754520" y="4789440"/>
                <a:ext cx="2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83240" y="4748040"/>
                <a:ext cx="95760" cy="81360"/>
              </a:xfrm>
              <a:custGeom>
                <a:avLst/>
                <a:gdLst/>
                <a:ahLst/>
                <a:rect l="0" t="0" r="r" b="b"/>
                <a:pathLst>
                  <a:path w="266" h="226">
                    <a:moveTo>
                      <a:pt x="266" y="0"/>
                    </a:moveTo>
                    <a:lnTo>
                      <a:pt x="226" y="115"/>
                    </a:lnTo>
                    <a:lnTo>
                      <a:pt x="266" y="226"/>
                    </a:lnTo>
                    <a:lnTo>
                      <a:pt x="0" y="115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4903920" y="4649760"/>
                <a:ext cx="16732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st-correlation bandwidt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 txBox="1"/>
            <p:nvPr/>
          </p:nvSpPr>
          <p:spPr>
            <a:xfrm>
              <a:off x="3247920" y="5653080"/>
              <a:ext cx="833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 - 11 MH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60840" y="551808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816280" y="5222880"/>
              <a:ext cx="1708560" cy="294840"/>
              <a:chOff x="2816280" y="5222880"/>
              <a:chExt cx="1708560" cy="294840"/>
            </a:xfrm>
          </p:grpSpPr>
          <p:sp>
            <p:nvSpPr>
              <p:cNvPr id="97" name=""/>
              <p:cNvSpPr/>
              <p:nvPr/>
            </p:nvSpPr>
            <p:spPr>
              <a:xfrm>
                <a:off x="3660120" y="5229360"/>
                <a:ext cx="864720" cy="288360"/>
              </a:xfrm>
              <a:custGeom>
                <a:avLst/>
                <a:gdLst/>
                <a:ahLst/>
                <a:rect l="0" t="0" r="r" b="b"/>
                <a:pathLst>
                  <a:path fill="none" w="2402" h="801">
                    <a:moveTo>
                      <a:pt x="2402" y="801"/>
                    </a:moveTo>
                    <a:lnTo>
                      <a:pt x="2402" y="801"/>
                    </a:lnTo>
                    <a:lnTo>
                      <a:pt x="2402" y="801"/>
                    </a:lnTo>
                    <a:cubicBezTo>
                      <a:pt x="2402" y="660"/>
                      <a:pt x="2291" y="522"/>
                      <a:pt x="2080" y="400"/>
                    </a:cubicBezTo>
                    <a:cubicBezTo>
                      <a:pt x="1869" y="279"/>
                      <a:pt x="1566" y="178"/>
                      <a:pt x="1201" y="107"/>
                    </a:cubicBezTo>
                    <a:cubicBezTo>
                      <a:pt x="836" y="37"/>
                      <a:pt x="422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816280" y="5222880"/>
                <a:ext cx="864720" cy="288360"/>
              </a:xfrm>
              <a:custGeom>
                <a:avLst/>
                <a:gdLst/>
                <a:ahLst/>
                <a:rect l="0" t="0" r="r" b="b"/>
                <a:pathLst>
                  <a:path fill="none" w="2402" h="801">
                    <a:moveTo>
                      <a:pt x="2402" y="0"/>
                    </a:moveTo>
                    <a:lnTo>
                      <a:pt x="2402" y="0"/>
                    </a:lnTo>
                    <a:cubicBezTo>
                      <a:pt x="1980" y="0"/>
                      <a:pt x="1566" y="37"/>
                      <a:pt x="1201" y="107"/>
                    </a:cubicBezTo>
                    <a:cubicBezTo>
                      <a:pt x="836" y="178"/>
                      <a:pt x="533" y="279"/>
                      <a:pt x="322" y="401"/>
                    </a:cubicBezTo>
                    <a:cubicBezTo>
                      <a:pt x="111" y="522"/>
                      <a:pt x="0" y="660"/>
                      <a:pt x="0" y="801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568760" y="5430960"/>
              <a:ext cx="865440" cy="79560"/>
              <a:chOff x="4568760" y="5430960"/>
              <a:chExt cx="865440" cy="79560"/>
            </a:xfrm>
          </p:grpSpPr>
          <p:sp>
            <p:nvSpPr>
              <p:cNvPr id="100" name=""/>
              <p:cNvSpPr/>
              <p:nvPr/>
            </p:nvSpPr>
            <p:spPr>
              <a:xfrm>
                <a:off x="4995720" y="5432400"/>
                <a:ext cx="438480" cy="78120"/>
              </a:xfrm>
              <a:custGeom>
                <a:avLst/>
                <a:gdLst/>
                <a:ahLst/>
                <a:rect l="0" t="0" r="r" b="b"/>
                <a:pathLst>
                  <a:path fill="none" w="1218" h="217">
                    <a:moveTo>
                      <a:pt x="1218" y="217"/>
                    </a:moveTo>
                    <a:lnTo>
                      <a:pt x="1218" y="217"/>
                    </a:lnTo>
                    <a:cubicBezTo>
                      <a:pt x="1213" y="180"/>
                      <a:pt x="1157" y="143"/>
                      <a:pt x="1055" y="111"/>
                    </a:cubicBezTo>
                    <a:cubicBezTo>
                      <a:pt x="948" y="77"/>
                      <a:pt x="794" y="49"/>
                      <a:pt x="609" y="30"/>
                    </a:cubicBezTo>
                    <a:cubicBezTo>
                      <a:pt x="424" y="10"/>
                      <a:pt x="214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68760" y="5430960"/>
                <a:ext cx="438480" cy="78120"/>
              </a:xfrm>
              <a:custGeom>
                <a:avLst/>
                <a:gdLst/>
                <a:ahLst/>
                <a:rect l="0" t="0" r="r" b="b"/>
                <a:pathLst>
                  <a:path fill="none" w="1218" h="217">
                    <a:moveTo>
                      <a:pt x="1218" y="0"/>
                    </a:moveTo>
                    <a:lnTo>
                      <a:pt x="1218" y="0"/>
                    </a:lnTo>
                    <a:cubicBezTo>
                      <a:pt x="1004" y="0"/>
                      <a:pt x="794" y="10"/>
                      <a:pt x="609" y="30"/>
                    </a:cubicBezTo>
                    <a:cubicBezTo>
                      <a:pt x="424" y="49"/>
                      <a:pt x="270" y="77"/>
                      <a:pt x="163" y="111"/>
                    </a:cubicBezTo>
                    <a:cubicBezTo>
                      <a:pt x="61" y="143"/>
                      <a:pt x="5" y="180"/>
                      <a:pt x="0" y="217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380320" y="5397480"/>
              <a:ext cx="437760" cy="106920"/>
            </a:xfrm>
            <a:custGeom>
              <a:avLst/>
              <a:gdLst/>
              <a:ahLst/>
              <a:rect l="0" t="0" r="r" b="b"/>
              <a:pathLst>
                <a:path fill="none" w="1216" h="297">
                  <a:moveTo>
                    <a:pt x="1216" y="297"/>
                  </a:moveTo>
                  <a:lnTo>
                    <a:pt x="1216" y="297"/>
                  </a:lnTo>
                  <a:cubicBezTo>
                    <a:pt x="1213" y="246"/>
                    <a:pt x="1157" y="195"/>
                    <a:pt x="1053" y="151"/>
                  </a:cubicBezTo>
                  <a:cubicBezTo>
                    <a:pt x="946" y="105"/>
                    <a:pt x="793" y="67"/>
                    <a:pt x="608" y="40"/>
                  </a:cubicBezTo>
                  <a:cubicBezTo>
                    <a:pt x="423" y="14"/>
                    <a:pt x="214" y="0"/>
                    <a:pt x="0" y="0"/>
                  </a:cubicBez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H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27360" y="32608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95280" y="1981080"/>
            <a:ext cx="6477120" cy="457200"/>
            <a:chOff x="1295280" y="1981080"/>
            <a:chExt cx="6477120" cy="457200"/>
          </a:xfrm>
        </p:grpSpPr>
        <p:sp>
          <p:nvSpPr>
            <p:cNvPr id="106" name=""/>
            <p:cNvSpPr/>
            <p:nvPr/>
          </p:nvSpPr>
          <p:spPr>
            <a:xfrm>
              <a:off x="1295280" y="1981080"/>
              <a:ext cx="6477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1981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422440" y="2055960"/>
              <a:ext cx="20480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amble (144 bit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004080" y="2055960"/>
              <a:ext cx="1708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er (48 bit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9528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819520"/>
            <a:ext cx="679680" cy="4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055960" y="2695680"/>
            <a:ext cx="4865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 = 144 bits @ 1 Mbps + 48 bits @ 1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047000" y="2865600"/>
            <a:ext cx="714240" cy="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77800" y="3341520"/>
            <a:ext cx="608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Model assumed long preamble &amp;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684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739960" y="4051440"/>
            <a:ext cx="3462480" cy="517680"/>
            <a:chOff x="2739960" y="4051440"/>
            <a:chExt cx="3462480" cy="517680"/>
          </a:xfrm>
        </p:grpSpPr>
        <p:sp>
          <p:nvSpPr>
            <p:cNvPr id="118" name=""/>
            <p:cNvSpPr/>
            <p:nvPr/>
          </p:nvSpPr>
          <p:spPr>
            <a:xfrm>
              <a:off x="2739960" y="4067280"/>
              <a:ext cx="34624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8880" y="4067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935440" y="4156200"/>
              <a:ext cx="1935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amble (72 bit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5305320" y="4051440"/>
              <a:ext cx="8650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8 bi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60840" y="4589640"/>
            <a:ext cx="699840" cy="457200"/>
            <a:chOff x="2760840" y="4589640"/>
            <a:chExt cx="699840" cy="457200"/>
          </a:xfrm>
        </p:grpSpPr>
        <p:sp>
          <p:nvSpPr>
            <p:cNvPr id="123" name=""/>
            <p:cNvSpPr/>
            <p:nvPr/>
          </p:nvSpPr>
          <p:spPr>
            <a:xfrm>
              <a:off x="2760840" y="4589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760840" y="4813200"/>
              <a:ext cx="6998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 txBox="1"/>
          <p:nvPr/>
        </p:nvSpPr>
        <p:spPr>
          <a:xfrm>
            <a:off x="2944800" y="4651200"/>
            <a:ext cx="2941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6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72 bits @ 1 Mbps + 48 bits @ 2 Mb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1520" y="459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95760" y="4784760"/>
            <a:ext cx="714600" cy="6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57280" y="5456160"/>
            <a:ext cx="6253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ied Model assumes short preamble &amp;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 Interference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9280" y="1612800"/>
            <a:ext cx="7716960" cy="2112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131840" y="3976560"/>
            <a:ext cx="6894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Model Assumed BT Tx Burst = BT Dwel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90600" y="4560840"/>
            <a:ext cx="60930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: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 packet is 2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well periods = 2000 / 625 = 3.2 dw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 of overlapping 4 dwells =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 of overlapping 5 dwells = 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g BT overlap = 4.8 dw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