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 Study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ession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Bra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&amp; 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For Applications (CF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Krae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ttribut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Deriv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 Bla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a Motion for a PAR &amp; 5C approval in LaJolla Plenary 7/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Plenary Our Sponsor postponed our Motion due to lack of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LaJolla we have had significant support from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is session we want to report progress and receive comments from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(cont.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 Ch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ireless PAN Study Group, under 802.11, is the chartered to draft a WPAN PAR for presentation at the next Plenary of 80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“Wearables”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, 1997. Cleveland, OH, Request to PA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6, 1997. Nashua, NH IEEE PASC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2, 1997. Cleveland, OH Wearables Ad Hoc Committe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4-15, 1998. Memphis, TN, Wearables Ad Hoc Committe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22, 1998 Lynnwood, WA IEEE 802.11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9-13, 1998 Irvine, CA IEEE 802 Plenary Meeting (SG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 8-9, 1998 Cambridge, MA IEEE 802.11 WPAN S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4-8, 1998 Utrecht, NL IEEE 802.11 WPAN S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-21, 1998 Irving, TX IEEE 802.11 WPAN S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6-10, 1998 LaJolla, CA 802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4-18,1998 Westford, MA 802.11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26, 1998 Atlanta, GA WPAN Ad Hoc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-13, 1998 Albuquerque, NM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tudy Group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1600" y="3757680"/>
            <a:ext cx="1628640" cy="144936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3728880"/>
            <a:ext cx="1725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eq. Ho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55800" y="3757680"/>
            <a:ext cx="1687680" cy="144936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841400" y="3728880"/>
            <a:ext cx="171288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14760" y="3757680"/>
            <a:ext cx="789120" cy="144936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60760" y="4137120"/>
            <a:ext cx="880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-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8480" y="3497400"/>
            <a:ext cx="5072040" cy="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97520" y="3519360"/>
            <a:ext cx="0" cy="22248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0040" y="3340080"/>
            <a:ext cx="0" cy="16200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6160" y="3511440"/>
            <a:ext cx="0" cy="25236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22680" y="3519360"/>
            <a:ext cx="0" cy="25272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8800" y="5234040"/>
            <a:ext cx="849240" cy="55080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5160" y="5251320"/>
            <a:ext cx="771480" cy="47628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08320" y="5234040"/>
            <a:ext cx="851040" cy="55080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46480" y="5251320"/>
            <a:ext cx="771480" cy="47628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14760" y="5234040"/>
            <a:ext cx="789120" cy="55080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632040" y="5256360"/>
            <a:ext cx="75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4880" y="5877000"/>
            <a:ext cx="2652840" cy="29376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gend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) =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79800" y="3519360"/>
            <a:ext cx="0" cy="26064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35840" y="3519360"/>
            <a:ext cx="0" cy="22248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76600" y="3757680"/>
            <a:ext cx="1087560" cy="144936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05560" y="3757680"/>
            <a:ext cx="1149480" cy="144936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9920" y="5234040"/>
            <a:ext cx="903240" cy="58428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70440" y="5234040"/>
            <a:ext cx="849240" cy="82692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22600" y="3780000"/>
            <a:ext cx="11383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r data rate extension in 2.4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641920" y="3780000"/>
            <a:ext cx="11383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r data rate extension in 5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45000" y="5245200"/>
            <a:ext cx="853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 &amp; 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823000" y="5262480"/>
            <a:ext cx="7920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-12-18...54 Mbit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19120" y="2409840"/>
            <a:ext cx="577224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175440" y="2104920"/>
            <a:ext cx="2997000" cy="3909960"/>
            <a:chOff x="6175440" y="2104920"/>
            <a:chExt cx="2997000" cy="3909960"/>
          </a:xfrm>
        </p:grpSpPr>
        <p:grpSp>
          <p:nvGrpSpPr>
            <p:cNvPr id="84" name=""/>
            <p:cNvGrpSpPr/>
            <p:nvPr/>
          </p:nvGrpSpPr>
          <p:grpSpPr>
            <a:xfrm>
              <a:off x="7137360" y="3711600"/>
              <a:ext cx="1175040" cy="2303280"/>
              <a:chOff x="7137360" y="3711600"/>
              <a:chExt cx="1175040" cy="2303280"/>
            </a:xfrm>
          </p:grpSpPr>
          <p:sp>
            <p:nvSpPr>
              <p:cNvPr id="85" name=""/>
              <p:cNvSpPr/>
              <p:nvPr/>
            </p:nvSpPr>
            <p:spPr>
              <a:xfrm>
                <a:off x="7137360" y="3711600"/>
                <a:ext cx="1149480" cy="14493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custDash>
                  <a:ds d="100000" sp="100000"/>
                </a:custDash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148520" y="5187960"/>
                <a:ext cx="1117440" cy="8269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custDash>
                  <a:ds d="100000" sp="100000"/>
                </a:custDash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7174080" y="3733920"/>
                <a:ext cx="1138320" cy="115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ower data rate extension in 2.4 GH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2.11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7250040" y="5216400"/>
                <a:ext cx="990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1Mbit/s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175440" y="2104920"/>
              <a:ext cx="2997000" cy="1625760"/>
              <a:chOff x="6175440" y="2104920"/>
              <a:chExt cx="2997000" cy="162576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6219720" y="2104920"/>
                <a:ext cx="2952720" cy="1400400"/>
                <a:chOff x="6219720" y="2104920"/>
                <a:chExt cx="2952720" cy="14004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696080" y="3051000"/>
                  <a:ext cx="0" cy="4543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 txBox="1"/>
                <p:nvPr/>
              </p:nvSpPr>
              <p:spPr>
                <a:xfrm>
                  <a:off x="6219720" y="2104920"/>
                  <a:ext cx="2952720" cy="971640"/>
                </a:xfrm>
                <a:prstGeom prst="rect">
                  <a:avLst/>
                </a:prstGeom>
                <a:noFill/>
                <a:ln w="38160">
                  <a:solidFill>
                    <a:srgbClr val="3333cc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MAC </a:t>
                  </a:r>
                  <a:r>
                    <a:rPr b="1" i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Lit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6175440" y="3505320"/>
                <a:ext cx="15206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96080" y="3508200"/>
                <a:ext cx="0" cy="222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Applied Research &amp; Technology</cp:lastModifiedBy>
  <cp:revision>0</cp:revision>
  <dc:subject>doc.: IEEE 802.11-98/xxx</dc:subject>
  <dc:title>WPAN Open Session Agenda</dc:title>
</cp:coreProperties>
</file>