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4DF-E6BA-4045-A54C-7B3547A2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AC9-41A3-45A9-A2C0-31B493C0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BE5-BE37-46B8-BCEF-4BD65C18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317-EA35-458D-BDE0-7557640F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B9E-BE1B-4D40-949D-C72BBFD5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CF0-ECC8-4573-AAC6-0EBA9FE8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6A4-982C-4826-9440-210E918D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675-125C-413A-9B13-6CC28EAB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40F-2729-4B2F-BB29-034FEA38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2A2-053A-46BC-8F4D-D0126AA6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3BE-34C2-4800-8E23-3A715D04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568-3F70-49FD-8332-BAF0A9D0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1000" y="37044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7640" y="6494040"/>
            <a:ext cx="16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870919-AF20-4019-A971-0C48A2345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4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assignment of 5GHz b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20MHz channel separation cas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ahiro Morik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T Wireless Systems Labora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ikura@mhosun.wslab.ntt.co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E4C-B93E-4733-A21A-4C99A556CF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4000" y="21477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95360" y="21477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0520" y="21477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67080" y="214776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95720" y="214776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60880" y="214776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5908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76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8760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9560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7948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3032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7316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832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7340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052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1148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9572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4656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8308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7676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296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2616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1184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1984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54000" y="155412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14" y="928"/>
                </a:lnTo>
                <a:lnTo>
                  <a:pt x="27" y="928"/>
                </a:lnTo>
                <a:lnTo>
                  <a:pt x="40" y="928"/>
                </a:lnTo>
                <a:lnTo>
                  <a:pt x="54" y="914"/>
                </a:lnTo>
                <a:lnTo>
                  <a:pt x="54" y="898"/>
                </a:lnTo>
                <a:lnTo>
                  <a:pt x="81" y="898"/>
                </a:lnTo>
                <a:lnTo>
                  <a:pt x="81" y="884"/>
                </a:lnTo>
                <a:lnTo>
                  <a:pt x="95" y="884"/>
                </a:lnTo>
                <a:lnTo>
                  <a:pt x="95" y="868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8" y="839"/>
                </a:lnTo>
                <a:lnTo>
                  <a:pt x="162" y="823"/>
                </a:lnTo>
                <a:lnTo>
                  <a:pt x="176" y="809"/>
                </a:lnTo>
                <a:lnTo>
                  <a:pt x="176" y="779"/>
                </a:lnTo>
                <a:lnTo>
                  <a:pt x="176" y="764"/>
                </a:lnTo>
                <a:lnTo>
                  <a:pt x="190" y="734"/>
                </a:lnTo>
                <a:lnTo>
                  <a:pt x="190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6" y="569"/>
                </a:lnTo>
                <a:lnTo>
                  <a:pt x="256" y="554"/>
                </a:lnTo>
                <a:lnTo>
                  <a:pt x="256" y="539"/>
                </a:lnTo>
                <a:lnTo>
                  <a:pt x="270" y="524"/>
                </a:lnTo>
                <a:lnTo>
                  <a:pt x="284" y="509"/>
                </a:lnTo>
                <a:lnTo>
                  <a:pt x="297" y="494"/>
                </a:lnTo>
                <a:lnTo>
                  <a:pt x="311" y="479"/>
                </a:lnTo>
                <a:lnTo>
                  <a:pt x="324" y="479"/>
                </a:lnTo>
                <a:lnTo>
                  <a:pt x="324" y="464"/>
                </a:lnTo>
                <a:lnTo>
                  <a:pt x="338" y="449"/>
                </a:lnTo>
                <a:lnTo>
                  <a:pt x="351" y="449"/>
                </a:lnTo>
                <a:lnTo>
                  <a:pt x="351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59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270"/>
                </a:lnTo>
                <a:lnTo>
                  <a:pt x="473" y="104"/>
                </a:lnTo>
                <a:lnTo>
                  <a:pt x="473" y="0"/>
                </a:lnTo>
                <a:lnTo>
                  <a:pt x="486" y="0"/>
                </a:lnTo>
                <a:lnTo>
                  <a:pt x="499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81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5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84" y="104"/>
                </a:lnTo>
                <a:lnTo>
                  <a:pt x="784" y="254"/>
                </a:lnTo>
                <a:lnTo>
                  <a:pt x="797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905" y="419"/>
                </a:lnTo>
                <a:lnTo>
                  <a:pt x="905" y="434"/>
                </a:lnTo>
                <a:lnTo>
                  <a:pt x="905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986" y="539"/>
                </a:lnTo>
                <a:lnTo>
                  <a:pt x="1000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26" y="584"/>
                </a:lnTo>
                <a:lnTo>
                  <a:pt x="1026" y="599"/>
                </a:lnTo>
                <a:lnTo>
                  <a:pt x="1040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67" y="704"/>
                </a:lnTo>
                <a:lnTo>
                  <a:pt x="1067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80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48" y="868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188" y="898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43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82640" y="155412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04960" y="1554120"/>
            <a:ext cx="1973160" cy="149868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7800" y="30654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52560" y="304956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43280" y="152568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95680" y="152568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5400" y="1544760"/>
            <a:ext cx="1995480" cy="149832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57360" y="1544760"/>
            <a:ext cx="1973520" cy="149832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48080" y="1515960"/>
            <a:ext cx="0" cy="1675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78080" y="1544760"/>
            <a:ext cx="1995480" cy="149832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544760"/>
            <a:ext cx="1973160" cy="149832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1515960"/>
            <a:ext cx="0" cy="1675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21120" y="1544760"/>
            <a:ext cx="1995480" cy="149832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43440" y="1544760"/>
            <a:ext cx="1973160" cy="149832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33800" y="1515960"/>
            <a:ext cx="0" cy="1675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73520" y="153504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95840" y="1535040"/>
            <a:ext cx="1973160" cy="149868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86560" y="150660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25920" y="155412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48240" y="1554120"/>
            <a:ext cx="1973160" cy="149868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38960" y="152568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8680" y="155412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00640" y="1554120"/>
            <a:ext cx="1973520" cy="149868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91360" y="152568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9960" y="3227400"/>
            <a:ext cx="73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5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26920" y="325584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69960" y="326556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2360" y="329400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03200" y="326556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55960" y="326556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9280" y="324648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32320" y="322740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75000" y="320832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58040" y="306864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61480" y="3227400"/>
            <a:ext cx="73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5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62640" y="1544760"/>
            <a:ext cx="0" cy="196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1880" y="3551400"/>
            <a:ext cx="73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5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3080" y="1447920"/>
            <a:ext cx="951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44720" y="1447920"/>
            <a:ext cx="74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89000" y="1141560"/>
            <a:ext cx="649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74600" y="1131840"/>
            <a:ext cx="649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3080" y="1066680"/>
            <a:ext cx="4151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6960" y="1076400"/>
            <a:ext cx="3103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9200" y="789120"/>
            <a:ext cx="1754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use : 10dBm/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38040" y="779400"/>
            <a:ext cx="227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/outdoor use : 17dBm/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25760" y="258120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37000" y="2313000"/>
            <a:ext cx="1040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7dBm/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16440" y="2516040"/>
            <a:ext cx="33156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54360" y="4287960"/>
            <a:ext cx="1995480" cy="149832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14" y="928"/>
                </a:lnTo>
                <a:lnTo>
                  <a:pt x="27" y="928"/>
                </a:lnTo>
                <a:lnTo>
                  <a:pt x="40" y="928"/>
                </a:lnTo>
                <a:lnTo>
                  <a:pt x="54" y="914"/>
                </a:lnTo>
                <a:lnTo>
                  <a:pt x="54" y="898"/>
                </a:lnTo>
                <a:lnTo>
                  <a:pt x="81" y="898"/>
                </a:lnTo>
                <a:lnTo>
                  <a:pt x="81" y="884"/>
                </a:lnTo>
                <a:lnTo>
                  <a:pt x="95" y="884"/>
                </a:lnTo>
                <a:lnTo>
                  <a:pt x="95" y="868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8" y="839"/>
                </a:lnTo>
                <a:lnTo>
                  <a:pt x="162" y="823"/>
                </a:lnTo>
                <a:lnTo>
                  <a:pt x="176" y="809"/>
                </a:lnTo>
                <a:lnTo>
                  <a:pt x="176" y="779"/>
                </a:lnTo>
                <a:lnTo>
                  <a:pt x="176" y="764"/>
                </a:lnTo>
                <a:lnTo>
                  <a:pt x="190" y="734"/>
                </a:lnTo>
                <a:lnTo>
                  <a:pt x="190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6" y="569"/>
                </a:lnTo>
                <a:lnTo>
                  <a:pt x="256" y="554"/>
                </a:lnTo>
                <a:lnTo>
                  <a:pt x="256" y="539"/>
                </a:lnTo>
                <a:lnTo>
                  <a:pt x="270" y="524"/>
                </a:lnTo>
                <a:lnTo>
                  <a:pt x="284" y="509"/>
                </a:lnTo>
                <a:lnTo>
                  <a:pt x="297" y="494"/>
                </a:lnTo>
                <a:lnTo>
                  <a:pt x="311" y="479"/>
                </a:lnTo>
                <a:lnTo>
                  <a:pt x="324" y="479"/>
                </a:lnTo>
                <a:lnTo>
                  <a:pt x="324" y="464"/>
                </a:lnTo>
                <a:lnTo>
                  <a:pt x="338" y="449"/>
                </a:lnTo>
                <a:lnTo>
                  <a:pt x="351" y="449"/>
                </a:lnTo>
                <a:lnTo>
                  <a:pt x="351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59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270"/>
                </a:lnTo>
                <a:lnTo>
                  <a:pt x="473" y="104"/>
                </a:lnTo>
                <a:lnTo>
                  <a:pt x="473" y="0"/>
                </a:lnTo>
                <a:lnTo>
                  <a:pt x="486" y="0"/>
                </a:lnTo>
                <a:lnTo>
                  <a:pt x="499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81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5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84" y="104"/>
                </a:lnTo>
                <a:lnTo>
                  <a:pt x="784" y="254"/>
                </a:lnTo>
                <a:lnTo>
                  <a:pt x="797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905" y="419"/>
                </a:lnTo>
                <a:lnTo>
                  <a:pt x="905" y="434"/>
                </a:lnTo>
                <a:lnTo>
                  <a:pt x="905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986" y="539"/>
                </a:lnTo>
                <a:lnTo>
                  <a:pt x="1000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26" y="584"/>
                </a:lnTo>
                <a:lnTo>
                  <a:pt x="1026" y="599"/>
                </a:lnTo>
                <a:lnTo>
                  <a:pt x="1040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67" y="704"/>
                </a:lnTo>
                <a:lnTo>
                  <a:pt x="1067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80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48" y="868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188" y="898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43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83000" y="4287960"/>
            <a:ext cx="1995480" cy="149832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4287960"/>
            <a:ext cx="1973160" cy="149832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52560" y="57834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43280" y="4259160"/>
            <a:ext cx="0" cy="1675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4259160"/>
            <a:ext cx="0" cy="1675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35400" y="427824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57720" y="4278240"/>
            <a:ext cx="1973160" cy="149868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48440" y="424980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70320" y="596124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25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26920" y="5989680"/>
            <a:ext cx="528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9960" y="5999040"/>
            <a:ext cx="528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2360" y="6027840"/>
            <a:ext cx="528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37120" y="605628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25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73440" y="418140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45080" y="4181400"/>
            <a:ext cx="74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89000" y="3875040"/>
            <a:ext cx="649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74960" y="3865680"/>
            <a:ext cx="649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39880" y="5791320"/>
            <a:ext cx="37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00640" y="579276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CAF-D4AA-4B42-A749-9663779EB4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e Boeing Company</cp:lastModifiedBy>
  <dcterms:modified xsi:type="dcterms:W3CDTF">1998-11-13T05:46:02Z</dcterms:modified>
  <cp:revision>3</cp:revision>
  <dc:subject/>
  <dc:title>No Slide Title</dc:title>
</cp:coreProperties>
</file>