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8620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9000" y="701640"/>
            <a:ext cx="4627800" cy="347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401800" y="89881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49720" y="89881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360FAC-41A8-4B59-888C-F71383597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0440" y="89884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8640" y="8986680"/>
            <a:ext cx="552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2320" y="297000"/>
            <a:ext cx="568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49720" y="89881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34F8B2D-868E-42E3-A07B-EF991EE84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01800" y="89881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8620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9280" y="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20840" y="782640"/>
            <a:ext cx="4354560" cy="32655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29880" y="4411440"/>
            <a:ext cx="51246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249720" y="89881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2126711-BD23-425B-8896-BED4E26DF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01800" y="89881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8620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20840" y="782640"/>
            <a:ext cx="4354560" cy="32655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29880" y="4411440"/>
            <a:ext cx="51246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9A04-7B5E-4156-842F-8971FC34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365-C54C-4758-8F1B-5935783B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E1C-AD0F-4366-A4E8-0BA0AD99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21C-5069-4EC5-8614-9D3484B9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9D2-ABFA-4886-98E5-0F8292A4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2FE-9ECD-4880-9605-77FE932A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374-E524-4B26-8C4F-4168AB0B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377-16B2-4ABD-A825-49DCD18A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8BF-04C4-49C5-8F8F-81E2CD33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6C58-52E1-4491-84F1-721BB31C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650-7EAD-4CC8-AD39-1BDA8715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552-E27E-4B0F-8669-63C22095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20178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56C91A1-1E8A-4421-9B35-3F1372254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1295280"/>
            <a:ext cx="74674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easured Spectra for OFDM Transmission Based on PA Models of BR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386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amshid Khun-Jush </a:t>
            </a:r>
            <a:r>
              <a:rPr b="0" lang="en-GB" sz="2000" spc="-1" strike="noStrike" baseline="52000">
                <a:solidFill>
                  <a:srgbClr val="000000"/>
                </a:solidFill>
                <a:latin typeface="Times New Roman"/>
              </a:rPr>
              <a:t>(*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and Peter Schra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ricsson Eurolab - Nürnbe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52000">
                <a:solidFill>
                  <a:srgbClr val="000000"/>
                </a:solidFill>
                <a:latin typeface="Times New Roman"/>
              </a:rPr>
              <a:t>(*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-ordinator of HIPERLAN-2 Standard Area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ir of Physical Layer Technical Specificati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FD5E-BBA8-4DCD-9F01-745FC65895C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 Models - Class 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90720" y="1905120"/>
          <a:ext cx="266688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26668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952880" y="1905120"/>
          <a:ext cx="2667240" cy="2438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905120"/>
                    <a:ext cx="26672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90720" y="5105520"/>
          <a:ext cx="5209920" cy="36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5105520"/>
                    <a:ext cx="52099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952880" y="5105520"/>
          <a:ext cx="5210280" cy="361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5105520"/>
                    <a:ext cx="52102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DCD-AA55-482F-8446-4542AB9F39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379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band parameters as in 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 MHz sampl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8 sub-carriers used, no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4 point 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9319-526F-43D7-9C38-079363ABA9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D for Rapp’s Model (p=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for decision on channel spacing for IEEE 802.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ig4IEEE_psd_Rapp2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2B7-0B33-4773-842F-DA7FB13730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D for Class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fig4IEEE_psd_A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5623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B93-E980-471D-9ED1-ACD3B5C6183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D for Class AB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ig4IEEE_psd_AB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51C-6278-4D9F-8C36-12BF76F7A7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3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app’s model with p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stance from the UNII band edges in the order of 28 MHz is needed for a PA OBO of 6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ss AB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than 30 MHz distance from the UNII band edges needed with a PA OBO of 10.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stance from the HIPERLAN band edges in the order of 22 MHz is needed to fulfil CEPT regulations with a PA OBO of 5.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ss A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than 30 MHz distance from the UNII band edges needed with a PA OBO of 7.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stance from the HIPERLAN band edges in the order of 20 MHz is needed to fulfil CEPT regulations with a PA OBO of 5.5 dB. The PA back-off could be relaxed by using 22 MHz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4F5-6701-49A4-8581-9C1479E7FE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Critical Consid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urther results on PA needed before channel spacing is fixed for 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IEEE 802.11 really gain an additional channel by using 18 MHz instead of 20 MHz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an additional channel, what is with the gain in the overall system throughpu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D71-A4F9-437B-89FE-C4AA4691A3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EC4-5500-48D5-A629-DB33839042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 Models - Clas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2209680"/>
          <a:ext cx="274320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2743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562720" y="2209680"/>
          <a:ext cx="2590560" cy="251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2209680"/>
                    <a:ext cx="2590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990720" y="5181480"/>
          <a:ext cx="5209920" cy="362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5181480"/>
                    <a:ext cx="5209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562720" y="5181480"/>
          <a:ext cx="5209920" cy="3621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181480"/>
                    <a:ext cx="5209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E06-D082-40C2-8DAB-6F55C295B1C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9T23:33:08Z</dcterms:created>
  <dc:creator>Naftali Chayat</dc:creator>
  <dc:description/>
  <dc:language>en-US</dc:language>
  <cp:lastModifiedBy>Naftali Chayat</cp:lastModifiedBy>
  <cp:lastPrinted>1998-11-10T00:09:19Z</cp:lastPrinted>
  <dcterms:modified xsi:type="dcterms:W3CDTF">1998-11-10T00:23:38Z</dcterms:modified>
  <cp:revision>3</cp:revision>
  <dc:subject/>
  <dc:title> Measured Spectra for OFDM Transmission Based on PA Models of BRAN</dc:title>
</cp:coreProperties>
</file>