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7605-2D03-4013-A104-0F3DACDB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5B2C-E4B4-410F-844F-595DE02F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216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15A8-9144-4EDD-B18A-797404C0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512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512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56F-9CDB-48A5-9493-993F7553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F4E-94EA-4CEC-9F08-0118AA36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5055-352B-4440-991C-6403E933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672D-6B3C-4DE2-B78C-85A88E05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0D4-49DD-412E-BFBF-765F9126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45B-251C-498B-9F03-A7F38DC5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4CD-B89E-4FEA-A16D-59126C25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216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376-A17D-40EB-BE8A-BAEA04D1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0927-263F-43BC-A243-AB0F660D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06E7F7E-D936-40B8-AFE5-8E1BE56AA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34040" y="380160"/>
            <a:ext cx="4088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396a-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9400" y="6477120"/>
            <a:ext cx="228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 Meeting Update, November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802.11 WG Interim Meeting Updat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Petrick, Harris Co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Harr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6312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5000"/>
          </a:bodyPr>
          <a:p>
            <a:pPr marL="154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OINT 802.11 --ETSI-BRAN--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-WEST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eting Date: January 11-15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tel: Grosvenor Re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lt Disney World Vil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ke Buena Vista, Florida 328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7-828-44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7-827 6314 (fa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t per night US$115, double/single occup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t per attendee for the week is approx US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18440" y="2200320"/>
            <a:ext cx="2433600" cy="1469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94440" y="3322800"/>
            <a:ext cx="971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Harr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ww.grosvenorresort.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6360" y="1638360"/>
            <a:ext cx="1930320" cy="1955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10080" y="1452600"/>
            <a:ext cx="3089520" cy="3443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60200" y="4343400"/>
            <a:ext cx="2347920" cy="1384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685960" y="4681440"/>
            <a:ext cx="2403720" cy="161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Harr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gistics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inental Breakfast: Monday thru Fri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4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eaks/Snacks: Monday thur Friday 10am and 2PM (except on frid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4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nch: Cash sandwich and refreshment b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4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ris Semiconductor is planning a social event Wednesday evening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05280" y="5186520"/>
            <a:ext cx="38916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Harr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gistics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17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Meet  room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.11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3 rooms:   1 for 60 peo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for 30 people ---- 1 for 20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S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3 rooms:  1 for 60 peo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for 40 people ---- 1 for 15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-WEST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1 rooms:  1 for 30 peo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eed to confirm with hotel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The meeting rooms will have 115VAC power available for  P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ll Rooms are included for the week…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Harr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gistics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lando international Air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ternative air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bs….Atlanta, NYC, Chic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Tampa Int’l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ytona Int’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West Palm Beach Int’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tal Cars…(Hotel ~ 20min. to Hot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lando: Onsite: Avis, Budget, 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fsite 2 miles: Hertz … Al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o service at Air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Harr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gistics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c.:IEEE802.11-98/32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ax form to Barbara Smith a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07-724-3724 or email:bsmith06@harris.c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4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Registration deadline: Friday November 20, 199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4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Currently: 802.11 (26 confirmed)…ETSI (6 confirmed)</a:t>
            </a:r>
            <a:r>
              <a:rPr b="1" lang="en-US" sz="2600" spc="-1" strike="noStrike" u="sng">
                <a:solidFill>
                  <a:srgbClr val="ff0066"/>
                </a:solidFill>
                <a:uFillTx/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minder on the reflector today…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ther activ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lf (scramble….WDR course the weekend before/after…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Harr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l Petrick, Harris </dc:creator>
  <dc:description/>
  <dc:language>en-US</dc:language>
  <cp:lastModifiedBy>The Boeing Company</cp:lastModifiedBy>
  <cp:lastPrinted>1998-06-03T14:56:04Z</cp:lastPrinted>
  <dcterms:modified xsi:type="dcterms:W3CDTF">1998-11-13T06:12:22Z</dcterms:modified>
  <cp:revision>37</cp:revision>
  <dc:subject/>
  <dc:title>No Slide Title</dc:title>
</cp:coreProperties>
</file>