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362320" y="1905120"/>
            <a:ext cx="4210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of the MMAC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3529080"/>
            <a:ext cx="3008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3360" y="679320"/>
            <a:ext cx="70992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85800"/>
            <a:ext cx="6377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ed Members of 5GHz Ethernet Wireless 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of September 1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2016000"/>
            <a:ext cx="39625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RITSU CORPORAI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O CORPO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TSU GENERAL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K. K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WATSU ELECTRIC Co.,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TEC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usai Denshin Denwa Co., Lt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DD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USAI ELECTRIC 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ocera DDI Institute of Fu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Communication Indust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Electric Industrial 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Research Institute Tokyo, In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0" y="1955880"/>
            <a:ext cx="428796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subishi Electric Corpo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on Motorola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on Ericsson Ltd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on Telegraph and Telephone Corp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T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Mobile Communications Network, In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T DoCo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i Electric Industry 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A ELECTRIC WIRE &amp;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., Lt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y Corpo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ota Central Research &amp;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es, In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371600" y="1066680"/>
            <a:ext cx="6324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ltimedia Mobile Access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Promotion Counci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2590920"/>
            <a:ext cx="6207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o Association of Radio Industries and Businesses (AR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F. Nittochi Bldg., 1-4-1, Kasumigaseki, Chiyoda-k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100-0013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+81-3-5510-8598  Fax +81-3-3592-1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 mmac@arib.or.j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Page   http://www.arib.or.jp/mmac/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47920" y="914400"/>
            <a:ext cx="624852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ltimedia Mobile Access Communication Systems Promotion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2743200"/>
            <a:ext cx="7238880" cy="26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the council is to realize high bit rate mobile access communication systems through investigations of system specifications, demonstrative experiment and popularization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:   December 4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member:  13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4108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Members as of September 1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1066680"/>
            <a:ext cx="365760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obile Telecommunication Technology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EST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INE ELECTRONICS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S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O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RITSU CORPORAIT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hi Chemical Industry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hi National Broadcasting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EL TOKYO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ON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O Computer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Japan Digital Phone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Research Institute of Electric Power 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ZEN WATCH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 Tokyo Pocket Telephone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ki Kogyo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O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e Telekom K. K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U-KA Chugoku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U-KA Kyushu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Communications (Japan)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 Television Network, I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 Xerox Co.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TSU GENERAL LIMIT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TSU LIMIT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UNO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AB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JAPAN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chi Cable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chi Denshi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chi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OM INCORPORAT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O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egami Tsushinki Co., Lt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K. K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WATSU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APPROVALS INSTITUTE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S EQUI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Radio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Telecom Co., Lt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8120" y="1143000"/>
            <a:ext cx="297180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JIM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DENKO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SAI CELLULAR TELEPHONE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sai Digital Phone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TEC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KUSUI ELECTRONICS CORPORAIT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usai Denshin Denwa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USAI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OCER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ocera DDI Institute of Future Telecommunications,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ushu Matsushita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 Information &amp; Communication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 Japan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UBENI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Communication Industrial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Electric Industrial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Electric Work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Research Institute Tokyo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subishi Electric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subishi Materials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ata Manufacturing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ano Japan Radio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Mobile Radio Centers Council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Home Electronic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Mobile Communication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Japan Radio Co.,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K INSULATOR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K JOHO NETWORK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 Cement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 DENGYO KOSAKU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 Sun Microsystems K. K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on Motorola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on Telegraph and Telephone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SAN MOTOR Co. Lt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hiko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ia Japan Co.,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Central Personal Communications Network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DAT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Mobile Communications Network,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Software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38680" y="1143000"/>
            <a:ext cx="29275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i Electric Industry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YMPUS OPTICAL CO., LT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ONEER ELECTRONIC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 INSPECTION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TION INSTIT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H COMPANY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ung Japa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YO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KO EPSON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A ELECTRIC WIRE &amp; CABLE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y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ITOMO ELECTRIC INDUSTRIES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 Developments Ltd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TO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YO YUDEN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K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way Japan Corp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 Instruments Tsukuba R&amp;D Center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RUKAWA ELECTRIC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pan Amateur Radio Development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nwa Bank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Digital Phone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ELECTRIC POWER COMPANY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FM BROADCASTING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TELECOMMUNICATION NETWORK CO.,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 Telemessage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HIBA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O COMMUNICATION EQUIPMENT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o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ota Central Research &amp; Development Laboratories,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OTA MOTOR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-KA Cellular Tokyo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-KA Phone Kansai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 Company of Japan, Limit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kogawa Electric Corporatio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KOWO CO., LT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9320" y="831960"/>
            <a:ext cx="168912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9360" y="1136520"/>
            <a:ext cx="229860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32280" y="1233360"/>
            <a:ext cx="2065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9360" y="2217600"/>
            <a:ext cx="229860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32280" y="2362320"/>
            <a:ext cx="1955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17760" y="3193920"/>
            <a:ext cx="229860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60680" y="3338640"/>
            <a:ext cx="1944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3193920"/>
            <a:ext cx="229860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22840" y="3338640"/>
            <a:ext cx="2001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ion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2320" y="3956040"/>
            <a:ext cx="191772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5120" y="4038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2320" y="4565520"/>
            <a:ext cx="191772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 High Speed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2320" y="5175360"/>
            <a:ext cx="1917720" cy="5461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512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Band Mob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Ad-hoc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2320" y="5784840"/>
            <a:ext cx="1917720" cy="5461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51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Home-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84840" y="3956040"/>
            <a:ext cx="191772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867280" y="4038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velopment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84840" y="4565520"/>
            <a:ext cx="191772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rization Promotio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677960"/>
            <a:ext cx="0" cy="531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74464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2971800"/>
            <a:ext cx="4037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97324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735360"/>
            <a:ext cx="0" cy="2360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1640" y="419112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164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1640" y="541008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1640" y="609588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97324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73536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4160" y="419112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4160" y="487692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46280" y="928800"/>
            <a:ext cx="1508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91320" y="1143000"/>
            <a:ext cx="26290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Tadao Saito (Tokyo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 of M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Masaaki Mitani (Tokyo Denki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uty Chairman of M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Masao Nakagawa(Keio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uty Chairman of M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86200" y="3276720"/>
            <a:ext cx="816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ji Okub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72400" y="3200400"/>
            <a:ext cx="120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taro Hashim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038480"/>
            <a:ext cx="121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dao Kobayas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6200" y="4648320"/>
            <a:ext cx="1100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zuo Hanam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tsushi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86200" y="5257800"/>
            <a:ext cx="1544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aki Mita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kyo Denki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6200" y="5867280"/>
            <a:ext cx="1095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o Nakaga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eio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788240" y="4038480"/>
            <a:ext cx="1093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zo Kobayas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shib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788240" y="4648320"/>
            <a:ext cx="1063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ra Hashim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T DoCo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9320" y="831960"/>
            <a:ext cx="3594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680" y="914400"/>
            <a:ext cx="3121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parameters of M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945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32480" y="3385080"/>
            <a:ext cx="3384720" cy="2145600"/>
          </a:xfrm>
          <a:custGeom>
            <a:avLst/>
            <a:gdLst/>
            <a:ahLst/>
            <a:rect l="0" t="0" r="r" b="b"/>
            <a:pathLst>
              <a:path w="9402" h="5960">
                <a:moveTo>
                  <a:pt x="81" y="1388"/>
                </a:moveTo>
                <a:lnTo>
                  <a:pt x="81" y="1388"/>
                </a:lnTo>
                <a:cubicBezTo>
                  <a:pt x="-71" y="1831"/>
                  <a:pt x="-7" y="2339"/>
                  <a:pt x="266" y="2861"/>
                </a:cubicBezTo>
                <a:cubicBezTo>
                  <a:pt x="540" y="3384"/>
                  <a:pt x="1014" y="3903"/>
                  <a:pt x="1640" y="4366"/>
                </a:cubicBezTo>
                <a:cubicBezTo>
                  <a:pt x="2266" y="4829"/>
                  <a:pt x="3023" y="5220"/>
                  <a:pt x="3834" y="5499"/>
                </a:cubicBezTo>
                <a:cubicBezTo>
                  <a:pt x="4645" y="5778"/>
                  <a:pt x="5482" y="5936"/>
                  <a:pt x="6261" y="5957"/>
                </a:cubicBezTo>
                <a:cubicBezTo>
                  <a:pt x="7039" y="5978"/>
                  <a:pt x="7732" y="5861"/>
                  <a:pt x="8269" y="5617"/>
                </a:cubicBezTo>
                <a:cubicBezTo>
                  <a:pt x="8807" y="5374"/>
                  <a:pt x="9170" y="5013"/>
                  <a:pt x="9322" y="4571"/>
                </a:cubicBezTo>
                <a:lnTo>
                  <a:pt x="9322" y="4571"/>
                </a:lnTo>
                <a:lnTo>
                  <a:pt x="9322" y="4571"/>
                </a:lnTo>
                <a:cubicBezTo>
                  <a:pt x="9474" y="4128"/>
                  <a:pt x="9410" y="3620"/>
                  <a:pt x="9137" y="3098"/>
                </a:cubicBezTo>
                <a:cubicBezTo>
                  <a:pt x="8863" y="2575"/>
                  <a:pt x="8389" y="2056"/>
                  <a:pt x="7763" y="1593"/>
                </a:cubicBezTo>
                <a:cubicBezTo>
                  <a:pt x="7137" y="1130"/>
                  <a:pt x="6380" y="739"/>
                  <a:pt x="5569" y="460"/>
                </a:cubicBezTo>
                <a:cubicBezTo>
                  <a:pt x="4758" y="181"/>
                  <a:pt x="3921" y="23"/>
                  <a:pt x="3142" y="2"/>
                </a:cubicBezTo>
                <a:cubicBezTo>
                  <a:pt x="2364" y="-19"/>
                  <a:pt x="1671" y="98"/>
                  <a:pt x="1134" y="342"/>
                </a:cubicBezTo>
                <a:cubicBezTo>
                  <a:pt x="596" y="585"/>
                  <a:pt x="233" y="946"/>
                  <a:pt x="81" y="1388"/>
                </a:cubicBez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4160" y="2276640"/>
            <a:ext cx="1534680" cy="2944440"/>
          </a:xfrm>
          <a:custGeom>
            <a:avLst/>
            <a:gdLst/>
            <a:ahLst/>
            <a:rect l="0" t="0" r="r" b="b"/>
            <a:pathLst>
              <a:path w="4263" h="8179">
                <a:moveTo>
                  <a:pt x="1000" y="4592"/>
                </a:moveTo>
                <a:lnTo>
                  <a:pt x="1000" y="4592"/>
                </a:lnTo>
                <a:lnTo>
                  <a:pt x="1001" y="4592"/>
                </a:lnTo>
                <a:cubicBezTo>
                  <a:pt x="1318" y="5305"/>
                  <a:pt x="1682" y="5981"/>
                  <a:pt x="2056" y="6554"/>
                </a:cubicBezTo>
                <a:cubicBezTo>
                  <a:pt x="2430" y="7127"/>
                  <a:pt x="2800" y="7575"/>
                  <a:pt x="3131" y="7855"/>
                </a:cubicBezTo>
                <a:cubicBezTo>
                  <a:pt x="3461" y="8135"/>
                  <a:pt x="3740" y="8236"/>
                  <a:pt x="3938" y="8147"/>
                </a:cubicBezTo>
                <a:cubicBezTo>
                  <a:pt x="4137" y="8059"/>
                  <a:pt x="4248" y="7785"/>
                  <a:pt x="4261" y="7352"/>
                </a:cubicBezTo>
                <a:cubicBezTo>
                  <a:pt x="4275" y="6919"/>
                  <a:pt x="4189" y="6343"/>
                  <a:pt x="4014" y="5682"/>
                </a:cubicBezTo>
                <a:cubicBezTo>
                  <a:pt x="3838" y="5021"/>
                  <a:pt x="3579" y="4298"/>
                  <a:pt x="3262" y="3586"/>
                </a:cubicBezTo>
                <a:lnTo>
                  <a:pt x="3262" y="3586"/>
                </a:lnTo>
                <a:lnTo>
                  <a:pt x="3261" y="3586"/>
                </a:lnTo>
                <a:cubicBezTo>
                  <a:pt x="2944" y="2873"/>
                  <a:pt x="2580" y="2197"/>
                  <a:pt x="2206" y="1624"/>
                </a:cubicBezTo>
                <a:cubicBezTo>
                  <a:pt x="1832" y="1051"/>
                  <a:pt x="1462" y="603"/>
                  <a:pt x="1131" y="323"/>
                </a:cubicBezTo>
                <a:cubicBezTo>
                  <a:pt x="801" y="43"/>
                  <a:pt x="522" y="-58"/>
                  <a:pt x="324" y="31"/>
                </a:cubicBezTo>
                <a:cubicBezTo>
                  <a:pt x="125" y="119"/>
                  <a:pt x="14" y="393"/>
                  <a:pt x="1" y="826"/>
                </a:cubicBezTo>
                <a:cubicBezTo>
                  <a:pt x="-13" y="1259"/>
                  <a:pt x="73" y="1835"/>
                  <a:pt x="248" y="2496"/>
                </a:cubicBezTo>
                <a:cubicBezTo>
                  <a:pt x="424" y="3157"/>
                  <a:pt x="683" y="3880"/>
                  <a:pt x="1000" y="4592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65720" y="4870440"/>
            <a:ext cx="1612800" cy="546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5360" y="3803760"/>
            <a:ext cx="1231920" cy="115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4280" y="5987880"/>
            <a:ext cx="601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752480" y="1874880"/>
            <a:ext cx="0" cy="411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6200" y="6064200"/>
            <a:ext cx="158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573408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52480" y="611496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86600" y="60642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73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473280"/>
            <a:ext cx="428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98640" y="5479920"/>
            <a:ext cx="580392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2560" y="4641840"/>
            <a:ext cx="1384200" cy="69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5360" y="3900600"/>
            <a:ext cx="1557000" cy="1472040"/>
          </a:xfrm>
          <a:custGeom>
            <a:avLst/>
            <a:gdLst/>
            <a:ahLst/>
            <a:rect l="0" t="0" r="r" b="b"/>
            <a:pathLst>
              <a:path w="4325" h="4089">
                <a:moveTo>
                  <a:pt x="94" y="116"/>
                </a:moveTo>
                <a:lnTo>
                  <a:pt x="94" y="116"/>
                </a:lnTo>
                <a:cubicBezTo>
                  <a:pt x="-17" y="235"/>
                  <a:pt x="-30" y="441"/>
                  <a:pt x="55" y="714"/>
                </a:cubicBezTo>
                <a:cubicBezTo>
                  <a:pt x="140" y="986"/>
                  <a:pt x="321" y="1316"/>
                  <a:pt x="580" y="1668"/>
                </a:cubicBezTo>
                <a:cubicBezTo>
                  <a:pt x="839" y="2021"/>
                  <a:pt x="1166" y="2385"/>
                  <a:pt x="1529" y="2724"/>
                </a:cubicBezTo>
                <a:cubicBezTo>
                  <a:pt x="1892" y="3062"/>
                  <a:pt x="2278" y="3363"/>
                  <a:pt x="2648" y="3597"/>
                </a:cubicBezTo>
                <a:cubicBezTo>
                  <a:pt x="3017" y="3831"/>
                  <a:pt x="3358" y="3988"/>
                  <a:pt x="3636" y="4054"/>
                </a:cubicBezTo>
                <a:cubicBezTo>
                  <a:pt x="3914" y="4120"/>
                  <a:pt x="4119" y="4092"/>
                  <a:pt x="4230" y="3973"/>
                </a:cubicBezTo>
                <a:lnTo>
                  <a:pt x="4230" y="3973"/>
                </a:lnTo>
                <a:lnTo>
                  <a:pt x="4230" y="3973"/>
                </a:lnTo>
                <a:cubicBezTo>
                  <a:pt x="4341" y="3854"/>
                  <a:pt x="4354" y="3648"/>
                  <a:pt x="4269" y="3375"/>
                </a:cubicBezTo>
                <a:cubicBezTo>
                  <a:pt x="4184" y="3103"/>
                  <a:pt x="4003" y="2773"/>
                  <a:pt x="3744" y="2421"/>
                </a:cubicBezTo>
                <a:cubicBezTo>
                  <a:pt x="3485" y="2068"/>
                  <a:pt x="3158" y="1704"/>
                  <a:pt x="2795" y="1365"/>
                </a:cubicBezTo>
                <a:cubicBezTo>
                  <a:pt x="2432" y="1027"/>
                  <a:pt x="2046" y="726"/>
                  <a:pt x="1676" y="492"/>
                </a:cubicBezTo>
                <a:cubicBezTo>
                  <a:pt x="1307" y="258"/>
                  <a:pt x="966" y="101"/>
                  <a:pt x="688" y="35"/>
                </a:cubicBezTo>
                <a:cubicBezTo>
                  <a:pt x="410" y="-31"/>
                  <a:pt x="205" y="-3"/>
                  <a:pt x="94" y="11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2320" y="2355840"/>
            <a:ext cx="546120" cy="191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79520" y="4032360"/>
            <a:ext cx="469800" cy="1460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89360" y="4718160"/>
            <a:ext cx="1231920" cy="69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5160" y="5022720"/>
            <a:ext cx="123192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GHz W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971800" y="3733920"/>
            <a:ext cx="819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T-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0" y="4495680"/>
            <a:ext cx="461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52480" y="3200400"/>
            <a:ext cx="677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81480" y="449568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B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10080" y="3886200"/>
            <a:ext cx="121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72200" y="472428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-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934320" y="495288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 High Speed W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400800" y="3962520"/>
            <a:ext cx="98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2160" y="3117960"/>
            <a:ext cx="241560" cy="317880"/>
          </a:xfrm>
          <a:custGeom>
            <a:avLst/>
            <a:gdLst/>
            <a:ahLst/>
            <a:rect l="0" t="0" r="r" b="b"/>
            <a:pathLst>
              <a:path w="671" h="883">
                <a:moveTo>
                  <a:pt x="0" y="294"/>
                </a:moveTo>
                <a:lnTo>
                  <a:pt x="0" y="588"/>
                </a:lnTo>
                <a:lnTo>
                  <a:pt x="470" y="588"/>
                </a:lnTo>
                <a:lnTo>
                  <a:pt x="470" y="883"/>
                </a:lnTo>
                <a:lnTo>
                  <a:pt x="671" y="441"/>
                </a:lnTo>
                <a:lnTo>
                  <a:pt x="470" y="0"/>
                </a:lnTo>
                <a:lnTo>
                  <a:pt x="470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2320" y="4608000"/>
            <a:ext cx="478080" cy="392760"/>
          </a:xfrm>
          <a:custGeom>
            <a:avLst/>
            <a:gdLst/>
            <a:ahLst/>
            <a:rect l="0" t="0" r="r" b="b"/>
            <a:pathLst>
              <a:path w="1328" h="1091">
                <a:moveTo>
                  <a:pt x="0" y="850"/>
                </a:moveTo>
                <a:lnTo>
                  <a:pt x="168" y="1091"/>
                </a:lnTo>
                <a:lnTo>
                  <a:pt x="1039" y="481"/>
                </a:lnTo>
                <a:lnTo>
                  <a:pt x="1208" y="723"/>
                </a:lnTo>
                <a:lnTo>
                  <a:pt x="1328" y="100"/>
                </a:lnTo>
                <a:lnTo>
                  <a:pt x="702" y="0"/>
                </a:lnTo>
                <a:lnTo>
                  <a:pt x="870" y="240"/>
                </a:lnTo>
                <a:lnTo>
                  <a:pt x="0" y="8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35120" y="831960"/>
            <a:ext cx="233352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01720" y="928800"/>
            <a:ext cx="222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of M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71800" y="4800600"/>
            <a:ext cx="7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9320" y="831960"/>
            <a:ext cx="58039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914400"/>
            <a:ext cx="558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between MMAC and other standar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2320" y="4565520"/>
            <a:ext cx="19177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2360" y="4565520"/>
            <a:ext cx="19177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3360" y="4184640"/>
            <a:ext cx="191772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03560" y="2965320"/>
            <a:ext cx="130824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A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79720" y="2965320"/>
            <a:ext cx="130824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Ethern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117960" y="2127240"/>
            <a:ext cx="130824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Home-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6720" y="1974960"/>
            <a:ext cx="5270400" cy="229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1280" y="2209680"/>
            <a:ext cx="103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74840" y="3659040"/>
            <a:ext cx="303120" cy="6080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659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5360" y="49528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3659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8160" y="2744640"/>
            <a:ext cx="227160" cy="303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06760" y="33526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6240" y="2744640"/>
            <a:ext cx="150840" cy="227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65320" y="5556240"/>
            <a:ext cx="19177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73440" y="5411880"/>
            <a:ext cx="150840" cy="226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201840" y="5335560"/>
            <a:ext cx="150840" cy="30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76400" y="1517760"/>
            <a:ext cx="191772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13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1830240"/>
            <a:ext cx="0" cy="3416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3920" y="2889360"/>
            <a:ext cx="4203720" cy="851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30400" y="3048120"/>
            <a:ext cx="1214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43600" y="2057400"/>
            <a:ext cx="296244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o Nakagawa (Keio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 of Wireless Home-Lin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aki Mitani (Tokyo Denki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 of 5GHz Band Mobile Acc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oru Aikawa (NT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 of 5GHz ATM Wireless Access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ki Ohsawa (N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 of 5GHz Ethernet Wireless Access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1960" y="1874880"/>
            <a:ext cx="3441600" cy="54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98560" y="1819440"/>
            <a:ext cx="333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ry of Posts and Tele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1960" y="3956040"/>
            <a:ext cx="3441600" cy="622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4038480"/>
            <a:ext cx="3178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s Technology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visory body of the minister of M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7920" y="2560680"/>
            <a:ext cx="470160" cy="927360"/>
          </a:xfrm>
          <a:custGeom>
            <a:avLst/>
            <a:gdLst/>
            <a:ahLst/>
            <a:rect l="0" t="0" r="r" b="b"/>
            <a:pathLst>
              <a:path fill="none" w="1306" h="2576">
                <a:moveTo>
                  <a:pt x="0" y="857"/>
                </a:moveTo>
                <a:lnTo>
                  <a:pt x="0" y="1716"/>
                </a:lnTo>
                <a:lnTo>
                  <a:pt x="914" y="1716"/>
                </a:lnTo>
                <a:lnTo>
                  <a:pt x="914" y="2576"/>
                </a:lnTo>
                <a:lnTo>
                  <a:pt x="1306" y="1287"/>
                </a:lnTo>
                <a:lnTo>
                  <a:pt x="914" y="0"/>
                </a:lnTo>
                <a:lnTo>
                  <a:pt x="914" y="857"/>
                </a:lnTo>
                <a:lnTo>
                  <a:pt x="0" y="8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55760" y="2681280"/>
            <a:ext cx="349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quiry: April 21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conditions for 5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band Mobile Access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of the final Report: March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7920" y="4641840"/>
            <a:ext cx="470160" cy="317880"/>
          </a:xfrm>
          <a:custGeom>
            <a:avLst/>
            <a:gdLst/>
            <a:ahLst/>
            <a:rect l="0" t="0" r="r" b="b"/>
            <a:pathLst>
              <a:path fill="none" w="1306" h="883">
                <a:moveTo>
                  <a:pt x="0" y="294"/>
                </a:moveTo>
                <a:lnTo>
                  <a:pt x="0" y="588"/>
                </a:lnTo>
                <a:lnTo>
                  <a:pt x="914" y="588"/>
                </a:lnTo>
                <a:lnTo>
                  <a:pt x="914" y="883"/>
                </a:lnTo>
                <a:lnTo>
                  <a:pt x="1306" y="441"/>
                </a:lnTo>
                <a:lnTo>
                  <a:pt x="914" y="0"/>
                </a:lnTo>
                <a:lnTo>
                  <a:pt x="914" y="294"/>
                </a:lnTo>
                <a:lnTo>
                  <a:pt x="0" y="29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5105520"/>
            <a:ext cx="335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band Mobile Acces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5486400"/>
            <a:ext cx="190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Wireless LAN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3880" y="5867280"/>
            <a:ext cx="244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Wireless Home-Link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1960" y="5022720"/>
            <a:ext cx="3441600" cy="12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06560"/>
            <a:ext cx="0" cy="43419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75360" y="4413240"/>
            <a:ext cx="3289320" cy="1841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4120" y="4495680"/>
            <a:ext cx="74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1320" y="4946760"/>
            <a:ext cx="1917720" cy="5461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4120" y="5029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GHz Band Mob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Ad-hoc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1320" y="5556240"/>
            <a:ext cx="1917720" cy="5461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412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Home-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6760" y="5183280"/>
            <a:ext cx="1751040" cy="4554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887640" y="5716440"/>
            <a:ext cx="1293840" cy="303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99360" y="4913280"/>
            <a:ext cx="1073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8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1960" y="907920"/>
            <a:ext cx="42800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990720"/>
            <a:ext cx="3836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between MMAC and 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1960" y="907920"/>
            <a:ext cx="62611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990720"/>
            <a:ext cx="589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Program of 5GHz Ethernet Wireless 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8560" y="2147760"/>
            <a:ext cx="65437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Standardization of 5GHz Ethernet Wireless Acces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ing with the IEEE802.11a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Y &amp; MAC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To solve coexistence issues with ATM wireless LA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home-link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To make guidelines of frequency resource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Popularization and Promotion of 5GHz Ethernet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rikura</dc:creator>
  <dc:description/>
  <dc:language>en-US</dc:language>
  <cp:lastModifiedBy>morikura</cp:lastModifiedBy>
  <cp:revision>0</cp:revision>
  <dc:subject/>
  <dc:title>½×²ÄÞ À²ÄÙ‚È‚µ</dc:title>
</cp:coreProperties>
</file>