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BF0F-CD63-4EA5-B1DB-8D8C7B02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A362-ABF1-4312-81C0-6BE6D11C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139A-39D4-450C-8986-BCD046CEB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AEE3-0D06-4940-A362-A2E864CA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9BBD-4EB7-4D55-9911-D1745BDB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5ECC-A340-4DF7-A3B9-3AC5C504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91D1-490A-4373-A49D-C99B3135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94B3-4BAF-48D0-816D-D3D6FE88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EBBA-7E67-49DC-9E95-AF5D7C9A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04F2-31FE-44A6-BE0F-26C35641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8E71-3CB6-438A-83D1-3043B7EA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8A59-7F85-4686-AB44-273F9721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228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8BBF704-6768-4300-A7B4-1A18C9C32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3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7238880" y="6060960"/>
          <a:ext cx="1314720" cy="41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6060960"/>
                    <a:ext cx="131472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Proposed Scrambl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ctor for the CCK Block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 rot="10800000">
          <a:off x="2286000" y="4065120"/>
          <a:ext cx="4495680" cy="14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2286000" y="4065120"/>
                    <a:ext cx="4495680" cy="14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979720" y="2387520"/>
            <a:ext cx="295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ris Heegar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thew Shoe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n 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1ED1-4DB0-42B2-AD67-137CB64740F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CK cod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=8, k=4) Z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391160" cy="320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= [1 1 1 1 1 1 1 1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[1 1 1 1 0 0 0 0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[1 1 0 0 1 1 0 0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[1 0 1 0 1 0 1 0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(over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inear code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Nearest Neighbors =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057400" y="5715000"/>
          <a:ext cx="4921200" cy="2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5715000"/>
                    <a:ext cx="492120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54AE-C86E-4568-815A-D44471F79EB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CK Scramb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*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{-1, +1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{0, 1, 2, 3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Which choice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be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propos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=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+1 +1 +1 +1 +1 +1 +1 +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 0  0  0  2  0  0  2  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propos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=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-1 -1 -1 -1 +1 +1 +1 +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 1  0  3  0  0  2  3  3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715000" y="1969920"/>
          <a:ext cx="2666880" cy="199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969920"/>
                    <a:ext cx="2666880" cy="19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A7E2-ABAA-4D96-83AD-52B759490B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ns Delay Sp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587960" y="1549440"/>
            <a:ext cx="5612400" cy="4622760"/>
            <a:chOff x="1587960" y="1549440"/>
            <a:chExt cx="5612400" cy="4622760"/>
          </a:xfrm>
        </p:grpSpPr>
        <p:sp>
          <p:nvSpPr>
            <p:cNvPr id="62" name=""/>
            <p:cNvSpPr/>
            <p:nvPr/>
          </p:nvSpPr>
          <p:spPr>
            <a:xfrm>
              <a:off x="1902960" y="1650240"/>
              <a:ext cx="5258160" cy="430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02960" y="1650240"/>
              <a:ext cx="5258160" cy="4304880"/>
            </a:xfrm>
            <a:prstGeom prst="rect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02960" y="1650240"/>
              <a:ext cx="5258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02960" y="1650240"/>
              <a:ext cx="5258160" cy="430488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1902960" y="1650240"/>
              <a:ext cx="1800" cy="4304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02960" y="5955120"/>
              <a:ext cx="52581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1902960" y="1650240"/>
              <a:ext cx="1800" cy="4304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1902960" y="5903640"/>
              <a:ext cx="180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2960" y="1650240"/>
              <a:ext cx="180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13680" y="600444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2559240" y="5903640"/>
              <a:ext cx="144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59240" y="1650240"/>
              <a:ext cx="144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90040" y="600444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1.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3215520" y="5903640"/>
              <a:ext cx="144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15520" y="1650240"/>
              <a:ext cx="144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24080" y="600444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3869640" y="5903640"/>
              <a:ext cx="144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69640" y="1650240"/>
              <a:ext cx="144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02240" y="600444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4538520" y="5903640"/>
              <a:ext cx="144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38520" y="1650240"/>
              <a:ext cx="144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95320" y="6004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5194440" y="5903640"/>
              <a:ext cx="180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94440" y="1650240"/>
              <a:ext cx="180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74200" y="60044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5850360" y="5903640"/>
              <a:ext cx="180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50360" y="1650240"/>
              <a:ext cx="180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09680" y="6004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6507000" y="5903640"/>
              <a:ext cx="144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07000" y="1650240"/>
              <a:ext cx="144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84240" y="60044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7161120" y="5903640"/>
              <a:ext cx="144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61120" y="1650240"/>
              <a:ext cx="144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21880" y="6004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02960" y="5955120"/>
              <a:ext cx="47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7112880" y="5955120"/>
              <a:ext cx="47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64360" y="58525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02960" y="5096160"/>
              <a:ext cx="47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7112880" y="5096160"/>
              <a:ext cx="47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76520" y="49953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02960" y="4237560"/>
              <a:ext cx="47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7112880" y="4237560"/>
              <a:ext cx="47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87960" y="413676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02960" y="3367440"/>
              <a:ext cx="47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7112880" y="3367440"/>
              <a:ext cx="47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87960" y="32648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02960" y="2508840"/>
              <a:ext cx="47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7112880" y="2508840"/>
              <a:ext cx="47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87960" y="24080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02960" y="1650240"/>
              <a:ext cx="47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7112880" y="1650240"/>
              <a:ext cx="47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87960" y="15494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02960" y="1650240"/>
              <a:ext cx="5258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02960" y="1650240"/>
              <a:ext cx="5258160" cy="430488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902960" y="1650240"/>
              <a:ext cx="1800" cy="4304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98400" y="5955120"/>
              <a:ext cx="132480" cy="36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98400" y="5955120"/>
              <a:ext cx="13248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31240" y="5955120"/>
              <a:ext cx="120960" cy="36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31240" y="5955120"/>
              <a:ext cx="12096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52200" y="5941440"/>
              <a:ext cx="133920" cy="133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52200" y="5941440"/>
              <a:ext cx="133920" cy="13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86480" y="5955120"/>
              <a:ext cx="133560" cy="36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86480" y="5955120"/>
              <a:ext cx="13356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20400" y="5903640"/>
              <a:ext cx="133920" cy="511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20400" y="5903640"/>
              <a:ext cx="133920" cy="51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54680" y="5903640"/>
              <a:ext cx="132480" cy="511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54680" y="5903640"/>
              <a:ext cx="132480" cy="51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87160" y="5865840"/>
              <a:ext cx="120960" cy="889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87160" y="5865840"/>
              <a:ext cx="120960" cy="88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08480" y="5852520"/>
              <a:ext cx="133920" cy="10224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08480" y="5852520"/>
              <a:ext cx="133920" cy="1022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42400" y="5802840"/>
              <a:ext cx="133920" cy="1519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42400" y="5802840"/>
              <a:ext cx="133920" cy="151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76680" y="5664600"/>
              <a:ext cx="131760" cy="29016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76680" y="5664600"/>
              <a:ext cx="131760" cy="290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8800" y="5816160"/>
              <a:ext cx="133920" cy="1386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8800" y="5816160"/>
              <a:ext cx="133920" cy="138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43080" y="5637960"/>
              <a:ext cx="133920" cy="3168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43080" y="5637960"/>
              <a:ext cx="133920" cy="316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77360" y="5537160"/>
              <a:ext cx="120960" cy="4176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77360" y="5537160"/>
              <a:ext cx="120960" cy="417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98320" y="5398200"/>
              <a:ext cx="133920" cy="55656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98320" y="5398200"/>
              <a:ext cx="133920" cy="556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32600" y="5387040"/>
              <a:ext cx="132480" cy="5677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32600" y="5387040"/>
              <a:ext cx="132480" cy="567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65080" y="1788840"/>
              <a:ext cx="133560" cy="41659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65080" y="1788840"/>
              <a:ext cx="133560" cy="4165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99000" y="4566240"/>
              <a:ext cx="133920" cy="13885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99000" y="4566240"/>
              <a:ext cx="133920" cy="1388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33280" y="4615560"/>
              <a:ext cx="132480" cy="13392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33280" y="4615560"/>
              <a:ext cx="132480" cy="1339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65760" y="4591080"/>
              <a:ext cx="120960" cy="136368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65760" y="4591080"/>
              <a:ext cx="120960" cy="1363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87080" y="5020560"/>
              <a:ext cx="133920" cy="9342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87080" y="5020560"/>
              <a:ext cx="133920" cy="934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21360" y="4680000"/>
              <a:ext cx="133920" cy="127476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21360" y="4680000"/>
              <a:ext cx="133920" cy="1274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55280" y="4868280"/>
              <a:ext cx="133920" cy="108648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55280" y="4868280"/>
              <a:ext cx="133920" cy="1086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89560" y="5007240"/>
              <a:ext cx="131760" cy="9475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89560" y="5007240"/>
              <a:ext cx="131760" cy="94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21680" y="5526000"/>
              <a:ext cx="133920" cy="42876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21680" y="5526000"/>
              <a:ext cx="133920" cy="428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5960" y="5512320"/>
              <a:ext cx="120960" cy="44244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55960" y="5512320"/>
              <a:ext cx="120960" cy="4424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77280" y="5526000"/>
              <a:ext cx="133920" cy="42876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77280" y="5526000"/>
              <a:ext cx="133920" cy="428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911200" y="5675760"/>
              <a:ext cx="131760" cy="2790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11200" y="5675760"/>
              <a:ext cx="131760" cy="279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43320" y="5816160"/>
              <a:ext cx="133920" cy="1386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43320" y="5816160"/>
              <a:ext cx="133920" cy="138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77600" y="5828040"/>
              <a:ext cx="133920" cy="12708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77600" y="5828040"/>
              <a:ext cx="133920" cy="127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11880" y="5916960"/>
              <a:ext cx="120960" cy="378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11880" y="5916960"/>
              <a:ext cx="120960" cy="37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33200" y="5852520"/>
              <a:ext cx="133920" cy="10224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33200" y="5852520"/>
              <a:ext cx="133920" cy="1022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36600" y="2408040"/>
              <a:ext cx="63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rms: 1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85120" y="2837520"/>
              <a:ext cx="167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umber of Channels: 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08120" y="2408040"/>
              <a:ext cx="939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 0 0 2 0 0 2 0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22520" y="2671920"/>
              <a:ext cx="53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versu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08120" y="2925000"/>
              <a:ext cx="939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 4 7 4 0 2 3 3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CEBB-8F84-46B4-BD46-672DD4B75D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ns Delay Sp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073240" y="1819440"/>
            <a:ext cx="5168160" cy="4037760"/>
            <a:chOff x="2073240" y="1819440"/>
            <a:chExt cx="5168160" cy="4037760"/>
          </a:xfrm>
        </p:grpSpPr>
        <p:sp>
          <p:nvSpPr>
            <p:cNvPr id="187" name=""/>
            <p:cNvSpPr/>
            <p:nvPr/>
          </p:nvSpPr>
          <p:spPr>
            <a:xfrm>
              <a:off x="2309760" y="1906560"/>
              <a:ext cx="4721400" cy="374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09760" y="1906560"/>
              <a:ext cx="4721400" cy="3740040"/>
            </a:xfrm>
            <a:prstGeom prst="rect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309760" y="1906560"/>
              <a:ext cx="4721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09760" y="1906560"/>
              <a:ext cx="4721400" cy="374004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2309760" y="1906200"/>
              <a:ext cx="1800" cy="3740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09760" y="5646600"/>
              <a:ext cx="47214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2309760" y="1906200"/>
              <a:ext cx="1800" cy="3740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2309760" y="5601960"/>
              <a:ext cx="1800" cy="4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09760" y="1906560"/>
              <a:ext cx="180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13360" y="5689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2778120" y="5601960"/>
              <a:ext cx="1440" cy="4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78120" y="1906560"/>
              <a:ext cx="144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15120" y="56894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3257640" y="5601960"/>
              <a:ext cx="1440" cy="4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57640" y="1906560"/>
              <a:ext cx="144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196080" y="56894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3727440" y="5601960"/>
              <a:ext cx="1440" cy="4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27440" y="1906560"/>
              <a:ext cx="144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64440" y="56894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4195800" y="5601960"/>
              <a:ext cx="1440" cy="4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95800" y="1906560"/>
              <a:ext cx="144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32800" y="56894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4675320" y="5601960"/>
              <a:ext cx="1440" cy="4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75320" y="1906560"/>
              <a:ext cx="144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13760" y="56894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5145120" y="5601960"/>
              <a:ext cx="1440" cy="4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45120" y="1906560"/>
              <a:ext cx="144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82120" y="56894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5613480" y="5601960"/>
              <a:ext cx="1440" cy="4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613480" y="1906560"/>
              <a:ext cx="144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50480" y="56894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081840" y="5601960"/>
              <a:ext cx="1440" cy="4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81840" y="1906560"/>
              <a:ext cx="144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20280" y="56894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562800" y="5601960"/>
              <a:ext cx="1440" cy="4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62800" y="1906560"/>
              <a:ext cx="144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99800" y="56894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9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031160" y="5601960"/>
              <a:ext cx="1440" cy="4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31160" y="1906560"/>
              <a:ext cx="144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29640" y="568944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09760" y="5646600"/>
              <a:ext cx="428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987960" y="5646600"/>
              <a:ext cx="428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73240" y="55594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2.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09760" y="5021280"/>
              <a:ext cx="42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6987960" y="5021280"/>
              <a:ext cx="42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87360" y="493380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309760" y="4395960"/>
              <a:ext cx="42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6987960" y="4395960"/>
              <a:ext cx="42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73240" y="43084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1.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309760" y="3781440"/>
              <a:ext cx="42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987960" y="3781440"/>
              <a:ext cx="42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87360" y="369396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09760" y="3157560"/>
              <a:ext cx="42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6987960" y="3157560"/>
              <a:ext cx="42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73240" y="306864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09760" y="2532240"/>
              <a:ext cx="42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987960" y="2532240"/>
              <a:ext cx="42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25880" y="24447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309760" y="1906560"/>
              <a:ext cx="42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6987960" y="1906560"/>
              <a:ext cx="42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12480" y="18194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09760" y="1906560"/>
              <a:ext cx="4721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309760" y="1906560"/>
              <a:ext cx="4721400" cy="374004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2309760" y="1906200"/>
              <a:ext cx="1800" cy="3740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09760" y="2465280"/>
              <a:ext cx="4721400" cy="3103560"/>
            </a:xfrm>
            <a:custGeom>
              <a:avLst/>
              <a:gdLst/>
              <a:ahLst/>
              <a:rect l="l" t="t" r="r" b="b"/>
              <a:pathLst>
                <a:path w="2974" h="1955">
                  <a:moveTo>
                    <a:pt x="0" y="1955"/>
                  </a:moveTo>
                  <a:lnTo>
                    <a:pt x="6" y="1935"/>
                  </a:lnTo>
                  <a:lnTo>
                    <a:pt x="6" y="1859"/>
                  </a:lnTo>
                  <a:lnTo>
                    <a:pt x="13" y="1810"/>
                  </a:lnTo>
                  <a:lnTo>
                    <a:pt x="13" y="1783"/>
                  </a:lnTo>
                  <a:lnTo>
                    <a:pt x="20" y="1748"/>
                  </a:lnTo>
                  <a:lnTo>
                    <a:pt x="20" y="1721"/>
                  </a:lnTo>
                  <a:lnTo>
                    <a:pt x="20" y="1679"/>
                  </a:lnTo>
                  <a:lnTo>
                    <a:pt x="27" y="1679"/>
                  </a:lnTo>
                  <a:lnTo>
                    <a:pt x="27" y="1665"/>
                  </a:lnTo>
                  <a:lnTo>
                    <a:pt x="34" y="1665"/>
                  </a:lnTo>
                  <a:lnTo>
                    <a:pt x="34" y="1651"/>
                  </a:lnTo>
                  <a:lnTo>
                    <a:pt x="41" y="1645"/>
                  </a:lnTo>
                  <a:lnTo>
                    <a:pt x="41" y="1638"/>
                  </a:lnTo>
                  <a:lnTo>
                    <a:pt x="48" y="1624"/>
                  </a:lnTo>
                  <a:lnTo>
                    <a:pt x="55" y="1624"/>
                  </a:lnTo>
                  <a:lnTo>
                    <a:pt x="55" y="1603"/>
                  </a:lnTo>
                  <a:lnTo>
                    <a:pt x="61" y="1548"/>
                  </a:lnTo>
                  <a:lnTo>
                    <a:pt x="68" y="1541"/>
                  </a:lnTo>
                  <a:lnTo>
                    <a:pt x="75" y="1534"/>
                  </a:lnTo>
                  <a:lnTo>
                    <a:pt x="82" y="1534"/>
                  </a:lnTo>
                  <a:lnTo>
                    <a:pt x="89" y="1527"/>
                  </a:lnTo>
                  <a:lnTo>
                    <a:pt x="89" y="1520"/>
                  </a:lnTo>
                  <a:lnTo>
                    <a:pt x="89" y="1513"/>
                  </a:lnTo>
                  <a:lnTo>
                    <a:pt x="96" y="1506"/>
                  </a:lnTo>
                  <a:lnTo>
                    <a:pt x="103" y="1499"/>
                  </a:lnTo>
                  <a:lnTo>
                    <a:pt x="110" y="1499"/>
                  </a:lnTo>
                  <a:lnTo>
                    <a:pt x="116" y="1493"/>
                  </a:lnTo>
                  <a:lnTo>
                    <a:pt x="123" y="1493"/>
                  </a:lnTo>
                  <a:lnTo>
                    <a:pt x="130" y="1486"/>
                  </a:lnTo>
                  <a:lnTo>
                    <a:pt x="130" y="1479"/>
                  </a:lnTo>
                  <a:lnTo>
                    <a:pt x="137" y="1472"/>
                  </a:lnTo>
                  <a:lnTo>
                    <a:pt x="144" y="1465"/>
                  </a:lnTo>
                  <a:lnTo>
                    <a:pt x="151" y="1458"/>
                  </a:lnTo>
                  <a:lnTo>
                    <a:pt x="158" y="1451"/>
                  </a:lnTo>
                  <a:lnTo>
                    <a:pt x="164" y="1444"/>
                  </a:lnTo>
                  <a:lnTo>
                    <a:pt x="171" y="1444"/>
                  </a:lnTo>
                  <a:lnTo>
                    <a:pt x="178" y="1430"/>
                  </a:lnTo>
                  <a:lnTo>
                    <a:pt x="185" y="1424"/>
                  </a:lnTo>
                  <a:lnTo>
                    <a:pt x="192" y="1424"/>
                  </a:lnTo>
                  <a:lnTo>
                    <a:pt x="199" y="1410"/>
                  </a:lnTo>
                  <a:lnTo>
                    <a:pt x="206" y="1403"/>
                  </a:lnTo>
                  <a:lnTo>
                    <a:pt x="213" y="1396"/>
                  </a:lnTo>
                  <a:lnTo>
                    <a:pt x="219" y="1389"/>
                  </a:lnTo>
                  <a:lnTo>
                    <a:pt x="226" y="1382"/>
                  </a:lnTo>
                  <a:lnTo>
                    <a:pt x="233" y="1375"/>
                  </a:lnTo>
                  <a:lnTo>
                    <a:pt x="240" y="1375"/>
                  </a:lnTo>
                  <a:lnTo>
                    <a:pt x="247" y="1368"/>
                  </a:lnTo>
                  <a:lnTo>
                    <a:pt x="254" y="1361"/>
                  </a:lnTo>
                  <a:lnTo>
                    <a:pt x="261" y="1354"/>
                  </a:lnTo>
                  <a:lnTo>
                    <a:pt x="268" y="1348"/>
                  </a:lnTo>
                  <a:lnTo>
                    <a:pt x="274" y="1334"/>
                  </a:lnTo>
                  <a:lnTo>
                    <a:pt x="281" y="1334"/>
                  </a:lnTo>
                  <a:lnTo>
                    <a:pt x="288" y="1334"/>
                  </a:lnTo>
                  <a:lnTo>
                    <a:pt x="295" y="1327"/>
                  </a:lnTo>
                  <a:lnTo>
                    <a:pt x="302" y="1320"/>
                  </a:lnTo>
                  <a:lnTo>
                    <a:pt x="309" y="1320"/>
                  </a:lnTo>
                  <a:lnTo>
                    <a:pt x="316" y="1313"/>
                  </a:lnTo>
                  <a:lnTo>
                    <a:pt x="322" y="1313"/>
                  </a:lnTo>
                  <a:lnTo>
                    <a:pt x="329" y="1306"/>
                  </a:lnTo>
                  <a:lnTo>
                    <a:pt x="336" y="1299"/>
                  </a:lnTo>
                  <a:lnTo>
                    <a:pt x="343" y="1299"/>
                  </a:lnTo>
                  <a:lnTo>
                    <a:pt x="350" y="1292"/>
                  </a:lnTo>
                  <a:lnTo>
                    <a:pt x="357" y="1285"/>
                  </a:lnTo>
                  <a:lnTo>
                    <a:pt x="364" y="1285"/>
                  </a:lnTo>
                  <a:lnTo>
                    <a:pt x="371" y="1278"/>
                  </a:lnTo>
                  <a:lnTo>
                    <a:pt x="377" y="1278"/>
                  </a:lnTo>
                  <a:lnTo>
                    <a:pt x="384" y="1272"/>
                  </a:lnTo>
                  <a:lnTo>
                    <a:pt x="391" y="1272"/>
                  </a:lnTo>
                  <a:lnTo>
                    <a:pt x="398" y="1265"/>
                  </a:lnTo>
                  <a:lnTo>
                    <a:pt x="405" y="1265"/>
                  </a:lnTo>
                  <a:lnTo>
                    <a:pt x="412" y="1258"/>
                  </a:lnTo>
                  <a:lnTo>
                    <a:pt x="419" y="1258"/>
                  </a:lnTo>
                  <a:lnTo>
                    <a:pt x="426" y="1258"/>
                  </a:lnTo>
                  <a:lnTo>
                    <a:pt x="432" y="1258"/>
                  </a:lnTo>
                  <a:lnTo>
                    <a:pt x="439" y="1251"/>
                  </a:lnTo>
                  <a:lnTo>
                    <a:pt x="446" y="1251"/>
                  </a:lnTo>
                  <a:lnTo>
                    <a:pt x="453" y="1251"/>
                  </a:lnTo>
                  <a:lnTo>
                    <a:pt x="460" y="1244"/>
                  </a:lnTo>
                  <a:lnTo>
                    <a:pt x="467" y="1244"/>
                  </a:lnTo>
                  <a:lnTo>
                    <a:pt x="474" y="1237"/>
                  </a:lnTo>
                  <a:lnTo>
                    <a:pt x="480" y="1237"/>
                  </a:lnTo>
                  <a:lnTo>
                    <a:pt x="487" y="1237"/>
                  </a:lnTo>
                  <a:lnTo>
                    <a:pt x="494" y="1237"/>
                  </a:lnTo>
                  <a:lnTo>
                    <a:pt x="501" y="1230"/>
                  </a:lnTo>
                  <a:lnTo>
                    <a:pt x="508" y="1223"/>
                  </a:lnTo>
                  <a:lnTo>
                    <a:pt x="515" y="1216"/>
                  </a:lnTo>
                  <a:lnTo>
                    <a:pt x="522" y="1216"/>
                  </a:lnTo>
                  <a:lnTo>
                    <a:pt x="529" y="1216"/>
                  </a:lnTo>
                  <a:lnTo>
                    <a:pt x="535" y="1209"/>
                  </a:lnTo>
                  <a:lnTo>
                    <a:pt x="542" y="1209"/>
                  </a:lnTo>
                  <a:lnTo>
                    <a:pt x="549" y="1209"/>
                  </a:lnTo>
                  <a:lnTo>
                    <a:pt x="556" y="1209"/>
                  </a:lnTo>
                  <a:lnTo>
                    <a:pt x="563" y="1202"/>
                  </a:lnTo>
                  <a:lnTo>
                    <a:pt x="570" y="1202"/>
                  </a:lnTo>
                  <a:lnTo>
                    <a:pt x="577" y="1202"/>
                  </a:lnTo>
                  <a:lnTo>
                    <a:pt x="584" y="1196"/>
                  </a:lnTo>
                  <a:lnTo>
                    <a:pt x="590" y="1196"/>
                  </a:lnTo>
                  <a:lnTo>
                    <a:pt x="597" y="1196"/>
                  </a:lnTo>
                  <a:lnTo>
                    <a:pt x="604" y="1196"/>
                  </a:lnTo>
                  <a:lnTo>
                    <a:pt x="611" y="1189"/>
                  </a:lnTo>
                  <a:lnTo>
                    <a:pt x="618" y="1189"/>
                  </a:lnTo>
                  <a:lnTo>
                    <a:pt x="625" y="1182"/>
                  </a:lnTo>
                  <a:lnTo>
                    <a:pt x="632" y="1182"/>
                  </a:lnTo>
                  <a:lnTo>
                    <a:pt x="638" y="1182"/>
                  </a:lnTo>
                  <a:lnTo>
                    <a:pt x="645" y="1175"/>
                  </a:lnTo>
                  <a:lnTo>
                    <a:pt x="652" y="1175"/>
                  </a:lnTo>
                  <a:lnTo>
                    <a:pt x="659" y="1175"/>
                  </a:lnTo>
                  <a:lnTo>
                    <a:pt x="666" y="1175"/>
                  </a:lnTo>
                  <a:lnTo>
                    <a:pt x="673" y="1175"/>
                  </a:lnTo>
                  <a:lnTo>
                    <a:pt x="680" y="1175"/>
                  </a:lnTo>
                  <a:lnTo>
                    <a:pt x="687" y="1168"/>
                  </a:lnTo>
                  <a:lnTo>
                    <a:pt x="693" y="1161"/>
                  </a:lnTo>
                  <a:lnTo>
                    <a:pt x="700" y="1161"/>
                  </a:lnTo>
                  <a:lnTo>
                    <a:pt x="707" y="1154"/>
                  </a:lnTo>
                  <a:lnTo>
                    <a:pt x="714" y="1154"/>
                  </a:lnTo>
                  <a:lnTo>
                    <a:pt x="721" y="1154"/>
                  </a:lnTo>
                  <a:lnTo>
                    <a:pt x="728" y="1154"/>
                  </a:lnTo>
                  <a:lnTo>
                    <a:pt x="735" y="1147"/>
                  </a:lnTo>
                  <a:lnTo>
                    <a:pt x="742" y="1140"/>
                  </a:lnTo>
                  <a:lnTo>
                    <a:pt x="748" y="1140"/>
                  </a:lnTo>
                  <a:lnTo>
                    <a:pt x="755" y="1140"/>
                  </a:lnTo>
                  <a:lnTo>
                    <a:pt x="762" y="1140"/>
                  </a:lnTo>
                  <a:lnTo>
                    <a:pt x="769" y="1133"/>
                  </a:lnTo>
                  <a:lnTo>
                    <a:pt x="776" y="1133"/>
                  </a:lnTo>
                  <a:lnTo>
                    <a:pt x="783" y="1133"/>
                  </a:lnTo>
                  <a:lnTo>
                    <a:pt x="790" y="1133"/>
                  </a:lnTo>
                  <a:lnTo>
                    <a:pt x="796" y="1126"/>
                  </a:lnTo>
                  <a:lnTo>
                    <a:pt x="803" y="1126"/>
                  </a:lnTo>
                  <a:lnTo>
                    <a:pt x="810" y="1120"/>
                  </a:lnTo>
                  <a:lnTo>
                    <a:pt x="817" y="1120"/>
                  </a:lnTo>
                  <a:lnTo>
                    <a:pt x="824" y="1113"/>
                  </a:lnTo>
                  <a:lnTo>
                    <a:pt x="831" y="1113"/>
                  </a:lnTo>
                  <a:lnTo>
                    <a:pt x="838" y="1113"/>
                  </a:lnTo>
                  <a:lnTo>
                    <a:pt x="845" y="1113"/>
                  </a:lnTo>
                  <a:lnTo>
                    <a:pt x="851" y="1106"/>
                  </a:lnTo>
                  <a:lnTo>
                    <a:pt x="858" y="1106"/>
                  </a:lnTo>
                  <a:lnTo>
                    <a:pt x="865" y="1106"/>
                  </a:lnTo>
                  <a:lnTo>
                    <a:pt x="872" y="1106"/>
                  </a:lnTo>
                  <a:lnTo>
                    <a:pt x="879" y="1099"/>
                  </a:lnTo>
                  <a:lnTo>
                    <a:pt x="886" y="1099"/>
                  </a:lnTo>
                  <a:lnTo>
                    <a:pt x="893" y="1099"/>
                  </a:lnTo>
                  <a:lnTo>
                    <a:pt x="900" y="1099"/>
                  </a:lnTo>
                  <a:lnTo>
                    <a:pt x="906" y="1092"/>
                  </a:lnTo>
                  <a:lnTo>
                    <a:pt x="913" y="1092"/>
                  </a:lnTo>
                  <a:lnTo>
                    <a:pt x="920" y="1092"/>
                  </a:lnTo>
                  <a:lnTo>
                    <a:pt x="927" y="1085"/>
                  </a:lnTo>
                  <a:lnTo>
                    <a:pt x="934" y="1085"/>
                  </a:lnTo>
                  <a:lnTo>
                    <a:pt x="941" y="1085"/>
                  </a:lnTo>
                  <a:lnTo>
                    <a:pt x="948" y="1085"/>
                  </a:lnTo>
                  <a:lnTo>
                    <a:pt x="954" y="1078"/>
                  </a:lnTo>
                  <a:lnTo>
                    <a:pt x="961" y="1078"/>
                  </a:lnTo>
                  <a:lnTo>
                    <a:pt x="968" y="1071"/>
                  </a:lnTo>
                  <a:lnTo>
                    <a:pt x="975" y="1071"/>
                  </a:lnTo>
                  <a:lnTo>
                    <a:pt x="982" y="1071"/>
                  </a:lnTo>
                  <a:lnTo>
                    <a:pt x="989" y="1071"/>
                  </a:lnTo>
                  <a:lnTo>
                    <a:pt x="996" y="1064"/>
                  </a:lnTo>
                  <a:lnTo>
                    <a:pt x="1003" y="1057"/>
                  </a:lnTo>
                  <a:lnTo>
                    <a:pt x="1009" y="1057"/>
                  </a:lnTo>
                  <a:lnTo>
                    <a:pt x="1016" y="1057"/>
                  </a:lnTo>
                  <a:lnTo>
                    <a:pt x="1023" y="1057"/>
                  </a:lnTo>
                  <a:lnTo>
                    <a:pt x="1030" y="1050"/>
                  </a:lnTo>
                  <a:lnTo>
                    <a:pt x="1037" y="1050"/>
                  </a:lnTo>
                  <a:lnTo>
                    <a:pt x="1044" y="1050"/>
                  </a:lnTo>
                  <a:lnTo>
                    <a:pt x="1051" y="1044"/>
                  </a:lnTo>
                  <a:lnTo>
                    <a:pt x="1058" y="1044"/>
                  </a:lnTo>
                  <a:lnTo>
                    <a:pt x="1064" y="1044"/>
                  </a:lnTo>
                  <a:lnTo>
                    <a:pt x="1071" y="1044"/>
                  </a:lnTo>
                  <a:lnTo>
                    <a:pt x="1078" y="1037"/>
                  </a:lnTo>
                  <a:lnTo>
                    <a:pt x="1085" y="1037"/>
                  </a:lnTo>
                  <a:lnTo>
                    <a:pt x="1092" y="1037"/>
                  </a:lnTo>
                  <a:lnTo>
                    <a:pt x="1099" y="1030"/>
                  </a:lnTo>
                  <a:lnTo>
                    <a:pt x="1106" y="1030"/>
                  </a:lnTo>
                  <a:lnTo>
                    <a:pt x="1112" y="1023"/>
                  </a:lnTo>
                  <a:lnTo>
                    <a:pt x="1119" y="1023"/>
                  </a:lnTo>
                  <a:lnTo>
                    <a:pt x="1126" y="1023"/>
                  </a:lnTo>
                  <a:lnTo>
                    <a:pt x="1133" y="1023"/>
                  </a:lnTo>
                  <a:lnTo>
                    <a:pt x="1140" y="1023"/>
                  </a:lnTo>
                  <a:lnTo>
                    <a:pt x="1147" y="1016"/>
                  </a:lnTo>
                  <a:lnTo>
                    <a:pt x="1154" y="1016"/>
                  </a:lnTo>
                  <a:lnTo>
                    <a:pt x="1161" y="1016"/>
                  </a:lnTo>
                  <a:lnTo>
                    <a:pt x="1167" y="1016"/>
                  </a:lnTo>
                  <a:lnTo>
                    <a:pt x="1174" y="1009"/>
                  </a:lnTo>
                  <a:lnTo>
                    <a:pt x="1181" y="1009"/>
                  </a:lnTo>
                  <a:lnTo>
                    <a:pt x="1188" y="1002"/>
                  </a:lnTo>
                  <a:lnTo>
                    <a:pt x="1195" y="1002"/>
                  </a:lnTo>
                  <a:lnTo>
                    <a:pt x="1202" y="1002"/>
                  </a:lnTo>
                  <a:lnTo>
                    <a:pt x="1209" y="1002"/>
                  </a:lnTo>
                  <a:lnTo>
                    <a:pt x="1216" y="1002"/>
                  </a:lnTo>
                  <a:lnTo>
                    <a:pt x="1222" y="995"/>
                  </a:lnTo>
                  <a:lnTo>
                    <a:pt x="1229" y="988"/>
                  </a:lnTo>
                  <a:lnTo>
                    <a:pt x="1236" y="988"/>
                  </a:lnTo>
                  <a:lnTo>
                    <a:pt x="1243" y="988"/>
                  </a:lnTo>
                  <a:lnTo>
                    <a:pt x="1250" y="988"/>
                  </a:lnTo>
                  <a:lnTo>
                    <a:pt x="1257" y="981"/>
                  </a:lnTo>
                  <a:lnTo>
                    <a:pt x="1264" y="981"/>
                  </a:lnTo>
                  <a:lnTo>
                    <a:pt x="1270" y="981"/>
                  </a:lnTo>
                  <a:lnTo>
                    <a:pt x="1277" y="974"/>
                  </a:lnTo>
                  <a:lnTo>
                    <a:pt x="1284" y="968"/>
                  </a:lnTo>
                  <a:lnTo>
                    <a:pt x="1291" y="968"/>
                  </a:lnTo>
                  <a:lnTo>
                    <a:pt x="1298" y="968"/>
                  </a:lnTo>
                  <a:lnTo>
                    <a:pt x="1305" y="968"/>
                  </a:lnTo>
                  <a:lnTo>
                    <a:pt x="1312" y="968"/>
                  </a:lnTo>
                  <a:lnTo>
                    <a:pt x="1319" y="961"/>
                  </a:lnTo>
                  <a:lnTo>
                    <a:pt x="1325" y="961"/>
                  </a:lnTo>
                  <a:lnTo>
                    <a:pt x="1332" y="961"/>
                  </a:lnTo>
                  <a:lnTo>
                    <a:pt x="1339" y="961"/>
                  </a:lnTo>
                  <a:lnTo>
                    <a:pt x="1346" y="954"/>
                  </a:lnTo>
                  <a:lnTo>
                    <a:pt x="1353" y="954"/>
                  </a:lnTo>
                  <a:lnTo>
                    <a:pt x="1360" y="954"/>
                  </a:lnTo>
                  <a:lnTo>
                    <a:pt x="1367" y="954"/>
                  </a:lnTo>
                  <a:lnTo>
                    <a:pt x="1374" y="954"/>
                  </a:lnTo>
                  <a:lnTo>
                    <a:pt x="1380" y="947"/>
                  </a:lnTo>
                  <a:lnTo>
                    <a:pt x="1387" y="947"/>
                  </a:lnTo>
                  <a:lnTo>
                    <a:pt x="1394" y="947"/>
                  </a:lnTo>
                  <a:lnTo>
                    <a:pt x="1401" y="940"/>
                  </a:lnTo>
                  <a:lnTo>
                    <a:pt x="1408" y="940"/>
                  </a:lnTo>
                  <a:lnTo>
                    <a:pt x="1415" y="940"/>
                  </a:lnTo>
                  <a:lnTo>
                    <a:pt x="1422" y="940"/>
                  </a:lnTo>
                  <a:lnTo>
                    <a:pt x="1428" y="940"/>
                  </a:lnTo>
                  <a:lnTo>
                    <a:pt x="1435" y="940"/>
                  </a:lnTo>
                  <a:lnTo>
                    <a:pt x="1442" y="933"/>
                  </a:lnTo>
                  <a:lnTo>
                    <a:pt x="1449" y="933"/>
                  </a:lnTo>
                  <a:lnTo>
                    <a:pt x="1456" y="933"/>
                  </a:lnTo>
                  <a:lnTo>
                    <a:pt x="1463" y="933"/>
                  </a:lnTo>
                  <a:lnTo>
                    <a:pt x="1470" y="933"/>
                  </a:lnTo>
                  <a:lnTo>
                    <a:pt x="1477" y="933"/>
                  </a:lnTo>
                  <a:lnTo>
                    <a:pt x="1483" y="933"/>
                  </a:lnTo>
                  <a:lnTo>
                    <a:pt x="1490" y="926"/>
                  </a:lnTo>
                  <a:lnTo>
                    <a:pt x="1497" y="926"/>
                  </a:lnTo>
                  <a:lnTo>
                    <a:pt x="1504" y="926"/>
                  </a:lnTo>
                  <a:lnTo>
                    <a:pt x="1511" y="926"/>
                  </a:lnTo>
                  <a:lnTo>
                    <a:pt x="1518" y="919"/>
                  </a:lnTo>
                  <a:lnTo>
                    <a:pt x="1525" y="919"/>
                  </a:lnTo>
                  <a:lnTo>
                    <a:pt x="1532" y="919"/>
                  </a:lnTo>
                  <a:lnTo>
                    <a:pt x="1538" y="919"/>
                  </a:lnTo>
                  <a:lnTo>
                    <a:pt x="1545" y="919"/>
                  </a:lnTo>
                  <a:lnTo>
                    <a:pt x="1552" y="912"/>
                  </a:lnTo>
                  <a:lnTo>
                    <a:pt x="1559" y="912"/>
                  </a:lnTo>
                  <a:lnTo>
                    <a:pt x="1566" y="912"/>
                  </a:lnTo>
                  <a:lnTo>
                    <a:pt x="1573" y="905"/>
                  </a:lnTo>
                  <a:lnTo>
                    <a:pt x="1580" y="905"/>
                  </a:lnTo>
                  <a:lnTo>
                    <a:pt x="1586" y="905"/>
                  </a:lnTo>
                  <a:lnTo>
                    <a:pt x="1593" y="905"/>
                  </a:lnTo>
                  <a:lnTo>
                    <a:pt x="1600" y="898"/>
                  </a:lnTo>
                  <a:lnTo>
                    <a:pt x="1607" y="898"/>
                  </a:lnTo>
                  <a:lnTo>
                    <a:pt x="1614" y="898"/>
                  </a:lnTo>
                  <a:lnTo>
                    <a:pt x="1621" y="898"/>
                  </a:lnTo>
                  <a:lnTo>
                    <a:pt x="1628" y="892"/>
                  </a:lnTo>
                  <a:lnTo>
                    <a:pt x="1635" y="892"/>
                  </a:lnTo>
                  <a:lnTo>
                    <a:pt x="1641" y="892"/>
                  </a:lnTo>
                  <a:lnTo>
                    <a:pt x="1648" y="885"/>
                  </a:lnTo>
                  <a:lnTo>
                    <a:pt x="1655" y="885"/>
                  </a:lnTo>
                  <a:lnTo>
                    <a:pt x="1662" y="885"/>
                  </a:lnTo>
                  <a:lnTo>
                    <a:pt x="1669" y="885"/>
                  </a:lnTo>
                  <a:lnTo>
                    <a:pt x="1676" y="885"/>
                  </a:lnTo>
                  <a:lnTo>
                    <a:pt x="1683" y="885"/>
                  </a:lnTo>
                  <a:lnTo>
                    <a:pt x="1690" y="878"/>
                  </a:lnTo>
                  <a:lnTo>
                    <a:pt x="1696" y="878"/>
                  </a:lnTo>
                  <a:lnTo>
                    <a:pt x="1703" y="878"/>
                  </a:lnTo>
                  <a:lnTo>
                    <a:pt x="1710" y="878"/>
                  </a:lnTo>
                  <a:lnTo>
                    <a:pt x="1717" y="878"/>
                  </a:lnTo>
                  <a:lnTo>
                    <a:pt x="1724" y="878"/>
                  </a:lnTo>
                  <a:lnTo>
                    <a:pt x="1731" y="878"/>
                  </a:lnTo>
                  <a:lnTo>
                    <a:pt x="1738" y="871"/>
                  </a:lnTo>
                  <a:lnTo>
                    <a:pt x="1744" y="871"/>
                  </a:lnTo>
                  <a:lnTo>
                    <a:pt x="1751" y="871"/>
                  </a:lnTo>
                  <a:lnTo>
                    <a:pt x="1758" y="871"/>
                  </a:lnTo>
                  <a:lnTo>
                    <a:pt x="1765" y="871"/>
                  </a:lnTo>
                  <a:lnTo>
                    <a:pt x="1772" y="871"/>
                  </a:lnTo>
                  <a:lnTo>
                    <a:pt x="1779" y="864"/>
                  </a:lnTo>
                  <a:lnTo>
                    <a:pt x="1786" y="864"/>
                  </a:lnTo>
                  <a:lnTo>
                    <a:pt x="1793" y="864"/>
                  </a:lnTo>
                  <a:lnTo>
                    <a:pt x="1799" y="864"/>
                  </a:lnTo>
                  <a:lnTo>
                    <a:pt x="1806" y="864"/>
                  </a:lnTo>
                  <a:lnTo>
                    <a:pt x="1813" y="864"/>
                  </a:lnTo>
                  <a:lnTo>
                    <a:pt x="1820" y="864"/>
                  </a:lnTo>
                  <a:lnTo>
                    <a:pt x="1827" y="857"/>
                  </a:lnTo>
                  <a:lnTo>
                    <a:pt x="1834" y="857"/>
                  </a:lnTo>
                  <a:lnTo>
                    <a:pt x="1841" y="857"/>
                  </a:lnTo>
                  <a:lnTo>
                    <a:pt x="1848" y="857"/>
                  </a:lnTo>
                  <a:lnTo>
                    <a:pt x="1854" y="857"/>
                  </a:lnTo>
                  <a:lnTo>
                    <a:pt x="1861" y="850"/>
                  </a:lnTo>
                  <a:lnTo>
                    <a:pt x="1868" y="850"/>
                  </a:lnTo>
                  <a:lnTo>
                    <a:pt x="1875" y="850"/>
                  </a:lnTo>
                  <a:lnTo>
                    <a:pt x="1882" y="850"/>
                  </a:lnTo>
                  <a:lnTo>
                    <a:pt x="1889" y="850"/>
                  </a:lnTo>
                  <a:lnTo>
                    <a:pt x="1896" y="850"/>
                  </a:lnTo>
                  <a:lnTo>
                    <a:pt x="1902" y="843"/>
                  </a:lnTo>
                  <a:lnTo>
                    <a:pt x="1909" y="843"/>
                  </a:lnTo>
                  <a:lnTo>
                    <a:pt x="1916" y="843"/>
                  </a:lnTo>
                  <a:lnTo>
                    <a:pt x="1923" y="843"/>
                  </a:lnTo>
                  <a:lnTo>
                    <a:pt x="1930" y="843"/>
                  </a:lnTo>
                  <a:lnTo>
                    <a:pt x="1937" y="836"/>
                  </a:lnTo>
                  <a:lnTo>
                    <a:pt x="1944" y="836"/>
                  </a:lnTo>
                  <a:lnTo>
                    <a:pt x="1951" y="836"/>
                  </a:lnTo>
                  <a:lnTo>
                    <a:pt x="1957" y="829"/>
                  </a:lnTo>
                  <a:lnTo>
                    <a:pt x="1964" y="829"/>
                  </a:lnTo>
                  <a:lnTo>
                    <a:pt x="1971" y="829"/>
                  </a:lnTo>
                  <a:lnTo>
                    <a:pt x="1978" y="829"/>
                  </a:lnTo>
                  <a:lnTo>
                    <a:pt x="1985" y="829"/>
                  </a:lnTo>
                  <a:lnTo>
                    <a:pt x="1992" y="829"/>
                  </a:lnTo>
                  <a:lnTo>
                    <a:pt x="1999" y="829"/>
                  </a:lnTo>
                  <a:lnTo>
                    <a:pt x="2006" y="823"/>
                  </a:lnTo>
                  <a:lnTo>
                    <a:pt x="2012" y="823"/>
                  </a:lnTo>
                  <a:lnTo>
                    <a:pt x="2019" y="823"/>
                  </a:lnTo>
                  <a:lnTo>
                    <a:pt x="2026" y="823"/>
                  </a:lnTo>
                  <a:lnTo>
                    <a:pt x="2033" y="823"/>
                  </a:lnTo>
                  <a:lnTo>
                    <a:pt x="2040" y="816"/>
                  </a:lnTo>
                  <a:lnTo>
                    <a:pt x="2047" y="816"/>
                  </a:lnTo>
                  <a:lnTo>
                    <a:pt x="2054" y="816"/>
                  </a:lnTo>
                  <a:lnTo>
                    <a:pt x="2060" y="816"/>
                  </a:lnTo>
                  <a:lnTo>
                    <a:pt x="2067" y="816"/>
                  </a:lnTo>
                  <a:lnTo>
                    <a:pt x="2074" y="816"/>
                  </a:lnTo>
                  <a:lnTo>
                    <a:pt x="2081" y="816"/>
                  </a:lnTo>
                  <a:lnTo>
                    <a:pt x="2088" y="816"/>
                  </a:lnTo>
                  <a:lnTo>
                    <a:pt x="2095" y="809"/>
                  </a:lnTo>
                  <a:lnTo>
                    <a:pt x="2102" y="809"/>
                  </a:lnTo>
                  <a:lnTo>
                    <a:pt x="2109" y="809"/>
                  </a:lnTo>
                  <a:lnTo>
                    <a:pt x="2115" y="809"/>
                  </a:lnTo>
                  <a:lnTo>
                    <a:pt x="2122" y="802"/>
                  </a:lnTo>
                  <a:lnTo>
                    <a:pt x="2129" y="802"/>
                  </a:lnTo>
                  <a:lnTo>
                    <a:pt x="2136" y="795"/>
                  </a:lnTo>
                  <a:lnTo>
                    <a:pt x="2143" y="795"/>
                  </a:lnTo>
                  <a:lnTo>
                    <a:pt x="2150" y="795"/>
                  </a:lnTo>
                  <a:lnTo>
                    <a:pt x="2157" y="795"/>
                  </a:lnTo>
                  <a:lnTo>
                    <a:pt x="2164" y="795"/>
                  </a:lnTo>
                  <a:lnTo>
                    <a:pt x="2170" y="788"/>
                  </a:lnTo>
                  <a:lnTo>
                    <a:pt x="2177" y="788"/>
                  </a:lnTo>
                  <a:lnTo>
                    <a:pt x="2184" y="788"/>
                  </a:lnTo>
                  <a:lnTo>
                    <a:pt x="2191" y="788"/>
                  </a:lnTo>
                  <a:lnTo>
                    <a:pt x="2198" y="781"/>
                  </a:lnTo>
                  <a:lnTo>
                    <a:pt x="2205" y="781"/>
                  </a:lnTo>
                  <a:lnTo>
                    <a:pt x="2212" y="781"/>
                  </a:lnTo>
                  <a:lnTo>
                    <a:pt x="2218" y="774"/>
                  </a:lnTo>
                  <a:lnTo>
                    <a:pt x="2225" y="774"/>
                  </a:lnTo>
                  <a:lnTo>
                    <a:pt x="2232" y="767"/>
                  </a:lnTo>
                  <a:lnTo>
                    <a:pt x="2239" y="767"/>
                  </a:lnTo>
                  <a:lnTo>
                    <a:pt x="2246" y="767"/>
                  </a:lnTo>
                  <a:lnTo>
                    <a:pt x="2253" y="760"/>
                  </a:lnTo>
                  <a:lnTo>
                    <a:pt x="2260" y="760"/>
                  </a:lnTo>
                  <a:lnTo>
                    <a:pt x="2267" y="760"/>
                  </a:lnTo>
                  <a:lnTo>
                    <a:pt x="2273" y="760"/>
                  </a:lnTo>
                  <a:lnTo>
                    <a:pt x="2280" y="753"/>
                  </a:lnTo>
                  <a:lnTo>
                    <a:pt x="2287" y="753"/>
                  </a:lnTo>
                  <a:lnTo>
                    <a:pt x="2294" y="753"/>
                  </a:lnTo>
                  <a:lnTo>
                    <a:pt x="2301" y="753"/>
                  </a:lnTo>
                  <a:lnTo>
                    <a:pt x="2308" y="747"/>
                  </a:lnTo>
                  <a:lnTo>
                    <a:pt x="2315" y="747"/>
                  </a:lnTo>
                  <a:lnTo>
                    <a:pt x="2322" y="747"/>
                  </a:lnTo>
                  <a:lnTo>
                    <a:pt x="2328" y="747"/>
                  </a:lnTo>
                  <a:lnTo>
                    <a:pt x="2335" y="740"/>
                  </a:lnTo>
                  <a:lnTo>
                    <a:pt x="2342" y="740"/>
                  </a:lnTo>
                  <a:lnTo>
                    <a:pt x="2349" y="740"/>
                  </a:lnTo>
                  <a:lnTo>
                    <a:pt x="2356" y="733"/>
                  </a:lnTo>
                  <a:lnTo>
                    <a:pt x="2363" y="733"/>
                  </a:lnTo>
                  <a:lnTo>
                    <a:pt x="2370" y="733"/>
                  </a:lnTo>
                  <a:lnTo>
                    <a:pt x="2376" y="726"/>
                  </a:lnTo>
                  <a:lnTo>
                    <a:pt x="2383" y="726"/>
                  </a:lnTo>
                  <a:lnTo>
                    <a:pt x="2390" y="726"/>
                  </a:lnTo>
                  <a:lnTo>
                    <a:pt x="2397" y="726"/>
                  </a:lnTo>
                  <a:lnTo>
                    <a:pt x="2404" y="719"/>
                  </a:lnTo>
                  <a:lnTo>
                    <a:pt x="2411" y="719"/>
                  </a:lnTo>
                  <a:lnTo>
                    <a:pt x="2418" y="719"/>
                  </a:lnTo>
                  <a:lnTo>
                    <a:pt x="2425" y="712"/>
                  </a:lnTo>
                  <a:lnTo>
                    <a:pt x="2431" y="712"/>
                  </a:lnTo>
                  <a:lnTo>
                    <a:pt x="2438" y="712"/>
                  </a:lnTo>
                  <a:lnTo>
                    <a:pt x="2445" y="712"/>
                  </a:lnTo>
                  <a:lnTo>
                    <a:pt x="2452" y="705"/>
                  </a:lnTo>
                  <a:lnTo>
                    <a:pt x="2459" y="705"/>
                  </a:lnTo>
                  <a:lnTo>
                    <a:pt x="2466" y="698"/>
                  </a:lnTo>
                  <a:lnTo>
                    <a:pt x="2473" y="698"/>
                  </a:lnTo>
                  <a:lnTo>
                    <a:pt x="2480" y="698"/>
                  </a:lnTo>
                  <a:lnTo>
                    <a:pt x="2486" y="698"/>
                  </a:lnTo>
                  <a:lnTo>
                    <a:pt x="2493" y="698"/>
                  </a:lnTo>
                  <a:lnTo>
                    <a:pt x="2500" y="691"/>
                  </a:lnTo>
                  <a:lnTo>
                    <a:pt x="2507" y="691"/>
                  </a:lnTo>
                  <a:lnTo>
                    <a:pt x="2514" y="691"/>
                  </a:lnTo>
                  <a:lnTo>
                    <a:pt x="2521" y="691"/>
                  </a:lnTo>
                  <a:lnTo>
                    <a:pt x="2528" y="684"/>
                  </a:lnTo>
                  <a:lnTo>
                    <a:pt x="2534" y="684"/>
                  </a:lnTo>
                  <a:lnTo>
                    <a:pt x="2541" y="684"/>
                  </a:lnTo>
                  <a:lnTo>
                    <a:pt x="2548" y="677"/>
                  </a:lnTo>
                  <a:lnTo>
                    <a:pt x="2555" y="677"/>
                  </a:lnTo>
                  <a:lnTo>
                    <a:pt x="2562" y="671"/>
                  </a:lnTo>
                  <a:lnTo>
                    <a:pt x="2569" y="671"/>
                  </a:lnTo>
                  <a:lnTo>
                    <a:pt x="2576" y="671"/>
                  </a:lnTo>
                  <a:lnTo>
                    <a:pt x="2583" y="671"/>
                  </a:lnTo>
                  <a:lnTo>
                    <a:pt x="2589" y="664"/>
                  </a:lnTo>
                  <a:lnTo>
                    <a:pt x="2596" y="664"/>
                  </a:lnTo>
                  <a:lnTo>
                    <a:pt x="2603" y="664"/>
                  </a:lnTo>
                  <a:lnTo>
                    <a:pt x="2610" y="664"/>
                  </a:lnTo>
                  <a:lnTo>
                    <a:pt x="2617" y="657"/>
                  </a:lnTo>
                  <a:lnTo>
                    <a:pt x="2624" y="650"/>
                  </a:lnTo>
                  <a:lnTo>
                    <a:pt x="2631" y="650"/>
                  </a:lnTo>
                  <a:lnTo>
                    <a:pt x="2638" y="643"/>
                  </a:lnTo>
                  <a:lnTo>
                    <a:pt x="2644" y="643"/>
                  </a:lnTo>
                  <a:lnTo>
                    <a:pt x="2651" y="643"/>
                  </a:lnTo>
                  <a:lnTo>
                    <a:pt x="2658" y="636"/>
                  </a:lnTo>
                  <a:lnTo>
                    <a:pt x="2665" y="636"/>
                  </a:lnTo>
                  <a:lnTo>
                    <a:pt x="2672" y="636"/>
                  </a:lnTo>
                  <a:lnTo>
                    <a:pt x="2679" y="629"/>
                  </a:lnTo>
                  <a:lnTo>
                    <a:pt x="2686" y="622"/>
                  </a:lnTo>
                  <a:lnTo>
                    <a:pt x="2692" y="622"/>
                  </a:lnTo>
                  <a:lnTo>
                    <a:pt x="2699" y="615"/>
                  </a:lnTo>
                  <a:lnTo>
                    <a:pt x="2706" y="615"/>
                  </a:lnTo>
                  <a:lnTo>
                    <a:pt x="2713" y="608"/>
                  </a:lnTo>
                  <a:lnTo>
                    <a:pt x="2720" y="608"/>
                  </a:lnTo>
                  <a:lnTo>
                    <a:pt x="2727" y="608"/>
                  </a:lnTo>
                  <a:lnTo>
                    <a:pt x="2734" y="608"/>
                  </a:lnTo>
                  <a:lnTo>
                    <a:pt x="2741" y="601"/>
                  </a:lnTo>
                  <a:lnTo>
                    <a:pt x="2747" y="601"/>
                  </a:lnTo>
                  <a:lnTo>
                    <a:pt x="2754" y="595"/>
                  </a:lnTo>
                  <a:lnTo>
                    <a:pt x="2761" y="595"/>
                  </a:lnTo>
                  <a:lnTo>
                    <a:pt x="2768" y="595"/>
                  </a:lnTo>
                  <a:lnTo>
                    <a:pt x="2775" y="588"/>
                  </a:lnTo>
                  <a:lnTo>
                    <a:pt x="2782" y="581"/>
                  </a:lnTo>
                  <a:lnTo>
                    <a:pt x="2789" y="581"/>
                  </a:lnTo>
                  <a:lnTo>
                    <a:pt x="2796" y="574"/>
                  </a:lnTo>
                  <a:lnTo>
                    <a:pt x="2802" y="574"/>
                  </a:lnTo>
                  <a:lnTo>
                    <a:pt x="2809" y="567"/>
                  </a:lnTo>
                  <a:lnTo>
                    <a:pt x="2816" y="560"/>
                  </a:lnTo>
                  <a:lnTo>
                    <a:pt x="2823" y="553"/>
                  </a:lnTo>
                  <a:lnTo>
                    <a:pt x="2830" y="546"/>
                  </a:lnTo>
                  <a:lnTo>
                    <a:pt x="2837" y="546"/>
                  </a:lnTo>
                  <a:lnTo>
                    <a:pt x="2844" y="539"/>
                  </a:lnTo>
                  <a:lnTo>
                    <a:pt x="2850" y="532"/>
                  </a:lnTo>
                  <a:lnTo>
                    <a:pt x="2857" y="525"/>
                  </a:lnTo>
                  <a:lnTo>
                    <a:pt x="2857" y="519"/>
                  </a:lnTo>
                  <a:lnTo>
                    <a:pt x="2864" y="512"/>
                  </a:lnTo>
                  <a:lnTo>
                    <a:pt x="2871" y="512"/>
                  </a:lnTo>
                  <a:lnTo>
                    <a:pt x="2878" y="498"/>
                  </a:lnTo>
                  <a:lnTo>
                    <a:pt x="2885" y="491"/>
                  </a:lnTo>
                  <a:lnTo>
                    <a:pt x="2885" y="484"/>
                  </a:lnTo>
                  <a:lnTo>
                    <a:pt x="2885" y="477"/>
                  </a:lnTo>
                  <a:lnTo>
                    <a:pt x="2892" y="470"/>
                  </a:lnTo>
                  <a:lnTo>
                    <a:pt x="2899" y="463"/>
                  </a:lnTo>
                  <a:lnTo>
                    <a:pt x="2905" y="449"/>
                  </a:lnTo>
                  <a:lnTo>
                    <a:pt x="2912" y="436"/>
                  </a:lnTo>
                  <a:lnTo>
                    <a:pt x="2919" y="422"/>
                  </a:lnTo>
                  <a:lnTo>
                    <a:pt x="2919" y="415"/>
                  </a:lnTo>
                  <a:lnTo>
                    <a:pt x="2926" y="408"/>
                  </a:lnTo>
                  <a:lnTo>
                    <a:pt x="2933" y="401"/>
                  </a:lnTo>
                  <a:lnTo>
                    <a:pt x="2933" y="394"/>
                  </a:lnTo>
                  <a:lnTo>
                    <a:pt x="2933" y="373"/>
                  </a:lnTo>
                  <a:lnTo>
                    <a:pt x="2940" y="367"/>
                  </a:lnTo>
                  <a:lnTo>
                    <a:pt x="2947" y="360"/>
                  </a:lnTo>
                  <a:lnTo>
                    <a:pt x="2947" y="339"/>
                  </a:lnTo>
                  <a:lnTo>
                    <a:pt x="2954" y="325"/>
                  </a:lnTo>
                  <a:lnTo>
                    <a:pt x="2954" y="311"/>
                  </a:lnTo>
                  <a:lnTo>
                    <a:pt x="2954" y="297"/>
                  </a:lnTo>
                  <a:lnTo>
                    <a:pt x="2960" y="291"/>
                  </a:lnTo>
                  <a:lnTo>
                    <a:pt x="2960" y="222"/>
                  </a:lnTo>
                  <a:lnTo>
                    <a:pt x="2967" y="132"/>
                  </a:lnTo>
                  <a:lnTo>
                    <a:pt x="2967" y="104"/>
                  </a:lnTo>
                  <a:lnTo>
                    <a:pt x="2974" y="35"/>
                  </a:lnTo>
                  <a:lnTo>
                    <a:pt x="2974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09760" y="1973160"/>
              <a:ext cx="4721400" cy="3564000"/>
            </a:xfrm>
            <a:custGeom>
              <a:avLst/>
              <a:gdLst/>
              <a:ahLst/>
              <a:rect l="l" t="t" r="r" b="b"/>
              <a:pathLst>
                <a:path w="2974" h="2245">
                  <a:moveTo>
                    <a:pt x="0" y="2245"/>
                  </a:moveTo>
                  <a:lnTo>
                    <a:pt x="6" y="2169"/>
                  </a:lnTo>
                  <a:lnTo>
                    <a:pt x="6" y="2120"/>
                  </a:lnTo>
                  <a:lnTo>
                    <a:pt x="13" y="2093"/>
                  </a:lnTo>
                  <a:lnTo>
                    <a:pt x="13" y="2058"/>
                  </a:lnTo>
                  <a:lnTo>
                    <a:pt x="20" y="1989"/>
                  </a:lnTo>
                  <a:lnTo>
                    <a:pt x="20" y="1961"/>
                  </a:lnTo>
                  <a:lnTo>
                    <a:pt x="20" y="1934"/>
                  </a:lnTo>
                  <a:lnTo>
                    <a:pt x="27" y="1934"/>
                  </a:lnTo>
                  <a:lnTo>
                    <a:pt x="34" y="1858"/>
                  </a:lnTo>
                  <a:lnTo>
                    <a:pt x="41" y="1851"/>
                  </a:lnTo>
                  <a:lnTo>
                    <a:pt x="41" y="1844"/>
                  </a:lnTo>
                  <a:lnTo>
                    <a:pt x="41" y="1837"/>
                  </a:lnTo>
                  <a:lnTo>
                    <a:pt x="48" y="1809"/>
                  </a:lnTo>
                  <a:lnTo>
                    <a:pt x="48" y="1803"/>
                  </a:lnTo>
                  <a:lnTo>
                    <a:pt x="55" y="1796"/>
                  </a:lnTo>
                  <a:lnTo>
                    <a:pt x="55" y="1782"/>
                  </a:lnTo>
                  <a:lnTo>
                    <a:pt x="61" y="1782"/>
                  </a:lnTo>
                  <a:lnTo>
                    <a:pt x="61" y="1768"/>
                  </a:lnTo>
                  <a:lnTo>
                    <a:pt x="68" y="1761"/>
                  </a:lnTo>
                  <a:lnTo>
                    <a:pt x="68" y="1754"/>
                  </a:lnTo>
                  <a:lnTo>
                    <a:pt x="75" y="1734"/>
                  </a:lnTo>
                  <a:lnTo>
                    <a:pt x="75" y="1720"/>
                  </a:lnTo>
                  <a:lnTo>
                    <a:pt x="82" y="1706"/>
                  </a:lnTo>
                  <a:lnTo>
                    <a:pt x="89" y="1706"/>
                  </a:lnTo>
                  <a:lnTo>
                    <a:pt x="89" y="1692"/>
                  </a:lnTo>
                  <a:lnTo>
                    <a:pt x="96" y="1685"/>
                  </a:lnTo>
                  <a:lnTo>
                    <a:pt x="103" y="1678"/>
                  </a:lnTo>
                  <a:lnTo>
                    <a:pt x="103" y="1664"/>
                  </a:lnTo>
                  <a:lnTo>
                    <a:pt x="110" y="1658"/>
                  </a:lnTo>
                  <a:lnTo>
                    <a:pt x="116" y="1651"/>
                  </a:lnTo>
                  <a:lnTo>
                    <a:pt x="123" y="1644"/>
                  </a:lnTo>
                  <a:lnTo>
                    <a:pt x="130" y="1637"/>
                  </a:lnTo>
                  <a:lnTo>
                    <a:pt x="137" y="1630"/>
                  </a:lnTo>
                  <a:lnTo>
                    <a:pt x="144" y="1623"/>
                  </a:lnTo>
                  <a:lnTo>
                    <a:pt x="151" y="1616"/>
                  </a:lnTo>
                  <a:lnTo>
                    <a:pt x="158" y="1609"/>
                  </a:lnTo>
                  <a:lnTo>
                    <a:pt x="158" y="1595"/>
                  </a:lnTo>
                  <a:lnTo>
                    <a:pt x="164" y="1588"/>
                  </a:lnTo>
                  <a:lnTo>
                    <a:pt x="171" y="1582"/>
                  </a:lnTo>
                  <a:lnTo>
                    <a:pt x="171" y="1575"/>
                  </a:lnTo>
                  <a:lnTo>
                    <a:pt x="178" y="1568"/>
                  </a:lnTo>
                  <a:lnTo>
                    <a:pt x="185" y="1561"/>
                  </a:lnTo>
                  <a:lnTo>
                    <a:pt x="192" y="1561"/>
                  </a:lnTo>
                  <a:lnTo>
                    <a:pt x="199" y="1554"/>
                  </a:lnTo>
                  <a:lnTo>
                    <a:pt x="206" y="1554"/>
                  </a:lnTo>
                  <a:lnTo>
                    <a:pt x="213" y="1547"/>
                  </a:lnTo>
                  <a:lnTo>
                    <a:pt x="219" y="1540"/>
                  </a:lnTo>
                  <a:lnTo>
                    <a:pt x="226" y="1533"/>
                  </a:lnTo>
                  <a:lnTo>
                    <a:pt x="226" y="1526"/>
                  </a:lnTo>
                  <a:lnTo>
                    <a:pt x="233" y="1519"/>
                  </a:lnTo>
                  <a:lnTo>
                    <a:pt x="240" y="1519"/>
                  </a:lnTo>
                  <a:lnTo>
                    <a:pt x="247" y="1512"/>
                  </a:lnTo>
                  <a:lnTo>
                    <a:pt x="254" y="1506"/>
                  </a:lnTo>
                  <a:lnTo>
                    <a:pt x="261" y="1499"/>
                  </a:lnTo>
                  <a:lnTo>
                    <a:pt x="268" y="1499"/>
                  </a:lnTo>
                  <a:lnTo>
                    <a:pt x="274" y="1492"/>
                  </a:lnTo>
                  <a:lnTo>
                    <a:pt x="281" y="1485"/>
                  </a:lnTo>
                  <a:lnTo>
                    <a:pt x="288" y="1478"/>
                  </a:lnTo>
                  <a:lnTo>
                    <a:pt x="295" y="1471"/>
                  </a:lnTo>
                  <a:lnTo>
                    <a:pt x="302" y="1471"/>
                  </a:lnTo>
                  <a:lnTo>
                    <a:pt x="309" y="1464"/>
                  </a:lnTo>
                  <a:lnTo>
                    <a:pt x="316" y="1464"/>
                  </a:lnTo>
                  <a:lnTo>
                    <a:pt x="322" y="1457"/>
                  </a:lnTo>
                  <a:lnTo>
                    <a:pt x="329" y="1450"/>
                  </a:lnTo>
                  <a:lnTo>
                    <a:pt x="336" y="1443"/>
                  </a:lnTo>
                  <a:lnTo>
                    <a:pt x="343" y="1443"/>
                  </a:lnTo>
                  <a:lnTo>
                    <a:pt x="350" y="1436"/>
                  </a:lnTo>
                  <a:lnTo>
                    <a:pt x="357" y="1430"/>
                  </a:lnTo>
                  <a:lnTo>
                    <a:pt x="364" y="1423"/>
                  </a:lnTo>
                  <a:lnTo>
                    <a:pt x="371" y="1416"/>
                  </a:lnTo>
                  <a:lnTo>
                    <a:pt x="377" y="1409"/>
                  </a:lnTo>
                  <a:lnTo>
                    <a:pt x="384" y="1409"/>
                  </a:lnTo>
                  <a:lnTo>
                    <a:pt x="391" y="1409"/>
                  </a:lnTo>
                  <a:lnTo>
                    <a:pt x="398" y="1402"/>
                  </a:lnTo>
                  <a:lnTo>
                    <a:pt x="405" y="1402"/>
                  </a:lnTo>
                  <a:lnTo>
                    <a:pt x="412" y="1395"/>
                  </a:lnTo>
                  <a:lnTo>
                    <a:pt x="419" y="1395"/>
                  </a:lnTo>
                  <a:lnTo>
                    <a:pt x="426" y="1395"/>
                  </a:lnTo>
                  <a:lnTo>
                    <a:pt x="432" y="1395"/>
                  </a:lnTo>
                  <a:lnTo>
                    <a:pt x="439" y="1388"/>
                  </a:lnTo>
                  <a:lnTo>
                    <a:pt x="446" y="1381"/>
                  </a:lnTo>
                  <a:lnTo>
                    <a:pt x="453" y="1374"/>
                  </a:lnTo>
                  <a:lnTo>
                    <a:pt x="460" y="1374"/>
                  </a:lnTo>
                  <a:lnTo>
                    <a:pt x="467" y="1374"/>
                  </a:lnTo>
                  <a:lnTo>
                    <a:pt x="474" y="1367"/>
                  </a:lnTo>
                  <a:lnTo>
                    <a:pt x="480" y="1367"/>
                  </a:lnTo>
                  <a:lnTo>
                    <a:pt x="487" y="1367"/>
                  </a:lnTo>
                  <a:lnTo>
                    <a:pt x="494" y="1360"/>
                  </a:lnTo>
                  <a:lnTo>
                    <a:pt x="501" y="1360"/>
                  </a:lnTo>
                  <a:lnTo>
                    <a:pt x="508" y="1354"/>
                  </a:lnTo>
                  <a:lnTo>
                    <a:pt x="515" y="1354"/>
                  </a:lnTo>
                  <a:lnTo>
                    <a:pt x="522" y="1354"/>
                  </a:lnTo>
                  <a:lnTo>
                    <a:pt x="529" y="1347"/>
                  </a:lnTo>
                  <a:lnTo>
                    <a:pt x="535" y="1347"/>
                  </a:lnTo>
                  <a:lnTo>
                    <a:pt x="542" y="1340"/>
                  </a:lnTo>
                  <a:lnTo>
                    <a:pt x="549" y="1333"/>
                  </a:lnTo>
                  <a:lnTo>
                    <a:pt x="556" y="1333"/>
                  </a:lnTo>
                  <a:lnTo>
                    <a:pt x="563" y="1326"/>
                  </a:lnTo>
                  <a:lnTo>
                    <a:pt x="570" y="1319"/>
                  </a:lnTo>
                  <a:lnTo>
                    <a:pt x="577" y="1319"/>
                  </a:lnTo>
                  <a:lnTo>
                    <a:pt x="584" y="1319"/>
                  </a:lnTo>
                  <a:lnTo>
                    <a:pt x="590" y="1312"/>
                  </a:lnTo>
                  <a:lnTo>
                    <a:pt x="597" y="1312"/>
                  </a:lnTo>
                  <a:lnTo>
                    <a:pt x="604" y="1312"/>
                  </a:lnTo>
                  <a:lnTo>
                    <a:pt x="611" y="1312"/>
                  </a:lnTo>
                  <a:lnTo>
                    <a:pt x="618" y="1305"/>
                  </a:lnTo>
                  <a:lnTo>
                    <a:pt x="625" y="1298"/>
                  </a:lnTo>
                  <a:lnTo>
                    <a:pt x="632" y="1298"/>
                  </a:lnTo>
                  <a:lnTo>
                    <a:pt x="638" y="1298"/>
                  </a:lnTo>
                  <a:lnTo>
                    <a:pt x="645" y="1291"/>
                  </a:lnTo>
                  <a:lnTo>
                    <a:pt x="652" y="1291"/>
                  </a:lnTo>
                  <a:lnTo>
                    <a:pt x="659" y="1291"/>
                  </a:lnTo>
                  <a:lnTo>
                    <a:pt x="666" y="1284"/>
                  </a:lnTo>
                  <a:lnTo>
                    <a:pt x="673" y="1284"/>
                  </a:lnTo>
                  <a:lnTo>
                    <a:pt x="680" y="1284"/>
                  </a:lnTo>
                  <a:lnTo>
                    <a:pt x="687" y="1278"/>
                  </a:lnTo>
                  <a:lnTo>
                    <a:pt x="693" y="1278"/>
                  </a:lnTo>
                  <a:lnTo>
                    <a:pt x="700" y="1271"/>
                  </a:lnTo>
                  <a:lnTo>
                    <a:pt x="707" y="1271"/>
                  </a:lnTo>
                  <a:lnTo>
                    <a:pt x="714" y="1271"/>
                  </a:lnTo>
                  <a:lnTo>
                    <a:pt x="721" y="1271"/>
                  </a:lnTo>
                  <a:lnTo>
                    <a:pt x="728" y="1264"/>
                  </a:lnTo>
                  <a:lnTo>
                    <a:pt x="735" y="1264"/>
                  </a:lnTo>
                  <a:lnTo>
                    <a:pt x="742" y="1257"/>
                  </a:lnTo>
                  <a:lnTo>
                    <a:pt x="748" y="1257"/>
                  </a:lnTo>
                  <a:lnTo>
                    <a:pt x="755" y="1250"/>
                  </a:lnTo>
                  <a:lnTo>
                    <a:pt x="762" y="1250"/>
                  </a:lnTo>
                  <a:lnTo>
                    <a:pt x="769" y="1250"/>
                  </a:lnTo>
                  <a:lnTo>
                    <a:pt x="776" y="1243"/>
                  </a:lnTo>
                  <a:lnTo>
                    <a:pt x="783" y="1243"/>
                  </a:lnTo>
                  <a:lnTo>
                    <a:pt x="790" y="1243"/>
                  </a:lnTo>
                  <a:lnTo>
                    <a:pt x="796" y="1236"/>
                  </a:lnTo>
                  <a:lnTo>
                    <a:pt x="803" y="1236"/>
                  </a:lnTo>
                  <a:lnTo>
                    <a:pt x="810" y="1236"/>
                  </a:lnTo>
                  <a:lnTo>
                    <a:pt x="817" y="1229"/>
                  </a:lnTo>
                  <a:lnTo>
                    <a:pt x="824" y="1222"/>
                  </a:lnTo>
                  <a:lnTo>
                    <a:pt x="831" y="1222"/>
                  </a:lnTo>
                  <a:lnTo>
                    <a:pt x="838" y="1222"/>
                  </a:lnTo>
                  <a:lnTo>
                    <a:pt x="845" y="1215"/>
                  </a:lnTo>
                  <a:lnTo>
                    <a:pt x="851" y="1215"/>
                  </a:lnTo>
                  <a:lnTo>
                    <a:pt x="858" y="1208"/>
                  </a:lnTo>
                  <a:lnTo>
                    <a:pt x="865" y="1208"/>
                  </a:lnTo>
                  <a:lnTo>
                    <a:pt x="872" y="1202"/>
                  </a:lnTo>
                  <a:lnTo>
                    <a:pt x="879" y="1202"/>
                  </a:lnTo>
                  <a:lnTo>
                    <a:pt x="886" y="1202"/>
                  </a:lnTo>
                  <a:lnTo>
                    <a:pt x="893" y="1202"/>
                  </a:lnTo>
                  <a:lnTo>
                    <a:pt x="900" y="1195"/>
                  </a:lnTo>
                  <a:lnTo>
                    <a:pt x="906" y="1195"/>
                  </a:lnTo>
                  <a:lnTo>
                    <a:pt x="913" y="1195"/>
                  </a:lnTo>
                  <a:lnTo>
                    <a:pt x="920" y="1195"/>
                  </a:lnTo>
                  <a:lnTo>
                    <a:pt x="927" y="1188"/>
                  </a:lnTo>
                  <a:lnTo>
                    <a:pt x="934" y="1188"/>
                  </a:lnTo>
                  <a:lnTo>
                    <a:pt x="941" y="1181"/>
                  </a:lnTo>
                  <a:lnTo>
                    <a:pt x="948" y="1181"/>
                  </a:lnTo>
                  <a:lnTo>
                    <a:pt x="954" y="1181"/>
                  </a:lnTo>
                  <a:lnTo>
                    <a:pt x="961" y="1181"/>
                  </a:lnTo>
                  <a:lnTo>
                    <a:pt x="968" y="1181"/>
                  </a:lnTo>
                  <a:lnTo>
                    <a:pt x="975" y="1174"/>
                  </a:lnTo>
                  <a:lnTo>
                    <a:pt x="982" y="1174"/>
                  </a:lnTo>
                  <a:lnTo>
                    <a:pt x="989" y="1174"/>
                  </a:lnTo>
                  <a:lnTo>
                    <a:pt x="996" y="1174"/>
                  </a:lnTo>
                  <a:lnTo>
                    <a:pt x="1003" y="1174"/>
                  </a:lnTo>
                  <a:lnTo>
                    <a:pt x="1009" y="1167"/>
                  </a:lnTo>
                  <a:lnTo>
                    <a:pt x="1016" y="1167"/>
                  </a:lnTo>
                  <a:lnTo>
                    <a:pt x="1023" y="1167"/>
                  </a:lnTo>
                  <a:lnTo>
                    <a:pt x="1030" y="1160"/>
                  </a:lnTo>
                  <a:lnTo>
                    <a:pt x="1037" y="1160"/>
                  </a:lnTo>
                  <a:lnTo>
                    <a:pt x="1044" y="1160"/>
                  </a:lnTo>
                  <a:lnTo>
                    <a:pt x="1051" y="1160"/>
                  </a:lnTo>
                  <a:lnTo>
                    <a:pt x="1058" y="1160"/>
                  </a:lnTo>
                  <a:lnTo>
                    <a:pt x="1064" y="1153"/>
                  </a:lnTo>
                  <a:lnTo>
                    <a:pt x="1071" y="1153"/>
                  </a:lnTo>
                  <a:lnTo>
                    <a:pt x="1078" y="1153"/>
                  </a:lnTo>
                  <a:lnTo>
                    <a:pt x="1085" y="1153"/>
                  </a:lnTo>
                  <a:lnTo>
                    <a:pt x="1092" y="1153"/>
                  </a:lnTo>
                  <a:lnTo>
                    <a:pt x="1099" y="1146"/>
                  </a:lnTo>
                  <a:lnTo>
                    <a:pt x="1106" y="1146"/>
                  </a:lnTo>
                  <a:lnTo>
                    <a:pt x="1112" y="1146"/>
                  </a:lnTo>
                  <a:lnTo>
                    <a:pt x="1119" y="1146"/>
                  </a:lnTo>
                  <a:lnTo>
                    <a:pt x="1126" y="1146"/>
                  </a:lnTo>
                  <a:lnTo>
                    <a:pt x="1133" y="1139"/>
                  </a:lnTo>
                  <a:lnTo>
                    <a:pt x="1140" y="1139"/>
                  </a:lnTo>
                  <a:lnTo>
                    <a:pt x="1147" y="1139"/>
                  </a:lnTo>
                  <a:lnTo>
                    <a:pt x="1154" y="1139"/>
                  </a:lnTo>
                  <a:lnTo>
                    <a:pt x="1161" y="1133"/>
                  </a:lnTo>
                  <a:lnTo>
                    <a:pt x="1167" y="1133"/>
                  </a:lnTo>
                  <a:lnTo>
                    <a:pt x="1174" y="1133"/>
                  </a:lnTo>
                  <a:lnTo>
                    <a:pt x="1181" y="1133"/>
                  </a:lnTo>
                  <a:lnTo>
                    <a:pt x="1188" y="1126"/>
                  </a:lnTo>
                  <a:lnTo>
                    <a:pt x="1195" y="1126"/>
                  </a:lnTo>
                  <a:lnTo>
                    <a:pt x="1202" y="1126"/>
                  </a:lnTo>
                  <a:lnTo>
                    <a:pt x="1209" y="1119"/>
                  </a:lnTo>
                  <a:lnTo>
                    <a:pt x="1216" y="1119"/>
                  </a:lnTo>
                  <a:lnTo>
                    <a:pt x="1222" y="1119"/>
                  </a:lnTo>
                  <a:lnTo>
                    <a:pt x="1229" y="1112"/>
                  </a:lnTo>
                  <a:lnTo>
                    <a:pt x="1236" y="1112"/>
                  </a:lnTo>
                  <a:lnTo>
                    <a:pt x="1243" y="1112"/>
                  </a:lnTo>
                  <a:lnTo>
                    <a:pt x="1250" y="1112"/>
                  </a:lnTo>
                  <a:lnTo>
                    <a:pt x="1257" y="1112"/>
                  </a:lnTo>
                  <a:lnTo>
                    <a:pt x="1264" y="1105"/>
                  </a:lnTo>
                  <a:lnTo>
                    <a:pt x="1270" y="1105"/>
                  </a:lnTo>
                  <a:lnTo>
                    <a:pt x="1277" y="1105"/>
                  </a:lnTo>
                  <a:lnTo>
                    <a:pt x="1284" y="1105"/>
                  </a:lnTo>
                  <a:lnTo>
                    <a:pt x="1291" y="1105"/>
                  </a:lnTo>
                  <a:lnTo>
                    <a:pt x="1298" y="1098"/>
                  </a:lnTo>
                  <a:lnTo>
                    <a:pt x="1305" y="1098"/>
                  </a:lnTo>
                  <a:lnTo>
                    <a:pt x="1312" y="1098"/>
                  </a:lnTo>
                  <a:lnTo>
                    <a:pt x="1319" y="1091"/>
                  </a:lnTo>
                  <a:lnTo>
                    <a:pt x="1325" y="1091"/>
                  </a:lnTo>
                  <a:lnTo>
                    <a:pt x="1332" y="1091"/>
                  </a:lnTo>
                  <a:lnTo>
                    <a:pt x="1339" y="1091"/>
                  </a:lnTo>
                  <a:lnTo>
                    <a:pt x="1346" y="1091"/>
                  </a:lnTo>
                  <a:lnTo>
                    <a:pt x="1353" y="1084"/>
                  </a:lnTo>
                  <a:lnTo>
                    <a:pt x="1360" y="1084"/>
                  </a:lnTo>
                  <a:lnTo>
                    <a:pt x="1367" y="1084"/>
                  </a:lnTo>
                  <a:lnTo>
                    <a:pt x="1374" y="1084"/>
                  </a:lnTo>
                  <a:lnTo>
                    <a:pt x="1380" y="1077"/>
                  </a:lnTo>
                  <a:lnTo>
                    <a:pt x="1387" y="1077"/>
                  </a:lnTo>
                  <a:lnTo>
                    <a:pt x="1394" y="1077"/>
                  </a:lnTo>
                  <a:lnTo>
                    <a:pt x="1401" y="1070"/>
                  </a:lnTo>
                  <a:lnTo>
                    <a:pt x="1408" y="1070"/>
                  </a:lnTo>
                  <a:lnTo>
                    <a:pt x="1415" y="1070"/>
                  </a:lnTo>
                  <a:lnTo>
                    <a:pt x="1422" y="1063"/>
                  </a:lnTo>
                  <a:lnTo>
                    <a:pt x="1428" y="1063"/>
                  </a:lnTo>
                  <a:lnTo>
                    <a:pt x="1435" y="1063"/>
                  </a:lnTo>
                  <a:lnTo>
                    <a:pt x="1442" y="1063"/>
                  </a:lnTo>
                  <a:lnTo>
                    <a:pt x="1449" y="1063"/>
                  </a:lnTo>
                  <a:lnTo>
                    <a:pt x="1456" y="1057"/>
                  </a:lnTo>
                  <a:lnTo>
                    <a:pt x="1463" y="1057"/>
                  </a:lnTo>
                  <a:lnTo>
                    <a:pt x="1470" y="1057"/>
                  </a:lnTo>
                  <a:lnTo>
                    <a:pt x="1477" y="1057"/>
                  </a:lnTo>
                  <a:lnTo>
                    <a:pt x="1483" y="1057"/>
                  </a:lnTo>
                  <a:lnTo>
                    <a:pt x="1490" y="1050"/>
                  </a:lnTo>
                  <a:lnTo>
                    <a:pt x="1497" y="1050"/>
                  </a:lnTo>
                  <a:lnTo>
                    <a:pt x="1504" y="1050"/>
                  </a:lnTo>
                  <a:lnTo>
                    <a:pt x="1511" y="1050"/>
                  </a:lnTo>
                  <a:lnTo>
                    <a:pt x="1518" y="1050"/>
                  </a:lnTo>
                  <a:lnTo>
                    <a:pt x="1525" y="1043"/>
                  </a:lnTo>
                  <a:lnTo>
                    <a:pt x="1532" y="1043"/>
                  </a:lnTo>
                  <a:lnTo>
                    <a:pt x="1538" y="1043"/>
                  </a:lnTo>
                  <a:lnTo>
                    <a:pt x="1545" y="1043"/>
                  </a:lnTo>
                  <a:lnTo>
                    <a:pt x="1552" y="1043"/>
                  </a:lnTo>
                  <a:lnTo>
                    <a:pt x="1559" y="1036"/>
                  </a:lnTo>
                  <a:lnTo>
                    <a:pt x="1566" y="1036"/>
                  </a:lnTo>
                  <a:lnTo>
                    <a:pt x="1573" y="1036"/>
                  </a:lnTo>
                  <a:lnTo>
                    <a:pt x="1580" y="1036"/>
                  </a:lnTo>
                  <a:lnTo>
                    <a:pt x="1586" y="1036"/>
                  </a:lnTo>
                  <a:lnTo>
                    <a:pt x="1593" y="1029"/>
                  </a:lnTo>
                  <a:lnTo>
                    <a:pt x="1600" y="1029"/>
                  </a:lnTo>
                  <a:lnTo>
                    <a:pt x="1607" y="1029"/>
                  </a:lnTo>
                  <a:lnTo>
                    <a:pt x="1614" y="1029"/>
                  </a:lnTo>
                  <a:lnTo>
                    <a:pt x="1621" y="1022"/>
                  </a:lnTo>
                  <a:lnTo>
                    <a:pt x="1628" y="1022"/>
                  </a:lnTo>
                  <a:lnTo>
                    <a:pt x="1635" y="1022"/>
                  </a:lnTo>
                  <a:lnTo>
                    <a:pt x="1641" y="1022"/>
                  </a:lnTo>
                  <a:lnTo>
                    <a:pt x="1648" y="1022"/>
                  </a:lnTo>
                  <a:lnTo>
                    <a:pt x="1655" y="1015"/>
                  </a:lnTo>
                  <a:lnTo>
                    <a:pt x="1662" y="1015"/>
                  </a:lnTo>
                  <a:lnTo>
                    <a:pt x="1669" y="1015"/>
                  </a:lnTo>
                  <a:lnTo>
                    <a:pt x="1676" y="1015"/>
                  </a:lnTo>
                  <a:lnTo>
                    <a:pt x="1683" y="1015"/>
                  </a:lnTo>
                  <a:lnTo>
                    <a:pt x="1690" y="1008"/>
                  </a:lnTo>
                  <a:lnTo>
                    <a:pt x="1696" y="1008"/>
                  </a:lnTo>
                  <a:lnTo>
                    <a:pt x="1703" y="1008"/>
                  </a:lnTo>
                  <a:lnTo>
                    <a:pt x="1710" y="1008"/>
                  </a:lnTo>
                  <a:lnTo>
                    <a:pt x="1717" y="1008"/>
                  </a:lnTo>
                  <a:lnTo>
                    <a:pt x="1724" y="1008"/>
                  </a:lnTo>
                  <a:lnTo>
                    <a:pt x="1731" y="1001"/>
                  </a:lnTo>
                  <a:lnTo>
                    <a:pt x="1738" y="1001"/>
                  </a:lnTo>
                  <a:lnTo>
                    <a:pt x="1744" y="1001"/>
                  </a:lnTo>
                  <a:lnTo>
                    <a:pt x="1751" y="1001"/>
                  </a:lnTo>
                  <a:lnTo>
                    <a:pt x="1758" y="1001"/>
                  </a:lnTo>
                  <a:lnTo>
                    <a:pt x="1765" y="1001"/>
                  </a:lnTo>
                  <a:lnTo>
                    <a:pt x="1772" y="994"/>
                  </a:lnTo>
                  <a:lnTo>
                    <a:pt x="1779" y="994"/>
                  </a:lnTo>
                  <a:lnTo>
                    <a:pt x="1786" y="994"/>
                  </a:lnTo>
                  <a:lnTo>
                    <a:pt x="1793" y="987"/>
                  </a:lnTo>
                  <a:lnTo>
                    <a:pt x="1799" y="987"/>
                  </a:lnTo>
                  <a:lnTo>
                    <a:pt x="1806" y="987"/>
                  </a:lnTo>
                  <a:lnTo>
                    <a:pt x="1813" y="987"/>
                  </a:lnTo>
                  <a:lnTo>
                    <a:pt x="1820" y="981"/>
                  </a:lnTo>
                  <a:lnTo>
                    <a:pt x="1827" y="981"/>
                  </a:lnTo>
                  <a:lnTo>
                    <a:pt x="1834" y="981"/>
                  </a:lnTo>
                  <a:lnTo>
                    <a:pt x="1841" y="974"/>
                  </a:lnTo>
                  <a:lnTo>
                    <a:pt x="1848" y="974"/>
                  </a:lnTo>
                  <a:lnTo>
                    <a:pt x="1854" y="974"/>
                  </a:lnTo>
                  <a:lnTo>
                    <a:pt x="1861" y="974"/>
                  </a:lnTo>
                  <a:lnTo>
                    <a:pt x="1868" y="967"/>
                  </a:lnTo>
                  <a:lnTo>
                    <a:pt x="1875" y="967"/>
                  </a:lnTo>
                  <a:lnTo>
                    <a:pt x="1882" y="967"/>
                  </a:lnTo>
                  <a:lnTo>
                    <a:pt x="1889" y="960"/>
                  </a:lnTo>
                  <a:lnTo>
                    <a:pt x="1896" y="960"/>
                  </a:lnTo>
                  <a:lnTo>
                    <a:pt x="1902" y="953"/>
                  </a:lnTo>
                  <a:lnTo>
                    <a:pt x="1909" y="953"/>
                  </a:lnTo>
                  <a:lnTo>
                    <a:pt x="1916" y="953"/>
                  </a:lnTo>
                  <a:lnTo>
                    <a:pt x="1923" y="953"/>
                  </a:lnTo>
                  <a:lnTo>
                    <a:pt x="1930" y="953"/>
                  </a:lnTo>
                  <a:lnTo>
                    <a:pt x="1937" y="946"/>
                  </a:lnTo>
                  <a:lnTo>
                    <a:pt x="1944" y="946"/>
                  </a:lnTo>
                  <a:lnTo>
                    <a:pt x="1951" y="946"/>
                  </a:lnTo>
                  <a:lnTo>
                    <a:pt x="1957" y="946"/>
                  </a:lnTo>
                  <a:lnTo>
                    <a:pt x="1964" y="946"/>
                  </a:lnTo>
                  <a:lnTo>
                    <a:pt x="1971" y="946"/>
                  </a:lnTo>
                  <a:lnTo>
                    <a:pt x="1978" y="939"/>
                  </a:lnTo>
                  <a:lnTo>
                    <a:pt x="1985" y="939"/>
                  </a:lnTo>
                  <a:lnTo>
                    <a:pt x="1992" y="939"/>
                  </a:lnTo>
                  <a:lnTo>
                    <a:pt x="1999" y="939"/>
                  </a:lnTo>
                  <a:lnTo>
                    <a:pt x="2006" y="932"/>
                  </a:lnTo>
                  <a:lnTo>
                    <a:pt x="2012" y="932"/>
                  </a:lnTo>
                  <a:lnTo>
                    <a:pt x="2019" y="932"/>
                  </a:lnTo>
                  <a:lnTo>
                    <a:pt x="2026" y="925"/>
                  </a:lnTo>
                  <a:lnTo>
                    <a:pt x="2033" y="925"/>
                  </a:lnTo>
                  <a:lnTo>
                    <a:pt x="2040" y="925"/>
                  </a:lnTo>
                  <a:lnTo>
                    <a:pt x="2047" y="925"/>
                  </a:lnTo>
                  <a:lnTo>
                    <a:pt x="2054" y="925"/>
                  </a:lnTo>
                  <a:lnTo>
                    <a:pt x="2060" y="925"/>
                  </a:lnTo>
                  <a:lnTo>
                    <a:pt x="2067" y="925"/>
                  </a:lnTo>
                  <a:lnTo>
                    <a:pt x="2074" y="925"/>
                  </a:lnTo>
                  <a:lnTo>
                    <a:pt x="2081" y="918"/>
                  </a:lnTo>
                  <a:lnTo>
                    <a:pt x="2088" y="918"/>
                  </a:lnTo>
                  <a:lnTo>
                    <a:pt x="2095" y="918"/>
                  </a:lnTo>
                  <a:lnTo>
                    <a:pt x="2102" y="918"/>
                  </a:lnTo>
                  <a:lnTo>
                    <a:pt x="2109" y="918"/>
                  </a:lnTo>
                  <a:lnTo>
                    <a:pt x="2115" y="911"/>
                  </a:lnTo>
                  <a:lnTo>
                    <a:pt x="2122" y="911"/>
                  </a:lnTo>
                  <a:lnTo>
                    <a:pt x="2129" y="911"/>
                  </a:lnTo>
                  <a:lnTo>
                    <a:pt x="2136" y="911"/>
                  </a:lnTo>
                  <a:lnTo>
                    <a:pt x="2143" y="911"/>
                  </a:lnTo>
                  <a:lnTo>
                    <a:pt x="2150" y="911"/>
                  </a:lnTo>
                  <a:lnTo>
                    <a:pt x="2157" y="911"/>
                  </a:lnTo>
                  <a:lnTo>
                    <a:pt x="2164" y="905"/>
                  </a:lnTo>
                  <a:lnTo>
                    <a:pt x="2170" y="905"/>
                  </a:lnTo>
                  <a:lnTo>
                    <a:pt x="2177" y="905"/>
                  </a:lnTo>
                  <a:lnTo>
                    <a:pt x="2184" y="905"/>
                  </a:lnTo>
                  <a:lnTo>
                    <a:pt x="2191" y="898"/>
                  </a:lnTo>
                  <a:lnTo>
                    <a:pt x="2198" y="898"/>
                  </a:lnTo>
                  <a:lnTo>
                    <a:pt x="2205" y="898"/>
                  </a:lnTo>
                  <a:lnTo>
                    <a:pt x="2212" y="898"/>
                  </a:lnTo>
                  <a:lnTo>
                    <a:pt x="2218" y="898"/>
                  </a:lnTo>
                  <a:lnTo>
                    <a:pt x="2225" y="898"/>
                  </a:lnTo>
                  <a:lnTo>
                    <a:pt x="2232" y="898"/>
                  </a:lnTo>
                  <a:lnTo>
                    <a:pt x="2239" y="891"/>
                  </a:lnTo>
                  <a:lnTo>
                    <a:pt x="2246" y="891"/>
                  </a:lnTo>
                  <a:lnTo>
                    <a:pt x="2253" y="891"/>
                  </a:lnTo>
                  <a:lnTo>
                    <a:pt x="2260" y="891"/>
                  </a:lnTo>
                  <a:lnTo>
                    <a:pt x="2267" y="884"/>
                  </a:lnTo>
                  <a:lnTo>
                    <a:pt x="2273" y="884"/>
                  </a:lnTo>
                  <a:lnTo>
                    <a:pt x="2280" y="884"/>
                  </a:lnTo>
                  <a:lnTo>
                    <a:pt x="2287" y="877"/>
                  </a:lnTo>
                  <a:lnTo>
                    <a:pt x="2294" y="877"/>
                  </a:lnTo>
                  <a:lnTo>
                    <a:pt x="2301" y="877"/>
                  </a:lnTo>
                  <a:lnTo>
                    <a:pt x="2308" y="870"/>
                  </a:lnTo>
                  <a:lnTo>
                    <a:pt x="2315" y="870"/>
                  </a:lnTo>
                  <a:lnTo>
                    <a:pt x="2322" y="870"/>
                  </a:lnTo>
                  <a:lnTo>
                    <a:pt x="2328" y="863"/>
                  </a:lnTo>
                  <a:lnTo>
                    <a:pt x="2335" y="863"/>
                  </a:lnTo>
                  <a:lnTo>
                    <a:pt x="2342" y="863"/>
                  </a:lnTo>
                  <a:lnTo>
                    <a:pt x="2349" y="863"/>
                  </a:lnTo>
                  <a:lnTo>
                    <a:pt x="2356" y="856"/>
                  </a:lnTo>
                  <a:lnTo>
                    <a:pt x="2363" y="856"/>
                  </a:lnTo>
                  <a:lnTo>
                    <a:pt x="2370" y="849"/>
                  </a:lnTo>
                  <a:lnTo>
                    <a:pt x="2376" y="849"/>
                  </a:lnTo>
                  <a:lnTo>
                    <a:pt x="2383" y="842"/>
                  </a:lnTo>
                  <a:lnTo>
                    <a:pt x="2390" y="842"/>
                  </a:lnTo>
                  <a:lnTo>
                    <a:pt x="2397" y="842"/>
                  </a:lnTo>
                  <a:lnTo>
                    <a:pt x="2404" y="842"/>
                  </a:lnTo>
                  <a:lnTo>
                    <a:pt x="2411" y="835"/>
                  </a:lnTo>
                  <a:lnTo>
                    <a:pt x="2418" y="835"/>
                  </a:lnTo>
                  <a:lnTo>
                    <a:pt x="2425" y="835"/>
                  </a:lnTo>
                  <a:lnTo>
                    <a:pt x="2431" y="835"/>
                  </a:lnTo>
                  <a:lnTo>
                    <a:pt x="2438" y="829"/>
                  </a:lnTo>
                  <a:lnTo>
                    <a:pt x="2445" y="829"/>
                  </a:lnTo>
                  <a:lnTo>
                    <a:pt x="2452" y="829"/>
                  </a:lnTo>
                  <a:lnTo>
                    <a:pt x="2459" y="829"/>
                  </a:lnTo>
                  <a:lnTo>
                    <a:pt x="2466" y="829"/>
                  </a:lnTo>
                  <a:lnTo>
                    <a:pt x="2473" y="822"/>
                  </a:lnTo>
                  <a:lnTo>
                    <a:pt x="2480" y="822"/>
                  </a:lnTo>
                  <a:lnTo>
                    <a:pt x="2486" y="815"/>
                  </a:lnTo>
                  <a:lnTo>
                    <a:pt x="2493" y="815"/>
                  </a:lnTo>
                  <a:lnTo>
                    <a:pt x="2500" y="815"/>
                  </a:lnTo>
                  <a:lnTo>
                    <a:pt x="2507" y="815"/>
                  </a:lnTo>
                  <a:lnTo>
                    <a:pt x="2514" y="808"/>
                  </a:lnTo>
                  <a:lnTo>
                    <a:pt x="2521" y="808"/>
                  </a:lnTo>
                  <a:lnTo>
                    <a:pt x="2528" y="808"/>
                  </a:lnTo>
                  <a:lnTo>
                    <a:pt x="2534" y="801"/>
                  </a:lnTo>
                  <a:lnTo>
                    <a:pt x="2541" y="801"/>
                  </a:lnTo>
                  <a:lnTo>
                    <a:pt x="2548" y="794"/>
                  </a:lnTo>
                  <a:lnTo>
                    <a:pt x="2555" y="794"/>
                  </a:lnTo>
                  <a:lnTo>
                    <a:pt x="2562" y="794"/>
                  </a:lnTo>
                  <a:lnTo>
                    <a:pt x="2569" y="787"/>
                  </a:lnTo>
                  <a:lnTo>
                    <a:pt x="2576" y="780"/>
                  </a:lnTo>
                  <a:lnTo>
                    <a:pt x="2583" y="780"/>
                  </a:lnTo>
                  <a:lnTo>
                    <a:pt x="2589" y="780"/>
                  </a:lnTo>
                  <a:lnTo>
                    <a:pt x="2596" y="780"/>
                  </a:lnTo>
                  <a:lnTo>
                    <a:pt x="2603" y="773"/>
                  </a:lnTo>
                  <a:lnTo>
                    <a:pt x="2610" y="773"/>
                  </a:lnTo>
                  <a:lnTo>
                    <a:pt x="2617" y="766"/>
                  </a:lnTo>
                  <a:lnTo>
                    <a:pt x="2624" y="766"/>
                  </a:lnTo>
                  <a:lnTo>
                    <a:pt x="2631" y="766"/>
                  </a:lnTo>
                  <a:lnTo>
                    <a:pt x="2638" y="766"/>
                  </a:lnTo>
                  <a:lnTo>
                    <a:pt x="2644" y="759"/>
                  </a:lnTo>
                  <a:lnTo>
                    <a:pt x="2651" y="759"/>
                  </a:lnTo>
                  <a:lnTo>
                    <a:pt x="2658" y="759"/>
                  </a:lnTo>
                  <a:lnTo>
                    <a:pt x="2665" y="753"/>
                  </a:lnTo>
                  <a:lnTo>
                    <a:pt x="2672" y="753"/>
                  </a:lnTo>
                  <a:lnTo>
                    <a:pt x="2679" y="753"/>
                  </a:lnTo>
                  <a:lnTo>
                    <a:pt x="2686" y="746"/>
                  </a:lnTo>
                  <a:lnTo>
                    <a:pt x="2692" y="746"/>
                  </a:lnTo>
                  <a:lnTo>
                    <a:pt x="2699" y="746"/>
                  </a:lnTo>
                  <a:lnTo>
                    <a:pt x="2706" y="739"/>
                  </a:lnTo>
                  <a:lnTo>
                    <a:pt x="2713" y="732"/>
                  </a:lnTo>
                  <a:lnTo>
                    <a:pt x="2720" y="732"/>
                  </a:lnTo>
                  <a:lnTo>
                    <a:pt x="2727" y="725"/>
                  </a:lnTo>
                  <a:lnTo>
                    <a:pt x="2734" y="725"/>
                  </a:lnTo>
                  <a:lnTo>
                    <a:pt x="2741" y="718"/>
                  </a:lnTo>
                  <a:lnTo>
                    <a:pt x="2747" y="718"/>
                  </a:lnTo>
                  <a:lnTo>
                    <a:pt x="2754" y="711"/>
                  </a:lnTo>
                  <a:lnTo>
                    <a:pt x="2761" y="711"/>
                  </a:lnTo>
                  <a:lnTo>
                    <a:pt x="2768" y="704"/>
                  </a:lnTo>
                  <a:lnTo>
                    <a:pt x="2775" y="697"/>
                  </a:lnTo>
                  <a:lnTo>
                    <a:pt x="2782" y="690"/>
                  </a:lnTo>
                  <a:lnTo>
                    <a:pt x="2789" y="683"/>
                  </a:lnTo>
                  <a:lnTo>
                    <a:pt x="2796" y="677"/>
                  </a:lnTo>
                  <a:lnTo>
                    <a:pt x="2802" y="670"/>
                  </a:lnTo>
                  <a:lnTo>
                    <a:pt x="2809" y="663"/>
                  </a:lnTo>
                  <a:lnTo>
                    <a:pt x="2816" y="656"/>
                  </a:lnTo>
                  <a:lnTo>
                    <a:pt x="2823" y="649"/>
                  </a:lnTo>
                  <a:lnTo>
                    <a:pt x="2830" y="649"/>
                  </a:lnTo>
                  <a:lnTo>
                    <a:pt x="2837" y="649"/>
                  </a:lnTo>
                  <a:lnTo>
                    <a:pt x="2844" y="642"/>
                  </a:lnTo>
                  <a:lnTo>
                    <a:pt x="2850" y="635"/>
                  </a:lnTo>
                  <a:lnTo>
                    <a:pt x="2850" y="628"/>
                  </a:lnTo>
                  <a:lnTo>
                    <a:pt x="2857" y="601"/>
                  </a:lnTo>
                  <a:lnTo>
                    <a:pt x="2864" y="594"/>
                  </a:lnTo>
                  <a:lnTo>
                    <a:pt x="2871" y="594"/>
                  </a:lnTo>
                  <a:lnTo>
                    <a:pt x="2871" y="580"/>
                  </a:lnTo>
                  <a:lnTo>
                    <a:pt x="2878" y="573"/>
                  </a:lnTo>
                  <a:lnTo>
                    <a:pt x="2885" y="573"/>
                  </a:lnTo>
                  <a:lnTo>
                    <a:pt x="2892" y="559"/>
                  </a:lnTo>
                  <a:lnTo>
                    <a:pt x="2892" y="545"/>
                  </a:lnTo>
                  <a:lnTo>
                    <a:pt x="2899" y="538"/>
                  </a:lnTo>
                  <a:lnTo>
                    <a:pt x="2905" y="518"/>
                  </a:lnTo>
                  <a:lnTo>
                    <a:pt x="2905" y="504"/>
                  </a:lnTo>
                  <a:lnTo>
                    <a:pt x="2912" y="504"/>
                  </a:lnTo>
                  <a:lnTo>
                    <a:pt x="2919" y="497"/>
                  </a:lnTo>
                  <a:lnTo>
                    <a:pt x="2919" y="462"/>
                  </a:lnTo>
                  <a:lnTo>
                    <a:pt x="2926" y="462"/>
                  </a:lnTo>
                  <a:lnTo>
                    <a:pt x="2933" y="456"/>
                  </a:lnTo>
                  <a:lnTo>
                    <a:pt x="2940" y="428"/>
                  </a:lnTo>
                  <a:lnTo>
                    <a:pt x="2947" y="407"/>
                  </a:lnTo>
                  <a:lnTo>
                    <a:pt x="2947" y="359"/>
                  </a:lnTo>
                  <a:lnTo>
                    <a:pt x="2954" y="352"/>
                  </a:lnTo>
                  <a:lnTo>
                    <a:pt x="2954" y="345"/>
                  </a:lnTo>
                  <a:lnTo>
                    <a:pt x="2960" y="338"/>
                  </a:lnTo>
                  <a:lnTo>
                    <a:pt x="2960" y="304"/>
                  </a:lnTo>
                  <a:lnTo>
                    <a:pt x="2967" y="276"/>
                  </a:lnTo>
                  <a:lnTo>
                    <a:pt x="2967" y="228"/>
                  </a:lnTo>
                  <a:lnTo>
                    <a:pt x="2974" y="200"/>
                  </a:lnTo>
                  <a:lnTo>
                    <a:pt x="2974" y="0"/>
                  </a:lnTo>
                </a:path>
              </a:pathLst>
            </a:custGeom>
            <a:noFill/>
            <a:ln w="11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46880" y="2444760"/>
              <a:ext cx="63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rms: 1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91600" y="2751120"/>
              <a:ext cx="167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umber of Channels: 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64520" y="2444760"/>
              <a:ext cx="939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 0 0 2 0 0 2 0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38960" y="2751120"/>
              <a:ext cx="53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versu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64520" y="3068640"/>
              <a:ext cx="939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 4 7 4 0 2 3 3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685D-F904-45DD-BF0D-3595CE4882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ns Delay Sp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03440" y="5842080"/>
            <a:ext cx="130320" cy="360"/>
          </a:xfrm>
          <a:prstGeom prst="rect">
            <a:avLst/>
          </a:prstGeom>
          <a:solidFill>
            <a:srgbClr val="000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33760" y="5842080"/>
            <a:ext cx="118800" cy="360"/>
          </a:xfrm>
          <a:prstGeom prst="rect">
            <a:avLst/>
          </a:prstGeom>
          <a:solidFill>
            <a:srgbClr val="000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52560" y="5842080"/>
            <a:ext cx="130320" cy="360"/>
          </a:xfrm>
          <a:prstGeom prst="rect">
            <a:avLst/>
          </a:prstGeom>
          <a:solidFill>
            <a:srgbClr val="000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609920" y="1523880"/>
            <a:ext cx="5497560" cy="4395960"/>
            <a:chOff x="1609920" y="1523880"/>
            <a:chExt cx="5497560" cy="4395960"/>
          </a:xfrm>
        </p:grpSpPr>
        <p:sp>
          <p:nvSpPr>
            <p:cNvPr id="264" name=""/>
            <p:cNvSpPr/>
            <p:nvPr/>
          </p:nvSpPr>
          <p:spPr>
            <a:xfrm>
              <a:off x="1920960" y="1618920"/>
              <a:ext cx="5141880" cy="407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20960" y="1618920"/>
              <a:ext cx="5141880" cy="4070520"/>
            </a:xfrm>
            <a:prstGeom prst="rect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20960" y="1618920"/>
              <a:ext cx="5141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920960" y="1618920"/>
              <a:ext cx="5141880" cy="407052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1920960" y="1618560"/>
              <a:ext cx="1440" cy="4070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20960" y="5689440"/>
              <a:ext cx="5141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920960" y="1618560"/>
              <a:ext cx="1440" cy="4070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920960" y="5641200"/>
              <a:ext cx="144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20960" y="1618920"/>
              <a:ext cx="144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33480" y="573696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2562120" y="5641200"/>
              <a:ext cx="180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562120" y="1618920"/>
              <a:ext cx="180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96880" y="573696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1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3203640" y="5641200"/>
              <a:ext cx="144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03640" y="1618920"/>
              <a:ext cx="144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16520" y="573696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3844800" y="5641200"/>
              <a:ext cx="180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44800" y="1618920"/>
              <a:ext cx="180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79560" y="573696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4497480" y="5641200"/>
              <a:ext cx="144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97480" y="1618920"/>
              <a:ext cx="144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57520" y="573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5138640" y="5641200"/>
              <a:ext cx="180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38640" y="1618920"/>
              <a:ext cx="180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20560" y="57369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5780160" y="5641200"/>
              <a:ext cx="144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80160" y="1618920"/>
              <a:ext cx="144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38760" y="573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6421320" y="5641200"/>
              <a:ext cx="180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21320" y="1618920"/>
              <a:ext cx="180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01800" y="57369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7062840" y="5641200"/>
              <a:ext cx="144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62840" y="1618920"/>
              <a:ext cx="144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21440" y="573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920960" y="5689440"/>
              <a:ext cx="47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7015320" y="5689440"/>
              <a:ext cx="47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785960" y="5594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20960" y="4878000"/>
              <a:ext cx="47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7015320" y="4878000"/>
              <a:ext cx="47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98840" y="47811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920960" y="4065480"/>
              <a:ext cx="47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015320" y="4065480"/>
              <a:ext cx="47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09920" y="39700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20960" y="3242880"/>
              <a:ext cx="47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015320" y="3242880"/>
              <a:ext cx="47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09920" y="31460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20960" y="2430360"/>
              <a:ext cx="47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015320" y="2430360"/>
              <a:ext cx="47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09920" y="23349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920960" y="1618920"/>
              <a:ext cx="47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7015320" y="1618920"/>
              <a:ext cx="47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09920" y="15238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20960" y="1618920"/>
              <a:ext cx="5141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920960" y="1618920"/>
              <a:ext cx="5141880" cy="407052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1920960" y="1618560"/>
              <a:ext cx="1440" cy="4070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03440" y="5689440"/>
              <a:ext cx="13032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33760" y="5689440"/>
              <a:ext cx="11880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52560" y="5689440"/>
              <a:ext cx="13032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82880" y="5652720"/>
              <a:ext cx="130320" cy="367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82880" y="5652720"/>
              <a:ext cx="13032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13200" y="5676840"/>
              <a:ext cx="131760" cy="126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013200" y="5676840"/>
              <a:ext cx="13176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44960" y="5676840"/>
              <a:ext cx="129960" cy="126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144960" y="5676840"/>
              <a:ext cx="12996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74920" y="5652720"/>
              <a:ext cx="119160" cy="367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274920" y="5652720"/>
              <a:ext cx="11916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94080" y="5676840"/>
              <a:ext cx="130320" cy="126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94080" y="5676840"/>
              <a:ext cx="13032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524400" y="5652720"/>
              <a:ext cx="129960" cy="367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524400" y="5652720"/>
              <a:ext cx="12996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54360" y="5605200"/>
              <a:ext cx="131760" cy="8424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54360" y="5605200"/>
              <a:ext cx="131760" cy="842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86120" y="5522760"/>
              <a:ext cx="130320" cy="16668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86120" y="5522760"/>
              <a:ext cx="130320" cy="166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916440" y="5391000"/>
              <a:ext cx="129960" cy="29844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916440" y="5391000"/>
              <a:ext cx="129960" cy="2984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46400" y="5271840"/>
              <a:ext cx="119160" cy="4176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046400" y="5271840"/>
              <a:ext cx="119160" cy="417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65560" y="5248080"/>
              <a:ext cx="130320" cy="44136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165560" y="5248080"/>
              <a:ext cx="130320" cy="441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295880" y="5020920"/>
              <a:ext cx="129960" cy="6685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95880" y="5020920"/>
              <a:ext cx="129960" cy="668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25840" y="1798560"/>
              <a:ext cx="131760" cy="389088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25840" y="1798560"/>
              <a:ext cx="131760" cy="3890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57600" y="4566960"/>
              <a:ext cx="130320" cy="112248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57600" y="4566960"/>
              <a:ext cx="130320" cy="1122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87920" y="4627440"/>
              <a:ext cx="130320" cy="10620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687920" y="4627440"/>
              <a:ext cx="130320" cy="1062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18240" y="4471920"/>
              <a:ext cx="118800" cy="12175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818240" y="4471920"/>
              <a:ext cx="118800" cy="121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937040" y="4435200"/>
              <a:ext cx="130320" cy="125424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937040" y="4435200"/>
              <a:ext cx="130320" cy="12542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067360" y="4674960"/>
              <a:ext cx="129960" cy="101448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67360" y="4674960"/>
              <a:ext cx="129960" cy="1014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97320" y="4674960"/>
              <a:ext cx="131760" cy="101448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197320" y="4674960"/>
              <a:ext cx="131760" cy="1014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29080" y="4889160"/>
              <a:ext cx="130320" cy="80028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29080" y="4889160"/>
              <a:ext cx="130320" cy="800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459400" y="5068800"/>
              <a:ext cx="130320" cy="62064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59400" y="5068800"/>
              <a:ext cx="130320" cy="620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89720" y="5092560"/>
              <a:ext cx="118800" cy="59688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89720" y="5092560"/>
              <a:ext cx="118800" cy="596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708520" y="5425920"/>
              <a:ext cx="130320" cy="2635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708520" y="5425920"/>
              <a:ext cx="130320" cy="263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38840" y="5330520"/>
              <a:ext cx="131760" cy="3589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838840" y="5330520"/>
              <a:ext cx="131760" cy="358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970600" y="5497200"/>
              <a:ext cx="130320" cy="19224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970600" y="5497200"/>
              <a:ext cx="130320" cy="1922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100920" y="5473440"/>
              <a:ext cx="129960" cy="2160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100920" y="5473440"/>
              <a:ext cx="129960" cy="216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30880" y="5557680"/>
              <a:ext cx="119160" cy="13176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230880" y="5557680"/>
              <a:ext cx="119160" cy="131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50040" y="5367240"/>
              <a:ext cx="129960" cy="3222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50040" y="5367240"/>
              <a:ext cx="129960" cy="322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90160" y="233496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ms: 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732200" y="2741400"/>
              <a:ext cx="182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mber of Channels: 1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507040" y="2334960"/>
              <a:ext cx="1024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0 0 2 0 0 2 0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524680" y="2585880"/>
              <a:ext cx="57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rs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507040" y="2823840"/>
              <a:ext cx="1024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 4 7 4 0 2 3 3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FD06-0260-4651-AC6E-32D1C99735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ns Delay Sp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1850400" y="1604880"/>
            <a:ext cx="5436360" cy="4248720"/>
            <a:chOff x="1850400" y="1604880"/>
            <a:chExt cx="5436360" cy="4248720"/>
          </a:xfrm>
        </p:grpSpPr>
        <p:sp>
          <p:nvSpPr>
            <p:cNvPr id="386" name=""/>
            <p:cNvSpPr/>
            <p:nvPr/>
          </p:nvSpPr>
          <p:spPr>
            <a:xfrm>
              <a:off x="2120760" y="1697040"/>
              <a:ext cx="4961160" cy="392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20760" y="1697040"/>
              <a:ext cx="4961160" cy="3927600"/>
            </a:xfrm>
            <a:prstGeom prst="rect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120760" y="1697040"/>
              <a:ext cx="4961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20760" y="1697040"/>
              <a:ext cx="4961160" cy="392760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2120760" y="1697040"/>
              <a:ext cx="1800" cy="3927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120760" y="5624640"/>
              <a:ext cx="4961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2120760" y="1697040"/>
              <a:ext cx="1800" cy="3927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2120760" y="557856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20760" y="169704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117520" y="5670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2612880" y="557856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12880" y="169704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525040" y="5670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3117960" y="557856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117960" y="169704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028320" y="5670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3610080" y="557856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610080" y="169704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21880" y="5670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102200" y="557856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02200" y="169704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14000" y="5670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4606920" y="557856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06920" y="169704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519080" y="5670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5099040" y="557856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99040" y="169704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11200" y="5670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5592600" y="557856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92600" y="169704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503320" y="5670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6084720" y="557856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084720" y="169704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996880" y="5670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6588000" y="557856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588000" y="169704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500160" y="5670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7081920" y="557856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081920" y="169704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944760" y="567072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120760" y="562464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7035840" y="562464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77120" y="553248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20760" y="512928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7035840" y="512928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850400" y="503712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2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120760" y="464508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7035840" y="464508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77120" y="455292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120760" y="414972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035840" y="414972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850400" y="405756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1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20760" y="366552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7035840" y="366552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977120" y="357336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20760" y="3170160"/>
              <a:ext cx="46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035840" y="3170160"/>
              <a:ext cx="46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850400" y="307800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120760" y="2674800"/>
              <a:ext cx="46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035840" y="2674800"/>
              <a:ext cx="46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025360" y="2583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120760" y="219240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035840" y="219240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98640" y="21002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20760" y="169704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7035840" y="169704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025360" y="1604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20760" y="1697040"/>
              <a:ext cx="4961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120760" y="1697040"/>
              <a:ext cx="4961160" cy="392760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2120760" y="1697040"/>
              <a:ext cx="1800" cy="3927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120760" y="2687760"/>
              <a:ext cx="4961160" cy="2544480"/>
            </a:xfrm>
            <a:custGeom>
              <a:avLst/>
              <a:gdLst/>
              <a:ahLst/>
              <a:rect l="l" t="t" r="r" b="b"/>
              <a:pathLst>
                <a:path w="3125" h="1603">
                  <a:moveTo>
                    <a:pt x="0" y="1603"/>
                  </a:moveTo>
                  <a:lnTo>
                    <a:pt x="7" y="1494"/>
                  </a:lnTo>
                  <a:lnTo>
                    <a:pt x="7" y="1487"/>
                  </a:lnTo>
                  <a:lnTo>
                    <a:pt x="14" y="1465"/>
                  </a:lnTo>
                  <a:lnTo>
                    <a:pt x="14" y="1400"/>
                  </a:lnTo>
                  <a:lnTo>
                    <a:pt x="21" y="1385"/>
                  </a:lnTo>
                  <a:lnTo>
                    <a:pt x="21" y="1356"/>
                  </a:lnTo>
                  <a:lnTo>
                    <a:pt x="21" y="1306"/>
                  </a:lnTo>
                  <a:lnTo>
                    <a:pt x="29" y="1298"/>
                  </a:lnTo>
                  <a:lnTo>
                    <a:pt x="36" y="1284"/>
                  </a:lnTo>
                  <a:lnTo>
                    <a:pt x="36" y="1276"/>
                  </a:lnTo>
                  <a:lnTo>
                    <a:pt x="43" y="1269"/>
                  </a:lnTo>
                  <a:lnTo>
                    <a:pt x="43" y="1255"/>
                  </a:lnTo>
                  <a:lnTo>
                    <a:pt x="50" y="1247"/>
                  </a:lnTo>
                  <a:lnTo>
                    <a:pt x="57" y="1247"/>
                  </a:lnTo>
                  <a:lnTo>
                    <a:pt x="57" y="1218"/>
                  </a:lnTo>
                  <a:lnTo>
                    <a:pt x="65" y="1211"/>
                  </a:lnTo>
                  <a:lnTo>
                    <a:pt x="72" y="1204"/>
                  </a:lnTo>
                  <a:lnTo>
                    <a:pt x="72" y="1189"/>
                  </a:lnTo>
                  <a:lnTo>
                    <a:pt x="79" y="1182"/>
                  </a:lnTo>
                  <a:lnTo>
                    <a:pt x="79" y="1175"/>
                  </a:lnTo>
                  <a:lnTo>
                    <a:pt x="86" y="1168"/>
                  </a:lnTo>
                  <a:lnTo>
                    <a:pt x="93" y="1160"/>
                  </a:lnTo>
                  <a:lnTo>
                    <a:pt x="101" y="1153"/>
                  </a:lnTo>
                  <a:lnTo>
                    <a:pt x="108" y="1146"/>
                  </a:lnTo>
                  <a:lnTo>
                    <a:pt x="108" y="1139"/>
                  </a:lnTo>
                  <a:lnTo>
                    <a:pt x="115" y="1117"/>
                  </a:lnTo>
                  <a:lnTo>
                    <a:pt x="122" y="1110"/>
                  </a:lnTo>
                  <a:lnTo>
                    <a:pt x="130" y="1102"/>
                  </a:lnTo>
                  <a:lnTo>
                    <a:pt x="137" y="1095"/>
                  </a:lnTo>
                  <a:lnTo>
                    <a:pt x="144" y="1095"/>
                  </a:lnTo>
                  <a:lnTo>
                    <a:pt x="151" y="1088"/>
                  </a:lnTo>
                  <a:lnTo>
                    <a:pt x="158" y="1081"/>
                  </a:lnTo>
                  <a:lnTo>
                    <a:pt x="166" y="1073"/>
                  </a:lnTo>
                  <a:lnTo>
                    <a:pt x="173" y="1073"/>
                  </a:lnTo>
                  <a:lnTo>
                    <a:pt x="180" y="1066"/>
                  </a:lnTo>
                  <a:lnTo>
                    <a:pt x="187" y="1059"/>
                  </a:lnTo>
                  <a:lnTo>
                    <a:pt x="195" y="1052"/>
                  </a:lnTo>
                  <a:lnTo>
                    <a:pt x="202" y="1052"/>
                  </a:lnTo>
                  <a:lnTo>
                    <a:pt x="209" y="1052"/>
                  </a:lnTo>
                  <a:lnTo>
                    <a:pt x="216" y="1044"/>
                  </a:lnTo>
                  <a:lnTo>
                    <a:pt x="223" y="1044"/>
                  </a:lnTo>
                  <a:lnTo>
                    <a:pt x="231" y="1037"/>
                  </a:lnTo>
                  <a:lnTo>
                    <a:pt x="238" y="1037"/>
                  </a:lnTo>
                  <a:lnTo>
                    <a:pt x="245" y="1030"/>
                  </a:lnTo>
                  <a:lnTo>
                    <a:pt x="252" y="1030"/>
                  </a:lnTo>
                  <a:lnTo>
                    <a:pt x="259" y="1023"/>
                  </a:lnTo>
                  <a:lnTo>
                    <a:pt x="267" y="1023"/>
                  </a:lnTo>
                  <a:lnTo>
                    <a:pt x="274" y="1023"/>
                  </a:lnTo>
                  <a:lnTo>
                    <a:pt x="281" y="1015"/>
                  </a:lnTo>
                  <a:lnTo>
                    <a:pt x="288" y="1008"/>
                  </a:lnTo>
                  <a:lnTo>
                    <a:pt x="296" y="1001"/>
                  </a:lnTo>
                  <a:lnTo>
                    <a:pt x="303" y="994"/>
                  </a:lnTo>
                  <a:lnTo>
                    <a:pt x="310" y="994"/>
                  </a:lnTo>
                  <a:lnTo>
                    <a:pt x="317" y="986"/>
                  </a:lnTo>
                  <a:lnTo>
                    <a:pt x="324" y="979"/>
                  </a:lnTo>
                  <a:lnTo>
                    <a:pt x="332" y="979"/>
                  </a:lnTo>
                  <a:lnTo>
                    <a:pt x="339" y="979"/>
                  </a:lnTo>
                  <a:lnTo>
                    <a:pt x="346" y="979"/>
                  </a:lnTo>
                  <a:lnTo>
                    <a:pt x="353" y="972"/>
                  </a:lnTo>
                  <a:lnTo>
                    <a:pt x="361" y="972"/>
                  </a:lnTo>
                  <a:lnTo>
                    <a:pt x="368" y="965"/>
                  </a:lnTo>
                  <a:lnTo>
                    <a:pt x="375" y="965"/>
                  </a:lnTo>
                  <a:lnTo>
                    <a:pt x="382" y="957"/>
                  </a:lnTo>
                  <a:lnTo>
                    <a:pt x="389" y="957"/>
                  </a:lnTo>
                  <a:lnTo>
                    <a:pt x="397" y="957"/>
                  </a:lnTo>
                  <a:lnTo>
                    <a:pt x="404" y="950"/>
                  </a:lnTo>
                  <a:lnTo>
                    <a:pt x="411" y="950"/>
                  </a:lnTo>
                  <a:lnTo>
                    <a:pt x="418" y="943"/>
                  </a:lnTo>
                  <a:lnTo>
                    <a:pt x="425" y="943"/>
                  </a:lnTo>
                  <a:lnTo>
                    <a:pt x="433" y="943"/>
                  </a:lnTo>
                  <a:lnTo>
                    <a:pt x="440" y="936"/>
                  </a:lnTo>
                  <a:lnTo>
                    <a:pt x="447" y="936"/>
                  </a:lnTo>
                  <a:lnTo>
                    <a:pt x="454" y="936"/>
                  </a:lnTo>
                  <a:lnTo>
                    <a:pt x="462" y="928"/>
                  </a:lnTo>
                  <a:lnTo>
                    <a:pt x="469" y="928"/>
                  </a:lnTo>
                  <a:lnTo>
                    <a:pt x="476" y="928"/>
                  </a:lnTo>
                  <a:lnTo>
                    <a:pt x="483" y="928"/>
                  </a:lnTo>
                  <a:lnTo>
                    <a:pt x="490" y="928"/>
                  </a:lnTo>
                  <a:lnTo>
                    <a:pt x="498" y="928"/>
                  </a:lnTo>
                  <a:lnTo>
                    <a:pt x="505" y="921"/>
                  </a:lnTo>
                  <a:lnTo>
                    <a:pt x="512" y="921"/>
                  </a:lnTo>
                  <a:lnTo>
                    <a:pt x="519" y="914"/>
                  </a:lnTo>
                  <a:lnTo>
                    <a:pt x="527" y="914"/>
                  </a:lnTo>
                  <a:lnTo>
                    <a:pt x="534" y="907"/>
                  </a:lnTo>
                  <a:lnTo>
                    <a:pt x="541" y="899"/>
                  </a:lnTo>
                  <a:lnTo>
                    <a:pt x="548" y="899"/>
                  </a:lnTo>
                  <a:lnTo>
                    <a:pt x="555" y="899"/>
                  </a:lnTo>
                  <a:lnTo>
                    <a:pt x="563" y="892"/>
                  </a:lnTo>
                  <a:lnTo>
                    <a:pt x="570" y="892"/>
                  </a:lnTo>
                  <a:lnTo>
                    <a:pt x="577" y="892"/>
                  </a:lnTo>
                  <a:lnTo>
                    <a:pt x="584" y="892"/>
                  </a:lnTo>
                  <a:lnTo>
                    <a:pt x="591" y="885"/>
                  </a:lnTo>
                  <a:lnTo>
                    <a:pt x="599" y="885"/>
                  </a:lnTo>
                  <a:lnTo>
                    <a:pt x="606" y="885"/>
                  </a:lnTo>
                  <a:lnTo>
                    <a:pt x="613" y="878"/>
                  </a:lnTo>
                  <a:lnTo>
                    <a:pt x="620" y="878"/>
                  </a:lnTo>
                  <a:lnTo>
                    <a:pt x="628" y="870"/>
                  </a:lnTo>
                  <a:lnTo>
                    <a:pt x="635" y="870"/>
                  </a:lnTo>
                  <a:lnTo>
                    <a:pt x="642" y="870"/>
                  </a:lnTo>
                  <a:lnTo>
                    <a:pt x="649" y="870"/>
                  </a:lnTo>
                  <a:lnTo>
                    <a:pt x="656" y="863"/>
                  </a:lnTo>
                  <a:lnTo>
                    <a:pt x="664" y="863"/>
                  </a:lnTo>
                  <a:lnTo>
                    <a:pt x="671" y="863"/>
                  </a:lnTo>
                  <a:lnTo>
                    <a:pt x="678" y="863"/>
                  </a:lnTo>
                  <a:lnTo>
                    <a:pt x="685" y="863"/>
                  </a:lnTo>
                  <a:lnTo>
                    <a:pt x="693" y="856"/>
                  </a:lnTo>
                  <a:lnTo>
                    <a:pt x="700" y="848"/>
                  </a:lnTo>
                  <a:lnTo>
                    <a:pt x="707" y="848"/>
                  </a:lnTo>
                  <a:lnTo>
                    <a:pt x="714" y="848"/>
                  </a:lnTo>
                  <a:lnTo>
                    <a:pt x="721" y="848"/>
                  </a:lnTo>
                  <a:lnTo>
                    <a:pt x="729" y="848"/>
                  </a:lnTo>
                  <a:lnTo>
                    <a:pt x="736" y="848"/>
                  </a:lnTo>
                  <a:lnTo>
                    <a:pt x="743" y="841"/>
                  </a:lnTo>
                  <a:lnTo>
                    <a:pt x="750" y="841"/>
                  </a:lnTo>
                  <a:lnTo>
                    <a:pt x="757" y="841"/>
                  </a:lnTo>
                  <a:lnTo>
                    <a:pt x="765" y="841"/>
                  </a:lnTo>
                  <a:lnTo>
                    <a:pt x="772" y="841"/>
                  </a:lnTo>
                  <a:lnTo>
                    <a:pt x="779" y="834"/>
                  </a:lnTo>
                  <a:lnTo>
                    <a:pt x="786" y="834"/>
                  </a:lnTo>
                  <a:lnTo>
                    <a:pt x="794" y="834"/>
                  </a:lnTo>
                  <a:lnTo>
                    <a:pt x="801" y="834"/>
                  </a:lnTo>
                  <a:lnTo>
                    <a:pt x="808" y="827"/>
                  </a:lnTo>
                  <a:lnTo>
                    <a:pt x="815" y="827"/>
                  </a:lnTo>
                  <a:lnTo>
                    <a:pt x="822" y="827"/>
                  </a:lnTo>
                  <a:lnTo>
                    <a:pt x="830" y="827"/>
                  </a:lnTo>
                  <a:lnTo>
                    <a:pt x="837" y="819"/>
                  </a:lnTo>
                  <a:lnTo>
                    <a:pt x="844" y="819"/>
                  </a:lnTo>
                  <a:lnTo>
                    <a:pt x="851" y="819"/>
                  </a:lnTo>
                  <a:lnTo>
                    <a:pt x="859" y="812"/>
                  </a:lnTo>
                  <a:lnTo>
                    <a:pt x="866" y="812"/>
                  </a:lnTo>
                  <a:lnTo>
                    <a:pt x="873" y="805"/>
                  </a:lnTo>
                  <a:lnTo>
                    <a:pt x="880" y="805"/>
                  </a:lnTo>
                  <a:lnTo>
                    <a:pt x="887" y="805"/>
                  </a:lnTo>
                  <a:lnTo>
                    <a:pt x="895" y="805"/>
                  </a:lnTo>
                  <a:lnTo>
                    <a:pt x="902" y="798"/>
                  </a:lnTo>
                  <a:lnTo>
                    <a:pt x="909" y="798"/>
                  </a:lnTo>
                  <a:lnTo>
                    <a:pt x="916" y="790"/>
                  </a:lnTo>
                  <a:lnTo>
                    <a:pt x="923" y="790"/>
                  </a:lnTo>
                  <a:lnTo>
                    <a:pt x="931" y="790"/>
                  </a:lnTo>
                  <a:lnTo>
                    <a:pt x="938" y="783"/>
                  </a:lnTo>
                  <a:lnTo>
                    <a:pt x="945" y="783"/>
                  </a:lnTo>
                  <a:lnTo>
                    <a:pt x="952" y="783"/>
                  </a:lnTo>
                  <a:lnTo>
                    <a:pt x="960" y="783"/>
                  </a:lnTo>
                  <a:lnTo>
                    <a:pt x="967" y="783"/>
                  </a:lnTo>
                  <a:lnTo>
                    <a:pt x="974" y="783"/>
                  </a:lnTo>
                  <a:lnTo>
                    <a:pt x="981" y="776"/>
                  </a:lnTo>
                  <a:lnTo>
                    <a:pt x="988" y="776"/>
                  </a:lnTo>
                  <a:lnTo>
                    <a:pt x="996" y="776"/>
                  </a:lnTo>
                  <a:lnTo>
                    <a:pt x="1003" y="769"/>
                  </a:lnTo>
                  <a:lnTo>
                    <a:pt x="1010" y="769"/>
                  </a:lnTo>
                  <a:lnTo>
                    <a:pt x="1017" y="769"/>
                  </a:lnTo>
                  <a:lnTo>
                    <a:pt x="1025" y="769"/>
                  </a:lnTo>
                  <a:lnTo>
                    <a:pt x="1032" y="769"/>
                  </a:lnTo>
                  <a:lnTo>
                    <a:pt x="1039" y="761"/>
                  </a:lnTo>
                  <a:lnTo>
                    <a:pt x="1046" y="761"/>
                  </a:lnTo>
                  <a:lnTo>
                    <a:pt x="1053" y="761"/>
                  </a:lnTo>
                  <a:lnTo>
                    <a:pt x="1061" y="761"/>
                  </a:lnTo>
                  <a:lnTo>
                    <a:pt x="1068" y="754"/>
                  </a:lnTo>
                  <a:lnTo>
                    <a:pt x="1075" y="754"/>
                  </a:lnTo>
                  <a:lnTo>
                    <a:pt x="1082" y="754"/>
                  </a:lnTo>
                  <a:lnTo>
                    <a:pt x="1089" y="754"/>
                  </a:lnTo>
                  <a:lnTo>
                    <a:pt x="1097" y="747"/>
                  </a:lnTo>
                  <a:lnTo>
                    <a:pt x="1104" y="747"/>
                  </a:lnTo>
                  <a:lnTo>
                    <a:pt x="1111" y="747"/>
                  </a:lnTo>
                  <a:lnTo>
                    <a:pt x="1118" y="747"/>
                  </a:lnTo>
                  <a:lnTo>
                    <a:pt x="1126" y="747"/>
                  </a:lnTo>
                  <a:lnTo>
                    <a:pt x="1133" y="740"/>
                  </a:lnTo>
                  <a:lnTo>
                    <a:pt x="1140" y="740"/>
                  </a:lnTo>
                  <a:lnTo>
                    <a:pt x="1147" y="732"/>
                  </a:lnTo>
                  <a:lnTo>
                    <a:pt x="1154" y="732"/>
                  </a:lnTo>
                  <a:lnTo>
                    <a:pt x="1162" y="732"/>
                  </a:lnTo>
                  <a:lnTo>
                    <a:pt x="1169" y="732"/>
                  </a:lnTo>
                  <a:lnTo>
                    <a:pt x="1176" y="732"/>
                  </a:lnTo>
                  <a:lnTo>
                    <a:pt x="1183" y="732"/>
                  </a:lnTo>
                  <a:lnTo>
                    <a:pt x="1191" y="732"/>
                  </a:lnTo>
                  <a:lnTo>
                    <a:pt x="1198" y="732"/>
                  </a:lnTo>
                  <a:lnTo>
                    <a:pt x="1205" y="732"/>
                  </a:lnTo>
                  <a:lnTo>
                    <a:pt x="1212" y="725"/>
                  </a:lnTo>
                  <a:lnTo>
                    <a:pt x="1219" y="725"/>
                  </a:lnTo>
                  <a:lnTo>
                    <a:pt x="1227" y="725"/>
                  </a:lnTo>
                  <a:lnTo>
                    <a:pt x="1234" y="718"/>
                  </a:lnTo>
                  <a:lnTo>
                    <a:pt x="1241" y="718"/>
                  </a:lnTo>
                  <a:lnTo>
                    <a:pt x="1248" y="718"/>
                  </a:lnTo>
                  <a:lnTo>
                    <a:pt x="1255" y="711"/>
                  </a:lnTo>
                  <a:lnTo>
                    <a:pt x="1263" y="711"/>
                  </a:lnTo>
                  <a:lnTo>
                    <a:pt x="1270" y="711"/>
                  </a:lnTo>
                  <a:lnTo>
                    <a:pt x="1277" y="711"/>
                  </a:lnTo>
                  <a:lnTo>
                    <a:pt x="1284" y="711"/>
                  </a:lnTo>
                  <a:lnTo>
                    <a:pt x="1292" y="703"/>
                  </a:lnTo>
                  <a:lnTo>
                    <a:pt x="1299" y="703"/>
                  </a:lnTo>
                  <a:lnTo>
                    <a:pt x="1306" y="703"/>
                  </a:lnTo>
                  <a:lnTo>
                    <a:pt x="1313" y="703"/>
                  </a:lnTo>
                  <a:lnTo>
                    <a:pt x="1320" y="696"/>
                  </a:lnTo>
                  <a:lnTo>
                    <a:pt x="1328" y="696"/>
                  </a:lnTo>
                  <a:lnTo>
                    <a:pt x="1335" y="696"/>
                  </a:lnTo>
                  <a:lnTo>
                    <a:pt x="1342" y="696"/>
                  </a:lnTo>
                  <a:lnTo>
                    <a:pt x="1349" y="696"/>
                  </a:lnTo>
                  <a:lnTo>
                    <a:pt x="1357" y="689"/>
                  </a:lnTo>
                  <a:lnTo>
                    <a:pt x="1364" y="689"/>
                  </a:lnTo>
                  <a:lnTo>
                    <a:pt x="1371" y="689"/>
                  </a:lnTo>
                  <a:lnTo>
                    <a:pt x="1378" y="689"/>
                  </a:lnTo>
                  <a:lnTo>
                    <a:pt x="1385" y="689"/>
                  </a:lnTo>
                  <a:lnTo>
                    <a:pt x="1393" y="689"/>
                  </a:lnTo>
                  <a:lnTo>
                    <a:pt x="1400" y="682"/>
                  </a:lnTo>
                  <a:lnTo>
                    <a:pt x="1407" y="682"/>
                  </a:lnTo>
                  <a:lnTo>
                    <a:pt x="1414" y="682"/>
                  </a:lnTo>
                  <a:lnTo>
                    <a:pt x="1421" y="682"/>
                  </a:lnTo>
                  <a:lnTo>
                    <a:pt x="1429" y="682"/>
                  </a:lnTo>
                  <a:lnTo>
                    <a:pt x="1436" y="682"/>
                  </a:lnTo>
                  <a:lnTo>
                    <a:pt x="1443" y="674"/>
                  </a:lnTo>
                  <a:lnTo>
                    <a:pt x="1450" y="674"/>
                  </a:lnTo>
                  <a:lnTo>
                    <a:pt x="1458" y="674"/>
                  </a:lnTo>
                  <a:lnTo>
                    <a:pt x="1465" y="674"/>
                  </a:lnTo>
                  <a:lnTo>
                    <a:pt x="1472" y="674"/>
                  </a:lnTo>
                  <a:lnTo>
                    <a:pt x="1479" y="674"/>
                  </a:lnTo>
                  <a:lnTo>
                    <a:pt x="1486" y="674"/>
                  </a:lnTo>
                  <a:lnTo>
                    <a:pt x="1494" y="667"/>
                  </a:lnTo>
                  <a:lnTo>
                    <a:pt x="1501" y="667"/>
                  </a:lnTo>
                  <a:lnTo>
                    <a:pt x="1508" y="667"/>
                  </a:lnTo>
                  <a:lnTo>
                    <a:pt x="1515" y="660"/>
                  </a:lnTo>
                  <a:lnTo>
                    <a:pt x="1523" y="660"/>
                  </a:lnTo>
                  <a:lnTo>
                    <a:pt x="1530" y="660"/>
                  </a:lnTo>
                  <a:lnTo>
                    <a:pt x="1537" y="660"/>
                  </a:lnTo>
                  <a:lnTo>
                    <a:pt x="1544" y="660"/>
                  </a:lnTo>
                  <a:lnTo>
                    <a:pt x="1551" y="660"/>
                  </a:lnTo>
                  <a:lnTo>
                    <a:pt x="1559" y="660"/>
                  </a:lnTo>
                  <a:lnTo>
                    <a:pt x="1566" y="660"/>
                  </a:lnTo>
                  <a:lnTo>
                    <a:pt x="1573" y="660"/>
                  </a:lnTo>
                  <a:lnTo>
                    <a:pt x="1580" y="653"/>
                  </a:lnTo>
                  <a:lnTo>
                    <a:pt x="1587" y="653"/>
                  </a:lnTo>
                  <a:lnTo>
                    <a:pt x="1595" y="653"/>
                  </a:lnTo>
                  <a:lnTo>
                    <a:pt x="1602" y="653"/>
                  </a:lnTo>
                  <a:lnTo>
                    <a:pt x="1609" y="645"/>
                  </a:lnTo>
                  <a:lnTo>
                    <a:pt x="1616" y="645"/>
                  </a:lnTo>
                  <a:lnTo>
                    <a:pt x="1624" y="645"/>
                  </a:lnTo>
                  <a:lnTo>
                    <a:pt x="1631" y="645"/>
                  </a:lnTo>
                  <a:lnTo>
                    <a:pt x="1638" y="638"/>
                  </a:lnTo>
                  <a:lnTo>
                    <a:pt x="1645" y="638"/>
                  </a:lnTo>
                  <a:lnTo>
                    <a:pt x="1652" y="638"/>
                  </a:lnTo>
                  <a:lnTo>
                    <a:pt x="1660" y="638"/>
                  </a:lnTo>
                  <a:lnTo>
                    <a:pt x="1667" y="638"/>
                  </a:lnTo>
                  <a:lnTo>
                    <a:pt x="1674" y="631"/>
                  </a:lnTo>
                  <a:lnTo>
                    <a:pt x="1681" y="631"/>
                  </a:lnTo>
                  <a:lnTo>
                    <a:pt x="1689" y="631"/>
                  </a:lnTo>
                  <a:lnTo>
                    <a:pt x="1696" y="631"/>
                  </a:lnTo>
                  <a:lnTo>
                    <a:pt x="1703" y="631"/>
                  </a:lnTo>
                  <a:lnTo>
                    <a:pt x="1710" y="624"/>
                  </a:lnTo>
                  <a:lnTo>
                    <a:pt x="1717" y="624"/>
                  </a:lnTo>
                  <a:lnTo>
                    <a:pt x="1725" y="624"/>
                  </a:lnTo>
                  <a:lnTo>
                    <a:pt x="1732" y="616"/>
                  </a:lnTo>
                  <a:lnTo>
                    <a:pt x="1739" y="616"/>
                  </a:lnTo>
                  <a:lnTo>
                    <a:pt x="1746" y="616"/>
                  </a:lnTo>
                  <a:lnTo>
                    <a:pt x="1753" y="616"/>
                  </a:lnTo>
                  <a:lnTo>
                    <a:pt x="1761" y="616"/>
                  </a:lnTo>
                  <a:lnTo>
                    <a:pt x="1768" y="616"/>
                  </a:lnTo>
                  <a:lnTo>
                    <a:pt x="1775" y="609"/>
                  </a:lnTo>
                  <a:lnTo>
                    <a:pt x="1782" y="609"/>
                  </a:lnTo>
                  <a:lnTo>
                    <a:pt x="1790" y="609"/>
                  </a:lnTo>
                  <a:lnTo>
                    <a:pt x="1797" y="609"/>
                  </a:lnTo>
                  <a:lnTo>
                    <a:pt x="1804" y="609"/>
                  </a:lnTo>
                  <a:lnTo>
                    <a:pt x="1811" y="609"/>
                  </a:lnTo>
                  <a:lnTo>
                    <a:pt x="1818" y="609"/>
                  </a:lnTo>
                  <a:lnTo>
                    <a:pt x="1826" y="609"/>
                  </a:lnTo>
                  <a:lnTo>
                    <a:pt x="1833" y="602"/>
                  </a:lnTo>
                  <a:lnTo>
                    <a:pt x="1840" y="602"/>
                  </a:lnTo>
                  <a:lnTo>
                    <a:pt x="1847" y="602"/>
                  </a:lnTo>
                  <a:lnTo>
                    <a:pt x="1855" y="602"/>
                  </a:lnTo>
                  <a:lnTo>
                    <a:pt x="1862" y="602"/>
                  </a:lnTo>
                  <a:lnTo>
                    <a:pt x="1869" y="595"/>
                  </a:lnTo>
                  <a:lnTo>
                    <a:pt x="1876" y="595"/>
                  </a:lnTo>
                  <a:lnTo>
                    <a:pt x="1883" y="595"/>
                  </a:lnTo>
                  <a:lnTo>
                    <a:pt x="1891" y="595"/>
                  </a:lnTo>
                  <a:lnTo>
                    <a:pt x="1898" y="595"/>
                  </a:lnTo>
                  <a:lnTo>
                    <a:pt x="1905" y="595"/>
                  </a:lnTo>
                  <a:lnTo>
                    <a:pt x="1912" y="587"/>
                  </a:lnTo>
                  <a:lnTo>
                    <a:pt x="1919" y="587"/>
                  </a:lnTo>
                  <a:lnTo>
                    <a:pt x="1927" y="587"/>
                  </a:lnTo>
                  <a:lnTo>
                    <a:pt x="1934" y="580"/>
                  </a:lnTo>
                  <a:lnTo>
                    <a:pt x="1941" y="580"/>
                  </a:lnTo>
                  <a:lnTo>
                    <a:pt x="1948" y="580"/>
                  </a:lnTo>
                  <a:lnTo>
                    <a:pt x="1956" y="580"/>
                  </a:lnTo>
                  <a:lnTo>
                    <a:pt x="1963" y="580"/>
                  </a:lnTo>
                  <a:lnTo>
                    <a:pt x="1970" y="580"/>
                  </a:lnTo>
                  <a:lnTo>
                    <a:pt x="1977" y="580"/>
                  </a:lnTo>
                  <a:lnTo>
                    <a:pt x="1984" y="573"/>
                  </a:lnTo>
                  <a:lnTo>
                    <a:pt x="1992" y="573"/>
                  </a:lnTo>
                  <a:lnTo>
                    <a:pt x="1999" y="573"/>
                  </a:lnTo>
                  <a:lnTo>
                    <a:pt x="2006" y="573"/>
                  </a:lnTo>
                  <a:lnTo>
                    <a:pt x="2013" y="573"/>
                  </a:lnTo>
                  <a:lnTo>
                    <a:pt x="2021" y="573"/>
                  </a:lnTo>
                  <a:lnTo>
                    <a:pt x="2028" y="566"/>
                  </a:lnTo>
                  <a:lnTo>
                    <a:pt x="2035" y="566"/>
                  </a:lnTo>
                  <a:lnTo>
                    <a:pt x="2042" y="566"/>
                  </a:lnTo>
                  <a:lnTo>
                    <a:pt x="2049" y="566"/>
                  </a:lnTo>
                  <a:lnTo>
                    <a:pt x="2057" y="566"/>
                  </a:lnTo>
                  <a:lnTo>
                    <a:pt x="2064" y="566"/>
                  </a:lnTo>
                  <a:lnTo>
                    <a:pt x="2071" y="566"/>
                  </a:lnTo>
                  <a:lnTo>
                    <a:pt x="2078" y="558"/>
                  </a:lnTo>
                  <a:lnTo>
                    <a:pt x="2085" y="558"/>
                  </a:lnTo>
                  <a:lnTo>
                    <a:pt x="2093" y="558"/>
                  </a:lnTo>
                  <a:lnTo>
                    <a:pt x="2100" y="558"/>
                  </a:lnTo>
                  <a:lnTo>
                    <a:pt x="2107" y="558"/>
                  </a:lnTo>
                  <a:lnTo>
                    <a:pt x="2114" y="551"/>
                  </a:lnTo>
                  <a:lnTo>
                    <a:pt x="2122" y="551"/>
                  </a:lnTo>
                  <a:lnTo>
                    <a:pt x="2129" y="551"/>
                  </a:lnTo>
                  <a:lnTo>
                    <a:pt x="2136" y="551"/>
                  </a:lnTo>
                  <a:lnTo>
                    <a:pt x="2143" y="551"/>
                  </a:lnTo>
                  <a:lnTo>
                    <a:pt x="2150" y="551"/>
                  </a:lnTo>
                  <a:lnTo>
                    <a:pt x="2158" y="551"/>
                  </a:lnTo>
                  <a:lnTo>
                    <a:pt x="2165" y="551"/>
                  </a:lnTo>
                  <a:lnTo>
                    <a:pt x="2172" y="544"/>
                  </a:lnTo>
                  <a:lnTo>
                    <a:pt x="2179" y="544"/>
                  </a:lnTo>
                  <a:lnTo>
                    <a:pt x="2187" y="544"/>
                  </a:lnTo>
                  <a:lnTo>
                    <a:pt x="2194" y="544"/>
                  </a:lnTo>
                  <a:lnTo>
                    <a:pt x="2201" y="544"/>
                  </a:lnTo>
                  <a:lnTo>
                    <a:pt x="2208" y="537"/>
                  </a:lnTo>
                  <a:lnTo>
                    <a:pt x="2215" y="537"/>
                  </a:lnTo>
                  <a:lnTo>
                    <a:pt x="2223" y="537"/>
                  </a:lnTo>
                  <a:lnTo>
                    <a:pt x="2230" y="537"/>
                  </a:lnTo>
                  <a:lnTo>
                    <a:pt x="2237" y="537"/>
                  </a:lnTo>
                  <a:lnTo>
                    <a:pt x="2244" y="537"/>
                  </a:lnTo>
                  <a:lnTo>
                    <a:pt x="2251" y="537"/>
                  </a:lnTo>
                  <a:lnTo>
                    <a:pt x="2259" y="529"/>
                  </a:lnTo>
                  <a:lnTo>
                    <a:pt x="2266" y="529"/>
                  </a:lnTo>
                  <a:lnTo>
                    <a:pt x="2273" y="529"/>
                  </a:lnTo>
                  <a:lnTo>
                    <a:pt x="2280" y="522"/>
                  </a:lnTo>
                  <a:lnTo>
                    <a:pt x="2288" y="522"/>
                  </a:lnTo>
                  <a:lnTo>
                    <a:pt x="2295" y="522"/>
                  </a:lnTo>
                  <a:lnTo>
                    <a:pt x="2302" y="515"/>
                  </a:lnTo>
                  <a:lnTo>
                    <a:pt x="2309" y="515"/>
                  </a:lnTo>
                  <a:lnTo>
                    <a:pt x="2316" y="515"/>
                  </a:lnTo>
                  <a:lnTo>
                    <a:pt x="2324" y="515"/>
                  </a:lnTo>
                  <a:lnTo>
                    <a:pt x="2331" y="515"/>
                  </a:lnTo>
                  <a:lnTo>
                    <a:pt x="2338" y="508"/>
                  </a:lnTo>
                  <a:lnTo>
                    <a:pt x="2345" y="508"/>
                  </a:lnTo>
                  <a:lnTo>
                    <a:pt x="2353" y="508"/>
                  </a:lnTo>
                  <a:lnTo>
                    <a:pt x="2360" y="508"/>
                  </a:lnTo>
                  <a:lnTo>
                    <a:pt x="2367" y="500"/>
                  </a:lnTo>
                  <a:lnTo>
                    <a:pt x="2374" y="500"/>
                  </a:lnTo>
                  <a:lnTo>
                    <a:pt x="2381" y="500"/>
                  </a:lnTo>
                  <a:lnTo>
                    <a:pt x="2389" y="500"/>
                  </a:lnTo>
                  <a:lnTo>
                    <a:pt x="2396" y="500"/>
                  </a:lnTo>
                  <a:lnTo>
                    <a:pt x="2403" y="493"/>
                  </a:lnTo>
                  <a:lnTo>
                    <a:pt x="2410" y="486"/>
                  </a:lnTo>
                  <a:lnTo>
                    <a:pt x="2417" y="486"/>
                  </a:lnTo>
                  <a:lnTo>
                    <a:pt x="2425" y="486"/>
                  </a:lnTo>
                  <a:lnTo>
                    <a:pt x="2432" y="486"/>
                  </a:lnTo>
                  <a:lnTo>
                    <a:pt x="2439" y="486"/>
                  </a:lnTo>
                  <a:lnTo>
                    <a:pt x="2446" y="479"/>
                  </a:lnTo>
                  <a:lnTo>
                    <a:pt x="2454" y="471"/>
                  </a:lnTo>
                  <a:lnTo>
                    <a:pt x="2461" y="471"/>
                  </a:lnTo>
                  <a:lnTo>
                    <a:pt x="2468" y="471"/>
                  </a:lnTo>
                  <a:lnTo>
                    <a:pt x="2475" y="471"/>
                  </a:lnTo>
                  <a:lnTo>
                    <a:pt x="2482" y="464"/>
                  </a:lnTo>
                  <a:lnTo>
                    <a:pt x="2490" y="464"/>
                  </a:lnTo>
                  <a:lnTo>
                    <a:pt x="2497" y="464"/>
                  </a:lnTo>
                  <a:lnTo>
                    <a:pt x="2504" y="464"/>
                  </a:lnTo>
                  <a:lnTo>
                    <a:pt x="2511" y="464"/>
                  </a:lnTo>
                  <a:lnTo>
                    <a:pt x="2519" y="457"/>
                  </a:lnTo>
                  <a:lnTo>
                    <a:pt x="2526" y="457"/>
                  </a:lnTo>
                  <a:lnTo>
                    <a:pt x="2533" y="457"/>
                  </a:lnTo>
                  <a:lnTo>
                    <a:pt x="2540" y="457"/>
                  </a:lnTo>
                  <a:lnTo>
                    <a:pt x="2547" y="457"/>
                  </a:lnTo>
                  <a:lnTo>
                    <a:pt x="2555" y="457"/>
                  </a:lnTo>
                  <a:lnTo>
                    <a:pt x="2562" y="457"/>
                  </a:lnTo>
                  <a:lnTo>
                    <a:pt x="2569" y="450"/>
                  </a:lnTo>
                  <a:lnTo>
                    <a:pt x="2576" y="450"/>
                  </a:lnTo>
                  <a:lnTo>
                    <a:pt x="2583" y="450"/>
                  </a:lnTo>
                  <a:lnTo>
                    <a:pt x="2591" y="442"/>
                  </a:lnTo>
                  <a:lnTo>
                    <a:pt x="2598" y="442"/>
                  </a:lnTo>
                  <a:lnTo>
                    <a:pt x="2605" y="442"/>
                  </a:lnTo>
                  <a:lnTo>
                    <a:pt x="2612" y="442"/>
                  </a:lnTo>
                  <a:lnTo>
                    <a:pt x="2620" y="435"/>
                  </a:lnTo>
                  <a:lnTo>
                    <a:pt x="2627" y="435"/>
                  </a:lnTo>
                  <a:lnTo>
                    <a:pt x="2634" y="435"/>
                  </a:lnTo>
                  <a:lnTo>
                    <a:pt x="2641" y="435"/>
                  </a:lnTo>
                  <a:lnTo>
                    <a:pt x="2648" y="435"/>
                  </a:lnTo>
                  <a:lnTo>
                    <a:pt x="2656" y="428"/>
                  </a:lnTo>
                  <a:lnTo>
                    <a:pt x="2663" y="428"/>
                  </a:lnTo>
                  <a:lnTo>
                    <a:pt x="2670" y="428"/>
                  </a:lnTo>
                  <a:lnTo>
                    <a:pt x="2677" y="420"/>
                  </a:lnTo>
                  <a:lnTo>
                    <a:pt x="2685" y="420"/>
                  </a:lnTo>
                  <a:lnTo>
                    <a:pt x="2692" y="420"/>
                  </a:lnTo>
                  <a:lnTo>
                    <a:pt x="2699" y="420"/>
                  </a:lnTo>
                  <a:lnTo>
                    <a:pt x="2706" y="413"/>
                  </a:lnTo>
                  <a:lnTo>
                    <a:pt x="2713" y="413"/>
                  </a:lnTo>
                  <a:lnTo>
                    <a:pt x="2721" y="413"/>
                  </a:lnTo>
                  <a:lnTo>
                    <a:pt x="2728" y="413"/>
                  </a:lnTo>
                  <a:lnTo>
                    <a:pt x="2735" y="406"/>
                  </a:lnTo>
                  <a:lnTo>
                    <a:pt x="2742" y="406"/>
                  </a:lnTo>
                  <a:lnTo>
                    <a:pt x="2749" y="399"/>
                  </a:lnTo>
                  <a:lnTo>
                    <a:pt x="2757" y="399"/>
                  </a:lnTo>
                  <a:lnTo>
                    <a:pt x="2764" y="399"/>
                  </a:lnTo>
                  <a:lnTo>
                    <a:pt x="2771" y="399"/>
                  </a:lnTo>
                  <a:lnTo>
                    <a:pt x="2778" y="391"/>
                  </a:lnTo>
                  <a:lnTo>
                    <a:pt x="2786" y="391"/>
                  </a:lnTo>
                  <a:lnTo>
                    <a:pt x="2793" y="391"/>
                  </a:lnTo>
                  <a:lnTo>
                    <a:pt x="2800" y="391"/>
                  </a:lnTo>
                  <a:lnTo>
                    <a:pt x="2807" y="384"/>
                  </a:lnTo>
                  <a:lnTo>
                    <a:pt x="2814" y="384"/>
                  </a:lnTo>
                  <a:lnTo>
                    <a:pt x="2822" y="384"/>
                  </a:lnTo>
                  <a:lnTo>
                    <a:pt x="2829" y="377"/>
                  </a:lnTo>
                  <a:lnTo>
                    <a:pt x="2836" y="377"/>
                  </a:lnTo>
                  <a:lnTo>
                    <a:pt x="2843" y="377"/>
                  </a:lnTo>
                  <a:lnTo>
                    <a:pt x="2851" y="370"/>
                  </a:lnTo>
                  <a:lnTo>
                    <a:pt x="2858" y="370"/>
                  </a:lnTo>
                  <a:lnTo>
                    <a:pt x="2865" y="370"/>
                  </a:lnTo>
                  <a:lnTo>
                    <a:pt x="2872" y="362"/>
                  </a:lnTo>
                  <a:lnTo>
                    <a:pt x="2879" y="362"/>
                  </a:lnTo>
                  <a:lnTo>
                    <a:pt x="2887" y="362"/>
                  </a:lnTo>
                  <a:lnTo>
                    <a:pt x="2894" y="355"/>
                  </a:lnTo>
                  <a:lnTo>
                    <a:pt x="2901" y="355"/>
                  </a:lnTo>
                  <a:lnTo>
                    <a:pt x="2908" y="348"/>
                  </a:lnTo>
                  <a:lnTo>
                    <a:pt x="2915" y="341"/>
                  </a:lnTo>
                  <a:lnTo>
                    <a:pt x="2923" y="341"/>
                  </a:lnTo>
                  <a:lnTo>
                    <a:pt x="2930" y="341"/>
                  </a:lnTo>
                  <a:lnTo>
                    <a:pt x="2937" y="333"/>
                  </a:lnTo>
                  <a:lnTo>
                    <a:pt x="2944" y="333"/>
                  </a:lnTo>
                  <a:lnTo>
                    <a:pt x="2952" y="326"/>
                  </a:lnTo>
                  <a:lnTo>
                    <a:pt x="2959" y="326"/>
                  </a:lnTo>
                  <a:lnTo>
                    <a:pt x="2966" y="319"/>
                  </a:lnTo>
                  <a:lnTo>
                    <a:pt x="2973" y="312"/>
                  </a:lnTo>
                  <a:lnTo>
                    <a:pt x="2980" y="304"/>
                  </a:lnTo>
                  <a:lnTo>
                    <a:pt x="2988" y="304"/>
                  </a:lnTo>
                  <a:lnTo>
                    <a:pt x="2995" y="297"/>
                  </a:lnTo>
                  <a:lnTo>
                    <a:pt x="3002" y="297"/>
                  </a:lnTo>
                  <a:lnTo>
                    <a:pt x="3009" y="290"/>
                  </a:lnTo>
                  <a:lnTo>
                    <a:pt x="3017" y="283"/>
                  </a:lnTo>
                  <a:lnTo>
                    <a:pt x="3024" y="275"/>
                  </a:lnTo>
                  <a:lnTo>
                    <a:pt x="3031" y="275"/>
                  </a:lnTo>
                  <a:lnTo>
                    <a:pt x="3038" y="268"/>
                  </a:lnTo>
                  <a:lnTo>
                    <a:pt x="3045" y="268"/>
                  </a:lnTo>
                  <a:lnTo>
                    <a:pt x="3053" y="261"/>
                  </a:lnTo>
                  <a:lnTo>
                    <a:pt x="3060" y="254"/>
                  </a:lnTo>
                  <a:lnTo>
                    <a:pt x="3067" y="246"/>
                  </a:lnTo>
                  <a:lnTo>
                    <a:pt x="3067" y="225"/>
                  </a:lnTo>
                  <a:lnTo>
                    <a:pt x="3074" y="217"/>
                  </a:lnTo>
                  <a:lnTo>
                    <a:pt x="3081" y="210"/>
                  </a:lnTo>
                  <a:lnTo>
                    <a:pt x="3089" y="210"/>
                  </a:lnTo>
                  <a:lnTo>
                    <a:pt x="3089" y="181"/>
                  </a:lnTo>
                  <a:lnTo>
                    <a:pt x="3096" y="174"/>
                  </a:lnTo>
                  <a:lnTo>
                    <a:pt x="3103" y="174"/>
                  </a:lnTo>
                  <a:lnTo>
                    <a:pt x="3103" y="159"/>
                  </a:lnTo>
                  <a:lnTo>
                    <a:pt x="3110" y="159"/>
                  </a:lnTo>
                  <a:lnTo>
                    <a:pt x="3110" y="87"/>
                  </a:lnTo>
                  <a:lnTo>
                    <a:pt x="3118" y="80"/>
                  </a:lnTo>
                  <a:lnTo>
                    <a:pt x="3125" y="58"/>
                  </a:lnTo>
                  <a:lnTo>
                    <a:pt x="3125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120760" y="2157480"/>
              <a:ext cx="4961160" cy="2901960"/>
            </a:xfrm>
            <a:custGeom>
              <a:avLst/>
              <a:gdLst/>
              <a:ahLst/>
              <a:rect l="l" t="t" r="r" b="b"/>
              <a:pathLst>
                <a:path w="3125" h="1828">
                  <a:moveTo>
                    <a:pt x="0" y="1828"/>
                  </a:moveTo>
                  <a:lnTo>
                    <a:pt x="7" y="1799"/>
                  </a:lnTo>
                  <a:lnTo>
                    <a:pt x="7" y="1734"/>
                  </a:lnTo>
                  <a:lnTo>
                    <a:pt x="14" y="1632"/>
                  </a:lnTo>
                  <a:lnTo>
                    <a:pt x="14" y="1603"/>
                  </a:lnTo>
                  <a:lnTo>
                    <a:pt x="21" y="1589"/>
                  </a:lnTo>
                  <a:lnTo>
                    <a:pt x="21" y="1581"/>
                  </a:lnTo>
                  <a:lnTo>
                    <a:pt x="21" y="1538"/>
                  </a:lnTo>
                  <a:lnTo>
                    <a:pt x="29" y="1523"/>
                  </a:lnTo>
                  <a:lnTo>
                    <a:pt x="29" y="1509"/>
                  </a:lnTo>
                  <a:lnTo>
                    <a:pt x="36" y="1502"/>
                  </a:lnTo>
                  <a:lnTo>
                    <a:pt x="43" y="1494"/>
                  </a:lnTo>
                  <a:lnTo>
                    <a:pt x="43" y="1436"/>
                  </a:lnTo>
                  <a:lnTo>
                    <a:pt x="50" y="1422"/>
                  </a:lnTo>
                  <a:lnTo>
                    <a:pt x="57" y="1415"/>
                  </a:lnTo>
                  <a:lnTo>
                    <a:pt x="65" y="1407"/>
                  </a:lnTo>
                  <a:lnTo>
                    <a:pt x="72" y="1400"/>
                  </a:lnTo>
                  <a:lnTo>
                    <a:pt x="72" y="1393"/>
                  </a:lnTo>
                  <a:lnTo>
                    <a:pt x="79" y="1386"/>
                  </a:lnTo>
                  <a:lnTo>
                    <a:pt x="86" y="1378"/>
                  </a:lnTo>
                  <a:lnTo>
                    <a:pt x="86" y="1364"/>
                  </a:lnTo>
                  <a:lnTo>
                    <a:pt x="93" y="1342"/>
                  </a:lnTo>
                  <a:lnTo>
                    <a:pt x="93" y="1328"/>
                  </a:lnTo>
                  <a:lnTo>
                    <a:pt x="101" y="1320"/>
                  </a:lnTo>
                  <a:lnTo>
                    <a:pt x="108" y="1313"/>
                  </a:lnTo>
                  <a:lnTo>
                    <a:pt x="115" y="1306"/>
                  </a:lnTo>
                  <a:lnTo>
                    <a:pt x="115" y="1299"/>
                  </a:lnTo>
                  <a:lnTo>
                    <a:pt x="122" y="1291"/>
                  </a:lnTo>
                  <a:lnTo>
                    <a:pt x="130" y="1284"/>
                  </a:lnTo>
                  <a:lnTo>
                    <a:pt x="137" y="1277"/>
                  </a:lnTo>
                  <a:lnTo>
                    <a:pt x="144" y="1270"/>
                  </a:lnTo>
                  <a:lnTo>
                    <a:pt x="151" y="1262"/>
                  </a:lnTo>
                  <a:lnTo>
                    <a:pt x="158" y="1255"/>
                  </a:lnTo>
                  <a:lnTo>
                    <a:pt x="166" y="1248"/>
                  </a:lnTo>
                  <a:lnTo>
                    <a:pt x="166" y="1241"/>
                  </a:lnTo>
                  <a:lnTo>
                    <a:pt x="173" y="1233"/>
                  </a:lnTo>
                  <a:lnTo>
                    <a:pt x="180" y="1226"/>
                  </a:lnTo>
                  <a:lnTo>
                    <a:pt x="187" y="1219"/>
                  </a:lnTo>
                  <a:lnTo>
                    <a:pt x="195" y="1212"/>
                  </a:lnTo>
                  <a:lnTo>
                    <a:pt x="202" y="1204"/>
                  </a:lnTo>
                  <a:lnTo>
                    <a:pt x="209" y="1197"/>
                  </a:lnTo>
                  <a:lnTo>
                    <a:pt x="209" y="1182"/>
                  </a:lnTo>
                  <a:lnTo>
                    <a:pt x="216" y="1182"/>
                  </a:lnTo>
                  <a:lnTo>
                    <a:pt x="223" y="1182"/>
                  </a:lnTo>
                  <a:lnTo>
                    <a:pt x="231" y="1175"/>
                  </a:lnTo>
                  <a:lnTo>
                    <a:pt x="238" y="1175"/>
                  </a:lnTo>
                  <a:lnTo>
                    <a:pt x="245" y="1168"/>
                  </a:lnTo>
                  <a:lnTo>
                    <a:pt x="252" y="1168"/>
                  </a:lnTo>
                  <a:lnTo>
                    <a:pt x="259" y="1161"/>
                  </a:lnTo>
                  <a:lnTo>
                    <a:pt x="267" y="1153"/>
                  </a:lnTo>
                  <a:lnTo>
                    <a:pt x="274" y="1146"/>
                  </a:lnTo>
                  <a:lnTo>
                    <a:pt x="281" y="1139"/>
                  </a:lnTo>
                  <a:lnTo>
                    <a:pt x="288" y="1139"/>
                  </a:lnTo>
                  <a:lnTo>
                    <a:pt x="296" y="1132"/>
                  </a:lnTo>
                  <a:lnTo>
                    <a:pt x="303" y="1132"/>
                  </a:lnTo>
                  <a:lnTo>
                    <a:pt x="310" y="1124"/>
                  </a:lnTo>
                  <a:lnTo>
                    <a:pt x="317" y="1117"/>
                  </a:lnTo>
                  <a:lnTo>
                    <a:pt x="324" y="1110"/>
                  </a:lnTo>
                  <a:lnTo>
                    <a:pt x="332" y="1103"/>
                  </a:lnTo>
                  <a:lnTo>
                    <a:pt x="339" y="1095"/>
                  </a:lnTo>
                  <a:lnTo>
                    <a:pt x="346" y="1095"/>
                  </a:lnTo>
                  <a:lnTo>
                    <a:pt x="353" y="1095"/>
                  </a:lnTo>
                  <a:lnTo>
                    <a:pt x="361" y="1088"/>
                  </a:lnTo>
                  <a:lnTo>
                    <a:pt x="368" y="1088"/>
                  </a:lnTo>
                  <a:lnTo>
                    <a:pt x="375" y="1081"/>
                  </a:lnTo>
                  <a:lnTo>
                    <a:pt x="382" y="1074"/>
                  </a:lnTo>
                  <a:lnTo>
                    <a:pt x="389" y="1066"/>
                  </a:lnTo>
                  <a:lnTo>
                    <a:pt x="397" y="1066"/>
                  </a:lnTo>
                  <a:lnTo>
                    <a:pt x="404" y="1066"/>
                  </a:lnTo>
                  <a:lnTo>
                    <a:pt x="411" y="1059"/>
                  </a:lnTo>
                  <a:lnTo>
                    <a:pt x="418" y="1052"/>
                  </a:lnTo>
                  <a:lnTo>
                    <a:pt x="425" y="1052"/>
                  </a:lnTo>
                  <a:lnTo>
                    <a:pt x="433" y="1045"/>
                  </a:lnTo>
                  <a:lnTo>
                    <a:pt x="440" y="1045"/>
                  </a:lnTo>
                  <a:lnTo>
                    <a:pt x="447" y="1037"/>
                  </a:lnTo>
                  <a:lnTo>
                    <a:pt x="454" y="1037"/>
                  </a:lnTo>
                  <a:lnTo>
                    <a:pt x="462" y="1037"/>
                  </a:lnTo>
                  <a:lnTo>
                    <a:pt x="469" y="1030"/>
                  </a:lnTo>
                  <a:lnTo>
                    <a:pt x="476" y="1030"/>
                  </a:lnTo>
                  <a:lnTo>
                    <a:pt x="483" y="1023"/>
                  </a:lnTo>
                  <a:lnTo>
                    <a:pt x="490" y="1023"/>
                  </a:lnTo>
                  <a:lnTo>
                    <a:pt x="498" y="1023"/>
                  </a:lnTo>
                  <a:lnTo>
                    <a:pt x="505" y="1023"/>
                  </a:lnTo>
                  <a:lnTo>
                    <a:pt x="512" y="1016"/>
                  </a:lnTo>
                  <a:lnTo>
                    <a:pt x="519" y="1016"/>
                  </a:lnTo>
                  <a:lnTo>
                    <a:pt x="527" y="1016"/>
                  </a:lnTo>
                  <a:lnTo>
                    <a:pt x="534" y="1008"/>
                  </a:lnTo>
                  <a:lnTo>
                    <a:pt x="541" y="1008"/>
                  </a:lnTo>
                  <a:lnTo>
                    <a:pt x="548" y="1001"/>
                  </a:lnTo>
                  <a:lnTo>
                    <a:pt x="555" y="1001"/>
                  </a:lnTo>
                  <a:lnTo>
                    <a:pt x="563" y="1001"/>
                  </a:lnTo>
                  <a:lnTo>
                    <a:pt x="570" y="1001"/>
                  </a:lnTo>
                  <a:lnTo>
                    <a:pt x="577" y="1001"/>
                  </a:lnTo>
                  <a:lnTo>
                    <a:pt x="584" y="994"/>
                  </a:lnTo>
                  <a:lnTo>
                    <a:pt x="591" y="994"/>
                  </a:lnTo>
                  <a:lnTo>
                    <a:pt x="599" y="994"/>
                  </a:lnTo>
                  <a:lnTo>
                    <a:pt x="606" y="987"/>
                  </a:lnTo>
                  <a:lnTo>
                    <a:pt x="613" y="987"/>
                  </a:lnTo>
                  <a:lnTo>
                    <a:pt x="620" y="987"/>
                  </a:lnTo>
                  <a:lnTo>
                    <a:pt x="628" y="979"/>
                  </a:lnTo>
                  <a:lnTo>
                    <a:pt x="635" y="979"/>
                  </a:lnTo>
                  <a:lnTo>
                    <a:pt x="642" y="979"/>
                  </a:lnTo>
                  <a:lnTo>
                    <a:pt x="649" y="972"/>
                  </a:lnTo>
                  <a:lnTo>
                    <a:pt x="656" y="972"/>
                  </a:lnTo>
                  <a:lnTo>
                    <a:pt x="664" y="972"/>
                  </a:lnTo>
                  <a:lnTo>
                    <a:pt x="671" y="972"/>
                  </a:lnTo>
                  <a:lnTo>
                    <a:pt x="678" y="965"/>
                  </a:lnTo>
                  <a:lnTo>
                    <a:pt x="685" y="965"/>
                  </a:lnTo>
                  <a:lnTo>
                    <a:pt x="693" y="965"/>
                  </a:lnTo>
                  <a:lnTo>
                    <a:pt x="700" y="958"/>
                  </a:lnTo>
                  <a:lnTo>
                    <a:pt x="707" y="950"/>
                  </a:lnTo>
                  <a:lnTo>
                    <a:pt x="714" y="950"/>
                  </a:lnTo>
                  <a:lnTo>
                    <a:pt x="721" y="943"/>
                  </a:lnTo>
                  <a:lnTo>
                    <a:pt x="729" y="943"/>
                  </a:lnTo>
                  <a:lnTo>
                    <a:pt x="736" y="943"/>
                  </a:lnTo>
                  <a:lnTo>
                    <a:pt x="743" y="943"/>
                  </a:lnTo>
                  <a:lnTo>
                    <a:pt x="750" y="943"/>
                  </a:lnTo>
                  <a:lnTo>
                    <a:pt x="757" y="936"/>
                  </a:lnTo>
                  <a:lnTo>
                    <a:pt x="765" y="936"/>
                  </a:lnTo>
                  <a:lnTo>
                    <a:pt x="772" y="929"/>
                  </a:lnTo>
                  <a:lnTo>
                    <a:pt x="779" y="929"/>
                  </a:lnTo>
                  <a:lnTo>
                    <a:pt x="786" y="929"/>
                  </a:lnTo>
                  <a:lnTo>
                    <a:pt x="794" y="929"/>
                  </a:lnTo>
                  <a:lnTo>
                    <a:pt x="801" y="929"/>
                  </a:lnTo>
                  <a:lnTo>
                    <a:pt x="808" y="921"/>
                  </a:lnTo>
                  <a:lnTo>
                    <a:pt x="815" y="921"/>
                  </a:lnTo>
                  <a:lnTo>
                    <a:pt x="822" y="921"/>
                  </a:lnTo>
                  <a:lnTo>
                    <a:pt x="830" y="921"/>
                  </a:lnTo>
                  <a:lnTo>
                    <a:pt x="837" y="914"/>
                  </a:lnTo>
                  <a:lnTo>
                    <a:pt x="844" y="914"/>
                  </a:lnTo>
                  <a:lnTo>
                    <a:pt x="851" y="914"/>
                  </a:lnTo>
                  <a:lnTo>
                    <a:pt x="859" y="914"/>
                  </a:lnTo>
                  <a:lnTo>
                    <a:pt x="866" y="914"/>
                  </a:lnTo>
                  <a:lnTo>
                    <a:pt x="873" y="914"/>
                  </a:lnTo>
                  <a:lnTo>
                    <a:pt x="880" y="914"/>
                  </a:lnTo>
                  <a:lnTo>
                    <a:pt x="887" y="907"/>
                  </a:lnTo>
                  <a:lnTo>
                    <a:pt x="895" y="907"/>
                  </a:lnTo>
                  <a:lnTo>
                    <a:pt x="902" y="907"/>
                  </a:lnTo>
                  <a:lnTo>
                    <a:pt x="909" y="900"/>
                  </a:lnTo>
                  <a:lnTo>
                    <a:pt x="916" y="900"/>
                  </a:lnTo>
                  <a:lnTo>
                    <a:pt x="923" y="900"/>
                  </a:lnTo>
                  <a:lnTo>
                    <a:pt x="931" y="900"/>
                  </a:lnTo>
                  <a:lnTo>
                    <a:pt x="938" y="900"/>
                  </a:lnTo>
                  <a:lnTo>
                    <a:pt x="945" y="892"/>
                  </a:lnTo>
                  <a:lnTo>
                    <a:pt x="952" y="892"/>
                  </a:lnTo>
                  <a:lnTo>
                    <a:pt x="960" y="892"/>
                  </a:lnTo>
                  <a:lnTo>
                    <a:pt x="967" y="892"/>
                  </a:lnTo>
                  <a:lnTo>
                    <a:pt x="974" y="892"/>
                  </a:lnTo>
                  <a:lnTo>
                    <a:pt x="981" y="892"/>
                  </a:lnTo>
                  <a:lnTo>
                    <a:pt x="988" y="892"/>
                  </a:lnTo>
                  <a:lnTo>
                    <a:pt x="996" y="892"/>
                  </a:lnTo>
                  <a:lnTo>
                    <a:pt x="1003" y="885"/>
                  </a:lnTo>
                  <a:lnTo>
                    <a:pt x="1010" y="885"/>
                  </a:lnTo>
                  <a:lnTo>
                    <a:pt x="1017" y="885"/>
                  </a:lnTo>
                  <a:lnTo>
                    <a:pt x="1025" y="885"/>
                  </a:lnTo>
                  <a:lnTo>
                    <a:pt x="1032" y="885"/>
                  </a:lnTo>
                  <a:lnTo>
                    <a:pt x="1039" y="878"/>
                  </a:lnTo>
                  <a:lnTo>
                    <a:pt x="1046" y="878"/>
                  </a:lnTo>
                  <a:lnTo>
                    <a:pt x="1053" y="878"/>
                  </a:lnTo>
                  <a:lnTo>
                    <a:pt x="1061" y="878"/>
                  </a:lnTo>
                  <a:lnTo>
                    <a:pt x="1068" y="878"/>
                  </a:lnTo>
                  <a:lnTo>
                    <a:pt x="1075" y="871"/>
                  </a:lnTo>
                  <a:lnTo>
                    <a:pt x="1082" y="871"/>
                  </a:lnTo>
                  <a:lnTo>
                    <a:pt x="1089" y="871"/>
                  </a:lnTo>
                  <a:lnTo>
                    <a:pt x="1097" y="871"/>
                  </a:lnTo>
                  <a:lnTo>
                    <a:pt x="1104" y="871"/>
                  </a:lnTo>
                  <a:lnTo>
                    <a:pt x="1111" y="871"/>
                  </a:lnTo>
                  <a:lnTo>
                    <a:pt x="1118" y="871"/>
                  </a:lnTo>
                  <a:lnTo>
                    <a:pt x="1126" y="871"/>
                  </a:lnTo>
                  <a:lnTo>
                    <a:pt x="1133" y="863"/>
                  </a:lnTo>
                  <a:lnTo>
                    <a:pt x="1140" y="863"/>
                  </a:lnTo>
                  <a:lnTo>
                    <a:pt x="1147" y="863"/>
                  </a:lnTo>
                  <a:lnTo>
                    <a:pt x="1154" y="863"/>
                  </a:lnTo>
                  <a:lnTo>
                    <a:pt x="1162" y="863"/>
                  </a:lnTo>
                  <a:lnTo>
                    <a:pt x="1169" y="856"/>
                  </a:lnTo>
                  <a:lnTo>
                    <a:pt x="1176" y="856"/>
                  </a:lnTo>
                  <a:lnTo>
                    <a:pt x="1183" y="856"/>
                  </a:lnTo>
                  <a:lnTo>
                    <a:pt x="1191" y="856"/>
                  </a:lnTo>
                  <a:lnTo>
                    <a:pt x="1198" y="856"/>
                  </a:lnTo>
                  <a:lnTo>
                    <a:pt x="1205" y="856"/>
                  </a:lnTo>
                  <a:lnTo>
                    <a:pt x="1212" y="849"/>
                  </a:lnTo>
                  <a:lnTo>
                    <a:pt x="1219" y="849"/>
                  </a:lnTo>
                  <a:lnTo>
                    <a:pt x="1227" y="849"/>
                  </a:lnTo>
                  <a:lnTo>
                    <a:pt x="1234" y="849"/>
                  </a:lnTo>
                  <a:lnTo>
                    <a:pt x="1241" y="849"/>
                  </a:lnTo>
                  <a:lnTo>
                    <a:pt x="1248" y="849"/>
                  </a:lnTo>
                  <a:lnTo>
                    <a:pt x="1255" y="842"/>
                  </a:lnTo>
                  <a:lnTo>
                    <a:pt x="1263" y="842"/>
                  </a:lnTo>
                  <a:lnTo>
                    <a:pt x="1270" y="842"/>
                  </a:lnTo>
                  <a:lnTo>
                    <a:pt x="1277" y="842"/>
                  </a:lnTo>
                  <a:lnTo>
                    <a:pt x="1284" y="842"/>
                  </a:lnTo>
                  <a:lnTo>
                    <a:pt x="1292" y="834"/>
                  </a:lnTo>
                  <a:lnTo>
                    <a:pt x="1299" y="834"/>
                  </a:lnTo>
                  <a:lnTo>
                    <a:pt x="1306" y="834"/>
                  </a:lnTo>
                  <a:lnTo>
                    <a:pt x="1313" y="834"/>
                  </a:lnTo>
                  <a:lnTo>
                    <a:pt x="1320" y="834"/>
                  </a:lnTo>
                  <a:lnTo>
                    <a:pt x="1328" y="834"/>
                  </a:lnTo>
                  <a:lnTo>
                    <a:pt x="1335" y="827"/>
                  </a:lnTo>
                  <a:lnTo>
                    <a:pt x="1342" y="827"/>
                  </a:lnTo>
                  <a:lnTo>
                    <a:pt x="1349" y="827"/>
                  </a:lnTo>
                  <a:lnTo>
                    <a:pt x="1357" y="827"/>
                  </a:lnTo>
                  <a:lnTo>
                    <a:pt x="1364" y="820"/>
                  </a:lnTo>
                  <a:lnTo>
                    <a:pt x="1371" y="820"/>
                  </a:lnTo>
                  <a:lnTo>
                    <a:pt x="1378" y="820"/>
                  </a:lnTo>
                  <a:lnTo>
                    <a:pt x="1385" y="820"/>
                  </a:lnTo>
                  <a:lnTo>
                    <a:pt x="1393" y="820"/>
                  </a:lnTo>
                  <a:lnTo>
                    <a:pt x="1400" y="820"/>
                  </a:lnTo>
                  <a:lnTo>
                    <a:pt x="1407" y="820"/>
                  </a:lnTo>
                  <a:lnTo>
                    <a:pt x="1414" y="820"/>
                  </a:lnTo>
                  <a:lnTo>
                    <a:pt x="1421" y="813"/>
                  </a:lnTo>
                  <a:lnTo>
                    <a:pt x="1429" y="813"/>
                  </a:lnTo>
                  <a:lnTo>
                    <a:pt x="1436" y="813"/>
                  </a:lnTo>
                  <a:lnTo>
                    <a:pt x="1443" y="805"/>
                  </a:lnTo>
                  <a:lnTo>
                    <a:pt x="1450" y="805"/>
                  </a:lnTo>
                  <a:lnTo>
                    <a:pt x="1458" y="805"/>
                  </a:lnTo>
                  <a:lnTo>
                    <a:pt x="1465" y="805"/>
                  </a:lnTo>
                  <a:lnTo>
                    <a:pt x="1472" y="805"/>
                  </a:lnTo>
                  <a:lnTo>
                    <a:pt x="1479" y="798"/>
                  </a:lnTo>
                  <a:lnTo>
                    <a:pt x="1486" y="798"/>
                  </a:lnTo>
                  <a:lnTo>
                    <a:pt x="1494" y="798"/>
                  </a:lnTo>
                  <a:lnTo>
                    <a:pt x="1501" y="798"/>
                  </a:lnTo>
                  <a:lnTo>
                    <a:pt x="1508" y="798"/>
                  </a:lnTo>
                  <a:lnTo>
                    <a:pt x="1515" y="798"/>
                  </a:lnTo>
                  <a:lnTo>
                    <a:pt x="1523" y="791"/>
                  </a:lnTo>
                  <a:lnTo>
                    <a:pt x="1530" y="791"/>
                  </a:lnTo>
                  <a:lnTo>
                    <a:pt x="1537" y="791"/>
                  </a:lnTo>
                  <a:lnTo>
                    <a:pt x="1544" y="791"/>
                  </a:lnTo>
                  <a:lnTo>
                    <a:pt x="1551" y="791"/>
                  </a:lnTo>
                  <a:lnTo>
                    <a:pt x="1559" y="791"/>
                  </a:lnTo>
                  <a:lnTo>
                    <a:pt x="1566" y="784"/>
                  </a:lnTo>
                  <a:lnTo>
                    <a:pt x="1573" y="784"/>
                  </a:lnTo>
                  <a:lnTo>
                    <a:pt x="1580" y="784"/>
                  </a:lnTo>
                  <a:lnTo>
                    <a:pt x="1587" y="784"/>
                  </a:lnTo>
                  <a:lnTo>
                    <a:pt x="1595" y="784"/>
                  </a:lnTo>
                  <a:lnTo>
                    <a:pt x="1602" y="784"/>
                  </a:lnTo>
                  <a:lnTo>
                    <a:pt x="1609" y="776"/>
                  </a:lnTo>
                  <a:lnTo>
                    <a:pt x="1616" y="776"/>
                  </a:lnTo>
                  <a:lnTo>
                    <a:pt x="1624" y="776"/>
                  </a:lnTo>
                  <a:lnTo>
                    <a:pt x="1631" y="776"/>
                  </a:lnTo>
                  <a:lnTo>
                    <a:pt x="1638" y="776"/>
                  </a:lnTo>
                  <a:lnTo>
                    <a:pt x="1645" y="776"/>
                  </a:lnTo>
                  <a:lnTo>
                    <a:pt x="1652" y="769"/>
                  </a:lnTo>
                  <a:lnTo>
                    <a:pt x="1660" y="769"/>
                  </a:lnTo>
                  <a:lnTo>
                    <a:pt x="1667" y="769"/>
                  </a:lnTo>
                  <a:lnTo>
                    <a:pt x="1674" y="769"/>
                  </a:lnTo>
                  <a:lnTo>
                    <a:pt x="1681" y="769"/>
                  </a:lnTo>
                  <a:lnTo>
                    <a:pt x="1689" y="769"/>
                  </a:lnTo>
                  <a:lnTo>
                    <a:pt x="1696" y="769"/>
                  </a:lnTo>
                  <a:lnTo>
                    <a:pt x="1703" y="769"/>
                  </a:lnTo>
                  <a:lnTo>
                    <a:pt x="1710" y="769"/>
                  </a:lnTo>
                  <a:lnTo>
                    <a:pt x="1717" y="762"/>
                  </a:lnTo>
                  <a:lnTo>
                    <a:pt x="1725" y="762"/>
                  </a:lnTo>
                  <a:lnTo>
                    <a:pt x="1732" y="762"/>
                  </a:lnTo>
                  <a:lnTo>
                    <a:pt x="1739" y="762"/>
                  </a:lnTo>
                  <a:lnTo>
                    <a:pt x="1746" y="762"/>
                  </a:lnTo>
                  <a:lnTo>
                    <a:pt x="1753" y="762"/>
                  </a:lnTo>
                  <a:lnTo>
                    <a:pt x="1761" y="762"/>
                  </a:lnTo>
                  <a:lnTo>
                    <a:pt x="1768" y="754"/>
                  </a:lnTo>
                  <a:lnTo>
                    <a:pt x="1775" y="754"/>
                  </a:lnTo>
                  <a:lnTo>
                    <a:pt x="1782" y="754"/>
                  </a:lnTo>
                  <a:lnTo>
                    <a:pt x="1790" y="754"/>
                  </a:lnTo>
                  <a:lnTo>
                    <a:pt x="1797" y="754"/>
                  </a:lnTo>
                  <a:lnTo>
                    <a:pt x="1804" y="747"/>
                  </a:lnTo>
                  <a:lnTo>
                    <a:pt x="1811" y="747"/>
                  </a:lnTo>
                  <a:lnTo>
                    <a:pt x="1818" y="747"/>
                  </a:lnTo>
                  <a:lnTo>
                    <a:pt x="1826" y="747"/>
                  </a:lnTo>
                  <a:lnTo>
                    <a:pt x="1833" y="747"/>
                  </a:lnTo>
                  <a:lnTo>
                    <a:pt x="1840" y="747"/>
                  </a:lnTo>
                  <a:lnTo>
                    <a:pt x="1847" y="747"/>
                  </a:lnTo>
                  <a:lnTo>
                    <a:pt x="1855" y="740"/>
                  </a:lnTo>
                  <a:lnTo>
                    <a:pt x="1862" y="740"/>
                  </a:lnTo>
                  <a:lnTo>
                    <a:pt x="1869" y="740"/>
                  </a:lnTo>
                  <a:lnTo>
                    <a:pt x="1876" y="740"/>
                  </a:lnTo>
                  <a:lnTo>
                    <a:pt x="1883" y="740"/>
                  </a:lnTo>
                  <a:lnTo>
                    <a:pt x="1891" y="740"/>
                  </a:lnTo>
                  <a:lnTo>
                    <a:pt x="1898" y="740"/>
                  </a:lnTo>
                  <a:lnTo>
                    <a:pt x="1905" y="740"/>
                  </a:lnTo>
                  <a:lnTo>
                    <a:pt x="1912" y="733"/>
                  </a:lnTo>
                  <a:lnTo>
                    <a:pt x="1919" y="733"/>
                  </a:lnTo>
                  <a:lnTo>
                    <a:pt x="1927" y="733"/>
                  </a:lnTo>
                  <a:lnTo>
                    <a:pt x="1934" y="733"/>
                  </a:lnTo>
                  <a:lnTo>
                    <a:pt x="1941" y="733"/>
                  </a:lnTo>
                  <a:lnTo>
                    <a:pt x="1948" y="733"/>
                  </a:lnTo>
                  <a:lnTo>
                    <a:pt x="1956" y="733"/>
                  </a:lnTo>
                  <a:lnTo>
                    <a:pt x="1963" y="725"/>
                  </a:lnTo>
                  <a:lnTo>
                    <a:pt x="1970" y="725"/>
                  </a:lnTo>
                  <a:lnTo>
                    <a:pt x="1977" y="725"/>
                  </a:lnTo>
                  <a:lnTo>
                    <a:pt x="1984" y="725"/>
                  </a:lnTo>
                  <a:lnTo>
                    <a:pt x="1992" y="725"/>
                  </a:lnTo>
                  <a:lnTo>
                    <a:pt x="1999" y="725"/>
                  </a:lnTo>
                  <a:lnTo>
                    <a:pt x="2006" y="725"/>
                  </a:lnTo>
                  <a:lnTo>
                    <a:pt x="2013" y="718"/>
                  </a:lnTo>
                  <a:lnTo>
                    <a:pt x="2021" y="718"/>
                  </a:lnTo>
                  <a:lnTo>
                    <a:pt x="2028" y="718"/>
                  </a:lnTo>
                  <a:lnTo>
                    <a:pt x="2035" y="718"/>
                  </a:lnTo>
                  <a:lnTo>
                    <a:pt x="2042" y="718"/>
                  </a:lnTo>
                  <a:lnTo>
                    <a:pt x="2049" y="711"/>
                  </a:lnTo>
                  <a:lnTo>
                    <a:pt x="2057" y="711"/>
                  </a:lnTo>
                  <a:lnTo>
                    <a:pt x="2064" y="711"/>
                  </a:lnTo>
                  <a:lnTo>
                    <a:pt x="2071" y="711"/>
                  </a:lnTo>
                  <a:lnTo>
                    <a:pt x="2078" y="711"/>
                  </a:lnTo>
                  <a:lnTo>
                    <a:pt x="2085" y="711"/>
                  </a:lnTo>
                  <a:lnTo>
                    <a:pt x="2093" y="704"/>
                  </a:lnTo>
                  <a:lnTo>
                    <a:pt x="2100" y="704"/>
                  </a:lnTo>
                  <a:lnTo>
                    <a:pt x="2107" y="704"/>
                  </a:lnTo>
                  <a:lnTo>
                    <a:pt x="2114" y="704"/>
                  </a:lnTo>
                  <a:lnTo>
                    <a:pt x="2122" y="704"/>
                  </a:lnTo>
                  <a:lnTo>
                    <a:pt x="2129" y="704"/>
                  </a:lnTo>
                  <a:lnTo>
                    <a:pt x="2136" y="704"/>
                  </a:lnTo>
                  <a:lnTo>
                    <a:pt x="2143" y="696"/>
                  </a:lnTo>
                  <a:lnTo>
                    <a:pt x="2150" y="696"/>
                  </a:lnTo>
                  <a:lnTo>
                    <a:pt x="2158" y="696"/>
                  </a:lnTo>
                  <a:lnTo>
                    <a:pt x="2165" y="696"/>
                  </a:lnTo>
                  <a:lnTo>
                    <a:pt x="2172" y="689"/>
                  </a:lnTo>
                  <a:lnTo>
                    <a:pt x="2179" y="689"/>
                  </a:lnTo>
                  <a:lnTo>
                    <a:pt x="2187" y="689"/>
                  </a:lnTo>
                  <a:lnTo>
                    <a:pt x="2194" y="689"/>
                  </a:lnTo>
                  <a:lnTo>
                    <a:pt x="2201" y="682"/>
                  </a:lnTo>
                  <a:lnTo>
                    <a:pt x="2208" y="682"/>
                  </a:lnTo>
                  <a:lnTo>
                    <a:pt x="2215" y="682"/>
                  </a:lnTo>
                  <a:lnTo>
                    <a:pt x="2223" y="682"/>
                  </a:lnTo>
                  <a:lnTo>
                    <a:pt x="2230" y="682"/>
                  </a:lnTo>
                  <a:lnTo>
                    <a:pt x="2237" y="675"/>
                  </a:lnTo>
                  <a:lnTo>
                    <a:pt x="2244" y="675"/>
                  </a:lnTo>
                  <a:lnTo>
                    <a:pt x="2251" y="675"/>
                  </a:lnTo>
                  <a:lnTo>
                    <a:pt x="2259" y="675"/>
                  </a:lnTo>
                  <a:lnTo>
                    <a:pt x="2266" y="675"/>
                  </a:lnTo>
                  <a:lnTo>
                    <a:pt x="2273" y="675"/>
                  </a:lnTo>
                  <a:lnTo>
                    <a:pt x="2280" y="675"/>
                  </a:lnTo>
                  <a:lnTo>
                    <a:pt x="2288" y="667"/>
                  </a:lnTo>
                  <a:lnTo>
                    <a:pt x="2295" y="667"/>
                  </a:lnTo>
                  <a:lnTo>
                    <a:pt x="2302" y="667"/>
                  </a:lnTo>
                  <a:lnTo>
                    <a:pt x="2309" y="667"/>
                  </a:lnTo>
                  <a:lnTo>
                    <a:pt x="2316" y="667"/>
                  </a:lnTo>
                  <a:lnTo>
                    <a:pt x="2324" y="667"/>
                  </a:lnTo>
                  <a:lnTo>
                    <a:pt x="2331" y="667"/>
                  </a:lnTo>
                  <a:lnTo>
                    <a:pt x="2338" y="660"/>
                  </a:lnTo>
                  <a:lnTo>
                    <a:pt x="2345" y="660"/>
                  </a:lnTo>
                  <a:lnTo>
                    <a:pt x="2353" y="660"/>
                  </a:lnTo>
                  <a:lnTo>
                    <a:pt x="2360" y="660"/>
                  </a:lnTo>
                  <a:lnTo>
                    <a:pt x="2367" y="660"/>
                  </a:lnTo>
                  <a:lnTo>
                    <a:pt x="2374" y="653"/>
                  </a:lnTo>
                  <a:lnTo>
                    <a:pt x="2381" y="653"/>
                  </a:lnTo>
                  <a:lnTo>
                    <a:pt x="2389" y="653"/>
                  </a:lnTo>
                  <a:lnTo>
                    <a:pt x="2396" y="653"/>
                  </a:lnTo>
                  <a:lnTo>
                    <a:pt x="2403" y="653"/>
                  </a:lnTo>
                  <a:lnTo>
                    <a:pt x="2410" y="646"/>
                  </a:lnTo>
                  <a:lnTo>
                    <a:pt x="2417" y="646"/>
                  </a:lnTo>
                  <a:lnTo>
                    <a:pt x="2425" y="646"/>
                  </a:lnTo>
                  <a:lnTo>
                    <a:pt x="2432" y="646"/>
                  </a:lnTo>
                  <a:lnTo>
                    <a:pt x="2439" y="646"/>
                  </a:lnTo>
                  <a:lnTo>
                    <a:pt x="2446" y="638"/>
                  </a:lnTo>
                  <a:lnTo>
                    <a:pt x="2454" y="638"/>
                  </a:lnTo>
                  <a:lnTo>
                    <a:pt x="2461" y="638"/>
                  </a:lnTo>
                  <a:lnTo>
                    <a:pt x="2468" y="638"/>
                  </a:lnTo>
                  <a:lnTo>
                    <a:pt x="2475" y="638"/>
                  </a:lnTo>
                  <a:lnTo>
                    <a:pt x="2482" y="631"/>
                  </a:lnTo>
                  <a:lnTo>
                    <a:pt x="2490" y="631"/>
                  </a:lnTo>
                  <a:lnTo>
                    <a:pt x="2497" y="631"/>
                  </a:lnTo>
                  <a:lnTo>
                    <a:pt x="2504" y="631"/>
                  </a:lnTo>
                  <a:lnTo>
                    <a:pt x="2511" y="624"/>
                  </a:lnTo>
                  <a:lnTo>
                    <a:pt x="2519" y="624"/>
                  </a:lnTo>
                  <a:lnTo>
                    <a:pt x="2526" y="624"/>
                  </a:lnTo>
                  <a:lnTo>
                    <a:pt x="2533" y="624"/>
                  </a:lnTo>
                  <a:lnTo>
                    <a:pt x="2540" y="624"/>
                  </a:lnTo>
                  <a:lnTo>
                    <a:pt x="2547" y="617"/>
                  </a:lnTo>
                  <a:lnTo>
                    <a:pt x="2555" y="617"/>
                  </a:lnTo>
                  <a:lnTo>
                    <a:pt x="2562" y="617"/>
                  </a:lnTo>
                  <a:lnTo>
                    <a:pt x="2569" y="617"/>
                  </a:lnTo>
                  <a:lnTo>
                    <a:pt x="2576" y="617"/>
                  </a:lnTo>
                  <a:lnTo>
                    <a:pt x="2583" y="609"/>
                  </a:lnTo>
                  <a:lnTo>
                    <a:pt x="2591" y="609"/>
                  </a:lnTo>
                  <a:lnTo>
                    <a:pt x="2598" y="609"/>
                  </a:lnTo>
                  <a:lnTo>
                    <a:pt x="2605" y="609"/>
                  </a:lnTo>
                  <a:lnTo>
                    <a:pt x="2612" y="602"/>
                  </a:lnTo>
                  <a:lnTo>
                    <a:pt x="2620" y="602"/>
                  </a:lnTo>
                  <a:lnTo>
                    <a:pt x="2627" y="602"/>
                  </a:lnTo>
                  <a:lnTo>
                    <a:pt x="2634" y="602"/>
                  </a:lnTo>
                  <a:lnTo>
                    <a:pt x="2641" y="595"/>
                  </a:lnTo>
                  <a:lnTo>
                    <a:pt x="2648" y="595"/>
                  </a:lnTo>
                  <a:lnTo>
                    <a:pt x="2656" y="595"/>
                  </a:lnTo>
                  <a:lnTo>
                    <a:pt x="2663" y="595"/>
                  </a:lnTo>
                  <a:lnTo>
                    <a:pt x="2670" y="588"/>
                  </a:lnTo>
                  <a:lnTo>
                    <a:pt x="2677" y="588"/>
                  </a:lnTo>
                  <a:lnTo>
                    <a:pt x="2685" y="588"/>
                  </a:lnTo>
                  <a:lnTo>
                    <a:pt x="2692" y="588"/>
                  </a:lnTo>
                  <a:lnTo>
                    <a:pt x="2699" y="580"/>
                  </a:lnTo>
                  <a:lnTo>
                    <a:pt x="2706" y="580"/>
                  </a:lnTo>
                  <a:lnTo>
                    <a:pt x="2713" y="580"/>
                  </a:lnTo>
                  <a:lnTo>
                    <a:pt x="2721" y="580"/>
                  </a:lnTo>
                  <a:lnTo>
                    <a:pt x="2728" y="573"/>
                  </a:lnTo>
                  <a:lnTo>
                    <a:pt x="2735" y="573"/>
                  </a:lnTo>
                  <a:lnTo>
                    <a:pt x="2742" y="573"/>
                  </a:lnTo>
                  <a:lnTo>
                    <a:pt x="2749" y="573"/>
                  </a:lnTo>
                  <a:lnTo>
                    <a:pt x="2757" y="566"/>
                  </a:lnTo>
                  <a:lnTo>
                    <a:pt x="2764" y="566"/>
                  </a:lnTo>
                  <a:lnTo>
                    <a:pt x="2771" y="559"/>
                  </a:lnTo>
                  <a:lnTo>
                    <a:pt x="2778" y="559"/>
                  </a:lnTo>
                  <a:lnTo>
                    <a:pt x="2786" y="559"/>
                  </a:lnTo>
                  <a:lnTo>
                    <a:pt x="2793" y="551"/>
                  </a:lnTo>
                  <a:lnTo>
                    <a:pt x="2800" y="551"/>
                  </a:lnTo>
                  <a:lnTo>
                    <a:pt x="2807" y="551"/>
                  </a:lnTo>
                  <a:lnTo>
                    <a:pt x="2814" y="551"/>
                  </a:lnTo>
                  <a:lnTo>
                    <a:pt x="2822" y="544"/>
                  </a:lnTo>
                  <a:lnTo>
                    <a:pt x="2829" y="544"/>
                  </a:lnTo>
                  <a:lnTo>
                    <a:pt x="2836" y="537"/>
                  </a:lnTo>
                  <a:lnTo>
                    <a:pt x="2843" y="537"/>
                  </a:lnTo>
                  <a:lnTo>
                    <a:pt x="2851" y="537"/>
                  </a:lnTo>
                  <a:lnTo>
                    <a:pt x="2858" y="537"/>
                  </a:lnTo>
                  <a:lnTo>
                    <a:pt x="2865" y="530"/>
                  </a:lnTo>
                  <a:lnTo>
                    <a:pt x="2872" y="530"/>
                  </a:lnTo>
                  <a:lnTo>
                    <a:pt x="2879" y="530"/>
                  </a:lnTo>
                  <a:lnTo>
                    <a:pt x="2887" y="522"/>
                  </a:lnTo>
                  <a:lnTo>
                    <a:pt x="2894" y="522"/>
                  </a:lnTo>
                  <a:lnTo>
                    <a:pt x="2901" y="515"/>
                  </a:lnTo>
                  <a:lnTo>
                    <a:pt x="2908" y="515"/>
                  </a:lnTo>
                  <a:lnTo>
                    <a:pt x="2915" y="515"/>
                  </a:lnTo>
                  <a:lnTo>
                    <a:pt x="2923" y="508"/>
                  </a:lnTo>
                  <a:lnTo>
                    <a:pt x="2930" y="508"/>
                  </a:lnTo>
                  <a:lnTo>
                    <a:pt x="2937" y="508"/>
                  </a:lnTo>
                  <a:lnTo>
                    <a:pt x="2944" y="508"/>
                  </a:lnTo>
                  <a:lnTo>
                    <a:pt x="2952" y="501"/>
                  </a:lnTo>
                  <a:lnTo>
                    <a:pt x="2959" y="501"/>
                  </a:lnTo>
                  <a:lnTo>
                    <a:pt x="2966" y="501"/>
                  </a:lnTo>
                  <a:lnTo>
                    <a:pt x="2973" y="493"/>
                  </a:lnTo>
                  <a:lnTo>
                    <a:pt x="2980" y="486"/>
                  </a:lnTo>
                  <a:lnTo>
                    <a:pt x="2988" y="479"/>
                  </a:lnTo>
                  <a:lnTo>
                    <a:pt x="2995" y="472"/>
                  </a:lnTo>
                  <a:lnTo>
                    <a:pt x="3002" y="472"/>
                  </a:lnTo>
                  <a:lnTo>
                    <a:pt x="3009" y="464"/>
                  </a:lnTo>
                  <a:lnTo>
                    <a:pt x="3017" y="464"/>
                  </a:lnTo>
                  <a:lnTo>
                    <a:pt x="3024" y="464"/>
                  </a:lnTo>
                  <a:lnTo>
                    <a:pt x="3031" y="457"/>
                  </a:lnTo>
                  <a:lnTo>
                    <a:pt x="3038" y="457"/>
                  </a:lnTo>
                  <a:lnTo>
                    <a:pt x="3038" y="443"/>
                  </a:lnTo>
                  <a:lnTo>
                    <a:pt x="3045" y="435"/>
                  </a:lnTo>
                  <a:lnTo>
                    <a:pt x="3045" y="421"/>
                  </a:lnTo>
                  <a:lnTo>
                    <a:pt x="3053" y="414"/>
                  </a:lnTo>
                  <a:lnTo>
                    <a:pt x="3060" y="406"/>
                  </a:lnTo>
                  <a:lnTo>
                    <a:pt x="3067" y="399"/>
                  </a:lnTo>
                  <a:lnTo>
                    <a:pt x="3074" y="377"/>
                  </a:lnTo>
                  <a:lnTo>
                    <a:pt x="3074" y="348"/>
                  </a:lnTo>
                  <a:lnTo>
                    <a:pt x="3081" y="348"/>
                  </a:lnTo>
                  <a:lnTo>
                    <a:pt x="3081" y="334"/>
                  </a:lnTo>
                  <a:lnTo>
                    <a:pt x="3081" y="319"/>
                  </a:lnTo>
                  <a:lnTo>
                    <a:pt x="3089" y="297"/>
                  </a:lnTo>
                  <a:lnTo>
                    <a:pt x="3089" y="290"/>
                  </a:lnTo>
                  <a:lnTo>
                    <a:pt x="3096" y="283"/>
                  </a:lnTo>
                  <a:lnTo>
                    <a:pt x="3103" y="276"/>
                  </a:lnTo>
                  <a:lnTo>
                    <a:pt x="3103" y="247"/>
                  </a:lnTo>
                  <a:lnTo>
                    <a:pt x="3103" y="232"/>
                  </a:lnTo>
                  <a:lnTo>
                    <a:pt x="3110" y="203"/>
                  </a:lnTo>
                  <a:lnTo>
                    <a:pt x="3110" y="196"/>
                  </a:lnTo>
                  <a:lnTo>
                    <a:pt x="3118" y="160"/>
                  </a:lnTo>
                  <a:lnTo>
                    <a:pt x="3118" y="123"/>
                  </a:lnTo>
                  <a:lnTo>
                    <a:pt x="3125" y="73"/>
                  </a:lnTo>
                  <a:lnTo>
                    <a:pt x="3125" y="0"/>
                  </a:lnTo>
                </a:path>
              </a:pathLst>
            </a:custGeom>
            <a:noFill/>
            <a:ln w="11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578840" y="258300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ms: 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03320" y="2836800"/>
              <a:ext cx="182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mber of Channels: 1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638440" y="2583000"/>
              <a:ext cx="1024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0 0 2 0 0 2 0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638800" y="2836800"/>
              <a:ext cx="57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rs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638440" y="3078000"/>
              <a:ext cx="1024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 4 7 4 0 2 3 3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9D17-0842-493C-9EAF-513B178BAB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“flexible” component of Harris/Lucent 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of best solution was solicited in July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Solution has more robust multipath tole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Hardware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CK decoder structure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FT method) is independent of choice of scramble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al Invar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ial” precoding of 2 bits per codeword is mainta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C422-60F0-43BF-82B9-2639A66937C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Chris Heegard</dc:creator>
  <dc:description/>
  <dc:language>en-US</dc:language>
  <cp:lastModifiedBy>Bozo T. Clown</cp:lastModifiedBy>
  <cp:lastPrinted>1998-02-10T13:28:06Z</cp:lastPrinted>
  <dcterms:modified xsi:type="dcterms:W3CDTF">1998-09-15T15:25:33Z</dcterms:modified>
  <cp:revision>39</cp:revision>
  <dc:subject/>
  <dc:title>Cover Vector</dc:title>
</cp:coreProperties>
</file>