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3F8-83CD-49D0-AC15-CD604BEF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28F-9248-412F-B71F-0E3E0AA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A2C-2070-48D4-9AA5-045D8F1D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2A5-A069-4C49-8821-BC7F312A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D77-37C3-4D39-BE29-EC24476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B29-DC75-49AB-9C78-F7998B8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9C5-0930-4913-B84F-CFD5D35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397-C73E-4130-8045-8E4E4AE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2B2-DB1A-4BC9-B5C9-7C3C9CA3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7EF-C2FE-4F8B-8747-8927CAB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243-8E67-4E48-8750-B847E4D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17B-1553-4F34-A503-4D86CC0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951A89-69EC-42FC-B4D3-426868075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77120"/>
            <a:ext cx="108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of PBC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35440" y="2387520"/>
            <a:ext cx="304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2AE-0393-4C21-97A2-DE438DEB6C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er Building Penetr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allows the system to achieve transmission “through one more wall”.  This again yields an increased cell size and more flexible cell/network planning.</a:t>
            </a:r>
            <a:br>
              <a:rPr sz="14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ystem Robustness in the ISM Band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ervices are beginning to crowd the ISM bands utilized by the 802.11 2.4 GHz wireless LAN standard. An additional 3 dB coding gain provides system robustness and operating margin against existing and emerging services within the 2.4 GHz ISM ba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gher Network Throughpu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improves network throughput. First, an additional 3 dB coding gain improves the performance of marginal clients. Clients operating at a 30 ~ 40% packet error rate with the standard FEC can now operate at 10% PER with the optional high-performance FEC. Second, clients operating at 10% PER with the standard FEC can now operate at significantly lower PERs with the optional high-performance FEC. In either case, the overall throughput of the network will increase significan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F8D-7501-4D3F-8768-158C56ECEA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B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state binary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 requires 6 bits of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ed onto QPSK, just like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84440" y="3886200"/>
          <a:ext cx="397368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886200"/>
                    <a:ext cx="39736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5A9-788C-4F50-9179-A7F7DAEAA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an 8 bit in, 16 bit out block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rate 1/2, just like P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described by a generator over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[ 1 1 1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1 1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 1 0 1]     (see doc 98-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801-10DE-4A4E-B1EE-81E80A9BBC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26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132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16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64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48E-6E91-40C8-AEF8-F2B6940B00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06400" y="1565280"/>
            <a:ext cx="5537520" cy="5216400"/>
            <a:chOff x="1706400" y="1565280"/>
            <a:chExt cx="5537520" cy="5216400"/>
          </a:xfrm>
        </p:grpSpPr>
        <p:sp>
          <p:nvSpPr>
            <p:cNvPr id="61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668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2880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3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5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776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284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496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00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392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9748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36680" y="57578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36680" y="497340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36680" y="419076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36680" y="339552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6680" y="261288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18302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36680" y="57578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3668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668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70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72880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880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396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33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33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9392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25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5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080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1776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1776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6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2284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284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764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21496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496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768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708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8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936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200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00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6104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70392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392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90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9748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748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578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6680" y="57578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51400" y="57578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28880" y="5665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95200" y="56070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6680" y="49734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1400" y="497340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8880" y="4881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95200" y="48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6680" y="41907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51400" y="419076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8880" y="409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95200" y="4041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6680" y="339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51400" y="339552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8880" y="3303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5200" y="32461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6680" y="26128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51400" y="261288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28880" y="2520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5200" y="2463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6680" y="18302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51400" y="18302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8880" y="1738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5560" y="1680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6680" y="2520720"/>
              <a:ext cx="2978280" cy="335160"/>
            </a:xfrm>
            <a:custGeom>
              <a:avLst/>
              <a:gdLst/>
              <a:ahLst/>
              <a:rect l="l" t="t" r="r" b="b"/>
              <a:pathLst>
                <a:path w="1876" h="211">
                  <a:moveTo>
                    <a:pt x="0" y="0"/>
                  </a:moveTo>
                  <a:lnTo>
                    <a:pt x="65" y="7"/>
                  </a:lnTo>
                  <a:lnTo>
                    <a:pt x="122" y="15"/>
                  </a:lnTo>
                  <a:lnTo>
                    <a:pt x="187" y="15"/>
                  </a:lnTo>
                  <a:lnTo>
                    <a:pt x="252" y="22"/>
                  </a:lnTo>
                  <a:lnTo>
                    <a:pt x="310" y="29"/>
                  </a:lnTo>
                  <a:lnTo>
                    <a:pt x="375" y="36"/>
                  </a:lnTo>
                  <a:lnTo>
                    <a:pt x="440" y="36"/>
                  </a:lnTo>
                  <a:lnTo>
                    <a:pt x="498" y="44"/>
                  </a:lnTo>
                  <a:lnTo>
                    <a:pt x="563" y="51"/>
                  </a:lnTo>
                  <a:lnTo>
                    <a:pt x="628" y="58"/>
                  </a:lnTo>
                  <a:lnTo>
                    <a:pt x="685" y="65"/>
                  </a:lnTo>
                  <a:lnTo>
                    <a:pt x="750" y="73"/>
                  </a:lnTo>
                  <a:lnTo>
                    <a:pt x="815" y="80"/>
                  </a:lnTo>
                  <a:lnTo>
                    <a:pt x="873" y="80"/>
                  </a:lnTo>
                  <a:lnTo>
                    <a:pt x="938" y="87"/>
                  </a:lnTo>
                  <a:lnTo>
                    <a:pt x="1003" y="94"/>
                  </a:lnTo>
                  <a:lnTo>
                    <a:pt x="1061" y="102"/>
                  </a:lnTo>
                  <a:lnTo>
                    <a:pt x="1126" y="109"/>
                  </a:lnTo>
                  <a:lnTo>
                    <a:pt x="1191" y="116"/>
                  </a:lnTo>
                  <a:lnTo>
                    <a:pt x="1248" y="123"/>
                  </a:lnTo>
                  <a:lnTo>
                    <a:pt x="1313" y="138"/>
                  </a:lnTo>
                  <a:lnTo>
                    <a:pt x="1378" y="145"/>
                  </a:lnTo>
                  <a:lnTo>
                    <a:pt x="1436" y="152"/>
                  </a:lnTo>
                  <a:lnTo>
                    <a:pt x="1501" y="160"/>
                  </a:lnTo>
                  <a:lnTo>
                    <a:pt x="1566" y="167"/>
                  </a:lnTo>
                  <a:lnTo>
                    <a:pt x="1624" y="174"/>
                  </a:lnTo>
                  <a:lnTo>
                    <a:pt x="1689" y="181"/>
                  </a:lnTo>
                  <a:lnTo>
                    <a:pt x="1746" y="196"/>
                  </a:lnTo>
                  <a:lnTo>
                    <a:pt x="1811" y="203"/>
                  </a:lnTo>
                  <a:lnTo>
                    <a:pt x="1876" y="21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1760" y="35924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5080" y="36734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6880" y="374148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0200" y="383364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3520" y="39034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3880" y="401796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7200" y="40878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00160" y="42019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92320" y="426060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5640" y="43862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8600" y="445608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90760" y="457020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94080" y="46162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97040" y="470844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7760" y="489420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0720" y="49622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94040" y="50781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18148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9160" y="527364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2480" y="54115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4640" y="554976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7600" y="5607000"/>
              <a:ext cx="9072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3160" y="156528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t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87400" y="59990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40520" y="3728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6680" y="3627360"/>
              <a:ext cx="2978280" cy="3154320"/>
            </a:xfrm>
            <a:custGeom>
              <a:avLst/>
              <a:gdLst/>
              <a:ahLst/>
              <a:rect l="l" t="t" r="r" b="b"/>
              <a:pathLst>
                <a:path w="1876" h="1987">
                  <a:moveTo>
                    <a:pt x="0" y="0"/>
                  </a:moveTo>
                  <a:lnTo>
                    <a:pt x="65" y="50"/>
                  </a:lnTo>
                  <a:lnTo>
                    <a:pt x="122" y="94"/>
                  </a:lnTo>
                  <a:lnTo>
                    <a:pt x="187" y="152"/>
                  </a:lnTo>
                  <a:lnTo>
                    <a:pt x="252" y="195"/>
                  </a:lnTo>
                  <a:lnTo>
                    <a:pt x="310" y="268"/>
                  </a:lnTo>
                  <a:lnTo>
                    <a:pt x="375" y="311"/>
                  </a:lnTo>
                  <a:lnTo>
                    <a:pt x="440" y="384"/>
                  </a:lnTo>
                  <a:lnTo>
                    <a:pt x="498" y="420"/>
                  </a:lnTo>
                  <a:lnTo>
                    <a:pt x="563" y="500"/>
                  </a:lnTo>
                  <a:lnTo>
                    <a:pt x="628" y="544"/>
                  </a:lnTo>
                  <a:lnTo>
                    <a:pt x="685" y="616"/>
                  </a:lnTo>
                  <a:lnTo>
                    <a:pt x="750" y="645"/>
                  </a:lnTo>
                  <a:lnTo>
                    <a:pt x="815" y="703"/>
                  </a:lnTo>
                  <a:lnTo>
                    <a:pt x="873" y="819"/>
                  </a:lnTo>
                  <a:lnTo>
                    <a:pt x="938" y="863"/>
                  </a:lnTo>
                  <a:lnTo>
                    <a:pt x="1003" y="935"/>
                  </a:lnTo>
                  <a:lnTo>
                    <a:pt x="1061" y="1001"/>
                  </a:lnTo>
                  <a:lnTo>
                    <a:pt x="1126" y="1059"/>
                  </a:lnTo>
                  <a:lnTo>
                    <a:pt x="1191" y="1146"/>
                  </a:lnTo>
                  <a:lnTo>
                    <a:pt x="1248" y="1233"/>
                  </a:lnTo>
                  <a:lnTo>
                    <a:pt x="1313" y="1269"/>
                  </a:lnTo>
                  <a:lnTo>
                    <a:pt x="1378" y="1371"/>
                  </a:lnTo>
                  <a:lnTo>
                    <a:pt x="1436" y="1429"/>
                  </a:lnTo>
                  <a:lnTo>
                    <a:pt x="1501" y="1472"/>
                  </a:lnTo>
                  <a:lnTo>
                    <a:pt x="1566" y="1566"/>
                  </a:lnTo>
                  <a:lnTo>
                    <a:pt x="1624" y="1595"/>
                  </a:lnTo>
                  <a:lnTo>
                    <a:pt x="1689" y="1726"/>
                  </a:lnTo>
                  <a:lnTo>
                    <a:pt x="1746" y="1784"/>
                  </a:lnTo>
                  <a:lnTo>
                    <a:pt x="1811" y="1849"/>
                  </a:lnTo>
                  <a:lnTo>
                    <a:pt x="1876" y="19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7760" y="2716200"/>
              <a:ext cx="2979720" cy="507960"/>
            </a:xfrm>
            <a:custGeom>
              <a:avLst/>
              <a:gdLst/>
              <a:ahLst/>
              <a:rect l="l" t="t" r="r" b="b"/>
              <a:pathLst>
                <a:path w="1877" h="320">
                  <a:moveTo>
                    <a:pt x="0" y="0"/>
                  </a:moveTo>
                  <a:lnTo>
                    <a:pt x="65" y="15"/>
                  </a:lnTo>
                  <a:lnTo>
                    <a:pt x="130" y="22"/>
                  </a:lnTo>
                  <a:lnTo>
                    <a:pt x="188" y="29"/>
                  </a:lnTo>
                  <a:lnTo>
                    <a:pt x="253" y="37"/>
                  </a:lnTo>
                  <a:lnTo>
                    <a:pt x="318" y="44"/>
                  </a:lnTo>
                  <a:lnTo>
                    <a:pt x="376" y="51"/>
                  </a:lnTo>
                  <a:lnTo>
                    <a:pt x="441" y="58"/>
                  </a:lnTo>
                  <a:lnTo>
                    <a:pt x="498" y="73"/>
                  </a:lnTo>
                  <a:lnTo>
                    <a:pt x="563" y="80"/>
                  </a:lnTo>
                  <a:lnTo>
                    <a:pt x="628" y="88"/>
                  </a:lnTo>
                  <a:lnTo>
                    <a:pt x="686" y="95"/>
                  </a:lnTo>
                  <a:lnTo>
                    <a:pt x="751" y="109"/>
                  </a:lnTo>
                  <a:lnTo>
                    <a:pt x="816" y="117"/>
                  </a:lnTo>
                  <a:lnTo>
                    <a:pt x="874" y="131"/>
                  </a:lnTo>
                  <a:lnTo>
                    <a:pt x="939" y="138"/>
                  </a:lnTo>
                  <a:lnTo>
                    <a:pt x="1003" y="146"/>
                  </a:lnTo>
                  <a:lnTo>
                    <a:pt x="1061" y="160"/>
                  </a:lnTo>
                  <a:lnTo>
                    <a:pt x="1126" y="167"/>
                  </a:lnTo>
                  <a:lnTo>
                    <a:pt x="1191" y="182"/>
                  </a:lnTo>
                  <a:lnTo>
                    <a:pt x="1249" y="196"/>
                  </a:lnTo>
                  <a:lnTo>
                    <a:pt x="1314" y="204"/>
                  </a:lnTo>
                  <a:lnTo>
                    <a:pt x="1379" y="218"/>
                  </a:lnTo>
                  <a:lnTo>
                    <a:pt x="1437" y="225"/>
                  </a:lnTo>
                  <a:lnTo>
                    <a:pt x="1501" y="240"/>
                  </a:lnTo>
                  <a:lnTo>
                    <a:pt x="1566" y="254"/>
                  </a:lnTo>
                  <a:lnTo>
                    <a:pt x="1624" y="269"/>
                  </a:lnTo>
                  <a:lnTo>
                    <a:pt x="1689" y="283"/>
                  </a:lnTo>
                  <a:lnTo>
                    <a:pt x="1754" y="291"/>
                  </a:lnTo>
                  <a:lnTo>
                    <a:pt x="1812" y="305"/>
                  </a:lnTo>
                  <a:lnTo>
                    <a:pt x="1877" y="32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2040" y="358128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7760" y="3535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75000" y="36273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21080" y="35812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78320" y="36734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4400" y="36273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70480" y="37195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3673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3440" y="37414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9520" y="369540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76760" y="379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2840" y="37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8920" y="384480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14640" y="37987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1880" y="38797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7960" y="3833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62600" y="394956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8320" y="39034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5560" y="39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1640" y="39369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68880" y="4028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14960" y="39830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61040" y="40986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6760" y="405288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4000" y="41209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074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7320" y="4190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3400" y="41446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59480" y="423684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05200" y="41907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62440" y="42829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8520" y="4236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3750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0040" y="43290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56120" y="44449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4398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59440" y="4512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5520" y="44672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62400" y="453708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08480" y="44910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4560" y="4651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0640" y="46051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7880" y="4674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3960" y="46288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1200" y="46861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6920" y="46400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3000" y="48355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99080" y="4789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6320" y="48592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00600" y="4813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500832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3920" y="49622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0000" y="50320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6080" y="49863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3320" y="507816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99040" y="50320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56280" y="5192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2360" y="51465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8440" y="523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4520" y="519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51760" y="5330520"/>
              <a:ext cx="56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7480" y="52848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908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69872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964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48928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8808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8772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3720" y="530856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173360" y="5319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7760" y="3581280"/>
              <a:ext cx="2979720" cy="1749240"/>
            </a:xfrm>
            <a:custGeom>
              <a:avLst/>
              <a:gdLst/>
              <a:ahLst/>
              <a:rect l="l" t="t" r="r" b="b"/>
              <a:pathLst>
                <a:path w="1877" h="1102">
                  <a:moveTo>
                    <a:pt x="0" y="0"/>
                  </a:moveTo>
                  <a:lnTo>
                    <a:pt x="65" y="29"/>
                  </a:lnTo>
                  <a:lnTo>
                    <a:pt x="130" y="58"/>
                  </a:lnTo>
                  <a:lnTo>
                    <a:pt x="188" y="87"/>
                  </a:lnTo>
                  <a:lnTo>
                    <a:pt x="253" y="101"/>
                  </a:lnTo>
                  <a:lnTo>
                    <a:pt x="318" y="137"/>
                  </a:lnTo>
                  <a:lnTo>
                    <a:pt x="376" y="166"/>
                  </a:lnTo>
                  <a:lnTo>
                    <a:pt x="441" y="188"/>
                  </a:lnTo>
                  <a:lnTo>
                    <a:pt x="498" y="232"/>
                  </a:lnTo>
                  <a:lnTo>
                    <a:pt x="563" y="253"/>
                  </a:lnTo>
                  <a:lnTo>
                    <a:pt x="628" y="282"/>
                  </a:lnTo>
                  <a:lnTo>
                    <a:pt x="686" y="326"/>
                  </a:lnTo>
                  <a:lnTo>
                    <a:pt x="751" y="340"/>
                  </a:lnTo>
                  <a:lnTo>
                    <a:pt x="816" y="384"/>
                  </a:lnTo>
                  <a:lnTo>
                    <a:pt x="874" y="413"/>
                  </a:lnTo>
                  <a:lnTo>
                    <a:pt x="939" y="442"/>
                  </a:lnTo>
                  <a:lnTo>
                    <a:pt x="1003" y="500"/>
                  </a:lnTo>
                  <a:lnTo>
                    <a:pt x="1061" y="544"/>
                  </a:lnTo>
                  <a:lnTo>
                    <a:pt x="1126" y="587"/>
                  </a:lnTo>
                  <a:lnTo>
                    <a:pt x="1191" y="602"/>
                  </a:lnTo>
                  <a:lnTo>
                    <a:pt x="1249" y="674"/>
                  </a:lnTo>
                  <a:lnTo>
                    <a:pt x="1314" y="689"/>
                  </a:lnTo>
                  <a:lnTo>
                    <a:pt x="1379" y="696"/>
                  </a:lnTo>
                  <a:lnTo>
                    <a:pt x="1437" y="790"/>
                  </a:lnTo>
                  <a:lnTo>
                    <a:pt x="1501" y="805"/>
                  </a:lnTo>
                  <a:lnTo>
                    <a:pt x="1566" y="899"/>
                  </a:lnTo>
                  <a:lnTo>
                    <a:pt x="1624" y="914"/>
                  </a:lnTo>
                  <a:lnTo>
                    <a:pt x="1689" y="943"/>
                  </a:lnTo>
                  <a:lnTo>
                    <a:pt x="1754" y="1015"/>
                  </a:lnTo>
                  <a:lnTo>
                    <a:pt x="1812" y="1044"/>
                  </a:lnTo>
                  <a:lnTo>
                    <a:pt x="1877" y="11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0E1-2BA7-40C5-9E48-BCD59DED66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523880" y="1579680"/>
            <a:ext cx="5602320" cy="4669200"/>
            <a:chOff x="1523880" y="1579680"/>
            <a:chExt cx="5602320" cy="4669200"/>
          </a:xfrm>
        </p:grpSpPr>
        <p:sp>
          <p:nvSpPr>
            <p:cNvPr id="300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8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7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66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65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65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488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73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720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03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815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58840" y="582156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449280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8840" y="317664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8840" y="184788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5821560"/>
              <a:ext cx="5021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58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19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557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57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080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066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6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27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565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5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0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065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255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7488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58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73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3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388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5720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720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554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0703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03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307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5815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15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6488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08012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012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4016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58840" y="582156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32600" y="58215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47800" y="5727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15920" y="5670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8840" y="44928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032600" y="449280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47800" y="4399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5920" y="43419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8840" y="317664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32600" y="317664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7800" y="3083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15920" y="30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8840" y="184788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032600" y="1847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47800" y="1754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15920" y="169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8840" y="3013200"/>
              <a:ext cx="3014640" cy="569880"/>
            </a:xfrm>
            <a:custGeom>
              <a:avLst/>
              <a:gdLst/>
              <a:ahLst/>
              <a:rect l="l" t="t" r="r" b="b"/>
              <a:pathLst>
                <a:path w="1899" h="359">
                  <a:moveTo>
                    <a:pt x="0" y="0"/>
                  </a:moveTo>
                  <a:lnTo>
                    <a:pt x="66" y="7"/>
                  </a:lnTo>
                  <a:lnTo>
                    <a:pt x="124" y="22"/>
                  </a:lnTo>
                  <a:lnTo>
                    <a:pt x="190" y="29"/>
                  </a:lnTo>
                  <a:lnTo>
                    <a:pt x="256" y="36"/>
                  </a:lnTo>
                  <a:lnTo>
                    <a:pt x="314" y="44"/>
                  </a:lnTo>
                  <a:lnTo>
                    <a:pt x="380" y="58"/>
                  </a:lnTo>
                  <a:lnTo>
                    <a:pt x="445" y="66"/>
                  </a:lnTo>
                  <a:lnTo>
                    <a:pt x="504" y="73"/>
                  </a:lnTo>
                  <a:lnTo>
                    <a:pt x="570" y="88"/>
                  </a:lnTo>
                  <a:lnTo>
                    <a:pt x="635" y="95"/>
                  </a:lnTo>
                  <a:lnTo>
                    <a:pt x="694" y="110"/>
                  </a:lnTo>
                  <a:lnTo>
                    <a:pt x="760" y="117"/>
                  </a:lnTo>
                  <a:lnTo>
                    <a:pt x="825" y="132"/>
                  </a:lnTo>
                  <a:lnTo>
                    <a:pt x="884" y="139"/>
                  </a:lnTo>
                  <a:lnTo>
                    <a:pt x="949" y="154"/>
                  </a:lnTo>
                  <a:lnTo>
                    <a:pt x="1015" y="161"/>
                  </a:lnTo>
                  <a:lnTo>
                    <a:pt x="1074" y="176"/>
                  </a:lnTo>
                  <a:lnTo>
                    <a:pt x="1139" y="191"/>
                  </a:lnTo>
                  <a:lnTo>
                    <a:pt x="1205" y="198"/>
                  </a:lnTo>
                  <a:lnTo>
                    <a:pt x="1264" y="213"/>
                  </a:lnTo>
                  <a:lnTo>
                    <a:pt x="1329" y="227"/>
                  </a:lnTo>
                  <a:lnTo>
                    <a:pt x="1395" y="242"/>
                  </a:lnTo>
                  <a:lnTo>
                    <a:pt x="1453" y="257"/>
                  </a:lnTo>
                  <a:lnTo>
                    <a:pt x="1519" y="264"/>
                  </a:lnTo>
                  <a:lnTo>
                    <a:pt x="1585" y="279"/>
                  </a:lnTo>
                  <a:lnTo>
                    <a:pt x="1643" y="293"/>
                  </a:lnTo>
                  <a:lnTo>
                    <a:pt x="1709" y="308"/>
                  </a:lnTo>
                  <a:lnTo>
                    <a:pt x="1768" y="323"/>
                  </a:lnTo>
                  <a:lnTo>
                    <a:pt x="1833" y="337"/>
                  </a:lnTo>
                  <a:lnTo>
                    <a:pt x="1899" y="359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2392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68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20840" y="1812960"/>
              <a:ext cx="936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560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036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22160" y="1812960"/>
              <a:ext cx="939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7280" y="18241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2040" y="184788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23840" y="185904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28600" y="19288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31920" y="19638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25520" y="20685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30280" y="21034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33600" y="2184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7200" y="239580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31960" y="247680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2616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28880" y="2779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32200" y="293076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6960" y="31528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0560" y="33037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33520" y="3432240"/>
              <a:ext cx="939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38280" y="3700440"/>
              <a:ext cx="9396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2240" y="37944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35200" y="39211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39960" y="41547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32120" y="4224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36880" y="45864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30480" y="4795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33800" y="4935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38560" y="52387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8640" y="15796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36560" y="60660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1458000" y="37702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8840" y="1847880"/>
              <a:ext cx="3014640" cy="3425760"/>
            </a:xfrm>
            <a:custGeom>
              <a:avLst/>
              <a:gdLst/>
              <a:ahLst/>
              <a:rect l="l" t="t" r="r" b="b"/>
              <a:pathLst>
                <a:path w="1899" h="2158">
                  <a:moveTo>
                    <a:pt x="0" y="0"/>
                  </a:moveTo>
                  <a:lnTo>
                    <a:pt x="66" y="0"/>
                  </a:lnTo>
                  <a:lnTo>
                    <a:pt x="124" y="0"/>
                  </a:lnTo>
                  <a:lnTo>
                    <a:pt x="190" y="0"/>
                  </a:lnTo>
                  <a:lnTo>
                    <a:pt x="256" y="0"/>
                  </a:lnTo>
                  <a:lnTo>
                    <a:pt x="314" y="0"/>
                  </a:lnTo>
                  <a:lnTo>
                    <a:pt x="380" y="7"/>
                  </a:lnTo>
                  <a:lnTo>
                    <a:pt x="445" y="22"/>
                  </a:lnTo>
                  <a:lnTo>
                    <a:pt x="504" y="29"/>
                  </a:lnTo>
                  <a:lnTo>
                    <a:pt x="570" y="73"/>
                  </a:lnTo>
                  <a:lnTo>
                    <a:pt x="635" y="95"/>
                  </a:lnTo>
                  <a:lnTo>
                    <a:pt x="694" y="161"/>
                  </a:lnTo>
                  <a:lnTo>
                    <a:pt x="760" y="183"/>
                  </a:lnTo>
                  <a:lnTo>
                    <a:pt x="825" y="235"/>
                  </a:lnTo>
                  <a:lnTo>
                    <a:pt x="884" y="367"/>
                  </a:lnTo>
                  <a:lnTo>
                    <a:pt x="949" y="418"/>
                  </a:lnTo>
                  <a:lnTo>
                    <a:pt x="1015" y="506"/>
                  </a:lnTo>
                  <a:lnTo>
                    <a:pt x="1074" y="609"/>
                  </a:lnTo>
                  <a:lnTo>
                    <a:pt x="1139" y="704"/>
                  </a:lnTo>
                  <a:lnTo>
                    <a:pt x="1205" y="844"/>
                  </a:lnTo>
                  <a:lnTo>
                    <a:pt x="1264" y="939"/>
                  </a:lnTo>
                  <a:lnTo>
                    <a:pt x="1329" y="1020"/>
                  </a:lnTo>
                  <a:lnTo>
                    <a:pt x="1395" y="1189"/>
                  </a:lnTo>
                  <a:lnTo>
                    <a:pt x="1453" y="1248"/>
                  </a:lnTo>
                  <a:lnTo>
                    <a:pt x="1519" y="1328"/>
                  </a:lnTo>
                  <a:lnTo>
                    <a:pt x="1585" y="1475"/>
                  </a:lnTo>
                  <a:lnTo>
                    <a:pt x="1643" y="1519"/>
                  </a:lnTo>
                  <a:lnTo>
                    <a:pt x="1709" y="1747"/>
                  </a:lnTo>
                  <a:lnTo>
                    <a:pt x="1768" y="1879"/>
                  </a:lnTo>
                  <a:lnTo>
                    <a:pt x="1833" y="1967"/>
                  </a:lnTo>
                  <a:lnTo>
                    <a:pt x="1899" y="21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65480" y="3351240"/>
              <a:ext cx="3014640" cy="851040"/>
            </a:xfrm>
            <a:custGeom>
              <a:avLst/>
              <a:gdLst/>
              <a:ahLst/>
              <a:rect l="l" t="t" r="r" b="b"/>
              <a:pathLst>
                <a:path w="1899" h="536">
                  <a:moveTo>
                    <a:pt x="0" y="0"/>
                  </a:moveTo>
                  <a:lnTo>
                    <a:pt x="65" y="14"/>
                  </a:lnTo>
                  <a:lnTo>
                    <a:pt x="131" y="29"/>
                  </a:lnTo>
                  <a:lnTo>
                    <a:pt x="189" y="44"/>
                  </a:lnTo>
                  <a:lnTo>
                    <a:pt x="255" y="51"/>
                  </a:lnTo>
                  <a:lnTo>
                    <a:pt x="321" y="66"/>
                  </a:lnTo>
                  <a:lnTo>
                    <a:pt x="379" y="80"/>
                  </a:lnTo>
                  <a:lnTo>
                    <a:pt x="445" y="95"/>
                  </a:lnTo>
                  <a:lnTo>
                    <a:pt x="504" y="110"/>
                  </a:lnTo>
                  <a:lnTo>
                    <a:pt x="569" y="124"/>
                  </a:lnTo>
                  <a:lnTo>
                    <a:pt x="635" y="146"/>
                  </a:lnTo>
                  <a:lnTo>
                    <a:pt x="693" y="161"/>
                  </a:lnTo>
                  <a:lnTo>
                    <a:pt x="759" y="176"/>
                  </a:lnTo>
                  <a:lnTo>
                    <a:pt x="825" y="191"/>
                  </a:lnTo>
                  <a:lnTo>
                    <a:pt x="883" y="213"/>
                  </a:lnTo>
                  <a:lnTo>
                    <a:pt x="949" y="227"/>
                  </a:lnTo>
                  <a:lnTo>
                    <a:pt x="1015" y="242"/>
                  </a:lnTo>
                  <a:lnTo>
                    <a:pt x="1073" y="264"/>
                  </a:lnTo>
                  <a:lnTo>
                    <a:pt x="1139" y="279"/>
                  </a:lnTo>
                  <a:lnTo>
                    <a:pt x="1205" y="301"/>
                  </a:lnTo>
                  <a:lnTo>
                    <a:pt x="1263" y="323"/>
                  </a:lnTo>
                  <a:lnTo>
                    <a:pt x="1329" y="337"/>
                  </a:lnTo>
                  <a:lnTo>
                    <a:pt x="1395" y="359"/>
                  </a:lnTo>
                  <a:lnTo>
                    <a:pt x="1453" y="381"/>
                  </a:lnTo>
                  <a:lnTo>
                    <a:pt x="1519" y="403"/>
                  </a:lnTo>
                  <a:lnTo>
                    <a:pt x="1585" y="425"/>
                  </a:lnTo>
                  <a:lnTo>
                    <a:pt x="1643" y="447"/>
                  </a:lnTo>
                  <a:lnTo>
                    <a:pt x="1709" y="469"/>
                  </a:lnTo>
                  <a:lnTo>
                    <a:pt x="1775" y="491"/>
                  </a:lnTo>
                  <a:lnTo>
                    <a:pt x="1833" y="514"/>
                  </a:lnTo>
                  <a:lnTo>
                    <a:pt x="1899" y="536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1760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2236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6844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27480" y="184788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2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92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536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2404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012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880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2096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6704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2572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7180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178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654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2264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7400" y="1870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7348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9560" y="1870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564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4320" y="185904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0400" y="1847880"/>
              <a:ext cx="1440" cy="57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9080" y="1905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5160" y="18590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21240" y="191772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7320" y="187020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26000" y="19638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2080" y="191772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0760" y="199872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76840" y="19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22560" y="203364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8640" y="19875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27680" y="211464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3400" y="206856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2440" y="21384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8160" y="20923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4240" y="223200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70320" y="21844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29000" y="2256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5080" y="220824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2320" y="232596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9840" y="22780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5920" y="2465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72000" y="2417760"/>
              <a:ext cx="1440" cy="939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30680" y="25225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6760" y="247680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4000" y="273384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81520" y="268632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27600" y="27687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73680" y="27212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32360" y="28260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78440" y="27799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35680" y="3013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83200" y="296568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29280" y="30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75360" y="30355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32600" y="32464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0120" y="319896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548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0413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0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1461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73200" y="1847880"/>
              <a:ext cx="241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24944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671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430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19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4478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488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55112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68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64472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3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749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5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8416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016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946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924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24772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4964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84928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56360" y="3222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056000" y="3233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5480" y="1847880"/>
              <a:ext cx="3014640" cy="1398600"/>
            </a:xfrm>
            <a:custGeom>
              <a:avLst/>
              <a:gdLst/>
              <a:ahLst/>
              <a:rect l="l" t="t" r="r" b="b"/>
              <a:pathLst>
                <a:path w="1899" h="881">
                  <a:moveTo>
                    <a:pt x="0" y="0"/>
                  </a:moveTo>
                  <a:lnTo>
                    <a:pt x="65" y="0"/>
                  </a:lnTo>
                  <a:lnTo>
                    <a:pt x="131" y="0"/>
                  </a:lnTo>
                  <a:lnTo>
                    <a:pt x="189" y="0"/>
                  </a:lnTo>
                  <a:lnTo>
                    <a:pt x="255" y="0"/>
                  </a:lnTo>
                  <a:lnTo>
                    <a:pt x="321" y="0"/>
                  </a:lnTo>
                  <a:lnTo>
                    <a:pt x="379" y="0"/>
                  </a:lnTo>
                  <a:lnTo>
                    <a:pt x="445" y="0"/>
                  </a:lnTo>
                  <a:lnTo>
                    <a:pt x="504" y="0"/>
                  </a:lnTo>
                  <a:lnTo>
                    <a:pt x="569" y="0"/>
                  </a:lnTo>
                  <a:lnTo>
                    <a:pt x="635" y="14"/>
                  </a:lnTo>
                  <a:lnTo>
                    <a:pt x="693" y="14"/>
                  </a:lnTo>
                  <a:lnTo>
                    <a:pt x="759" y="7"/>
                  </a:lnTo>
                  <a:lnTo>
                    <a:pt x="825" y="36"/>
                  </a:lnTo>
                  <a:lnTo>
                    <a:pt x="883" y="44"/>
                  </a:lnTo>
                  <a:lnTo>
                    <a:pt x="949" y="73"/>
                  </a:lnTo>
                  <a:lnTo>
                    <a:pt x="1015" y="95"/>
                  </a:lnTo>
                  <a:lnTo>
                    <a:pt x="1073" y="117"/>
                  </a:lnTo>
                  <a:lnTo>
                    <a:pt x="1139" y="168"/>
                  </a:lnTo>
                  <a:lnTo>
                    <a:pt x="1205" y="183"/>
                  </a:lnTo>
                  <a:lnTo>
                    <a:pt x="1263" y="242"/>
                  </a:lnTo>
                  <a:lnTo>
                    <a:pt x="1329" y="257"/>
                  </a:lnTo>
                  <a:lnTo>
                    <a:pt x="1395" y="301"/>
                  </a:lnTo>
                  <a:lnTo>
                    <a:pt x="1453" y="389"/>
                  </a:lnTo>
                  <a:lnTo>
                    <a:pt x="1519" y="425"/>
                  </a:lnTo>
                  <a:lnTo>
                    <a:pt x="1585" y="558"/>
                  </a:lnTo>
                  <a:lnTo>
                    <a:pt x="1643" y="580"/>
                  </a:lnTo>
                  <a:lnTo>
                    <a:pt x="1709" y="616"/>
                  </a:lnTo>
                  <a:lnTo>
                    <a:pt x="1775" y="734"/>
                  </a:lnTo>
                  <a:lnTo>
                    <a:pt x="1833" y="778"/>
                  </a:lnTo>
                  <a:lnTo>
                    <a:pt x="1899" y="8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116-25FA-4620-80DD-4F50732A04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 64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295280" y="1600200"/>
          <a:ext cx="64008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400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F9E-47C0-4480-958E-C4A26E4EA6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, 1000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19320" y="1625760"/>
          <a:ext cx="639288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25760"/>
                    <a:ext cx="63928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354-12F6-49DB-A37B-0692E83BCC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ell Size Increas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equates roughly to a 30% increase in transmission distance in an open-air environment. For a given service area, the number of cells is roughly proportional to the service area divided by the transmission distance squared (are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tance ^ 2). With a 3dB gain, the area covered by a cell is 70% larger which means that the number of cells required is reduced to approximately 60% that of a standard FEC system for the identical service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ed Power at the Cli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er/network operator can configure the system to utilize the optional FEC for the access point to client transmission (AP -&gt; C), the client to access point transmission (C -&gt; AP), or both. One possible scenario is to use the optional, high-performance FEC for C -&gt; AP transmission and the standard FEC for AP -&gt; C transmission. Only the low-cost/low-complexity encoder of the optional FEC is implemented at the client, while the increased complexity and power of the high-performance decoder are consumed at the access point, where the power and complexity are not as critical. On the C -&gt; AP transmission, the client may transmit at a lower power than the AP -&gt; C transmission, yet still retain equivalent performance. The result is lower power consumption at the client, increasing the operating time at the point where it i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786-6006-479F-8343-3F8DF4789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rodane</cp:lastModifiedBy>
  <cp:lastPrinted>1998-02-10T13:28:06Z</cp:lastPrinted>
  <dcterms:modified xsi:type="dcterms:W3CDTF">1999-07-21T13:40:50Z</dcterms:modified>
  <cp:revision>50</cp:revision>
  <dc:subject/>
  <dc:title>Code Performance</dc:title>
</cp:coreProperties>
</file>