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3B0D5D-A3B2-4E7E-9DA8-7C7965032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8400" y="609480"/>
            <a:ext cx="7759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8400" y="6477120"/>
            <a:ext cx="783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85800"/>
            <a:ext cx="7772400" cy="14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2000"/>
            </a:br>
            <a:r>
              <a:rPr b="1" lang="en-US" sz="4000" spc="-1" strike="noStrike">
                <a:solidFill>
                  <a:srgbClr val="b2b2b2"/>
                </a:solidFill>
                <a:latin typeface="Arial"/>
                <a:ea typeface="Arial"/>
              </a:rPr>
              <a:t>51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2096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tember 14-16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stford,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September 14th, 1998 at 10:30am or after the Ful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Ad-hoc meeting concurrent with Bluetooth Developers Conference in Atlanta (Oct 26-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-15 - Grosevenor Resort, Lake Buena Vista, FL, Interim (Har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8-12 - Hyatt Regency,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TBD - Japan?, Interim (Clar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TBD - Israel?, Interim (Breeze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 Kauai, Koloa, 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results of the Call For Applications -98/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Pitch -98/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HomeRF Working Group Pitch -98/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he discussion on the 802.11 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La Jolla MAC Layer Discussion” Bruce Kraemer, Harris -98/2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the work of the SG and plan for Albuque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98640" y="2736720"/>
            <a:ext cx="774720" cy="1994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46760" y="2279520"/>
            <a:ext cx="851040" cy="1079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6560" y="3346560"/>
            <a:ext cx="774720" cy="1384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0760" y="2279520"/>
            <a:ext cx="1460520" cy="1079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Graphic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95760" y="5724360"/>
            <a:ext cx="393840" cy="317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867280" y="5791320"/>
            <a:ext cx="2919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hen The Official Study Group Will Be In 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95760" y="6105600"/>
            <a:ext cx="393840" cy="317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867280" y="6172200"/>
            <a:ext cx="3102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hen The unofficial Study Group Could Be In 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46760" y="3879720"/>
            <a:ext cx="851040" cy="8510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99240" y="2279520"/>
            <a:ext cx="698400" cy="237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8760" y="1676520"/>
            <a:ext cx="908532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        |      !      |      !    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.|Studygroup |  TGb !  SG  |  TGa ! SG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TGa   ! SG  |           |      !      |      !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          |      !      |      !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TGb    ! SG  |     !     | Full 802.11 |  TG  ! SG  | Full 802.11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TGa !  SG |.............|      !     |Reports/Outp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!     |     !     |      !      |      !     | Next mtg.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    !     |  TGa !  SG  |       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    !     |      !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. . . . . . .|. . . . . .|. . . . . . .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         | 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        | 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......... = flexible adjournment/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Monday Sept 1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pening of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:30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l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ance list,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 (breaks, lunch, copying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distrib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Other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Monday Sept 1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Jolla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98/257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ters arising from the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to the ExCom in La J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of the Call Fo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view of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Adoption of the 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98/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o approve the agenda as 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Monday Sept 1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inishe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 CF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 Determine key WPAN MAC/PH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Tuesday Sept 15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FAs with Full W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Liais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orking Group -98/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-98/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Continue “La Jolla” MAC Layer discussion with WG (Ask for MAC experts in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La Jolla MAC Layer Discussion” Bruce Kraemer, Harris -98/2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Create a WPAN Comparis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Wednesday Sept 16, 199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usiness (continu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Create WPAN Compare &amp; Contrast of 802.11 Annex - PICS Proforma list and repeat for remaining candidates (see La Jolla Meeting Report -98/256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 Examine WPAN 2.4 GHz coexistence with 802.11 devices (G. Ennis paper -8/319 on Bluetooth coexis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6 Review S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7 Determine SG Goals For Albuque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 prior to the 802.11 Full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Thur Sept 17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FA summary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:0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Review of FH PHY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eview of MACS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 highlighted versions for intermediate working sessions before Albuquerque mt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Prepare SG Report for Friday’s Full W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Ian Gifford</cp:lastModifiedBy>
  <cp:revision>0</cp:revision>
  <dc:subject>Tentative Agenda Westford</dc:subject>
  <dc:title>doc.: IEEE 802.11-98/xxx</dc:title>
</cp:coreProperties>
</file>