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Analy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Suggestions as they relate to the W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tion/Defragment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C6 &amp; PC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depends upon the error characteristics of the channel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 is needed to support efficient use of the radio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of the WPAN will be better if this function is implemented at the MAC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reduces the overall # of bytes transmitted per MS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 that we keep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implementation is a wash - this is needed somewhere in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rate Support (PC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is option is removed it may limit the future extensions of WP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pow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 extensions to higher spee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ption can add complexity to the implementation of the MAC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the WPAN requirements need to place a relative value on its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Synchronization (PC11.1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6765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ive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ept of timing needs to exist within the network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the network maintain its timing if the AP losses its pow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scenario, the network timing function can be transferred to another station eith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 in the MAC (Distributed Beaconing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 higher layer protocol o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ly by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Synchronization (PC11.1) [Cont.]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“Distributed Beacon” mechanism and tweak it so that one station will assume the role of sending the beacon (WPAN-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llows for the immediate recognition &amp; recovery of the network when the beaconer is lost or goes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ould push the function of frame buffering onto the stations in the network capable of being an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ly, this could increase memory requirements, and likely the WPAN device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B (PC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Informatio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 that it be re-defined for WPAN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MIB will affect power consumption and memory requirements for WPAN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address authentication &amp; encryption in our review of the new MIB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99072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Fram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 that the WPAN MAC frame format remain identical to the existing 802.11 frame 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may need to define at least one and maybe two new IUTs (Implementation Under Te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“new” devices would be compliant as new classes of 802.11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MAC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5238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95% of the existing 802.11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current 802.11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 gains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functionality migrates between WPAN capabl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some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m down the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 RTS/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 IB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Point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P is a station that organizes all of the other stations in the wireless LAN around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cts as a conduit for all of these stations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802.11, if there is an AP present then there is no peer-to-pee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requirement on how the protocol i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on of a WPAN “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5238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n IUT (WPAN “AP”) to the existing 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used for a “deeper” power management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voids the need for the ATIM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 of the WPAN “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PAN “AP” would wake up and send a beacon then go to sleep. It basically sets the NAV in this beacon to help “shutdown” other devices in the WP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ther stations in the WPAN could go to sleep during the same “sleep” period as the “AP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 is for a non-continuously powered 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unction could be implemented with a new element in the existing 802.11 bea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-AP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that are Uni-directional in their communications model can “sleep” for as long as they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evices that are Bi-directional and require longer sleep peri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ing of data packets is impl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tradeoff that needs to be considered in the architecture and classes of devices supported by the W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gestions for 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present purposes, define the PICS for the WPAN with an AP and a station as its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ddress the need for no single point of failure at least one and possibly more stations need to assume that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 of transitioning to another AP is undefined at present and may be placed at a higher level in the stack than the MAC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n AP may be the only way to meet the WPAN pow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(PC1.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5238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of identifying another station and deciding to allow/disallow communication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ent devices can enter and leave the WPAN with authentic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authentication allows for a positive ACK for any device that comes in range of the WPAN (PHY parameters &amp; BSS ID must be set prior to this st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shared keys provide for a higher level of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on &amp; exchange of the shared key is not part of the 802.11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P (PC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d Equivalent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encryption for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WEP present, you could have a manual authent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WEP &amp; a shared key authentication, o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pen authentication with higher level functions (including manual)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minimal cost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(PC3.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 Allocation 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“virtual” busy signal from the network to handle the hidden nod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it prevents stations from accessing the medium before the ACK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SSUM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ll nodes within a WPAN can hear each other at all times, then the NAV function is no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(PC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5238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Coordina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ontrols access to the medium for contention fre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unction can be removed from the MAC if the concept of WPAN-AP power saving modes are included in the design of the W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pproach allows the WPAN-AP to power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ation of this ch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ens the joining process (by a few seco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