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C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shal Chha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as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hhaya@ti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ly High Band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red: 1-2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transfers (broadc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Cost Sens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devices are PDAs, calculators, data logger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US$ 100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rice premium for networking cannot exceed 20% of the cost of the endpoint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ct Power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s are battery po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ak power drain: 100 ma @ 3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network and endpoint devices must be capable of continuous uninterrupted operation for an entire working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 unreliable network is unusable - too disru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t case should be a slow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676520"/>
            <a:ext cx="7772400" cy="42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should be scalable from classrooms (~30 students) to lecture halls (~100 stud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support outdoor networking (field trip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e of minimal emitters - data loggers, pointing devic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classroom cells connected via (wired?) School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ligible interference with other consumer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ly co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gulatory constraints (no EMI iss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of sight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adation in direct sun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line-of-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of vendors/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with adjacent cells (cla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or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lear ch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r: access to network should be position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: a battery life of 8-12 hrs, ideally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bulk transfers, isochronous and asynchronou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ap to implement: network devices are not computationally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y of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within controller’s sphere of influence can join th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“logged in”, they use the network to transfe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s of data-transfer are MAC-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devices can access other networks (school LAN, Internet) via the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cenario for W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of personal computing devices in a classroom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y of Operation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acent networks (cells) should not inter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controllers may communicate via another network (school 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is Interes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ly untapped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10 million communications capable hand-held devices in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the “last 10 m”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access to vast resources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NSF initi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ly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application: Classroom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/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a New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room net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  range (typical range &lt; 10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  ad-hoc networking (has well defined network contr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  support for teleph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  roaming/hand-off betwee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f which are part of LAN stds and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, cost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the educational network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There is a teacher (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A concentrated set of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Nearby cells (classroo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Moderate high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Very cost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Long battery life (24 h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Data reliability/premium on usability/self-correcting/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defined Control (Teach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imary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eer-pe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724120" y="3956040"/>
            <a:ext cx="2667240" cy="2158920"/>
            <a:chOff x="2724120" y="3956040"/>
            <a:chExt cx="2667240" cy="2158920"/>
          </a:xfrm>
        </p:grpSpPr>
        <p:sp>
          <p:nvSpPr>
            <p:cNvPr id="54" name=""/>
            <p:cNvSpPr/>
            <p:nvPr/>
          </p:nvSpPr>
          <p:spPr>
            <a:xfrm>
              <a:off x="3657600" y="3956040"/>
              <a:ext cx="914400" cy="2570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52960" y="4473720"/>
              <a:ext cx="0" cy="1006200"/>
            </a:xfrm>
            <a:prstGeom prst="line">
              <a:avLst/>
            </a:prstGeom>
            <a:ln w="127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724120" y="5468760"/>
              <a:ext cx="2667240" cy="646200"/>
              <a:chOff x="2724120" y="5468760"/>
              <a:chExt cx="2667240" cy="646200"/>
            </a:xfrm>
          </p:grpSpPr>
          <p:sp>
            <p:nvSpPr>
              <p:cNvPr id="57" name=""/>
              <p:cNvSpPr/>
              <p:nvPr/>
            </p:nvSpPr>
            <p:spPr>
              <a:xfrm>
                <a:off x="2724120" y="548316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724120" y="590220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86440" y="548316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14760" y="548316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33840" y="587232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295800" y="546876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314880" y="588816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24600" y="5843520"/>
                <a:ext cx="266760" cy="2109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V="1">
              <a:off x="2865600" y="4508640"/>
              <a:ext cx="404640" cy="785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398760" y="4522680"/>
              <a:ext cx="252360" cy="8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4452840" y="4478400"/>
              <a:ext cx="297000" cy="86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4795920" y="4460760"/>
              <a:ext cx="392040" cy="84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941560" y="5032440"/>
              <a:ext cx="290520" cy="81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570120" y="4957920"/>
              <a:ext cx="157320" cy="86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4452840" y="4910040"/>
              <a:ext cx="201600" cy="84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4890960" y="4897440"/>
              <a:ext cx="335160" cy="86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760920" y="5661000"/>
              <a:ext cx="633240" cy="382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87640" y="5740560"/>
              <a:ext cx="379440" cy="2379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3963960" y="5640480"/>
            <a:ext cx="227160" cy="3794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52880" y="3836880"/>
            <a:ext cx="12254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rol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622840" y="5375160"/>
            <a:ext cx="15876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rtable un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d Set of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(school) - 128 (college) students in a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distance from teacher &lt; 1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between students (nodes) ~ 1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-2438280"/>
            <a:ext cx="6251400" cy="900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acent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ining classrooms create co-locate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ghboring networks shoul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es limited communication range for hand-held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856120" cy="5818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52560" y="-876240"/>
            <a:ext cx="4343400" cy="434340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00680" y="-895320"/>
            <a:ext cx="4495680" cy="4495680"/>
          </a:xfrm>
          <a:prstGeom prst="ellipse">
            <a:avLst/>
          </a:prstGeom>
          <a:noFill/>
          <a:ln w="76320">
            <a:solidFill>
              <a:srgbClr val="3333cc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48040" y="2095560"/>
            <a:ext cx="4648320" cy="4648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638360"/>
            <a:ext cx="4648320" cy="4648320"/>
          </a:xfrm>
          <a:prstGeom prst="ellipse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Tim Blaney</cp:lastModifiedBy>
  <cp:revision>0</cp:revision>
  <dc:subject/>
  <dc:title>No Slide Title</dc:title>
</cp:coreProperties>
</file>