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90945F-08E7-4B67-8260-5B843B5D3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1640" y="609480"/>
            <a:ext cx="7756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6477120"/>
            <a:ext cx="783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Study Group Repor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8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ford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results of the Call For Applications -98/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Pitch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HomeRF Working Group Pitch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discussion on the 802.11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he work of the SG and plan for Albuque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responses to the CFA [-8/288] with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d in discussion to determine applicability of existing 802.11 MAC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a summary matrix [-8/2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“La Jolla” MAC Layer discussion i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d the MAC &amp; FH PICS for suitability to W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2 802.11 PICS vs WPAN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3 802.11 Terminology related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PIC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potential areas for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on the impact to power consumption, compatibility &amp;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 &amp; prioritize the CFA summar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MAC &amp; FH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key points in the 802.11 MAC that cause difficulties to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this activity is to recommend to the 802.11 WG in November to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the existing MAC, 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a modified PAR to the November 802.11 Plenary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n the direction of the WPAN 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form a TG within 802.11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WG within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R is approved by the 802.11 Plenary, then forward it to ExCom for approval at the March 1999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Ad-hoc meeting concurrent with Bluetooth Developers Conference in Atlanta (Oct 26-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-15 - Grosevenor Resort, Lake Buena Vista, FL, Interim (Har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 - Hyatt Regency,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BD - Japan?, Interim (Cl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TBD - Israel?, Interim (Breeze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 Kauai, Koloa, 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 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flexipc.com/wearablesgrou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rouper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s-802-wpan@majordomo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Tentative Agenda Westford</dc:subject>
  <dc:title>doc.: IEEE 802.11-98/xxx</dc:title>
</cp:coreProperties>
</file>