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671400" y="380880"/>
            <a:ext cx="7975440" cy="6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ptember 1998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: IEEE802.11-98/319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93720" y="762120"/>
            <a:ext cx="8062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519120" y="6172200"/>
            <a:ext cx="7931160" cy="4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                                            page </a:t>
            </a:r>
            <a:fld id="{BB0BAB2B-DB09-41AD-9301-03BF439FBBE4}" type="slidenum"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Greg Ennis, Ennis Associa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11280" y="6248520"/>
            <a:ext cx="81518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685800" y="22860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act of Bluetooth on 802.11 Direct Sequence Wireless L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eg Enn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nis Associa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331 Englewood Av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Gatos, CA 9503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685800" y="9144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bining Time and Frequency Overlap Prob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85800" y="22096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North American operation, the probability that an 802.11 packet of duration L experiences no Bluetooth collisions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/3)</a:t>
            </a:r>
            <a:r>
              <a:rPr b="0" lang="en-US" sz="32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⎡</a:t>
            </a:r>
            <a:r>
              <a:rPr b="1" lang="en-US" sz="3200" spc="-1" strike="noStrike" baseline="50000">
                <a:solidFill>
                  <a:srgbClr val="000000"/>
                </a:solidFill>
                <a:latin typeface="Times New Roman"/>
                <a:ea typeface="Times New Roman"/>
              </a:rPr>
              <a:t>L/H</a:t>
            </a:r>
            <a:r>
              <a:rPr b="0" lang="en-US" sz="32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⎤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⎡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/H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⎤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- L/H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 (2/3)</a:t>
            </a:r>
            <a:r>
              <a:rPr b="0" lang="en-US" sz="3200" spc="-1" strike="noStrike" baseline="50000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32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⎡</a:t>
            </a:r>
            <a:r>
              <a:rPr b="1" lang="en-US" sz="3200" spc="-1" strike="noStrike" baseline="50000">
                <a:solidFill>
                  <a:srgbClr val="000000"/>
                </a:solidFill>
                <a:latin typeface="Times New Roman"/>
                <a:ea typeface="Times New Roman"/>
              </a:rPr>
              <a:t>L/H</a:t>
            </a:r>
            <a:r>
              <a:rPr b="0" lang="en-US" sz="32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⎤</a:t>
            </a:r>
            <a:r>
              <a:rPr b="1" lang="en-US" sz="3200" spc="-1" strike="noStrike" baseline="50000">
                <a:solidFill>
                  <a:srgbClr val="000000"/>
                </a:solidFill>
                <a:latin typeface="Times New Roman"/>
                <a:ea typeface="Times New Roman"/>
              </a:rPr>
              <a:t>+1</a:t>
            </a:r>
            <a:r>
              <a:rPr b="0" lang="en-US" sz="3200" spc="-1" strike="noStrike" baseline="50000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1 -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⎡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/H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⎤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+  L/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2209680"/>
            <a:ext cx="8001000" cy="35053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802.11 Mechanisms to us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ll back r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s packet size, hence likelihood of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TS/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uetooth won’t obey.  RTS/CTS may succeed yet DATA transfer fa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ssociation to a new 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e interference will be pres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g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g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2.11 MAC allows for frag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in of frames DATA-ACK-DATA-ACK, separated by SIF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ase of error, transmitter backs off, continues starting with errored frag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verhead: PHY and MAC hea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neficial under high error con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l of Bluetooth/802.11 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l developed incorporating calculation on overlap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puts: 802 Data rate + packet size, Bluetooth hop rate + picocell utiliz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: “Degradation Factor” versus fragment s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gradation Factor is ratio of nonfragmented unimpaired transmission time to impaired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 at 5.5. Mb/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943280" y="1741320"/>
            <a:ext cx="4775040" cy="40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ous BT picocell utiliz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093680" y="2038320"/>
            <a:ext cx="7280280" cy="36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 Mb/s Sit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950760" y="2038320"/>
            <a:ext cx="7872480" cy="39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Mb/s, 500 byte pack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523880" y="2009880"/>
            <a:ext cx="54244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mited Bandwidth Sit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nce, Japan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act is even more signific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if only two 802.11 channels available, expression for non-collision bec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/2)</a:t>
            </a:r>
            <a:r>
              <a:rPr b="0" lang="en-US" sz="32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⎡</a:t>
            </a:r>
            <a:r>
              <a:rPr b="1" lang="en-US" sz="3200" spc="-1" strike="noStrike" baseline="50000">
                <a:solidFill>
                  <a:srgbClr val="000000"/>
                </a:solidFill>
                <a:latin typeface="Times New Roman"/>
                <a:ea typeface="Times New Roman"/>
              </a:rPr>
              <a:t>L/H</a:t>
            </a:r>
            <a:r>
              <a:rPr b="0" lang="en-US" sz="32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⎤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⎡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/H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⎤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- L/H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 (1/2)</a:t>
            </a:r>
            <a:r>
              <a:rPr b="0" lang="en-US" sz="3200" spc="-1" strike="noStrike" baseline="50000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32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⎡</a:t>
            </a:r>
            <a:r>
              <a:rPr b="1" lang="en-US" sz="3200" spc="-1" strike="noStrike" baseline="50000">
                <a:solidFill>
                  <a:srgbClr val="000000"/>
                </a:solidFill>
                <a:latin typeface="Times New Roman"/>
                <a:ea typeface="Times New Roman"/>
              </a:rPr>
              <a:t>L/H</a:t>
            </a:r>
            <a:r>
              <a:rPr b="0" lang="en-US" sz="32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⎤</a:t>
            </a:r>
            <a:r>
              <a:rPr b="1" lang="en-US" sz="3200" spc="-1" strike="noStrike" baseline="50000">
                <a:solidFill>
                  <a:srgbClr val="000000"/>
                </a:solidFill>
                <a:latin typeface="Times New Roman"/>
                <a:ea typeface="Times New Roman"/>
              </a:rPr>
              <a:t>+1</a:t>
            </a:r>
            <a:r>
              <a:rPr b="0" lang="en-US" sz="3200" spc="-1" strike="noStrike" baseline="50000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1 -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⎡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/H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⎤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+  L/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Versus 3 Channel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447920" y="1876320"/>
            <a:ext cx="6032520" cy="43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 Frequency Hop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uetooth is a fast frequency hopping system focused on PAN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hopping period 625 microseco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rts voice a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power with higher power o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carrier sense, no defer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rates within 2.4 GHz b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uetooth can impact 802.11 DS significantly, particularly on large pack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st 802.11 mechanisms for responding to  poor channel quality either have no impact or make things wor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gmentation can help, mainly at lower data rates and high picocell utiliz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llback to low-rate FH may be usef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uetooth/802.11 Enviro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14400" y="2048040"/>
            <a:ext cx="6716880" cy="38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uetooth-induced colli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809640" y="1752480"/>
            <a:ext cx="7813800" cy="41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verlap Prob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s the probability that an 802.11 packet and a Bluetooth transmission will overlap in both time and frequenc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 overlap: depends on duration of packet and relative timing of BT hop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equency overlap: depends upon number of channels - geographic depend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 Overl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t L = 802.11 packet duration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 = Bluetooth dwell du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et will partially overlap eith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⎡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/H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⎤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⎡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/H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⎤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1 dwell periods, depending on relative tim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re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⎡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⎤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iling(x) = least integer greater than or equal to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 Time Overl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se d = the "delta" between the last Bluetooth hop and the start of the packet, where L = 1.3H and d &gt; .7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n the packet will overlap 3 Bluetooth dwell peri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700200" y="3962520"/>
            <a:ext cx="760716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 Overlap Prob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ability that an 802.11 packet of duration L will overlap with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/H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⎤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uetooth dwell periods of duration H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/H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⎤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L/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ability that it overlaps with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/H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⎤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1 dwell periods 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-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/H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+ L/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equency Overl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North America, the probability that at any given time a Bluetooth transmitter is on a narrowband channel outside of a given wideband 802.11 DS channel is 2/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an 802.11 packet overlaps with N Bluetooth dwell periods, the probability of no frequency overlap is (2/3)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Ennis</dc:creator>
  <dc:description/>
  <dc:language>en-US</dc:language>
  <cp:lastModifiedBy>rodane</cp:lastModifiedBy>
  <cp:revision>0</cp:revision>
  <dc:subject/>
  <dc:title>Impact of Bluetooth on 802.11 Direct Sequence Wireless LANs</dc:title>
</cp:coreProperties>
</file>