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45BC8-12FB-46E9-B209-0E4370D9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5360" y="396720"/>
            <a:ext cx="2382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-IEE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Chair’s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5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720" y="776160"/>
            <a:ext cx="15526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75520" y="824040"/>
            <a:ext cx="12240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vs Fixed service 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pplications require limitation of RF power need to save batter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link services require distances to be spanned so require more RF power, but have no AC powe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ployment of devices of the two services mentioned above should therefore be outside each others geographic location or frequency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of mobile and fixed users of similar applications must b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57800" y="6475320"/>
            <a:ext cx="503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frequencies with oth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 is a scarce resource and re-use should be encou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should be done where-ever possible, however, the co-existence should be warranted by careful and realistic calculation, on each application’s 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standard development should be our ultimat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iats should agree on a form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pectrum policy is needed to respond to users and manufacturer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applications versus spectrum bandwidth and use is required on a glob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between RLAN Standards Committ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69920"/>
            <a:ext cx="77724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liaison done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zed liaison is difficult to ach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LAN issue is administration of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of drafts and standards is required to prevent du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lia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BRAN and IEEE P802.11 have had informal liaison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s were exchanged based on Chairman’s dis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orials were received by both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5 GHz groups in both bodies selected the same modula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the groups are further looking at selecting the same or similar system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is to obtain the benefit of large scale volumes from multiple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also provide better co-existence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zed Liai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policy in either body that permits making draft standards or standards available to any of the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chair could not make the 802.11-1997 standard available to the group in ETSI working on Home R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formal structure to input comments into each other’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development of a 5 GHz specification that enables a true global standard over and above the professional and technical differences of each group is hard to achieve (geographic differences, frequency allocation and application differenc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 and System relate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censed vs Licensed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vs Co-existence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e bandwidth needed to make practical syste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vs Fixed servic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with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availability of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frequenc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example is the 2.45 GHz band, which is now available to RLAN devices virtually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area of expansion may be found in the 5 GHz b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band is available in Europe as the HIPERLAN band and in the USA as the U-NII b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a and Japan are planning to introduce allocations for RLAN in the 5 GHz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censed vs licensed b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s advising regulatory agencies to Segregate the rules for licensed and unlicensed applications into different frequency segments if the application is within the sam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quest ETSI to advis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vs Co-existenc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295280"/>
            <a:ext cx="7772400" cy="43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.45 GHz band is a good example of rules and regulations that are only concerned with co-existence requirement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has been in use since the rules and regulations were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5 GHz band in Europe requires the use of an interoperability standard for RLA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nd has been allocated from the early 1990s, but is still not used by RLA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IEEE 802.11 RLAN devices under development for the 5 GHz band are not permitted due to the fact that the band may only be used by HIPERLAN device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s to be in contradiction of the European policy for free trad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s requesting ETSI’s assistance to include RLAN devices as another type of HIPERLAN device in the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e bandwidth needed to make practical system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tion of voice or data applications versus range, frequency re-use and digital data rates requires ample bandwidth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ted efforts of IEEE and ETSI are required to harmonize the allocation of spectrum and system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