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1DDE-FE05-4DC5-8833-C0E77A30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4EAB-F835-4B28-B1FC-522CD934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165-533C-4B01-93A0-B877C504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9C8D-E98D-459F-AAD6-07626776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2379-310F-4C06-A822-0E3A87CF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C5D-24D9-4F57-8549-182FB274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98C-E618-43E4-9C55-0542AB97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F80-E9D8-4B4E-9E01-8BBE7D84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2B44-56ED-4F04-9456-B2C088C8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4B9E-DE14-47AC-A460-8786A76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872-1357-42A1-BB7F-B3AA1442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689-F888-44D5-B6EA-3CCC5BAD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5BAACD-E34E-445F-8A1B-B440DB336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Personal Area Net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y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ing Group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dnesday, January 13,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BD5-49E2-474B-A9A8-6FA0B20192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edium Interoperability Continuu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73800" y="1460520"/>
            <a:ext cx="8844120" cy="5016600"/>
            <a:chOff x="73800" y="1460520"/>
            <a:chExt cx="8844120" cy="5016600"/>
          </a:xfrm>
        </p:grpSpPr>
        <p:sp>
          <p:nvSpPr>
            <p:cNvPr id="67" name=""/>
            <p:cNvSpPr/>
            <p:nvPr/>
          </p:nvSpPr>
          <p:spPr>
            <a:xfrm>
              <a:off x="3370320" y="1460520"/>
              <a:ext cx="0" cy="485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33000" y="5108400"/>
              <a:ext cx="33717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ackground White nois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81560" y="5367240"/>
              <a:ext cx="45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3425760" y="1604880"/>
              <a:ext cx="3189240" cy="458280"/>
              <a:chOff x="3425760" y="1604880"/>
              <a:chExt cx="3189240" cy="458280"/>
            </a:xfrm>
          </p:grpSpPr>
          <p:sp>
            <p:nvSpPr>
              <p:cNvPr id="71" name=""/>
              <p:cNvSpPr/>
              <p:nvPr/>
            </p:nvSpPr>
            <p:spPr>
              <a:xfrm>
                <a:off x="4453200" y="1604880"/>
                <a:ext cx="2161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ull complian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25760" y="1870200"/>
                <a:ext cx="93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395960" y="5649840"/>
              <a:ext cx="3146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Destructive Interfer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39440" y="5975280"/>
              <a:ext cx="32256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lvl="1" marL="114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33"/>
                  </a:solidFill>
                  <a:latin typeface="Times New Roman"/>
                </a:rPr>
                <a:t>Significant Degra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79560" y="1946160"/>
              <a:ext cx="0" cy="315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320" y="3657600"/>
              <a:ext cx="1638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800" y="3703680"/>
              <a:ext cx="1643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existe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46440" y="2833560"/>
              <a:ext cx="3014640" cy="0"/>
            </a:xfrm>
            <a:prstGeom prst="line">
              <a:avLst/>
            </a:prstGeom>
            <a:ln w="12600">
              <a:solidFill>
                <a:srgbClr val="00cc99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37920" y="2581200"/>
              <a:ext cx="299844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cceptable to 802.11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89200" y="1865160"/>
              <a:ext cx="0" cy="1779840"/>
            </a:xfrm>
            <a:prstGeom prst="line">
              <a:avLst/>
            </a:prstGeom>
            <a:ln w="507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" name=""/>
            <p:cNvGrpSpPr/>
            <p:nvPr/>
          </p:nvGrpSpPr>
          <p:grpSpPr>
            <a:xfrm>
              <a:off x="3754440" y="3240000"/>
              <a:ext cx="3073320" cy="1457280"/>
              <a:chOff x="3754440" y="3240000"/>
              <a:chExt cx="3073320" cy="1457280"/>
            </a:xfrm>
          </p:grpSpPr>
          <p:sp>
            <p:nvSpPr>
              <p:cNvPr id="82" name=""/>
              <p:cNvSpPr/>
              <p:nvPr/>
            </p:nvSpPr>
            <p:spPr>
              <a:xfrm>
                <a:off x="3811680" y="3968640"/>
                <a:ext cx="3016080" cy="0"/>
              </a:xfrm>
              <a:prstGeom prst="line">
                <a:avLst/>
              </a:prstGeom>
              <a:ln w="12600">
                <a:solidFill>
                  <a:srgbClr val="00cc99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4249080" y="3713040"/>
                <a:ext cx="2420640" cy="45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PAN proposal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54440" y="3240000"/>
                <a:ext cx="0" cy="1457280"/>
              </a:xfrm>
              <a:prstGeom prst="line">
                <a:avLst/>
              </a:prstGeom>
              <a:ln w="50760">
                <a:solidFill>
                  <a:srgbClr val="00cc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92040" y="5181480"/>
              <a:ext cx="2538360" cy="1295640"/>
              <a:chOff x="392040" y="5181480"/>
              <a:chExt cx="2538360" cy="129564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392040" y="5264280"/>
                <a:ext cx="1762560" cy="1212840"/>
                <a:chOff x="392040" y="5264280"/>
                <a:chExt cx="1762560" cy="12128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009800" y="5264280"/>
                  <a:ext cx="0" cy="1212840"/>
                </a:xfrm>
                <a:prstGeom prst="line">
                  <a:avLst/>
                </a:prstGeom>
                <a:ln w="12600">
                  <a:solidFill>
                    <a:srgbClr val="3333cc"/>
                  </a:solidFill>
                  <a:miter/>
                  <a:headEnd len="lg" type="stealth" w="med"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92040" y="5565600"/>
                  <a:ext cx="1762560" cy="45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3333cc"/>
                      </a:solidFill>
                      <a:latin typeface="Times New Roman"/>
                    </a:rPr>
                    <a:t>interferenc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 flipH="1">
                <a:off x="573120" y="5181480"/>
                <a:ext cx="235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2270160" y="1946160"/>
              <a:ext cx="0" cy="1778040"/>
            </a:xfrm>
            <a:prstGeom prst="line">
              <a:avLst/>
            </a:prstGeom>
            <a:ln w="12600">
              <a:solidFill>
                <a:srgbClr val="ff33ff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76040" y="2362320"/>
              <a:ext cx="220284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ff"/>
                  </a:solidFill>
                  <a:latin typeface="Times New Roman"/>
                </a:rPr>
                <a:t>interoper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ff"/>
                  </a:solidFill>
                  <a:latin typeface="Times New Roman"/>
                </a:rPr>
                <a:t>commun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1523160" y="3808440"/>
              <a:ext cx="1456200" cy="1373040"/>
              <a:chOff x="1523160" y="3808440"/>
              <a:chExt cx="1456200" cy="1373040"/>
            </a:xfrm>
          </p:grpSpPr>
          <p:sp>
            <p:nvSpPr>
              <p:cNvPr id="93" name=""/>
              <p:cNvSpPr/>
              <p:nvPr/>
            </p:nvSpPr>
            <p:spPr>
              <a:xfrm>
                <a:off x="2270160" y="3808440"/>
                <a:ext cx="0" cy="1373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523160" y="4091040"/>
                <a:ext cx="1456200" cy="969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pectru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r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tiquet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52440" y="3022560"/>
              <a:ext cx="6254640" cy="652680"/>
              <a:chOff x="352440" y="3022560"/>
              <a:chExt cx="6254640" cy="652680"/>
            </a:xfrm>
          </p:grpSpPr>
          <p:sp>
            <p:nvSpPr>
              <p:cNvPr id="96" name=""/>
              <p:cNvSpPr/>
              <p:nvPr/>
            </p:nvSpPr>
            <p:spPr>
              <a:xfrm>
                <a:off x="3865680" y="3349800"/>
                <a:ext cx="2741400" cy="0"/>
              </a:xfrm>
              <a:prstGeom prst="line">
                <a:avLst/>
              </a:prstGeom>
              <a:ln w="25560">
                <a:solidFill>
                  <a:srgbClr val="ff0033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52440" y="3022560"/>
                <a:ext cx="3786120" cy="652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236840" y="3139920"/>
              <a:ext cx="3053160" cy="45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ata transfer capa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519320" y="1623960"/>
              <a:ext cx="1074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33360" y="2241720"/>
              <a:ext cx="12276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lass 3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9040" y="5143680"/>
              <a:ext cx="13888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3000" y="5889600"/>
              <a:ext cx="455760" cy="144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66320" y="3200400"/>
              <a:ext cx="1137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WPAN GO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62FA-253D-42C1-BE37-83551CF390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Interoperabil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4 - Full Compliance to the 802.11 MAC &amp; PHY 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lass 3 - Partial Interoperability: there is a way on the medium to exchange data without an intermediate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a Transmit and Rece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b Receive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lass 3c Detec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2 - Bridge-like (1 MAC/2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1 - Gateway-like (&gt; 1 M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0 - Non Inter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9A8-CBF6-49B2-ACE4-A8FBB3FCA71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ank you for your time and atten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BA85-DE89-4CAE-85A8-EEA482094B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 of Comment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on T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50B-7AFC-4CFF-B204-3C2F3F243E3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PAN SG meeting from Monday to Wednes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the Albuquerque, NM Minutes -98/356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 Ballot 16 - 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3 passed with 60/14/4 or 81%. WPAN's PAR and 5 Criteri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ed and Dispositioned the 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sed the Five Criteria -98/161r5 and PAR -98/162r8 for recirculation ballot and submission to Ex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for 802 Plenary in Austin, TX; the SG ends March 12, 1999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746-5EEB-4059-B03E-38ECA0E2CD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Comment 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 “To submit the contents of documents IEEE 802.11-98/161-r4 and -98/162-r7 to Executive Committe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: "Motion 3 passed with 60/14/4 or 81%. WPAN's PAR and 5 Criteria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43D-E6E9-4BB8-90C0-258D59D9E5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the approved PAR -98/162r7 and revised Five Criteria -98/161r4 to ExCom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a revised PAR -98/162r8 and revised Five Criteria -98/161r5 to recirculation WG Lette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404C-0AA5-4D75-AE07-76E6BF30BC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"Motion 3 passed with 60/14/4 or 81%. WPAN's PAR and 5 Criteria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88 Voting members. 78 submitted their vote. 3 aspirant members submitted their vote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 ratio is 78/88= 88 %. So the ballot is valid (50 % is requi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xt step is to resolve all com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0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Absten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 Commen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30C-75DF-42DD-B364-B6C85A2D65B5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commendation S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1784520"/>
          <a:ext cx="7818480" cy="440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84520"/>
                    <a:ext cx="7818480" cy="44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C32-B1D1-4631-82A3-71E5A4498D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1: SG Agreed to incorporate the minor 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rick, Al - SG agreed to fix typo in the Five Criteria -98/161r4, abstract para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amowitz, Jeff - SG agreed to add in the Five Criteria -98/161r4 WPAN Application examples, 1.1. Broad Market Potential, a) Broad sets of applic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ramowitz, Jeff - SG agreed to add “Bluetooth Specification” reference, Five Criteria -98/161r4 1.3 Distinct Id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yat, Naftali - SG agreed to proposed revision on cost target, Five Criteria -98/161r4, 1.1. Broad Market Potential, c) Balanced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, Simon - SG agreed with the proposed revision to have at least a verbal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Vic -  SG agreed to deal with Isochronous Traffic as a QoS issue, PAR -98/162r8, 7. 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yes, Vic -  SG agreed to add references to WPAN documents Functional Requirements, CFA Summary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665-FB04-49AF-A76E-584B98D7BE6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2: SG Agreed to add the following to the PA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Tom 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in scope that a level of interoperability sufficient to transfer data between a WPAN device and an 802.11 device will b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a go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” 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Heile, G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A01A-3A3F-4D9A-A335-83769291DE3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anuar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ob Heile</dc:creator>
  <dc:description>Bob Heile, GTE</dc:description>
  <cp:keywords>January 1999</cp:keywords>
  <dc:language>en-US</dc:language>
  <cp:lastModifiedBy>Harry R. Worstell</cp:lastModifiedBy>
  <cp:lastPrinted>1998-02-10T13:28:06Z</cp:lastPrinted>
  <dcterms:modified xsi:type="dcterms:W3CDTF">1999-01-14T03:40:23Z</dcterms:modified>
  <cp:revision>25</cp:revision>
  <dc:subject>Submission</dc:subject>
  <dc:title>doc.: IEEE 802.11-99/005</dc:title>
</cp:coreProperties>
</file>