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1F40-0AE1-4513-A821-F6171494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CA92-5577-4503-9A9D-6506A805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6F60-2BA1-42F6-9174-13337F85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3FF-4C02-4B3B-BA5D-60EF1EE0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FF05-AD1B-4B29-B820-6DB2B9A4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C87-499D-4937-AC69-36930D9C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2BA-8AC5-41C8-A1F6-350DC44A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180D-81B3-4ED4-BAD2-46CC2C30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C54-0B5D-4F44-9EEB-80047C1D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3CE3-FEF6-4495-A19E-6478A22C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D50-357C-4115-845A-7DA1A257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7E9-CCEB-4477-86D4-182935AE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6ECC1DE-0122-4905-962F-EF84AB6AD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 Rectangular Time Windowing Analysis for IEEE 802.11 OFDM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1424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Ward in Cooperation with Symbol Technologi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081-7F72-4DE0-BD3C-89A8AB7ABA1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ntribution examines the potential error caused by the non-rectangular window included in the OFDM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observed that phase rotation and spreading of the constellation points results after ideal demod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rror can impact synchronization, modulation error measurements and data decoding unless mitiga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76A-CBAC-46D6-839A-F587F3FD5C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ort Training Signal Window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Standard’s defining equations includes wind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ansition time, defined a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said to be “about” 100 nsec.  In fact, earlier draft versions, imply relationship to the rolloff parameter of the raised cosine wind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olloff parameter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an be related to two FFT samples.  With respect to the 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 OFDM symbo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t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2/64 indicates th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= 100 nsec exactly, where T = 3.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, is the active symbol du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76520" y="1828800"/>
                <a:ext cx="2666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HORT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SHORT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kΔ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76520" y="2362320"/>
                <a:ext cx="58816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SHORT</m:t>
                        </m:r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5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TR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R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&lt;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&lt;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R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R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&lt;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&l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SHORT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R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6ED-E660-48DD-9C12-3976361144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ndowed vs Ideal Short Symb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the window transition causes dispersion from the ideal rectangular time window, after ideal demod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16 point short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from ideal approximately, -22.8 db (following standard’s MER equ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ngth commensurate with short symbol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71800" y="3581280"/>
            <a:ext cx="3048120" cy="22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2AA-BF1B-494D-A4BB-140597507D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ndowed Long training Symbol with G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training symbol windowed shows less disp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impact of non unity multiplication applies to relatively less of the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 symbols long + windo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 training symbol can be viewed as a QPSK data 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approximately -25.4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95480" y="3809880"/>
            <a:ext cx="3733920" cy="241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95B-583D-42A3-9CBA-388F4CD5CC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er effect on shorter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ve examples are for 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act anticipated to be greater for more dense conste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ias synchronization estim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to modulation error requirements of -18 or -21 db for QPSK and potentially make them not realiz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65BC-4631-48D7-A298-F9EE178661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references to windowing in the standard are described as informative only and used for conven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nvenience is not necessary as appending time intervals over which a definition is valid is the usual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references to current time windowing.  Benefits incl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for closer alignment with B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iminates con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s potential for signal degradation due to this ca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89C-1C67-4296-8A7E-3DA885C6774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, SciCom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6A1-D3D4-4BCE-AB29-F9652EB577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rodane</cp:lastModifiedBy>
  <cp:lastPrinted>1999-03-10T08:30:39Z</cp:lastPrinted>
  <dcterms:modified xsi:type="dcterms:W3CDTF">1999-03-10T08:31:13Z</dcterms:modified>
  <cp:revision>21</cp:revision>
  <dc:subject/>
  <dc:title>No Slide Title</dc:title>
</cp:coreProperties>
</file>