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6761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040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45720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040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761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040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77760"/>
            <a:ext cx="8074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ary 1999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: IEEE P802.11-99/0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4960" y="6478560"/>
            <a:ext cx="8074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ctr" pos="3944880"/>
                <a:tab algn="r" pos="789156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2B2484F-7728-4057-BFCA-B9FE5ECBB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. Kawaguchi, Symbol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15960" y="6477120"/>
            <a:ext cx="791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15960" y="380880"/>
            <a:ext cx="791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609480" y="1371600"/>
            <a:ext cx="7925040" cy="133200"/>
            <a:chOff x="609480" y="1371600"/>
            <a:chExt cx="7925040" cy="133200"/>
          </a:xfrm>
        </p:grpSpPr>
        <p:sp>
          <p:nvSpPr>
            <p:cNvPr id="7" name=""/>
            <p:cNvSpPr/>
            <p:nvPr/>
          </p:nvSpPr>
          <p:spPr>
            <a:xfrm>
              <a:off x="609480" y="1371600"/>
              <a:ext cx="7925040" cy="6516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09480" y="1471680"/>
              <a:ext cx="7925040" cy="33120"/>
            </a:xfrm>
            <a:prstGeom prst="rect">
              <a:avLst/>
            </a:prstGeom>
            <a:gradFill rotWithShape="0">
              <a:gsLst>
                <a:gs pos="0">
                  <a:srgbClr val="ad3e7f"/>
                </a:gs>
                <a:gs pos="50000">
                  <a:srgbClr val="f95ab7"/>
                </a:gs>
                <a:gs pos="100000">
                  <a:srgbClr val="ad3e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reless Access Method and Physical Spec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02104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H Interoperability Option of HR/DSSS PH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uary 12, 199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an Kawaguch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ymbol Technologies, Inc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145 Hamilton Av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n Jose, CA.  9512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lephone:  (408)369-26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X:  (408)369-273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mail:  deank@psd.symbol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ctr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FH Interoperability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propose an FH PHY backward interoperability mode as an option for the Harris HS propos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proposal does not modify the basic modulation format, but it assumes the addition of the HS preamble; wraps around the Harris 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fundamental changes required for FH interoperability a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hopping of the wideband DS signal synchronized to the FH hop sequ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using the FH preamble in front of the HS preamble an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ward Interoperability to F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is a significant volume of 802.11 interoperable FH radios being sold today by a number of manufactur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R/DS/FH will enable FH users to migrate to HR/DS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s can maintain investments in low cost FH appliances while also adding rate scaling capability using HR/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on brings together the previously distinct FH and DS cam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y station which can support the HR/DS/FH will also be required to support the basic HR/DSSS, HR/DSSS/short, and by inference legacy DSSS and FH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e centered initiatives coming out with new FH sol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meRF is based on the 802.11 FH; considering using whatever mechanisms we develop here to provide higher data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existence to basic HR/DSSS and DSSS can be improved by additional CCA requirements on HR/DS/FH uni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wideband energy detect with timeout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full bandwidth correlation det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bustness in Interference Limited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bol’s experiences in the 900 MHz band since 1990 have show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 frequency systems will fail in the presence of fixed freq interferenc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ing channels is slow and often does not wor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proprietary 900 MHz DS system has evolved into a hopping DS system to provide reliable connection in the presence of inter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2.4 GHz band may eventually be worse than the 900 MHz band since it is the only unlicensed band available worldwid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, non-802.11 systems in this band are already and will continue to be a significant portion of the usage of this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pping of the wideband HS signal will provide protection against a variety of fixed frequency and hopping interfere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a last line of defense, backing down to 1/2 Mbps FH with 79 1 MHz channels will provide the best chance of operating through interfe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mi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were some limitations that were pointed out in my original presentation in March 9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efficient use of the band would be achieved by frequency planning in a cellular arrangement such as used by D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ever, that requires exclusive use of the band which cannot be guaranteed in the unlicensed ISM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t trades off the efficiency of the cell planning approach for the reliability of frequency hopping and the flexibility of scaling down to a 1 MHz narrow FH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ward interoperability with the DS PHY necessitates turning off the hopping feature since hopping is not part of existing DS 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ddition, we recognize that the FH/DS cross CCA issues must be resolved because this option uses both mod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made specific recommendations in the letter ballot 16 comments to add the cross mode CCA requirements to resolve this iss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al: Work Toward Consens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line: March 1998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H and DS interoperability was part of the comparison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mbol and Harris presented proposal for FH interoperability o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ucent and Micrilor unilaterally accepted same method for in their proposal to provide FH interope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line: Today (January 1999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H interoperability mechanisms have been refined and clarified over the past year but remain essentially the s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have 77% approval of the draft and ri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 out of 9 NO-FH votes are from Lucent saying that there are some problems with it so throw it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oals:  Build on our hard earned progress rather than destroying i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limitations to what this mode can do as we pointed out from the beginning, but it fills a need that goes unanswered without this o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9T16:01:10Z</dcterms:created>
  <dc:creator>DeanK</dc:creator>
  <dc:description/>
  <dc:language>en-US</dc:language>
  <cp:lastModifiedBy>Dean Kawaguchi</cp:lastModifiedBy>
  <cp:lastPrinted>2009-04-22T19:24:48Z</cp:lastPrinted>
  <dcterms:modified xsi:type="dcterms:W3CDTF">1999-01-12T14:19:39Z</dcterms:modified>
  <cp:revision>19</cp:revision>
  <dc:subject/>
  <dc:title>IEEE 802.11 Wireless Access Method and Physical Specification</dc:title>
</cp:coreProperties>
</file>