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267080" y="38088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033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3440" y="609480"/>
            <a:ext cx="775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3440" y="6477120"/>
            <a:ext cx="783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22680" y="1774800"/>
            <a:ext cx="4662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Modulation Accu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995560" y="3562200"/>
            <a:ext cx="369900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hiro Morik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ikura@mhosun.wslab.ntt.co.j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1727280"/>
            <a:ext cx="8775720" cy="349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15240" y="3701880"/>
            <a:ext cx="209520" cy="2412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25480" y="1384200"/>
            <a:ext cx="7543800" cy="4140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62000" y="3517920"/>
            <a:ext cx="184320" cy="21600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6000" y="330120"/>
            <a:ext cx="8737560" cy="6222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4084560" y="29764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804960" y="2971800"/>
            <a:ext cx="3276360" cy="1116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216000" y="671400"/>
            <a:ext cx="8737560" cy="5754600"/>
            <a:chOff x="216000" y="671400"/>
            <a:chExt cx="8737560" cy="57546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216000" y="671400"/>
              <a:ext cx="8737560" cy="57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flipV="1">
              <a:off x="3495600" y="3278160"/>
              <a:ext cx="0" cy="21384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52400" y="3271680"/>
              <a:ext cx="2754360" cy="18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888840"/>
            <a:ext cx="1600200" cy="419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058760" y="1781280"/>
            <a:ext cx="71960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transmitter constellation error is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38440" y="2949480"/>
            <a:ext cx="56545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ed Relative Constellation Error versus Data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11560" y="3416400"/>
            <a:ext cx="459756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6000" y="749160"/>
            <a:ext cx="87375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68160" y="839880"/>
            <a:ext cx="79502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dane</cp:lastModifiedBy>
  <cp:revision>0</cp:revision>
  <dc:subject/>
  <dc:title>No Slide Title</dc:title>
</cp:coreProperties>
</file>