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F0938D-21CE-466D-8FBE-2A977F18B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9/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6960" y="609480"/>
            <a:ext cx="776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6960" y="6477120"/>
            <a:ext cx="783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685800"/>
            <a:ext cx="7772400" cy="14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2000"/>
            </a:br>
            <a:r>
              <a:rPr b="1" lang="en-US" sz="4000" spc="-1" strike="noStrike">
                <a:solidFill>
                  <a:srgbClr val="b2b2b2"/>
                </a:solidFill>
                <a:latin typeface="Arial"/>
                <a:ea typeface="Arial"/>
              </a:rPr>
              <a:t>55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19810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8-11,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stin, Texas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PAN Study Group session starts on Monday, March 8, 8: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, Mailing List, UR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tp://ftp.flexipc.com/wearablesgroup/Index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ftp://ftp.flexipc.com/wearablesgrou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grouper.ieee.org/groups/802/11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stds-802-wpan@majordomo.iee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bluetooth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RF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http://www.homerf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1960" y="5556240"/>
            <a:ext cx="7632720" cy="774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d your name to IEEE mailing list please send an e-m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an Gifford giffordi@amp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&amp; Backgro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Updates and Futur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Graphic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760" y="1676520"/>
            <a:ext cx="898524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  Wednesday  |  Thursday 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ec !TGb!SG |     !     |      !      |      !    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m.!   !   | TGb !  SG |  TGa !  SG  |  TGb ! SG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     !     |...........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!   |     !     |      !      | rev  !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802Pl!TGb!SG |           | Full 802.11 |  Tga ! S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 SG     |.............|............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IETF Tutorial|           |      !      | Full 802.11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. . . . . | TGb  !  SG  |Reports/Outp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TGa  ! SG |      !      | Next mtng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Tga      |Tut. BTSIG |. . . . . . .|Exec. |Ml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. . . . . . | . . . . . |Social       | Comm.|Prep.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Tut.Elctr.blt|Tut. HomeRF|      Event  |      |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475400" y="2905200"/>
            <a:ext cx="1371600" cy="1828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 Opening of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Roll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 Other Annou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0 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Orlando, Florida Minutes -99/xy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0 Review Objectives of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0 Review of Con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0 Approval of Agenda -99/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,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0 Ol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0 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 Review Action Plan and Strategy for 802.11,ExCom and Nes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 Liaison Conference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1 Review gam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2 Review/Approve WPAN Tutorial/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Review results of Letter Ballot 17 and begin comment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0 Continued: “Comments received on WPAN's PAR and 5 Criteria in Letter Ballot 17” -99/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 Develop Recommendation for on-going Leadership of the WPA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0 Prepare Report to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0 Open Session for WPAN, Bluetooth &amp; HomeR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1 Discuss feedback from Tuto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2 Discussion of Relationship/Affiliation to IEEE WPA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3 Develop Recommendation for On-Going Li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0 Finalize Working Group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 Draft motions, as appropriate, for WG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rsday,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 Review and Approve Final SG Report to 802.11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0 Review Recommended Report to Ex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0 Prepare for Interim Meeting in Japan May 3-7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1 Summarize W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2 PAR &amp; 5C Review/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3 WPAN Disposition, Scenarios, and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4 WPAN Attendance Po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-7 - Shinagawa? Prince Hotel, Tokyo, Japan, Interim (NTT, Clarion, N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13-17 - Hilton, Santa Rosa, CA, Interim (Alant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, Kauai, Koloa, HI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TBD - Israel?, Interim (Breeze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6-10 - Hyatt Regency, Albuquerque, NM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10-14 - Hyatt Regency La Jolla, San Diego, CA, Ple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6-10 - Hyatt Regency, Tampa, F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F. Heile</dc:creator>
  <dc:description>Robert F. Heile, GTE</dc:description>
  <dc:language>en-US</dc:language>
  <cp:lastModifiedBy>Ian C. Gifford</cp:lastModifiedBy>
  <cp:revision>0</cp:revision>
  <dc:subject>Tentative Agenda</dc:subject>
  <dc:title>doc.: IEEE 802.11-99/xxx</dc:title>
</cp:coreProperties>
</file>