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407F8B-A07B-4D75-B00E-CB74E6D21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17E53E9-92C9-4A54-969F-5FB363849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844-C742-4197-9A9A-CDFF3E95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C91-D3DA-48B9-93CF-8A59C7CD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433D-15EC-4BE2-B28C-658B2C98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734-6836-469D-88DB-DD21F2128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E45-4955-4B52-A6A2-D63BFF9D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F13-6C8F-45B1-89A0-B9FF7200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3DB-2ABA-4612-A882-3253D6B5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B8AD-808D-4509-9151-8A88B9A8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8A2E-36C2-44B2-805C-BC57D81B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D750-DC97-4E3A-92DC-ED628E2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EFB-E78B-4D71-BE25-82521352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3FE7-0C14-484B-BB11-B5B9A206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47A0B3-2E94-4D29-866C-B7117AC15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March 10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91E-3A0E-40BE-A15F-A2A75401F7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6 under Additio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hange as follows: A Personal Operating Space (POS) is the space about a perso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Reason: Clarification of int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9E5-A4F8-49EA-B6DA-1D86CA2771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o approve the WPAN PAR “Rev 9” -98/162r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8042-2A71-4DC6-8C40-FE4903EAEAB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move that the 802.11 WLAN Working Group recommends that The Executive Committee of 802 submit the WPAN PAR “Rev 9” -98/162r9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39D-1274-4A86-A9D2-0D7707F8C5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802.11 WLAN Group recommends that The Executive Committee of 802 establish a new Working Group for Wireless Person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A07B-BFD0-4986-986A-4AAE5FE527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Arch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Mailing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grouper.ieee.org/groups/802/11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5562720"/>
            <a:ext cx="762012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ew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77680" cy="3398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51B-96BA-4D7C-B8E0-96F82F2AAAB3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bert F.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F8A-E48A-4F65-B585-DB2807836F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0DF-A8D9-4EDF-B723-A6FFFB9B77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/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EED5-DCD1-4DFC-BDAD-65E12DD7A61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Name of WG:  Change from ‘WPAN Study Group’ to ‘Sponsor:  IEEE 802.11 WG for WLAN, Proposed Working Group:  IEEE 802.xx WG for Wireless Personal Area Networks”   Reason: greater clar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nge Name of Reporter and supporting info from Vic Hayes To Bob Heile.  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4DCA-2356-4AD4-842D-C8660FD984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ame of WG Chair.  Add Vic Hayes.  Reason: no longer same as Repor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b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Change from Supplement to New Standard. Reason:  reflects change of recommendation from TG to W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v 7 Change from Trial Use to Full Use. Reason: clerical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D28E-B9FF-4C44-B071-F25E725157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“[To define derivative versions of the 802.11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have been reviewed to determine their suitability to meet the Functional Requirements of the WPAN Applications as specified in IEEE documents –98/295-298 and –98/352.  Detailed suggestions on proposed changes to the IEEE 802.11 MAC &amp; PHY Standard have been reported in documents –98/322r2, 323, 324.]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0286-DBDF-4A6F-BF6B-8535B62A88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EM 6:  Change Scop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[To define PHY and MAC specifications for wireless connectivity with fixed, portable and moving devices within or entering a Personal Operating Space (POS).  A goal of the WPAN Group will be to achieve a level of interoperability (see –99/5) sufficient to transfer data between a WPAN device and an 802.11 device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802.11 PHY and MA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ndard h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en reviewed to determin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uitability to meet the Functional Requirements of the WPAN Applications as specified in IEEE documents –98/295-298 and –98/352.  Detailed suggestions on proposed changes to the IEEE 802.11 MAC &amp; PHY Standard have been reported in documents –98/322r2, 323, 324.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: reflects change of recommendation from TG to W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B1D-032A-4DF6-B4BE-C2F526D0CB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 (continu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7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rop word “supplemental”. Reason: reflects change of recommendation from TG to W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following footnote “These groups are not standards organizations, but they have similar charters and the Working Group intends to establish liaisons with these groups as appropriate.” Reason: clarification and int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d “[ISO/IEC JTC1/SC6] by [DR]”.  Reason: clerical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AD2-1364-4804-9D58-9FDB1506E01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dc:language>en-US</dc:language>
  <cp:lastModifiedBy>Ian C. Gifford</cp:lastModifiedBy>
  <cp:lastPrinted>1999-03-08T22:00:07Z</cp:lastPrinted>
  <dcterms:modified xsi:type="dcterms:W3CDTF">1999-03-10T18:54:36Z</dcterms:modified>
  <cp:revision>47</cp:revision>
  <dc:subject>doc.: IEEE 802.11-99/056</dc:subject>
  <dc:title>WPAN SG WG Report</dc:title>
</cp:coreProperties>
</file>