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9760" y="694800"/>
            <a:ext cx="457848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2520" rIns="92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2520"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CC51057-5DC7-4842-B583-89EDD6F2F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040" y="8897760"/>
            <a:ext cx="70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89632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1520" y="293760"/>
            <a:ext cx="557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2901960" y="8897760"/>
            <a:ext cx="7920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E9E204-8611-453A-BFEB-1636C4710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30320" y="8897760"/>
            <a:ext cx="24829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2520"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28640" y="94320"/>
            <a:ext cx="2784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45840" y="94320"/>
            <a:ext cx="2708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1840" y="689040"/>
            <a:ext cx="45943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8476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4760" y="8729640"/>
            <a:ext cx="29732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8729640"/>
            <a:ext cx="29718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2960" y="4363920"/>
            <a:ext cx="50306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1141560" y="696960"/>
            <a:ext cx="4576680" cy="3432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615-1F36-48DC-BE1F-5B0FD9E4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50B-0D85-4E11-84E1-2AC46636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862A-F9B9-4D69-8F84-668E02B5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58A-DA3A-4B50-87BE-6F730236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975-BAC4-4CE9-BE70-181D0464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204-5CFA-4187-AA84-39C54286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D749-27DB-4799-B1A1-80C602AC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AC1-C728-4793-92FD-2AC416FE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7FE-1AAD-44E8-9CD0-758280D3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F1A-AEC1-483C-A2DC-67296D46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E0C5-E27D-4C62-9F3B-91911D3A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4CC2-21DD-4AB9-A098-2B64C9DE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0568E9-FC7E-4B31-94E7-C366BDD07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Working Group Report to Ex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March 11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s 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mllieee" descr=""/>
          <p:cNvPicPr/>
          <p:nvPr/>
        </p:nvPicPr>
        <p:blipFill>
          <a:blip r:embed="rId1"/>
          <a:stretch/>
        </p:blipFill>
        <p:spPr>
          <a:xfrm>
            <a:off x="4257720" y="1143000"/>
            <a:ext cx="628560" cy="71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7B6-9445-4C83-B145-4122492E89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coexistence and effective use of a shared medium is so critical to success, the WPAN Study Group suggests that the new WPAN Working Group keep very close ties with 802.11 including joint interactive meetings whenever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sion to recommend the formation of a Working Group rather than a Task Group under 802.11 required the Study Group to modify Rev8 of the WPAN PAR in the following 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BB3-B9F2-4F1A-83EB-706251E61E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6) Motion made to approve the WPAN PAR “Rev 9” -98/162r9   Bob Heile/Tom Si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7) Motion made to amend the WPAN PAR to replace all occurrences indicating the formation of a Working Group with those forming a Task Group of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O’Hara/Naftali Chay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 Call Vote on the amendm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- 8 - 5  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e on Amended Motion:  31/9/4 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39F-3900-4430-B35A-44DF3A7ADDD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-Rev 7 to Rev 10(9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Name of WG (Rev 9):  Change from ‘WPAN Study Group’ to ‘Sponsor:  IEEE 802.11 WG for WLAN, Proposed Task Group:   Wireless Personal Area Networks” 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greater clarit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5c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hange from Trial Use to Full Use. (Rev 8)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erical err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 Delete from Scope (Rev 9) : “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derivative versions of the 802.11” Reason: Flexi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: Add to Scope (Rev 8): “A goal of the WPAN group will be to achieve a level of interoperability (see -99/5) which could allow the transfer of data between a WPAN device and an 802.11 device”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of int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FA1-CFBC-4FE6-BE05-973D2884593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to Scope (Rev 9): “standard” and repair grammar.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9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following footnote (Rev 9) “These groups are not standards organizations, but they have similar charters and the Task Group intends to establish liaisons with these groups as appropriate.”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and int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12b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Add (Rev 9) “[ISO/IEC JTC1/SC6] by [DR]”. 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erical err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TEM 6 under Additional: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Change as follows (Rev 9): A Personal Operating Space (POS) is the space about a person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or objec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that typically extends up to 10 meters in all directions and envelops the person whether stationary or in motion.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ason: Clarification of inten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 Edits-Rev 7 to Rev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29E7-A2CA-456A-90DE-4EB39186A5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19) Motion made to request for the ExCom to interpret rules that allow for significantly different multiple MACs in the Working Group. Dean/Tom Si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99/55P21) Motion made To amend the Motion to request from ExCom a ruling that allows for multiple MACs within a Working Group if required.  Tom Siep/P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-10-14 on the amendment--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-13-14 on the amended motion--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858F-06C4-45B5-9085-DA28E59062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99/55P23)  move that the 802.11 WLAN Working Group recommends that The Executive Committee of 802 submit the WPAN PAR, “Rev 9” -98/162r9 amended, to NesCOM for appro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H./Greg 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: 36/0/7, P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589-7EA4-4284-9AF7-DB5096F81DA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ion on the PAR Ve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the  802.11 W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the 802.11 WGSG Wireless Personal Area Networks (WPAN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ob He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AF3-CF89-49DF-AACC-0263CFF5A4C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of Letter Ballots 16 and 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PAR rev7 and 5 Criteria Rev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G Actions this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edits to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WG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BEA-6DFC-41DC-9ACC-E6D8DEC066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vis a vis a Specification(s) or a Stand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572000"/>
            <a:ext cx="838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1868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08000" y="3886200"/>
            <a:ext cx="794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62480" y="42242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52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57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10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625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149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198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722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531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0560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580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24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48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732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38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9064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308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71560" y="450684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471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804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329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1384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9580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7632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57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377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43000" y="4213080"/>
            <a:ext cx="308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242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0476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1004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9056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95120" y="4213080"/>
            <a:ext cx="287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77080" y="4191120"/>
            <a:ext cx="272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80920" y="421308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63240" y="4213080"/>
            <a:ext cx="342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434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9880" y="4213080"/>
            <a:ext cx="35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51200" y="421308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32800" y="4199040"/>
            <a:ext cx="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404040" y="209088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96080" y="313200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32720" y="32083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23000" y="3962520"/>
            <a:ext cx="532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/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5240" y="3184560"/>
            <a:ext cx="11894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018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875120" y="1905120"/>
            <a:ext cx="1320840" cy="141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523560" y="3184560"/>
            <a:ext cx="117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RF-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0400" y="3184560"/>
            <a:ext cx="1858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-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1.0 Provis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546408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27160" y="5867280"/>
            <a:ext cx="4116240" cy="22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037040" y="5866920"/>
            <a:ext cx="5106960" cy="9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74520" y="5876640"/>
            <a:ext cx="304920" cy="126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smllieee" descr=""/>
          <p:cNvPicPr/>
          <p:nvPr/>
        </p:nvPicPr>
        <p:blipFill>
          <a:blip r:embed="rId3"/>
          <a:stretch/>
        </p:blipFill>
        <p:spPr>
          <a:xfrm>
            <a:off x="8001000" y="2079720"/>
            <a:ext cx="950760" cy="10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720" y="4822920"/>
            <a:ext cx="86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12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PAN 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166920"/>
            <a:ext cx="0" cy="98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9240" y="4822920"/>
            <a:ext cx="144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/4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nd PAR to 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amp; WG LB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457960"/>
            <a:ext cx="380880" cy="3808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8080" y="4822920"/>
            <a:ext cx="851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4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A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96248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8115120" y="4419720"/>
            <a:ext cx="2286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59500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495680"/>
            <a:ext cx="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2136600" y="2133720"/>
            <a:ext cx="1444680" cy="1170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1360" y="59436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91440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733920" y="5866560"/>
            <a:ext cx="38088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8381880" y="586656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533-89D9-45B6-AFC8-355BD79A99F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er Ballots 16 and 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Letter Ballot 16, ending Jan 7,1999, Approved PAR rev 7 and Five Criteria Rev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0-14-4 or 81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G Letter Ballot 17, ending Mar 3, 1999, Approved PAR rev 8 and Five Criteria rev 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-5-2 or 92% on  recircul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2-8-3 or 90% over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F6E-7C5C-4AA3-85CD-B764B3014F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PAR and Five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on 7 of the WPAN PAR and Revision 4 of the Five Criteria submitted to ExCom on Feb 4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B0AC-6EFF-4CCE-BBCB-6608FAB265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G Objectives for this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 of WPAN PAR -98/162r8 &amp; Five Criteria -98/161r5 and submission to ExCom and Nes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PAN Leadership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Upd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Future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1315-A07F-4952-B37C-13FCC15BD7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SG 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revised recommended  direction regarding the Wireless PAN initiative for approval by 802.11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Rev 9 of the P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ed supporting cover 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ught 3 motions to the 802.11 WG for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B70-A147-48D7-980D-0970E5E2B4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ed Direc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uary 9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The WPAN Study Group recommends that it become a Task Group of 802.11 with the understanding that this will likely require a change in the 802.11 charter and a rule change within 802 to allow multiple MAC Layers within a Working Group.  The motivation for becoming a Task Group within 802.11 is to ensure the best use of a shared medium.  If this is not feasible the SG recommends the formation of a separate Working Group under 802 which would include all PAN-related activity including Bluetooth, HomeRF, etc. should they also submit PAR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ch 99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 SG recommends the formation of a separate Working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E19-1326-4AFB-9EBD-6040DB7C00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Cover Le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PAN Study Group respectfully submits, for approval, Rev 9 of the PAR and Rev 5 of the 5 Criteria for Wireless Personal Area Networks and recommends the formation of a separate Working Group under 802 that would include all PAN-related standards activ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to create a Working Group is to independently consider technologically acceptable approaches that have broad market appeal.  We believe this is more efficiently and effectively done as a peer of 802.11 rather than as a Task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68DB-056A-4195-A78B-496BAF5FA6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dc:language>en-US</dc:language>
  <cp:lastModifiedBy>Ian C. Gifford</cp:lastModifiedBy>
  <cp:lastPrinted>1999-03-08T22:00:07Z</cp:lastPrinted>
  <dcterms:modified xsi:type="dcterms:W3CDTF">1999-03-11T22:49:08Z</dcterms:modified>
  <cp:revision>67</cp:revision>
  <dc:subject>doc.: IEEE 802.11-99/057</dc:subject>
  <dc:title>WPAN WG ExCom Report</dc:title>
</cp:coreProperties>
</file>