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90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0720"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742D24-46AE-4109-9631-DC45A613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5348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520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19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901960" y="885312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455256-FA59-4332-A7EE-30D086E5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730320" y="885312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0720"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28640" y="925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45840" y="925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3DC-2B40-4345-8C76-4F7D8C3B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1CC-8D53-4DE1-8667-11B2DF0C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EA8-1659-40E0-9E8B-2D6E1F0F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229-2EB2-4100-94CF-6E13E273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4D2-3AA5-4CBD-9ED7-3E4CDDE6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146-83DC-40A2-A33A-F0C6F3B0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A87-228F-41D5-9A76-7F4C2997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453D-12D7-4F02-8CD4-6A5D06F1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C9F1-FD2D-4DC7-AD70-7AC1A148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C0C-D37C-4FD9-971A-72169C2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64A-9CBA-4228-B5A4-01BECF7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781A-30CB-4EE7-9007-763937C9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78CC62-A0BE-4B42-A3B2-67229821B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0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y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87D-395B-4EF1-A666-88B5EB779C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ss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WG and the WPAN S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need for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that there is a strong market demand for a consumer-cost, low power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a PAR to accomplish that ta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d on the importance of Coexistence and the need for etiquette  in the use of a shared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agre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the venue to best create a WPAN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1BD-C7A1-49C2-A592-5F28228B68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N Related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4 Companies Participa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-Jun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RF/Firefly--  ~84 Companies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 Dec 98/Dec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SG-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50 Companies Particip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Standard Nov 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ec, Motorola, Butterfly, Kodak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D8C-58EF-47B2-938F-6B03D3D021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PAN Standard that does not involve Bluetooth as a participant will have a tough time gaining market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independent efforts will aggravate coexistence and interference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8B5-C440-4F24-8F80-4AD68955C5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eratives for Su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that can attract members who feel they have equal 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get active participation from Members of Bluetooth, HomeRF/Firefly, 802.11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forum which can take a fresh look, evaluate different proposals and find compromise solutions that address broad market applicability as well as technical mer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d is of the essence--1-2years max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C00-0D56-4A7A-9D5F-BBAC5CBC98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lem as a T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 of one MAC per WG eliminates a large class of potential solutions for developing a WPAN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perception that 802.11 has invested interests and will block non .11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a TG it is harder for non .11 participants to feel that they have equal standing, assuming they can be attracted at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ability to pursue direct liaison with important outside interests/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4E8-E7B4-47A8-995F-F8167B165A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dvantages of a W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the stature required to work more effectively with significant external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act as the agent of com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freedom of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ular purpose promotes speed and 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7CF-C7CD-4FD7-AF74-9D943ADDB9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ottom 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ongly urge the SEC to pass a motion to form a WPAN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ing effective compromise solutions is imperative to shared use, interoperability, success and accep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ception of balance needs to be as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ssue is not whether a lite version of .11 can do the job, more important is market acceptance of a standard that does the job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F67-0811-479D-BC4E-7C4C477F3F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cp:keywords>March 1999</cp:keywords>
  <dc:language>en-US</dc:language>
  <cp:lastModifiedBy>rodane</cp:lastModifiedBy>
  <cp:lastPrinted>1999-03-30T09:54:55Z</cp:lastPrinted>
  <dcterms:modified xsi:type="dcterms:W3CDTF">1999-03-30T09:55:51Z</dcterms:modified>
  <cp:revision>8</cp:revision>
  <dc:subject>WPAN SG ExCom Report</dc:subject>
  <dc:title>doc.: IEEE 802.11-98/58</dc:title>
</cp:coreProperties>
</file>