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160-4157-4E9B-A9E5-AE71D5BD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0BD-2335-4146-8640-49E4A9DE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AC32-9778-4596-A1E5-29A1C905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0F3-9CC2-4C2E-A01F-7DD8D4FA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9185-E505-4EEB-B831-E4BB1BA4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2139-5AFA-4251-A327-6AC5F322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455-914F-4897-AD30-0C5668B7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5FBD-F349-454A-B44B-6F432AED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969E-F2D9-4777-8829-6F5D991B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649-23EC-42AD-AA44-4F0E92F6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5E33-4141-4850-B97A-8EFB3902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851-9C9D-4A8C-A0D7-6003E1EA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AC3C42-FA2A-43FF-9649-49273D9BD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6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F Lighting 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r. ‘98: FCC NPRM (ET Docket 98-4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les for RF lighting in 2.45 GHz ISM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 limit on in-band emissions in 2.45 GHz ISM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EEE 802.11 submitted comments in opposi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. ‘98:  OET Recommendation to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ET recommends adoption of proposed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ET felt that Part 15 community had no standing in Part 18 mat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. ‘98:  Part 15 direct appeal to Com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ission delayed approval of proposed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rected parties (RF Lighting / Part 15) to seek re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n. ‘99:  Part 15 and RF Lighting Interests 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 15 proposed 20 mV/m @ 3 m limit  --- immediately rej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 15 provided data on impact of RF lights on ISM ra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. ‘99:  Part 15 Submitted Alternative Propo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9B0-645D-4509-ADD1-E36BC7741B9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nterested Par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mmunincations Inter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rt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ics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tooth Promo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ri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15 Coal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Satellite Service (M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irTo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F Lighting Inter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sion Ligh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E28D-D5AC-4EC8-9004-A35EAE12B4B3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riginal Proposal (January ‘9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42960" y="1828800"/>
            <a:ext cx="7010640" cy="1828800"/>
            <a:chOff x="1542960" y="1828800"/>
            <a:chExt cx="7010640" cy="1828800"/>
          </a:xfrm>
        </p:grpSpPr>
        <p:sp>
          <p:nvSpPr>
            <p:cNvPr id="53" name=""/>
            <p:cNvSpPr/>
            <p:nvPr/>
          </p:nvSpPr>
          <p:spPr>
            <a:xfrm>
              <a:off x="1542960" y="3505320"/>
              <a:ext cx="701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2076480" y="1828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7943760" y="1828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755000" y="3679920"/>
            <a:ext cx="581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8600" y="3679920"/>
            <a:ext cx="581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1572840" y="2619360"/>
            <a:ext cx="6375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3000" y="2374920"/>
            <a:ext cx="948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 mV/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@ 3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niform 20 mV/m @ 3m across entire band (2400 - 2500 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rresponds t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86 dBuV/m @ 3 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75 dBuV/m @ 10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987B-3517-40D1-BD04-70D4AD5E51F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oposed RF Light PSD (2/23/99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29920" y="1905120"/>
            <a:ext cx="8021520" cy="4396680"/>
            <a:chOff x="529920" y="1905120"/>
            <a:chExt cx="8021520" cy="4396680"/>
          </a:xfrm>
        </p:grpSpPr>
        <p:grpSp>
          <p:nvGrpSpPr>
            <p:cNvPr id="63" name=""/>
            <p:cNvGrpSpPr/>
            <p:nvPr/>
          </p:nvGrpSpPr>
          <p:grpSpPr>
            <a:xfrm>
              <a:off x="1541160" y="2169360"/>
              <a:ext cx="7010280" cy="1581480"/>
              <a:chOff x="1541160" y="2169360"/>
              <a:chExt cx="7010280" cy="1581480"/>
            </a:xfrm>
          </p:grpSpPr>
          <p:sp>
            <p:nvSpPr>
              <p:cNvPr id="64" name=""/>
              <p:cNvSpPr/>
              <p:nvPr/>
            </p:nvSpPr>
            <p:spPr>
              <a:xfrm>
                <a:off x="1541160" y="3619440"/>
                <a:ext cx="701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2074320" y="2169360"/>
                <a:ext cx="0" cy="158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7941600" y="2169360"/>
                <a:ext cx="0" cy="1581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6646680" y="2169720"/>
              <a:ext cx="0" cy="158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48120" y="3340800"/>
              <a:ext cx="131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87280" y="3349080"/>
              <a:ext cx="411300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52120" y="3770640"/>
              <a:ext cx="581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95720" y="3770640"/>
              <a:ext cx="581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251760" y="3770640"/>
              <a:ext cx="730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83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820840" y="2027160"/>
              <a:ext cx="38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78360" y="2028600"/>
              <a:ext cx="38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52080" y="1905120"/>
              <a:ext cx="185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78.5 - 2483.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542960" y="2304360"/>
              <a:ext cx="4600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542600" y="3348000"/>
              <a:ext cx="5108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31200" y="2617560"/>
              <a:ext cx="287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6194160" y="1936440"/>
              <a:ext cx="458280" cy="1698120"/>
              <a:chOff x="6194160" y="1936440"/>
              <a:chExt cx="458280" cy="169812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6194160" y="1936440"/>
                <a:ext cx="456840" cy="1698120"/>
                <a:chOff x="6194160" y="1936440"/>
                <a:chExt cx="456840" cy="16981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194160" y="1936440"/>
                  <a:ext cx="0" cy="169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651000" y="1936440"/>
                  <a:ext cx="0" cy="1698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" name=""/>
              <p:cNvSpPr/>
              <p:nvPr/>
            </p:nvSpPr>
            <p:spPr>
              <a:xfrm>
                <a:off x="6195600" y="2302920"/>
                <a:ext cx="45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233400" y="2585520"/>
                <a:ext cx="387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7010280" y="2599560"/>
              <a:ext cx="491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9920" y="2189160"/>
              <a:ext cx="10278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 dBuV/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@ 10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6120" y="3232440"/>
              <a:ext cx="942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 dBuV/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@ 3 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13400" y="4259520"/>
              <a:ext cx="7414920" cy="20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gion 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400 - 2478.5 MHz. RF lighting restricted to Part 15, Class A lim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gion I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478.5 - 2483.5 MHz. RF Light emission limit of 100 dBuV/m @ 10 m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equivalent to 330 mVm @ 3m).  Consistent with CISPR15 limi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gion III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2483.5 - 2500 MHz.  RF lighting restricted to Part 15, Class A limi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portion of the band includes satellite services.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A6F-26C0-49D0-85F4-C3A04754014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mpact on DSSS W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523880" y="2514600"/>
            <a:ext cx="5639040" cy="2039760"/>
            <a:chOff x="1523880" y="2514600"/>
            <a:chExt cx="5639040" cy="2039760"/>
          </a:xfrm>
        </p:grpSpPr>
        <p:sp>
          <p:nvSpPr>
            <p:cNvPr id="91" name=""/>
            <p:cNvSpPr/>
            <p:nvPr/>
          </p:nvSpPr>
          <p:spPr>
            <a:xfrm>
              <a:off x="1523880" y="3861000"/>
              <a:ext cx="563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2055960" y="2573280"/>
              <a:ext cx="1440" cy="144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629400" y="2529000"/>
              <a:ext cx="1440" cy="14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34840" y="4035600"/>
              <a:ext cx="5814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34840" y="4035600"/>
              <a:ext cx="730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83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176880" y="2514600"/>
              <a:ext cx="457200" cy="1349280"/>
              <a:chOff x="6176880" y="2514600"/>
              <a:chExt cx="457200" cy="1349280"/>
            </a:xfrm>
          </p:grpSpPr>
          <p:sp>
            <p:nvSpPr>
              <p:cNvPr id="97" name=""/>
              <p:cNvSpPr/>
              <p:nvPr/>
            </p:nvSpPr>
            <p:spPr>
              <a:xfrm>
                <a:off x="6176880" y="2514600"/>
                <a:ext cx="0" cy="134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634080" y="2514600"/>
                <a:ext cx="0" cy="134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 flipH="1">
              <a:off x="5745240" y="26528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89520" y="2664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20760" y="2519280"/>
              <a:ext cx="1852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78.5 - 2483.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090880" y="2966040"/>
              <a:ext cx="4405320" cy="914040"/>
              <a:chOff x="2090880" y="2966040"/>
              <a:chExt cx="4405320" cy="91404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2090880" y="2966040"/>
                <a:ext cx="1441440" cy="904320"/>
                <a:chOff x="2090880" y="2966040"/>
                <a:chExt cx="1441440" cy="9043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400120" y="2968560"/>
                  <a:ext cx="808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>
                  <a:off x="2090880" y="3087720"/>
                  <a:ext cx="201600" cy="76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330720" y="3105360"/>
                  <a:ext cx="201600" cy="76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rot="10800000">
                  <a:off x="2303640" y="2984760"/>
                  <a:ext cx="22572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rot="10800000">
                  <a:off x="3114720" y="2966040"/>
                  <a:ext cx="2250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585600" y="2975400"/>
                <a:ext cx="1442160" cy="904680"/>
                <a:chOff x="3585600" y="2975400"/>
                <a:chExt cx="1442160" cy="9046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895560" y="2978280"/>
                  <a:ext cx="806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flipH="1">
                  <a:off x="3585600" y="3097440"/>
                  <a:ext cx="201960" cy="76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825800" y="3114720"/>
                  <a:ext cx="201960" cy="76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10800000">
                  <a:off x="3798720" y="2994480"/>
                  <a:ext cx="2250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 rot="10800000">
                  <a:off x="4606920" y="2975400"/>
                  <a:ext cx="2286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49" y="21599"/>
                      </a:moveTo>
                      <a:arcTo wR="10800" hR="10800" stAng="5448077" swAng="53519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49" y="21599"/>
                      </a:moveTo>
                      <a:arcTo wR="10800" hR="10800" stAng="5448077" swAng="535192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5054040" y="2966040"/>
                <a:ext cx="1442160" cy="904320"/>
                <a:chOff x="5054040" y="2966040"/>
                <a:chExt cx="1442160" cy="9043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5364000" y="2968560"/>
                  <a:ext cx="808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flipH="1">
                  <a:off x="5054040" y="3087720"/>
                  <a:ext cx="201960" cy="765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294240" y="3105360"/>
                  <a:ext cx="201960" cy="765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 rot="10800000">
                  <a:off x="5267160" y="2984760"/>
                  <a:ext cx="22500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rot="10800000">
                  <a:off x="6078600" y="2966040"/>
                  <a:ext cx="225000" cy="247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" name=""/>
            <p:cNvSpPr/>
            <p:nvPr/>
          </p:nvSpPr>
          <p:spPr>
            <a:xfrm>
              <a:off x="2790720" y="3861000"/>
              <a:ext cx="0" cy="9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24320" y="387036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10400" y="3870360"/>
              <a:ext cx="0" cy="9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67800" y="3935520"/>
              <a:ext cx="588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DS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20480" y="3944880"/>
              <a:ext cx="588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DS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97920" y="392580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DS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06F-DA13-4343-B8CA-5EF5BF5A0D0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mpact on FHSS W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539720" y="1890720"/>
            <a:ext cx="5585040" cy="2880000"/>
            <a:chOff x="1539720" y="1890720"/>
            <a:chExt cx="5585040" cy="2880000"/>
          </a:xfrm>
        </p:grpSpPr>
        <p:sp>
          <p:nvSpPr>
            <p:cNvPr id="129" name=""/>
            <p:cNvSpPr/>
            <p:nvPr/>
          </p:nvSpPr>
          <p:spPr>
            <a:xfrm>
              <a:off x="1552680" y="4152960"/>
              <a:ext cx="557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590880" y="1943280"/>
              <a:ext cx="1800" cy="2209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23960" y="2590920"/>
              <a:ext cx="0" cy="15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36640" y="1890720"/>
              <a:ext cx="18522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478.5 - 2483.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posed R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ghting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29280" y="2232000"/>
              <a:ext cx="5238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4199040" y="2232000"/>
              <a:ext cx="48888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19520" y="416232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539720" y="3349800"/>
              <a:ext cx="397080" cy="53640"/>
              <a:chOff x="1539720" y="3349800"/>
              <a:chExt cx="397080" cy="53640"/>
            </a:xfrm>
          </p:grpSpPr>
          <p:sp>
            <p:nvSpPr>
              <p:cNvPr id="137" name=""/>
              <p:cNvSpPr/>
              <p:nvPr/>
            </p:nvSpPr>
            <p:spPr>
              <a:xfrm>
                <a:off x="1882800" y="334980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11440" y="334980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39720" y="3349800"/>
                <a:ext cx="54000" cy="53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2494440" y="431316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7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38320" y="260028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05080" y="416232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0000" y="431316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59400" y="2179800"/>
              <a:ext cx="1779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ffected FHSS 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11520" y="2682720"/>
              <a:ext cx="1603440" cy="14544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52960" y="2610000"/>
              <a:ext cx="0" cy="15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0080" y="2590920"/>
              <a:ext cx="0" cy="155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67200" y="260028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76840" y="4152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62400" y="41529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6680" y="430380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7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0200" y="430380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14880" y="2438280"/>
              <a:ext cx="579240" cy="74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27560" y="260352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84680" y="2584440"/>
              <a:ext cx="0" cy="15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51440" y="4146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37000" y="4146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1640" y="429732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7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54800" y="4297320"/>
              <a:ext cx="60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FH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Ch. 8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60680" y="2448000"/>
              <a:ext cx="990720" cy="76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05040" y="2405160"/>
              <a:ext cx="1222560" cy="76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149360" y="1986120"/>
              <a:ext cx="3240" cy="2152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8EC-E498-4176-88D3-D02E7CF34D9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Impact on 2483.5 - 2500 MHz B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555920" y="2708280"/>
            <a:ext cx="6321240" cy="2086200"/>
            <a:chOff x="1555920" y="2708280"/>
            <a:chExt cx="6321240" cy="2086200"/>
          </a:xfrm>
        </p:grpSpPr>
        <p:sp>
          <p:nvSpPr>
            <p:cNvPr id="165" name=""/>
            <p:cNvSpPr/>
            <p:nvPr/>
          </p:nvSpPr>
          <p:spPr>
            <a:xfrm>
              <a:off x="1555920" y="4149720"/>
              <a:ext cx="632124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242120" y="2708280"/>
              <a:ext cx="0" cy="155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389400" y="2765160"/>
              <a:ext cx="0" cy="15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4520" y="4314960"/>
              <a:ext cx="654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483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85440" y="4336920"/>
              <a:ext cx="526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59240" y="2871720"/>
              <a:ext cx="1910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483.5 - 2500 MHz B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6259320" y="2951280"/>
              <a:ext cx="952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409920" y="294624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65160" y="3046320"/>
              <a:ext cx="1519560" cy="109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89400" y="2751120"/>
              <a:ext cx="1440" cy="1398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852560" y="2751120"/>
              <a:ext cx="6480" cy="1406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6560" y="3313080"/>
              <a:ext cx="14958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Proposed R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Lighting Ban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2478.5 - 2483.5 MHz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05720" y="3559320"/>
              <a:ext cx="255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obile Satellite Serv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, Harris Semiconducto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D2F-0775-4534-877C-55A8FC4C0D9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R. Worstell</cp:lastModifiedBy>
  <cp:lastPrinted>1998-02-10T13:28:06Z</cp:lastPrinted>
  <dcterms:modified xsi:type="dcterms:W3CDTF">1999-03-08T22:23:12Z</dcterms:modified>
  <cp:revision>9</cp:revision>
  <dc:subject/>
  <dc:title>No Slide Title</dc:title>
</cp:coreProperties>
</file>